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5AF-3420-4446-8EFC-9E69706A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0F3E-57D7-4245-97BB-1D6D77CB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5A4-A37C-444F-83D3-2DC0720C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7948-5D9B-4DEF-8B0B-E9CB8B50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65B5-B365-4872-AD58-A5A9EB3D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CAF4-BBEE-40F6-8F23-37756F93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8FE6-ABE0-44DD-9406-67D3C086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C58C-F999-41C2-9E7C-F451C774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27FD-735B-4A56-8DA5-7A3F4EB3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D20E-446C-42F6-862D-5F92F9A2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20EB-7A79-489A-B8FA-8E51E6B5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1627-EF3E-46DF-9CAD-3659FC26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62C2-E914-4FC5-8E19-22FCC11C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9DFD-4B04-435D-A023-821AC50A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07CC-FA16-4C61-A786-5B0157D0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34E8-0CF3-43E9-90F5-D65F1EFE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1CAB-6BAC-4C77-9E0B-A3EC264C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FB1-FC2D-4AE1-ABB3-110BED0B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274-8786-420A-9E10-F4854729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CB5-04BF-4838-92ED-BF8B839A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74CB-3CE9-41C7-B233-5F349871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36ED-CDA9-4D9E-A368-527B57B9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353F-5989-457D-A1B8-15847012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DB2-04E8-4C42-9CAA-8ECD846D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1EF4-D0ED-41B0-B49A-BD531F05B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F6F2-1D3C-46DB-B12B-327E06472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6094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vcirivel, mas é vers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209680"/>
            <a:ext cx="84582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 acordo com uma pqsieusa de uma uinrvesriddae ignlsea, não ipomtra em qaul odrem as lrteas de uma plravaa etãso, a úncia csioa iprotmatne é que a piremria e útmlia lrteas etejasm no lgaur crteo. O rseto pdoe ser uma ttaol bçguana que vcoê pdoe anida ler sem pobrlmea. Itso é poqrue nós não lmeos cdaa lrtea isladoa, mas a plravaa cmoo um td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ocê ainda tem alguma dúvi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ndré L.F. Rodrig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1T02:13:08Z</dcterms:created>
  <dc:creator>gustavo</dc:creator>
  <dc:description/>
  <dc:language>en-US</dc:language>
  <cp:lastModifiedBy>gustavo</cp:lastModifiedBy>
  <dcterms:modified xsi:type="dcterms:W3CDTF">1998-01-01T02:48:41Z</dcterms:modified>
  <cp:revision>1</cp:revision>
  <dc:subject/>
  <dc:title>Slide sem título </dc:title>
</cp:coreProperties>
</file>