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503-98BE-4AC5-AB92-A85E5E1E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945-4DD9-4974-8E9B-BEEB087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55B-49A4-4FC9-AFCA-6B8FD8F3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C94-88B8-4E39-99B3-B1595A57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05E-04F5-4FDD-9676-0DC39DA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E64-A599-4DD7-BDD7-CF83198A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D73-8DC0-4DAC-8530-A9C7DCF1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5A6-F14F-479F-8EE9-10F83756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CAF-AE0E-4157-9EF8-754A0E5D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089-023B-4274-B251-D3998DD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30B-8994-41AA-BB62-2DCF84F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A30-3B4D-4CFD-9445-504F0755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C3B5-1EE0-481A-960E-DBE96885E3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educ.fc.ul.pt/docentes/opombo/album/images/Menina%2520a%2520ler%2520-%25201860.jpg&amp;imgrefurl=http://www.educ.fc.ul.pt/docentes/opombo/album/criancas.htm&amp;h=359&amp;w=306&amp;sz=99&amp;hl=pt-BR&amp;start=2&amp;tbnid=0af0CeoyYFSsyM:&amp;tbnh=121&amp;tbnw=103&amp;prev=/images%3Fq%3Dler%26svnum%3D10%26hl%3Dpt-BR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br/imgres?imgurl=http://www.educ.fc.ul.pt/docentes/opombo/album/images/Menina%2520a%2520ler%2520-%25201860.jpg&amp;imgrefurl=http://www.educ.fc.ul.pt/docentes/opombo/album/criancas.htm&amp;h=359&amp;w=306&amp;sz=99&amp;hl=pt-BR&amp;start=2&amp;tbnid=0af0CeoyYFSsyM:&amp;tbnh=121&amp;tbnw=103&amp;prev=/images%3Fq%3Dler%26svnum%3D10%26hl%3Dpt-BR%26lr%3D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.br/imgres?imgurl=http://www.educ.fc.ul.pt/docentes/opombo/album/images/Menina%2520a%2520ler%2520-%25201860.jpg&amp;imgrefurl=http://www.educ.fc.ul.pt/docentes/opombo/album/criancas.htm&amp;h=359&amp;w=306&amp;sz=99&amp;hl=pt-BR&amp;start=2&amp;tbnid=0af0CeoyYFSsyM:&amp;tbnh=121&amp;tbnw=103&amp;prev=/images%3Fq%3Dler%26svnum%3D10%26hl%3Dpt-BR%26lr%3D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.br/imgres?imgurl=http://www.educ.fc.ul.pt/docentes/opombo/album/images/Menina%2520a%2520ler%2520-%25201860.jpg&amp;imgrefurl=http://www.educ.fc.ul.pt/docentes/opombo/album/criancas.htm&amp;h=359&amp;w=306&amp;sz=99&amp;hl=pt-BR&amp;start=2&amp;tbnid=0af0CeoyYFSsyM:&amp;tbnh=121&amp;tbnw=103&amp;prev=/images%3Fq%3Dler%26svnum%3D10%26hl%3Dpt-BR%26lr%3D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7846920" cy="576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Nosso herói desafiou valentemente todos os risos de deboche que tentavam desencorajá-lo de seu pl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Os olhos enganam”, disse ele, “um ovo, e não uma mesa, simbolizam corretamente esse planeta inexplorad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Então as três irmãs fortes e decididas saíram à procura de provas, abrindo caminho às vezes através de imensidões tranqüilas, mas muitas vezes através de picos e vales perigo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Os dias se tornaram semanas, enquanto os indecisos espalhavam fofocas apavorantes a respeito da idéia. Finalmente, sem saber de onde,  criaturas voadoras e bem-vindas apareceram anunciando um grande sucesso para todos os t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Arial"/>
              </a:rPr>
              <a:t>A DESCOBERTA DA AMÉRICA POR COLO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68360" y="260280"/>
            <a:ext cx="8424720" cy="6337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João Carlos vivia em uma pequena casa construída no al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de uma colina cuja frente dava para o leste. Desde o p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da colina, se espalhava em todas as direções, até o horizo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uma planície coberta de areia. Na noite em que complet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30 anos, João, sentado nos degraus da escada à frent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ua casa, olhava o sol poente e observava como a s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ombra ia diminuindo no caminho coberto de gr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De repente, viu um cavalo que descia para sua c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s árvores e as folhagens não o permitiam ver distintamen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entretanto observou que o cavalo era man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o olhar de mais perto, verificou que o visitante era seu fil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Guilherme, que há vinte anos tinha partido para alistar-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no exército e, em todo este tempo, não havia dado sinal de vida. </a:t>
            </a: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Guilherme, ao ver seu pai, desmontou imediata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rreu até ele, lançando-se nos seus braços e começando a cho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60280"/>
            <a:ext cx="433440" cy="633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03280" y="408960"/>
            <a:ext cx="7272360" cy="6446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nocordo!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 aorcdo com uma pqsieus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a uinrvesriddae ignls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ao ipomtra em qaul odrem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rteas de uma plravaa eta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uncia csioa iprotmatne e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piremria e utmlia lrteas eteja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 lgaur crteo. O rseto pdoe ser 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taol bcguana que vcoe pdoe anida 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m pobrlmea. Itso e poqrue nos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meos cdaa lrtea isladoa, m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ravaa cmoo um tdoo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daerd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sioa de lucoo..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enina%2520a%2520ler%2520-%252018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549360"/>
            <a:ext cx="98136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Menina%2520a%2520ler%2520-%252018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773360"/>
            <a:ext cx="98100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Menina%2520a%2520ler%2520-%2520186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292640"/>
            <a:ext cx="981360" cy="115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enina%2520a%2520ler%2520-%2520186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2997360"/>
            <a:ext cx="981000" cy="115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Menina%2520a%2520ler%2520-%25201860"/>
          <p:cNvPicPr/>
          <p:nvPr/>
        </p:nvPicPr>
        <p:blipFill>
          <a:blip r:embed="rId9"/>
          <a:stretch/>
        </p:blipFill>
        <p:spPr>
          <a:xfrm>
            <a:off x="250920" y="5516640"/>
            <a:ext cx="981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02Z</dcterms:created>
  <dc:creator>Ildefonso</dc:creator>
  <dc:description/>
  <dc:language>en-US</dc:language>
  <cp:lastModifiedBy>Toshiba</cp:lastModifiedBy>
  <dcterms:modified xsi:type="dcterms:W3CDTF">2008-06-23T01:08:31Z</dcterms:modified>
  <cp:revision>1</cp:revision>
  <dc:subject/>
  <dc:title>Slide 1</dc:title>
</cp:coreProperties>
</file>