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533-C627-4348-943C-55817FEE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274-C298-4128-80F5-5A4C5F7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BBD-51BE-46DC-ADEE-84635E46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356-E02C-4E76-8BB6-FB79988D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0E4C-D4B7-4203-B0C0-9B803EFE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A3BC-5999-448A-9060-9E118E1D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CF65-770E-44A4-8EAF-7B268DA6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4AA3-6452-40F6-9307-B8AA904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4AB-E28C-4BD0-A820-3EFB590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85FA-461D-44A3-9775-C185B075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F3B2-FA45-4AEB-8838-DAB84DD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447-A105-46B3-A2F9-956EDE0C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DB6-9C26-474A-BDD9-1688EE8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59A-E8FC-46D8-A0DB-0AA4F732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84B1-E263-4052-B798-BD74BFE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6D39-5BF6-4899-8DF1-89F02DC5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8F76-8A12-4819-B065-35B1FE86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7CD-41D0-4B32-B3FC-59BD58C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AD5-D392-49C3-9815-CA2BE5C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F8D-659D-4B72-A7A2-A1DF13E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0A7-CE3D-4E93-AD54-830A49B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047-774C-4B7F-88BF-64DCC55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B11-CB30-401A-892A-7BD0F25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D44-9839-462C-AC81-9EE9182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51F7-4A5A-4666-8C62-BF3658B5F5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0A2-5F78-4A42-BDE0-9EED6DB23F4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71600" y="304920"/>
            <a:ext cx="746748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escrita de um Memorial das aulas de língua portuguesa de 1ª a 4ª sé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ste texto seria interessante dar conta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presentar um panorama geral de como eram as aulas, ou seja, dar uma idéia geral de como se desenvolviam as aulas nesse período de vida escol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azer um detalhamento das aulas falando dos textos lidos, incluídas as atividades de análise e interpretação; dos textos produzidos (tipologia) e assuntos mais abordados; do ensino da gramática e da forma de avali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luir o texto com uma reflexão sobre como esses conhecimentos eram utilizados pelos alunos fora da escol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6"/>
          <p:cNvSpPr/>
          <p:nvPr/>
        </p:nvSpPr>
        <p:spPr>
          <a:xfrm>
            <a:off x="1371600" y="304920"/>
            <a:ext cx="7772400" cy="69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PRETE O TEXTO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ra uma vez dois trafelmos, Mirimi e Gissitar. Os dois trafelmos eporavam longe das perlo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m mastro, porém, um dos trafelmos, Mirimi, felmou que ramaria remar e aror uma perl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issitar regou mutto. Ele rurbia que não rizaria mais da perloga. Gissitar felnou, felnou, felnou...regou, regou, mas nada, Mirimi estava leruando: ramalia rizar e aror uma perloga no mastro do fabeti, Mirimi remou mutto lonto no meio do fabeti proceu Gissitar e os dois relaram ate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issitar não ramalia clenar Mirimi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3880" y="533520"/>
            <a:ext cx="6934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sponda as perguntas abaix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Quem eram os dois Trafel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nde eporav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Quem reg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irimi estava leruado para qu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que aconteceu no amstro do fabeti?                                                      (Loni Cab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95280" y="0"/>
            <a:ext cx="7848720" cy="122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odução escrita de um Memorial das aulas de Didática - Períod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este texto seria interessante dar cont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presentar um panorama geral de como eram as aulas, ou seja, dar uma idéia geral de como se desenvolviam as aulas nesse período de vida escol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azer um detalhamento das aulas falando dos textos lidos, incluídas as atividades de análise e interpretação; dos textos produzidos e assuntos mais abordados; e da forma de avali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cluir o texto com uma reflexão sobre como esses conhecimentos são utilizados na esc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4:12:07Z</dcterms:created>
  <dc:creator>user</dc:creator>
  <dc:description/>
  <dc:language>en-US</dc:language>
  <cp:lastModifiedBy>Toshiba</cp:lastModifiedBy>
  <dcterms:modified xsi:type="dcterms:W3CDTF">2008-06-23T00:33:50Z</dcterms:modified>
  <cp:revision>5</cp:revision>
  <dc:subject/>
  <dc:title>Apresentação do PowerPoint</dc:title>
</cp:coreProperties>
</file>