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06A-C3D8-40C6-BC01-16EEF268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750-00C5-4D23-AF38-7090114F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CFB-A7DC-4966-A334-AC4610F2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D5A-BD57-4257-8854-A24F5A0F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6F03-9488-457B-8D33-276E6C20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5235-D013-413C-B7A8-F5EE2970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E7D8-1C93-4E8A-BE69-13295E58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B33E-A562-4445-8873-56FF09AC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917F-292A-4355-880A-08D46F72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B7F0-CC0B-4523-944B-93ADE5DA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8733-8846-4003-ADCC-4600DCD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BF2-5139-49A6-A4B2-E484C71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13D9-00B3-47A2-907A-4F4A2178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5401-EB24-43E6-B0C4-43B634F5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4DCA-21A3-4F14-BC06-E594FE28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B213-FCAB-455F-B10B-B2E790A3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B13A-2C91-4B6B-A5A4-AF54306A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233-DDDC-49D6-B386-DA022A13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FBF-2F4D-40FD-BB90-9195BD52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585-47F5-42A1-8A15-8993C7BF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9B1-67B2-46FF-994F-A034777E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AB3-DABE-4E49-83FD-CF841527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107-CC6C-45C5-B09E-6970D17E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76A-E598-43A4-B344-5109019F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30CB-7772-4526-888D-39C9F4A45DCD}" type="slidenum">
              <a:rPr b="0" lang="pt-B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49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1045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3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03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03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03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03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39"/>
              <p:cNvSpPr/>
              <p:nvPr/>
            </p:nvSpPr>
            <p:spPr>
              <a:xfrm>
                <a:off x="1527120" y="3090960"/>
                <a:ext cx="7564320" cy="18864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47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028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046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0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030"/>
                <p:cNvSpPr/>
                <p:nvPr/>
              </p:nvSpPr>
              <p:spPr>
                <a:xfrm>
                  <a:off x="60480" y="65160"/>
                  <a:ext cx="141264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031"/>
                <p:cNvSpPr/>
                <p:nvPr/>
              </p:nvSpPr>
              <p:spPr>
                <a:xfrm>
                  <a:off x="9360" y="331308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032"/>
                <p:cNvSpPr/>
                <p:nvPr/>
              </p:nvSpPr>
              <p:spPr>
                <a:xfrm>
                  <a:off x="9360" y="501660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370F-5915-4895-864F-388A048CAE82}" type="slidenum">
              <a:rPr b="0" lang="pt-B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981080" y="685800"/>
            <a:ext cx="6629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NCEPÇÕES DE LINGU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828800" y="1981080"/>
            <a:ext cx="70866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XPRESSÃO DO PENSAMENT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(subjetivismo ideali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íngua tradução do pens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íngua é expressão individu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to individual (estilo subjetivista) que nada tem a ver com o out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expressão se constrói no interior da mente, apenas é exteriorizada: tradu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905120" y="838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RÁTICA PEDAGÓGIC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752480" y="2286000"/>
            <a:ext cx="71629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aracteriza-se pelo Ensino Prescritiv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língua a partir da gramática normativ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bjetiva a correção formal da linguagem e a substituição dos padrões lingüísticos por outr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rabalha exclusivamente com a variedade escrita cult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60948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2. INSTRUMENTO DE COMUNICAÇÃO (objetivismo abstrato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600200" y="2057400"/>
            <a:ext cx="754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língua se organiza em torno de sua estrutura (sistema lingüístico) que garante a unidade e a compreens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íngua é um sistema de formas autônomas, ‘as quais o sujeito deve submeter-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sujeito apenas incorpora. Não é possível um estilo individual, não há evolução (historicidade), pois o uso individual não afeta o sist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a relação comunicativa, o outro aparece como ouvinte, como um destinatário pas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981080" y="533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RÁTICA PEDAG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05120" y="2438280"/>
            <a:ext cx="6553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sino descritivo (gramática descritiv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ostra o funcionamento da língua, sem procurar alterá-l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rata de todas variedades lingüísticas, considerando-as de igual importâ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362320" y="60948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3. LINGUAGEM COMO INTERAÇÃO (dialogis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600200" y="289548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ção do sujeito sobre o outro sujei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er falante, implica em ser sujei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inguagem: constituição de relações soci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981080" y="2286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676520" y="1905120"/>
            <a:ext cx="74674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inguagem apresenta em suas mais profundas característic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- Polifonia (constituída de muitas voz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- Polissemia (tem múltiplos significado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- Abertura e incomplet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(intertextualidad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- Dialógica constitutiva (atividad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teração),eu escrevo para outro l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676520" y="762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3. LINGUAGEM COMO INTERAÇÃO (dialogis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600200" y="6094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3. LINGUAGEM COMO INTERAÇÃO (dialogis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28800" y="2286000"/>
            <a:ext cx="70102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texto é um produto, mas ao estudá-lo devemos pressupor e estudar as operações que possibilitaram a sua emergência em dado momento e em dado espaç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linguagem é facilitadora dos processos do pensamento – linguagem social interfere na atividade 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981080" y="3049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 TEXTO E AS PRÁTICAS DE USO DA LÍNGUA: UM OUTRO OLHAR PARA A METODOLOGIA E PARA O CONTEÚ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752480" y="2209680"/>
            <a:ext cx="71629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ceitos a serem apropriados no processo ensino aprendizagem da Língua materna como conhecimento esc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íngua – uma produção humana; (construída historicamente nas e pelas relações socia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alogia – A língua existe em relação ao ou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4:40:48Z</dcterms:created>
  <dc:creator>user</dc:creator>
  <dc:description/>
  <dc:language>en-US</dc:language>
  <cp:lastModifiedBy>Toshiba</cp:lastModifiedBy>
  <dcterms:modified xsi:type="dcterms:W3CDTF">2008-06-23T00:55:51Z</dcterms:modified>
  <cp:revision>3</cp:revision>
  <dc:subject/>
  <dc:title>Apresentação do PowerPoint</dc:title>
</cp:coreProperties>
</file>