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569450" cy="6692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568800" cy="6692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569520" cy="669276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569520" cy="669276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360" y="-7281720"/>
            <a:ext cx="360" cy="155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0360" cy="30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990880" y="507960"/>
            <a:ext cx="3587760" cy="25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956880" y="3177720"/>
            <a:ext cx="765180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3BC7-D0FD-4233-8C8B-B1F23E5D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85DA-DD75-4343-BC1F-038504A1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D15-DC2E-4461-AC1A-0EAFEEF2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69B-AFA9-47E2-B35F-2AF6D7D0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330D-4F06-4880-ACEA-C955C36DA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89DF-2FCE-400C-B68A-0243D595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F24E-EB7E-4D1A-ACDE-EF266B25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80AE-FE91-4524-BED9-D5CCB16C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5B34-1A6D-4D4A-AD18-B128EE8B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465120"/>
            <a:ext cx="7767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5509-7329-4C56-AC54-4FFF269E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DFB5-ADD4-41DD-9AB1-AA7E138C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8F91-9959-4E34-AA06-790C5551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062F-ECB0-45DD-8B38-11CC5277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7349-E520-485D-8C8B-5E7D6737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4805-8380-4197-B981-53FE8778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0A44-8F46-45FF-BDFD-7D28C7BB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164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8200" y="4192200"/>
            <a:ext cx="25009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3A58-E859-4D2E-AB86-A0D9C04B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A2D-173F-4807-9FBD-CBFF6FA4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A83-E3A5-465C-8975-2CC2EA03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5E3-8619-4FE7-A248-55B15FE4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465120"/>
            <a:ext cx="77677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AB3-F986-492A-8D9B-A8C5E74C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6A0-40A4-40C8-A2FA-02434FA8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419220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566-02B1-4CAF-A3F3-20C91C20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7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D91-2C71-4F79-AE06-B794D7EC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680" y="1440"/>
            <a:ext cx="17543520" cy="13690800"/>
            <a:chOff x="-8410680" y="1440"/>
            <a:chExt cx="17543520" cy="1369080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680" y="1440"/>
              <a:ext cx="16821360" cy="13690800"/>
            </a:xfrm>
            <a:custGeom>
              <a:avLst/>
              <a:gdLst>
                <a:gd name="textAreaLeft" fmla="*/ 8409960 w 16821360"/>
                <a:gd name="textAreaRight" fmla="*/ 16820640 w 16821360"/>
                <a:gd name="textAreaTop" fmla="*/ 0 h 13690800"/>
                <a:gd name="textAreaBottom" fmla="*/ 6844680 h 13690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BE3ED-67F9-4DB1-BC9B-4DAB4A2C75A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6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8360" indent="-281160">
              <a:lnSpc>
                <a:spcPct val="86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5200"/>
            <a:ext cx="16905240" cy="10785600"/>
            <a:chOff x="-7761240" y="1465200"/>
            <a:chExt cx="16905240" cy="10785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5200"/>
              <a:ext cx="13452480" cy="10785600"/>
            </a:xfrm>
            <a:custGeom>
              <a:avLst/>
              <a:gdLst>
                <a:gd name="textAreaLeft" fmla="*/ 6725520 w 13452480"/>
                <a:gd name="textAreaRight" fmla="*/ 13452120 w 13452480"/>
                <a:gd name="textAreaTop" fmla="*/ 86760 h 10785600"/>
                <a:gd name="textAreaBottom" fmla="*/ 5392440 h 107856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21600" y="10800"/>
                  </a:moveTo>
                  <a:arcTo wR="10800" hR="10800" stAng="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0"/>
                </a:path>
              </a:pathLst>
            </a:cu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480" y="47160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0800" cy="45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1900440" cy="45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CE6E038-A939-43FD-8A0B-27F642E09B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1600200"/>
            <a:ext cx="8001000" cy="3276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Consultoria em assuntos educacionais: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Escola na 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erspectiva Histórico – Cultural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Prof. Drª Carla Rosane Bressan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171360"/>
            <a:ext cx="8534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ELEMENTOS CONSTITUIDORES DO PROCESSO DE ELABORAÇÃO  DO CONHEC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1600200"/>
            <a:ext cx="63244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76200" algn="just">
              <a:lnSpc>
                <a:spcPct val="130000"/>
              </a:lnSpc>
              <a:tabLst>
                <a:tab algn="l" pos="0"/>
                <a:tab algn="l" pos="376200"/>
                <a:tab algn="l" pos="824040"/>
                <a:tab algn="l" pos="1273320"/>
                <a:tab algn="l" pos="1722600"/>
                <a:tab algn="l" pos="2171880"/>
                <a:tab algn="l" pos="2620800"/>
                <a:tab algn="l" pos="3070080"/>
                <a:tab algn="l" pos="3519360"/>
                <a:tab algn="l" pos="3968640"/>
                <a:tab algn="l" pos="4417920"/>
                <a:tab algn="l" pos="4867200"/>
                <a:tab algn="l" pos="5316480"/>
                <a:tab algn="l" pos="5765760"/>
                <a:tab algn="l" pos="6215040"/>
                <a:tab algn="l" pos="6664320"/>
                <a:tab algn="l" pos="7113600"/>
                <a:tab algn="l" pos="7562880"/>
                <a:tab algn="l" pos="8012160"/>
                <a:tab algn="l" pos="8461440"/>
                <a:tab algn="l" pos="891072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33"/>
                </a:solidFill>
                <a:latin typeface="Arial"/>
                <a:ea typeface="Lucida Sans Unicode"/>
              </a:rPr>
              <a:t>.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Constitui-se em um artefato cultur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320" y="2286000"/>
            <a:ext cx="64767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76200" algn="just">
              <a:lnSpc>
                <a:spcPct val="130000"/>
              </a:lnSpc>
              <a:tabLst>
                <a:tab algn="l" pos="0"/>
                <a:tab algn="l" pos="376200"/>
                <a:tab algn="l" pos="824040"/>
                <a:tab algn="l" pos="1273320"/>
                <a:tab algn="l" pos="1722600"/>
                <a:tab algn="l" pos="2171880"/>
                <a:tab algn="l" pos="2620800"/>
                <a:tab algn="l" pos="3070080"/>
                <a:tab algn="l" pos="3519360"/>
                <a:tab algn="l" pos="3968640"/>
                <a:tab algn="l" pos="4417920"/>
                <a:tab algn="l" pos="4867200"/>
                <a:tab algn="l" pos="5316480"/>
                <a:tab algn="l" pos="5765760"/>
                <a:tab algn="l" pos="6215040"/>
                <a:tab algn="l" pos="6664320"/>
                <a:tab algn="l" pos="7113600"/>
                <a:tab algn="l" pos="7562880"/>
                <a:tab algn="l" pos="8012160"/>
                <a:tab algn="l" pos="8461440"/>
                <a:tab algn="l" pos="891072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33"/>
                </a:solidFill>
                <a:latin typeface="Arial"/>
                <a:ea typeface="Lucida Sans Unicode"/>
              </a:rPr>
              <a:t>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 Organizadora do pensa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2819520"/>
            <a:ext cx="9067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76200">
              <a:lnSpc>
                <a:spcPct val="120000"/>
              </a:lnSpc>
              <a:tabLst>
                <a:tab algn="l" pos="0"/>
                <a:tab algn="l" pos="376200"/>
                <a:tab algn="l" pos="824040"/>
                <a:tab algn="l" pos="1273320"/>
                <a:tab algn="l" pos="1722600"/>
                <a:tab algn="l" pos="2171880"/>
                <a:tab algn="l" pos="2620800"/>
                <a:tab algn="l" pos="3070080"/>
                <a:tab algn="l" pos="3519360"/>
                <a:tab algn="l" pos="3968640"/>
                <a:tab algn="l" pos="4417920"/>
                <a:tab algn="l" pos="4867200"/>
                <a:tab algn="l" pos="5316480"/>
                <a:tab algn="l" pos="5765760"/>
                <a:tab algn="l" pos="6215040"/>
                <a:tab algn="l" pos="6664320"/>
                <a:tab algn="l" pos="7113600"/>
                <a:tab algn="l" pos="7562880"/>
                <a:tab algn="l" pos="8012160"/>
                <a:tab algn="l" pos="8461440"/>
                <a:tab algn="l" pos="891072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33"/>
                </a:solidFill>
                <a:latin typeface="Arial"/>
                <a:ea typeface="Lucida Sans Unicode"/>
              </a:rPr>
              <a:t>.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Responsável pelo desenvolvimento das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  <a:ea typeface="Lucida Sans Unicode"/>
              </a:rPr>
              <a:t>Funções Psicológicas Superiore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: percepção, generalização, atenção voluntária, abstr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267080"/>
            <a:ext cx="83059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76200" algn="just">
              <a:lnSpc>
                <a:spcPct val="130000"/>
              </a:lnSpc>
              <a:tabLst>
                <a:tab algn="l" pos="0"/>
                <a:tab algn="l" pos="376200"/>
                <a:tab algn="l" pos="824040"/>
                <a:tab algn="l" pos="1273320"/>
                <a:tab algn="l" pos="1722600"/>
                <a:tab algn="l" pos="2171880"/>
                <a:tab algn="l" pos="2620800"/>
                <a:tab algn="l" pos="3070080"/>
                <a:tab algn="l" pos="3519360"/>
                <a:tab algn="l" pos="3968640"/>
                <a:tab algn="l" pos="4417920"/>
                <a:tab algn="l" pos="4867200"/>
                <a:tab algn="l" pos="5316480"/>
                <a:tab algn="l" pos="5765760"/>
                <a:tab algn="l" pos="6215040"/>
                <a:tab algn="l" pos="6664320"/>
                <a:tab algn="l" pos="7113600"/>
                <a:tab algn="l" pos="7562880"/>
                <a:tab algn="l" pos="8012160"/>
                <a:tab algn="l" pos="8461440"/>
                <a:tab algn="l" pos="891072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 </a:t>
            </a:r>
            <a:r>
              <a:rPr b="1" lang="en-GB" sz="3600" spc="-1" strike="noStrike">
                <a:solidFill>
                  <a:srgbClr val="ff0033"/>
                </a:solidFill>
                <a:latin typeface="Arial"/>
                <a:ea typeface="Lucida Sans Unicode"/>
              </a:rPr>
              <a:t>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 Constitui-se em um instrumento mediador (signo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320" y="4876920"/>
            <a:ext cx="87627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76200">
              <a:lnSpc>
                <a:spcPct val="120000"/>
              </a:lnSpc>
              <a:tabLst>
                <a:tab algn="l" pos="0"/>
                <a:tab algn="l" pos="376200"/>
                <a:tab algn="l" pos="824040"/>
                <a:tab algn="l" pos="1273320"/>
                <a:tab algn="l" pos="1722600"/>
                <a:tab algn="l" pos="2171880"/>
                <a:tab algn="l" pos="2620800"/>
                <a:tab algn="l" pos="3070080"/>
                <a:tab algn="l" pos="3519360"/>
                <a:tab algn="l" pos="3968640"/>
                <a:tab algn="l" pos="4417920"/>
                <a:tab algn="l" pos="4867200"/>
                <a:tab algn="l" pos="5316480"/>
                <a:tab algn="l" pos="5765760"/>
                <a:tab algn="l" pos="6215040"/>
                <a:tab algn="l" pos="6664320"/>
                <a:tab algn="l" pos="7113600"/>
                <a:tab algn="l" pos="7562880"/>
                <a:tab algn="l" pos="8012160"/>
                <a:tab algn="l" pos="8461440"/>
                <a:tab algn="l" pos="891072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33"/>
                </a:solidFill>
                <a:latin typeface="Arial"/>
                <a:ea typeface="Lucida Sans Unicode"/>
              </a:rPr>
              <a:t>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 Fator primordial para que aconteça a relação entre aprendizagem e desenvolvi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910120"/>
            <a:ext cx="72388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376200" algn="just">
              <a:lnSpc>
                <a:spcPct val="130000"/>
              </a:lnSpc>
              <a:tabLst>
                <a:tab algn="l" pos="0"/>
                <a:tab algn="l" pos="376200"/>
                <a:tab algn="l" pos="824040"/>
                <a:tab algn="l" pos="1273320"/>
                <a:tab algn="l" pos="1722600"/>
                <a:tab algn="l" pos="2171880"/>
                <a:tab algn="l" pos="2620800"/>
                <a:tab algn="l" pos="3070080"/>
                <a:tab algn="l" pos="3519360"/>
                <a:tab algn="l" pos="3968640"/>
                <a:tab algn="l" pos="4417920"/>
                <a:tab algn="l" pos="4867200"/>
                <a:tab algn="l" pos="5316480"/>
                <a:tab algn="l" pos="5765760"/>
                <a:tab algn="l" pos="6215040"/>
                <a:tab algn="l" pos="6664320"/>
                <a:tab algn="l" pos="7113600"/>
                <a:tab algn="l" pos="7562880"/>
                <a:tab algn="l" pos="8012160"/>
                <a:tab algn="l" pos="8461440"/>
                <a:tab algn="l" pos="8910720"/>
                <a:tab algn="l" pos="9360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33"/>
                </a:solidFill>
                <a:latin typeface="Arial"/>
                <a:ea typeface="Lucida Sans Unicode"/>
              </a:rPr>
              <a:t>.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  <a:ea typeface="Lucida Sans Unicode"/>
              </a:rPr>
              <a:t> Possibilita a comunicação (fala/sinais/escrit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143000"/>
            <a:ext cx="2666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 - LINGUAGE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3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3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3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3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3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4" dur="3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3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243000"/>
            <a:ext cx="6553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  <a:ea typeface="Arial"/>
              </a:rPr>
              <a:t>O SURGIMENTO E USO DA LINGUAGE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394240"/>
            <a:ext cx="876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m síntese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s raízes do surgimento da atividade consciente do homem não devem ser procuradas nas peculiaridades da alma e nem no íntimo do organismo humano, mas nas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dições sociais de vida historicamente produzidas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762120"/>
            <a:ext cx="87631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360"/>
                <a:tab algn="l" pos="53820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 surgimento da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nguagem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é a segunda condição que leva à formação da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tividade consc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e estrutura complexa do hom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0360"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0360"/>
                <a:tab algn="l" pos="53820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stuma-se entender por linguagem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m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istema de códigos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que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ão designados os objetos do mundo exterior, suas ações, qualidades, relações entre eles, et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0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360"/>
                <a:tab algn="l" pos="53820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x.: a palavra “cadeira” designa um tipo de móvel que serve de assento, a palavra “pão” designa um objeto comestível, enquanto “dorme”, “corre” designam ações, “ácido”, “plano” designam qualidades dos objetos e as palavras auxiliares “sobre”, “sob”, “juntamente”, “em conseqüência” designam relações diferentes por complexidade entre os obj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9036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360"/>
                <a:tab algn="l" pos="538200"/>
                <a:tab algn="l" pos="987480"/>
                <a:tab algn="l" pos="1436760"/>
                <a:tab algn="l" pos="1886040"/>
                <a:tab algn="l" pos="2335320"/>
                <a:tab algn="l" pos="2784600"/>
                <a:tab algn="l" pos="3233880"/>
                <a:tab algn="l" pos="3683160"/>
                <a:tab algn="l" pos="4132440"/>
                <a:tab algn="l" pos="4581360"/>
                <a:tab algn="l" pos="5030640"/>
                <a:tab algn="l" pos="5479920"/>
                <a:tab algn="l" pos="5929200"/>
                <a:tab algn="l" pos="6378480"/>
                <a:tab algn="l" pos="6827760"/>
                <a:tab algn="l" pos="7277040"/>
                <a:tab algn="l" pos="7726320"/>
                <a:tab algn="l" pos="8175600"/>
                <a:tab algn="l" pos="8624880"/>
                <a:tab algn="l" pos="907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lavras, unidas em frases, são os principais 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eios de comunicaçã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ediante os quais o homem conserva e transmite informação e assimila a experiência acumulada por gerações inteiras de outras pesso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0880" y="152280"/>
            <a:ext cx="2743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I - MEDI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762120"/>
            <a:ext cx="82296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siste na utilização d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strumento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(externos) e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igno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(internos) que possibilitam, via interação social, a transformação do sujei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200400"/>
            <a:ext cx="3429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II - INTE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3879720"/>
            <a:ext cx="853452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ão ações partilhadas que pressupõe trocas entre parceiros com diferentes apropri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ÇÕES PARTILHADA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TROCA  </a:t>
            </a:r>
            <a:r>
              <a:rPr b="1" lang="en-GB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  COLE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62000"/>
            <a:ext cx="3581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IV - APROPRI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838080"/>
            <a:ext cx="86868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É o processo de internalização (inter para o intrapsicológico) das experiências do sujeito com o grupo social, numa iteração dialética, possibilitando-o agir em novas situações, Os mecanismos de apropriação constituem-se na subjetividade, marcando as diferenças individu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876920"/>
            <a:ext cx="7848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ão elaborações dinâmicas, abstratas e genéricas que nos permitem lidar com o real, assumem diferentes tipos e/ou fun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4267080"/>
            <a:ext cx="2666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V - CONCE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dur="indefinite" fill="hold">
                      <p:stCondLst>
                        <p:cond delay="indefinite"/>
                      </p:stCondLst>
                      <p:childTnLst>
                        <p:par>
                          <p:cTn id="2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" dur="500" fill="hold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31760"/>
            <a:ext cx="86104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ROCESSO DE ELABORAÇÃO CONCEITU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cesso psicológico desenvolvido pelos indivíduos que reflete cognitivamente suas experiências (abstrações) e suas sínteses/generalizações, mediadas pela palavra e pela materia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438280"/>
            <a:ext cx="82296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ceito Espontân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ormulados no processo de interação em momentos do cotidi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(da prática social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933720"/>
            <a:ext cx="868680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ceitos Científ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rocesso de interação que necessita de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pau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teracionais específica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(pressupõe maior abstração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5288040"/>
            <a:ext cx="8686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Os conceitos espontâneos e os científicos são interdependentes, isto é, um puxa o outro, mas se mantém independentes, não havendo uma fusão ou dissociação entre e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474840"/>
            <a:ext cx="799308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ROCESSO DE ELABORAÇÃO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CEITUAL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rocesso psicológico desenvolvido pelos indivíduos que reflete cognitivamente suas experiências (abstrações) e suas sínteses/generalizações, mediadas pela palavra e pela material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52280"/>
            <a:ext cx="8809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ONCEPÇÃO TEÓRICA DA PROPOSTA CURRI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MATERIALISMO HIST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4114800"/>
            <a:ext cx="78487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ua abordag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alétic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isão da sociedade na ótica do trabalh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álise do homem e da sociedade em sua historicida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143000"/>
            <a:ext cx="87631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Karl Marx (1818-1883) -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envolveu uma teoria explicativa da sociedade e de homem, que faz a crítica e interpreta a forma de organização e produção da sociedade capitalista a partir do estudo e da vivência das lutas da classe trabalhadora européia no decorrer do século XI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1565280"/>
            <a:ext cx="84582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OM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jeito do conhecimento socialmente determinado, portanto síntese das relações sociais de sua épo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76320"/>
            <a:ext cx="853416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SOCIE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íntese das relações sociais de produção, o homem é produto e produtor d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5638680"/>
            <a:ext cx="807732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DUC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ocesso de humanização do homem em socieda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3279600"/>
            <a:ext cx="853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s homens fazem sua própria história, mas não a fazem como querem; não a fazem sob circunstância de sua escolha e sim sob aquelas com que se defrontam diretamente, legadas e transmitidas pelo passado. A tradição de todas as gerações mortas oprimem como um pesadelo o cérebro dos vivos”. Marx, Karl. O 18 Brumário de Luiz Bonaparte. Cap.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14200"/>
            <a:ext cx="79250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CONCEPÇÃO DE APRENDIZAGE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HISTÓRICO-CUL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600200"/>
            <a:ext cx="861048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Origem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Lev S. Vygotsky (1896-1934), junto com outros pesquisadores, como Alexander R. Lúria e Alex N. Leontiev, realizou pesquisas com crianças de diferentes condições sociais para observar como se operava a relação delas com o conhecim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191120"/>
            <a:ext cx="85345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ensadores sócio-históricos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Vygotsky e seus pesquisadores partiram do pressuposto da determinação da materialidade sobre a relação homem/conhecimento. A formação da mente como a formação do homem, é considerada histórica e soci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62320" y="302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PRESSUP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609480"/>
            <a:ext cx="84582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0033"/>
              </a:buClr>
              <a:buSzPct val="12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udo o que constitui a realidade humana tem origem nas relações sociais. Portanto, idéia e matéria são dimensões indissociáveis da mesma realidade (totalidad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311560"/>
            <a:ext cx="82296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ff0033"/>
              </a:buClr>
              <a:buSzPct val="12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consciência humana não é inata e nem resultado apenas das ações do indivíduo com o me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58964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buClr>
                <a:srgbClr val="ff0033"/>
              </a:buClr>
              <a:buSzPct val="12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linguagem tem um papel determinante na formação da consciência humana (a palavra é o microcosmo da consciênc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314880"/>
            <a:ext cx="868680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70000"/>
              </a:lnSpc>
              <a:spcBef>
                <a:spcPts val="1500"/>
              </a:spcBef>
              <a:buClr>
                <a:srgbClr val="ff0033"/>
              </a:buClr>
              <a:buSzPct val="120000"/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titui-se em uma abordagem concreta e multidimensional do sujeito (DIALÉTICA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52280"/>
            <a:ext cx="85341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ROCESSO DE APRENDIZAGEM E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stitui-se em uma unidade dialé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15238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0033"/>
              </a:buClr>
              <a:buSzPct val="12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stitui-se em um processo de apropriação interpsicológica para intrapsicológica (do social para o individua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2666880"/>
            <a:ext cx="85345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buClr>
                <a:srgbClr val="ff0033"/>
              </a:buClr>
              <a:buSzPct val="12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Enquanto categoria de processo educacional, está diretamente relacionada com a elaboração de conceitos científicos que subsidiam o desenvolvimento das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Funções Psicológicas Superiores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, permitindo ao sujeito uma transformação qualitativa (maior possibilidade de relação com o mundo e os outro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525780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buClr>
                <a:srgbClr val="ff0033"/>
              </a:buClr>
              <a:buSzPct val="120000"/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s Funções Psicológicas Superiores são de origem sócio-histórica e cultur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1066680"/>
            <a:ext cx="32004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RENDIZAG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indefinite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228600"/>
            <a:ext cx="87631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ROCESSO DE APRENDIZAGEM E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onstitui-se em uma unidade dialé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81080"/>
            <a:ext cx="85345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stá intimamente ligado à aprendizagem, uma vez que é esta que provoca o desenvolvimento (não de forma linear e sim em uma complexidade dialética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187880"/>
            <a:ext cx="73911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esenvolver-se é saltar qualitativamente na utilização de instrumentos mediadores enquanto níveis de compreensão mais elaborados e possibilidades filo e ontogenétic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28600"/>
            <a:ext cx="8763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ROCESSO DE APRENDIZAGEM E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990720"/>
            <a:ext cx="8763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ra Vygotsky, o homem é o resultado da composição filo e ontogenética, possibilitando o sujeito ser como ele 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3429000"/>
            <a:ext cx="85345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9640" indent="-1709640" algn="just">
              <a:lnSpc>
                <a:spcPts val="5162"/>
              </a:lnSpc>
              <a:tabLst>
                <a:tab algn="l" pos="0"/>
                <a:tab algn="l" pos="170964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794880"/>
                <a:tab algn="l" pos="10244160"/>
                <a:tab algn="l" pos="1069344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Filogênese</a:t>
            </a:r>
            <a:r>
              <a:rPr b="0" lang="en-GB" sz="20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–</a:t>
            </a:r>
            <a:r>
              <a:rPr b="0" lang="en-GB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envolvimento da espécie, no caso do ser humano, desde o homem primitivo até o homem a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09640" indent="-1709640" algn="just">
              <a:lnSpc>
                <a:spcPts val="2035"/>
              </a:lnSpc>
              <a:tabLst>
                <a:tab algn="l" pos="0"/>
                <a:tab algn="l" pos="170964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794880"/>
                <a:tab algn="l" pos="10244160"/>
                <a:tab algn="l" pos="1069344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709640" indent="-1709640" algn="just">
              <a:lnSpc>
                <a:spcPts val="5162"/>
              </a:lnSpc>
              <a:tabLst>
                <a:tab algn="l" pos="0"/>
                <a:tab algn="l" pos="170964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794880"/>
                <a:tab algn="l" pos="10244160"/>
                <a:tab algn="l" pos="1069344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Ontogênese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–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envolvimento do indivíduo, do nascimento até a mo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2286000"/>
            <a:ext cx="861048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Filo = espécie    Gênese = origem     Onto = ser/suje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fill="hold">
                      <p:stCondLst>
                        <p:cond delay="indefinite"/>
                      </p:stCondLst>
                      <p:childTnLst>
                        <p:par>
                          <p:cTn id="1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3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722160"/>
            <a:ext cx="68580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ygotsky elaborou o conceito 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905120"/>
            <a:ext cx="71629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ível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senvolvimento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liza de forma autôno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200400"/>
            <a:ext cx="83059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na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senvolvimento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rox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Que atua o sujeito mais experiente - ajuda, que incide a aprendiz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724280"/>
            <a:ext cx="81532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ível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senvolvimento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oten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titui-se na possibilidade, no vir a ser, sempre será um nov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28600"/>
            <a:ext cx="8763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PROCESSO DE APRENDIZAGEM E DESENVOLV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TEORIA DA ATIVIDADE</cp:keywords>
  <dc:language>en-US</dc:language>
  <cp:lastModifiedBy/>
  <cp:revision>0</cp:revision>
  <dc:subject/>
  <dc:title>CURSO DE CPACITAÇÃO PARA MULTIPLICADORES DOS NTEs</dc:title>
</cp:coreProperties>
</file>