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3AB-C48A-4CF8-93F2-2A79BF98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BC5-2742-4D2C-9874-00049671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1A7-6A89-4653-9A08-7440CB4D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4CA-7DBB-4865-AC47-53D27B8A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8934-5462-4A6D-AB86-CD099525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092-FCBE-4AF7-941F-FB271963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806-638A-4709-A995-DA6A6082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E11-C193-4313-B1FD-EB56757F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8901-1082-4C29-8D2E-2780BE0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635-C64F-4E38-9074-B546713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8B1-D383-41E4-8A6E-273905A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D08-00DA-4F86-9D9A-2E3A73C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FEEC17A-E1C9-4839-A0D8-1F5C04E73B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5029200" cy="398880"/>
          </a:xfrm>
          <a:prstGeom prst="rect">
            <a:avLst/>
          </a:prstGeom>
          <a:noFill/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HECIMENTO = TRANSMI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6858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8640" y="990720"/>
            <a:ext cx="5364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48520" y="5335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cola Tr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scola No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280"/>
            <a:ext cx="7924680" cy="3988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LAÇÃO: CONHECIMENTO/APRENDIZAGE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295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rítica à Transmis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523880"/>
            <a:ext cx="2895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419720" y="1445760"/>
            <a:ext cx="28954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36232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orias Sócio-Interacionistas - Papel Ativo do Suje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4240" y="446076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793960"/>
            <a:ext cx="4648320" cy="4388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ASIL – anos 80 – abertura polít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erentes influênci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edagogia de Projetos/Dewey (fundamentos do tecnicismo mas usados como referência na proposta de renovaçã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ulo Freire - Tema Gerador (retomada de sua experiênci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vo Referencial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Piaget – Epistemologia Genética –na educação temo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“CONSTRUTIVISMO”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-  que recebeu grande apoio do MEC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2803680"/>
            <a:ext cx="4191120" cy="408312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ASIL – anos 90 – acesso à literatura de base Marxi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erentes influências: Pedagogia soviética e européia (Espanha e Itália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Novo Referencial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Pedagogia histórico-cultural – Vigotsky, Luria, Leonti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ncípio: *sujeito que aprende é um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JEITO 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PRENDIZAGEM = ATIVIDADE HUMANA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65640" y="4460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89440" y="1828800"/>
            <a:ext cx="5284440" cy="459720"/>
          </a:xfrm>
          <a:prstGeom prst="rect">
            <a:avLst/>
          </a:prstGeom>
          <a:noFill/>
          <a:ln w="7632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660066"/>
                </a:solidFill>
                <a:latin typeface="Times New Roman"/>
              </a:rPr>
              <a:t>Elaboraçã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 construção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rla</cp:lastModifiedBy>
  <cp:revision>0</cp:revision>
  <dc:subject/>
  <dc:title>Apresentação do PowerPoint</dc:title>
</cp:coreProperties>
</file>