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E72C-61EA-4D1E-8740-A0CE914C418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JAME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PME NÃO PODERÁ ESTAR EM CONFLITO LEGAL E INTENCIONAL, COM O PNE, PDE, 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NFLITO LEGAL INVIABILIZA O P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AVRAS SOFISTICADAS NÃO FAZEM O MELHOR PLANO, MAS A ADEQUAÇÃO DO QUE SE DESEJA FAZER E A COMPATIBILIDADE COM OS RECURSOS, COM AS POSSÍVEIS FONTES DE PARC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NCA ESQUECENDO DE DISTRIBUIR AS AÇÕES NO TEMPO, COM UM CRONOGRAMA DE EXECU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QUANTIFICAÇÃO DAS METAS É IMPORTANTE, A CURTO, MÉDIO OU LONGO PRAZO, DESTACANDO SE O OBJETIVO DEVE SER ALÇANÇADO TOTAL OU PARCIALMENTE EM TANTO TEMPO PREVIO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E TÉCNICA DA ELABORAÇÃO DE UM PL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IS DIRET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T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PLANO MUNICIPAL DE EDUCAÇÂO EXIGE UMA CONSTRUÇÃO PARTICIP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OGRAMA DE EXEC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OMPANHAMENTO DA EXECUÇÃO AVALIAÇÃ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AÇÃO FINAL DO PL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ENDAÇÕES BIBLIOGRÁF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O DE CONTINUIDADE DO PLANO MUNICIPAL DE EDU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XÃO NECESSÁ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AÇÃO E FORMATAÇÃO: CLODOALDO JOSÉ SOUZA, SOCIÓLOGO, CONSUL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a Helena Vargas da Silveira – Pedagoga, Especialista em Edu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PLANEJAMENTO É CIENTÍFICO. PERMITE CRIAR ESTRAT[ÉGIAS PARA AGIR SOBRE UMA REALIDADE E APONTA OS CAMINHOS PARA RETORNAR A ELA PARA VERIFICAR SE AQUILO QUE ERA PRETENDIDO, FOI OU NÃO ALCANÇ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UMA REALIMENTAÇÃO DAS AÇÕES  QUE SE INSEREM EM UM CICLO DIRECIONADO PARA ATUAÇÃO SOBRE UMA REALID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NICÍPIO DIAGNOSTICOU QUE NÃO TEM CRECHES SUFICIENTES PARA ATENDIMENTO DA POPULAÇÃO REVELADA NO MINICENSO EDUCAC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RÁ INCLUIR A AÇÃO CONSTRUÇÃO DE CRECHES, EM SEU PME, OBSERV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ÇÃO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 QU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JAR PARTE DO PRINCÍPIO DE ORGANIZAÇÃO E ESTE PRINCÍPIO LEVA A OUTRO MUITO IMPORTANTE QUE É A SOMA DE ESFORÇOS, A INTEGRAÇÃO DE VÁRIOS ENTES PARA CONSEGUIR SUCESSO NAQUILO QUE FOI PRETENDIDO E PLANEJ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AÇÕES PLANEJADAS EM EDUCAÇÃO NOS MUNICÍPIOS PARTEM DE UMA REALIDADE DIAGNOSTICADA E PRECISAM TER COERÊNCIA  COM A LEGISLAÇÃO E METAS DO pne, pee E, ATUALMENTE , COM AS PROPOSTAS DO P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CATIVA, DIAGBÓSTICO, OBJETIVOS, METAS, ESTRATÉGIAS, RECURSOS,  ACOMPANHAMENTO DAS AÇÕES, , ALCANCE DOS OBJETIVOS, COERTÊNCIA COM OUTROS PLANOS SÃO ELEMENTOS QUE DEVEM SER OBSERVADOS PARA A ELABORAÇÃO DO P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30D-4697-4D52-9D9D-94AAE371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BAD-B349-48F2-8FBF-661381DB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BC0-9736-45C1-AB05-D650B3F6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71E-E22F-49D4-AC1D-3FB9AAB6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CD6-FFFB-4098-B7C8-855B525F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2EB-2C6A-47CB-B272-9BF49927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2A7-65E6-4A24-A4F4-134A5947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6E9-C711-44B3-927A-4CA05E5E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2D6-AE24-4EAD-AF6D-85B3584E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339-8F4C-4C4C-A00B-27854CD0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086-26D9-4622-A89A-3EC1ED8B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9AC-E5A1-4066-892B-65EE241A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978E-5A07-43A2-896E-C8361A0AC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clodoaldosouza@mec.gov.br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64000" y="1341360"/>
            <a:ext cx="4968720" cy="4056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trizes importantes para a construção do PLANO MUNICIPAL DE EDU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0" y="907920"/>
            <a:ext cx="6318360" cy="4868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IDADO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ME NÃO PODERÁ ESTAR EM CONFLITO LEGAL E INTENCIONAL, COM O PNE, PDE, PEE, CONSTITUIÇÃO FEDERAL, LEIS EDUCA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CONFLITO LEGAL INVIABILIZA O P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08000" y="476280"/>
            <a:ext cx="6336000" cy="606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 LEMB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AVRAS SOFISTICADAS NÃO FAZEM O MELHOR PLANO, MAS SIM A ADEQUAÇÃO DO QUE SE DESEJA FAZER E A COMPATIBILIDADE COM OS RECURSOS, COM AS POSSÍVEIS FONTES DE PARC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NCA ESQUECENDO DE DISTRIBUIR AS AÇÕES NO TEMPO, COM UM CRONOGRAMA DE EXEC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QUANTIFICAÇÃO DAS METAS  É  IMPORTANTE, A CURTO, MÉDIO OU LONGO PRAZO, DESTACANDO COMO SE ESPERA O ALCANCE, TOTAL OU PARCIAL, NO TEMPO PREV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58920" y="1700280"/>
            <a:ext cx="741672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ANDO DIRETRIZES TÉCNICAS PARA ELABORAÇÃO DO P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76360" y="692280"/>
            <a:ext cx="6624720" cy="380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ção do municí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ção dos níveis e modalidades de Ensino do municí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demográfico e educ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ve histórico do PME apres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foi construído (envolvi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260280"/>
            <a:ext cx="7632720" cy="410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IFIC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acar: o atendimento às diretrizes legais da Educação que regem 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princípios que nortearam a elaboração d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tendimento às necessidades, aspirações do municí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tendimento de reivindicações da popu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4360" y="404640"/>
            <a:ext cx="7993080" cy="452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mento de citar os resultados de pesquisas, do minicenso, de avaliações anteriores, apontamento das necessidades educacionais na realidade do municí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car as necessidades prioritárias e apontar as raz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lecionar e destacar onde o plano irá inter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692280"/>
            <a:ext cx="7848360" cy="410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TRIZES LEG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ar as diretrizes legais em que o PME encontra legitim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eis federais, estaduais,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corporações e ou alterações  leg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está operacionalizado o sistema de Ensino no município (níveis e modalidades); formação docente, planos de carreira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836640"/>
            <a:ext cx="8496000" cy="340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se deseja fazer para causar impacto positivo na área educacional do município, em atendimento aos resultados do diagnóstico, reivindicações, prioridades de políticas educacionais e interesses da comun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476280"/>
            <a:ext cx="7200720" cy="40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cionar, de forma detalhada , as ações que se pretende fazer para atingir o objetivo geral, indicando como e com que , com quem,  determinando distribuição no tempo  para que possam ser acompanhadas e avaliadas, para realimentação , correção de desvios, troca de estratégias para o alcance, troca de metodologias, de pessoal, ou agregação de mais entes, parceiros, atores, comunidade escolar, busca de recu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cionar os objetivos por níveis e modalidades de ensi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04640"/>
            <a:ext cx="7705800" cy="488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ilo que o município deseja alcançar, de forma quantificada no tempo, a curto, médio ou longo prazo. Especificar no cronograma de metas, em meses, anos, dé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ltar o PNE, PDE, PEE, sempre que haja necessidade de compatibilizar metas estaduais, nac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ar as metas por níveis e modalidades de ens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428760"/>
            <a:ext cx="5327640" cy="5709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LANO MUNICIPAL DE EDUCAÇÂO EXIGE UMA CONSTRUÇÃO PARTICIP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 RELAÇÃO COM O DESENVOLVIMENTO EDUCACIONAL DO MUNICÍPIO, REFLETINDO-SE NA POPULAÇÃO ESCOLAR E NA SOCIEDADE, EM G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03280" y="907920"/>
            <a:ext cx="6769080" cy="396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RONOGRAMA DE EXEC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sentação gráfica das metas do PME e a proposta de tempo de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e a criatividade e a praticidade para apresentar o cronograma, na redação final do P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nogramas fáceis de acompanhar, de prefer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8136000" cy="540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OS, FINANCEIROS, FÍSICOS, MATER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r os recursos disponíveis e ou aqueles oriundos de parcerias, as fontes de recursos financeiros, convênios, contratos, PPA, FUNDEB, inserção em Programas estaduais, federais, empresariais, rede privada, possibilidades de concursos, contrat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r pessoal disponível para executar o PME: Docentes, Profissionais da Educaç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lhos, Associações , sociedade civi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620640"/>
            <a:ext cx="8353440" cy="411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MPANHAMENTO DA EXECUÇÃO AVAL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r o PME de forma que os itens planejados possam ser acompanhados em sua execução, com cronogramas de ações, de me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elecer critérios quantitativos para as metas e 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elecer critérios de q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836640"/>
            <a:ext cx="7704000" cy="405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MPANHAMENTO DA EXECUÇÃO AVAL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r instrumentos de avaliação, condizentes com o que deseja acompanhar e avali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r períodos para avaliação; não deixar para o final do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ar esclarecimento de dúv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r resultados para os munícipes, estado, Me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404640"/>
            <a:ext cx="8136000" cy="504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AÇÃO FINAL DO P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mente, a cargo da Secretaria Municipal de Educação que  dará formato ao PME, organizando a redação final da construção conjunta , democrática e participativa,  proposta para o seu conteú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dação final deverá ser analisada e divulgada (criação de comissão composta de  diferentes atores do município, envolvidos com a construção e desenvolvimento do P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836640"/>
            <a:ext cx="8351640" cy="426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COMENDAÇÕES BIBLIOGRÁFIC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ITUIÇÃO FEDERAL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 N.10172/01 P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 N.9.394/1996 L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 11.494/2007 FUNDE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O NACIONAL DE EDUCAÇÃO; Vital Did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ME - DOCUMENTO NORTEADOR PARA ELABORAÇÃO  DO PME; Souza, Clodoal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ZER PARA ACONTECER; Monlevade, João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549360"/>
            <a:ext cx="8352000" cy="2348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ÚCLEO DURO  DO P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PROCESSO DE CONTINUIDADE DO PLANO MUNICIPAL DE EDU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XÃO NECESS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6000" y="2997360"/>
            <a:ext cx="1296720" cy="115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573360"/>
            <a:ext cx="655164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dos nossos maiores problemas é a descontinuidade nas gestões municipais. Toda vez que muda a gestão das prefeituras vem uma avalanche de desconstruções institucionais e programáticas. Uma espécie de eterno recomeço”. (Raimundo Palha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620640"/>
            <a:ext cx="8208720" cy="3812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BÉNS AMAVI E MUNICÍPIOS PRESE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NSTRAM EMPENHO PARA A CONSTRUÇÃO DO PME, ACREDITRANDO QUE SEJA MARCO DE CONTINUIDADE POSITIVA, SEMPRE QUE CONTEMPLE A SUPERAÇÃO DAS NECESSIDADES PARA O DESENVOLVIMENTO, OU QUE APRESENTE INOVAÇÕES EM PROL DESTE, QUER DE ÂMBITO EDUCACIONAL E 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 VITAL DIDONET, QUE A CONTEXTUALIZAÇÃO DA CULTURA É UM DOS PONTOS FORTES PARA O P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24000" y="1700280"/>
            <a:ext cx="4824360" cy="318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odoaldosouza@mec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1) 210485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e@mec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12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0920" y="2276640"/>
            <a:ext cx="5545440" cy="23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quisa, cr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doaldo José Souza, Sociólogo, Consul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Helena Vargas da Silveira – Pedagoga, Especialista em Edu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ília, maio de 28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92360" y="5445000"/>
            <a:ext cx="745164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76360" y="0"/>
            <a:ext cx="7667640" cy="141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476280"/>
            <a:ext cx="6191280" cy="606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LANEJAMENTO É CIENTÍFIC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PERMITE CRIAR ESTRATÉGIAS PARA AGIR SOBRE UMA REALIDADE E RETORNAR A ELA (em determinado tempo estipulado), PARA VERIFICAR SE AQUILO QUE ERA PRETENDIDO, FOI OU NÃO ALCANÇ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PERMITE UMA REVISÃO, REALIMENTAÇÃO DAS AÇÕES  QUE SE INSEREM EM UM CICLO DIRECIONADO PARA ATUAÇÃO SOBRE UMA RE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27280" y="836640"/>
            <a:ext cx="6121440" cy="530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FAZ ARTE DO PRINCÍPIO DE ORGANIZAÇÃO E ESTE LEVA A OUTROS MUITO IMPORT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MA DE ESFORÇ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NTEGRAÇÃO DE VÁRIOS ENTES E ATORES PARA CONSEGUIR SUCESSO NAQUILO QUE FOI PRETENDIDO E PLANEJ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43280" y="476280"/>
            <a:ext cx="5689440" cy="616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ÇÃO DO PME ENVOLVE MOMENTOS DIFERENCIADOS E INTERLIG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E  DE UMA REALIDADE  EDUCACIONAL DIAGNOSTICADA  E QUE PRECISA SER MODIFICADA, MANTIDA, IMPLEMENTADA  OU CORRIGIDA, EM  COERÊNCIA  COM A LEGISLAÇÃO EDUCACIONAL, METAS DO PNE, PEE, PDE, OBSERVANDO OBJETIVOS, METAS, RECURSOS E O ACOMPANHAMENTO DAS AÇÕE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4360" y="907920"/>
            <a:ext cx="6120000" cy="478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IF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ÍPIO Z  DIAGNOSTICOU QUE NECESSITA DE CONSTRUIR CRECHES PARA ATENDIMENTO SATISFATÓRIO DA POPULAÇÃO REVELADA NO MINICENSO EDUC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rá incluir no PME,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 que fazer, a prát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58920" y="260280"/>
            <a:ext cx="6516720" cy="634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IF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car a 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ção de x creches para x crianças, (observando o quantit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zer a finalidade, o objetivo de impacto que é o objetivo geral e os objetivos detalhados que são os específicos (para que fa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r estratégias de parcerias, de recursos ( com quem fazer, com quanto fazer, como fa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79640" y="333360"/>
            <a:ext cx="6696000" cy="606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IF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r a ação no tempo, as metas (em que período de tempo, quando fazer, até quando, fazer quanta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r coerência com as metas do PNE, PDE, PEE, (estabelecer metas compatíveis com os planos educacionais da federação e do estado)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erência fortalece  de alguma forma, para atingir a m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r como será feito o acompanhamento e avaliação da ação planejada (instrumentos, crité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404640"/>
            <a:ext cx="7488360" cy="615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OS QUE DEVEM ESTAR PRESENTES NA ELABORAÇÃO DO P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SENTAÇÃO, JUSTIFICATIVA, DIAGNÓSTICO, OBJETIVOS, METAS, CRONOGRAMA DE AÇÕES, CRONOGRAMA DE  METAS, RECURSOS,  FORMA DE ACOMPANHAMENTO DAS AÇÕES, AVALIAÇÃ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ÇÃO DE PRINCÍPI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ÇÃO, COERÊNCIA, ORGANIZAÇÃO, CRIATIVIDADE, EXECU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4:09:57Z</dcterms:created>
  <dc:creator>Maria Helena </dc:creator>
  <dc:description/>
  <dc:language>en-US</dc:language>
  <cp:lastModifiedBy>Maria Helena </cp:lastModifiedBy>
  <dcterms:modified xsi:type="dcterms:W3CDTF">2008-05-13T22:20:50Z</dcterms:modified>
  <cp:revision>12</cp:revision>
  <dc:subject/>
  <dc:title>Slide 1</dc:title>
</cp:coreProperties>
</file>