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911-6D45-4E44-B75E-F4960E71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1ED-D58E-41FB-988F-90AFE23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D85-2BF6-42DA-B9F2-34BD090C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856-68A8-4A96-82C2-45C65D1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22E-0A75-4433-9526-82C7FA4B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274-8AC7-4431-85A7-E85AFEC6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27C-6E26-457F-8A66-C3181DF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BE0-0D19-499B-8393-654DCD4C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44B-36A5-4192-806C-420631C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F2A-C563-4AFD-817E-68EE0A9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10E-64B6-42B8-BDAE-4BBF44C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8B6-55B1-4117-B171-9365205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68A-6FFC-4BA1-AC6F-CE9AAD0B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4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23920" y="2584440"/>
            <a:ext cx="6894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00240" y="2622600"/>
            <a:ext cx="6742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8120" y="2373480"/>
            <a:ext cx="64677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587520"/>
            <a:ext cx="68882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73240" y="-112680"/>
            <a:ext cx="679752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27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6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89400" y="1600200"/>
            <a:ext cx="236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30520" y="1808280"/>
            <a:ext cx="38829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13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29:38Z</dcterms:created>
  <dc:creator>Lica</dc:creator>
  <dc:description/>
  <dc:language>en-US</dc:language>
  <cp:lastModifiedBy>AMAVI</cp:lastModifiedBy>
  <dcterms:modified xsi:type="dcterms:W3CDTF">2007-05-07T17:36:40Z</dcterms:modified>
  <cp:revision>9</cp:revision>
  <dc:subject/>
  <dc:title>Slide 1</dc:title>
</cp:coreProperties>
</file>