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820C-16DC-4B0D-8685-588BA5A7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5E1-25D0-49C7-A9CB-D3A63818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A68A-A9E0-492D-8684-30C7B54F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81A-BB1E-4605-BB51-0BC069A5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1383-A7EA-4414-A581-E83EAE1C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F5A-E319-40D9-8096-B0D156DB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B98-BD75-4431-B95A-2ABBA0CC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737-EDD1-45E3-B3AF-E15F7FA8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2FF-57B4-4BE2-9708-F0C06E4B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670-5725-4F7A-828E-6D0018CD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640-C807-4BA2-AECE-C63C39A0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AEEA-9829-47AB-8169-D30FF11A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FE4D-53CA-44CD-8624-C469AD3AF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38280"/>
            <a:ext cx="9144000" cy="58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73040"/>
            <a:ext cx="9144000" cy="59101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896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65120"/>
            <a:ext cx="9144000" cy="59263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49280"/>
            <a:ext cx="9144000" cy="59594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55760"/>
            <a:ext cx="9144000" cy="59464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14440" y="0"/>
            <a:ext cx="451332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95360" y="0"/>
            <a:ext cx="455148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88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436680"/>
            <a:ext cx="9144000" cy="59846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306520" y="0"/>
            <a:ext cx="453096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59911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58640"/>
            <a:ext cx="9144000" cy="59389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3956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9520"/>
            <a:ext cx="9144000" cy="58975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09760"/>
            <a:ext cx="9144000" cy="58370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6044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8888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0T11:36:28Z</dcterms:created>
  <dc:creator>Central de Produções</dc:creator>
  <dc:description/>
  <dc:language>en-US</dc:language>
  <cp:lastModifiedBy>AMAVI</cp:lastModifiedBy>
  <dcterms:modified xsi:type="dcterms:W3CDTF">2007-05-07T17:37:26Z</dcterms:modified>
  <cp:revision>5</cp:revision>
  <dc:subject/>
  <dc:title>Apresentação do PowerPoint</dc:title>
</cp:coreProperties>
</file>