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31.jpeg" ContentType="image/jpeg"/>
  <Override PartName="/ppt/media/image41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6.png" ContentType="image/png"/>
  <Override PartName="/ppt/media/image44.png" ContentType="image/png"/>
  <Override PartName="/ppt/media/image13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2DD-AABE-44E1-8FD4-902E8988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2F8-2F6C-4043-B178-58FB2B6F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D28-AAFD-4C79-8830-1949FAA4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4C8-6A5E-48C1-851A-1A55103F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3D1-17A9-4138-85A7-4890B031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96D-530E-4741-99D9-BDE8CF5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942-2C97-40CE-86DB-1BEBB30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60D-5E0F-408F-A5C0-82133D22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A6C-88DC-428A-A9ED-58D5D4CC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F3A-05BE-4EF1-BCFB-F245A193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F37-0B30-4EF2-AB32-5344987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D55-4A17-4E12-B2A7-ED150D7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494-A58E-4A19-A5E3-2B9D1AAF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1.jpeg"/><Relationship Id="rId6" Type="http://schemas.openxmlformats.org/officeDocument/2006/relationships/image" Target="../media/image3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1.jpeg"/><Relationship Id="rId6" Type="http://schemas.openxmlformats.org/officeDocument/2006/relationships/image" Target="../media/image3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jpeg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134136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484280"/>
            <a:ext cx="61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549360"/>
            <a:ext cx="698508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PORTFÓL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ABRAHÃO FRANCIS GONÇAL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3 ANOS E 3 ME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SIGNIFICADO DO N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Abraham  do Hebraico – Pai da multidã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O verdadeiro fundador do povo hebraic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Indica uma pessoa que faz do charme um instrumento para viver b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99"/>
                </a:solidFill>
                <a:latin typeface="Lucida Calligraphy"/>
              </a:rPr>
              <a:t>Mas no fundo é um sábio que apenas aguarda o momento certo para mostrar toda a sua inteligência e toda a sua capacidade de realiz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608360" cy="37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4856400" cy="3641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20669400">
            <a:off x="324000" y="404280"/>
            <a:ext cx="35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precia jogos de encaixe, jogos de regras e quebra-cabeças pedindo, às vezes, para jogá-los no momento do brinquedo livre na sala de a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975000">
            <a:off x="5032080" y="4430520"/>
            <a:ext cx="3600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tiliza estratégias como identificar a forma das figuras e reconhecer partes das mesmas na montagem dos quebra-cabeç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286080" cy="403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189240" cy="4249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21076200">
            <a:off x="395280" y="692280"/>
            <a:ext cx="2448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maior firmeza e destreza manual permitiram ao Abrahão desenhar formas fechadas, ao invés de somente rabiscos, o que caracteriza a intencionalidade de seus registros, embora não consiga colocar ainda todos os detalhes da forma humana, já desenha um círculo com características fac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506600">
            <a:off x="6084000" y="54900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evolução dos seus desenhos é outro marco importante do seu desenvolvimento cogn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465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Desenho livre no início do se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634032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i="1" lang="pt-BR" sz="1400" spc="-1" strike="noStrike">
                <a:solidFill>
                  <a:srgbClr val="333399"/>
                </a:solidFill>
                <a:latin typeface="Comic Sans MS"/>
              </a:rPr>
              <a:t>Oh, Pofe. Um palhaço, duas estrelas e a lua pra ti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465440" cy="334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208760" cy="315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4360" y="6165720"/>
            <a:ext cx="38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3399"/>
                </a:solidFill>
                <a:latin typeface="Comic Sans MS"/>
              </a:rPr>
              <a:t>Momentos do lanche no refeitório e na sala de aula, dia da despedida da “profe” Janaí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89000"/>
            <a:ext cx="8136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mic Sans MS"/>
              </a:rPr>
              <a:t>As refeições são uma oportunidade de fortalecer as relações com as crianças. Por isso, as professoras geralmente partilham desses momentos estabelecendo conversas e se aproximando, transmitindo uma mensagem positiva para as crianças, embora elas não apresentem dificuldade para alimentar-se sozinhas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628640"/>
            <a:ext cx="2879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Abrahão realiza as atividades da rotina, como alimentar-se e dormir, com bastante autonomia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3371760"/>
            <a:ext cx="2378160" cy="1857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84720" y="5084640"/>
            <a:ext cx="3059280" cy="181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716360" y="177336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1463400" cy="195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0" y="3294000"/>
            <a:ext cx="2340000" cy="1754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948360" y="3568680"/>
            <a:ext cx="2195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241128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788000" y="0"/>
            <a:ext cx="2160360" cy="17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4788000" y="522936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2340000" y="5157720"/>
            <a:ext cx="2448000" cy="1751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6948360" y="1773360"/>
            <a:ext cx="2195640" cy="180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0" y="155736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6951600" y="0"/>
            <a:ext cx="2192400" cy="177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0" y="5048280"/>
            <a:ext cx="2484360" cy="1865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/>
          <a:stretch/>
        </p:blipFill>
        <p:spPr>
          <a:xfrm>
            <a:off x="2340000" y="3411360"/>
            <a:ext cx="2376360" cy="178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333360"/>
            <a:ext cx="84978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 importância da comunicação entre pais e esco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riança manifesta seus desejos, interesses e necessidades através de múltiplas linguagens como, por exemplo,através da fala, da música, da pintura, das brincadeiras, do corpo, dos afetos, enfim, daquilo que há de mais significativo para e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onvivência com o Abrahão e a leitura atenta de suas ações e reações, ajudaram-nos a melhor conhecê-lo e a descobrir muitas das suas linguagens. Observando suas atitudes, durante o período em que estivemos juntos, percebemos que a chegada na escola era um momento conturbado para o Abrahão. Sabíamos que era trazido pela Kombi e entregue às professoras pelo motorista, muitas vezes, impaciente com suas “birras”. Ele chegava, bravo, irritado, às vezes, sonolento e sem ter feito a primeira higiene do dia, ou seja, sem alguns cuidados corporais básicos, como a troca de fral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itas vezes, pelo horário, chegava direto ao refeitório. Notamos que muito da sua irritação era devido ao sono e falta de cuidados corporais. Ficava inibido e não queria participar das atividades. Passamos, então, a conversar com ele sobre o que acontecia e perguntar sobre sua trajetória ao “tio” da Kombi. Além disso, comunicamos aos pais o que estava acontecendo. O contato foi feito através dos recados na agenda. Num primeiro momento, o impacto foi negativo, mas a comunicação se estabeleceu. Começamos a trabalhar a questão dele fazer as necessidades no banhei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3280" y="3371760"/>
            <a:ext cx="2378160" cy="1857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084720" y="5084640"/>
            <a:ext cx="3059280" cy="1816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716360" y="177336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1463400" cy="1950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3294000"/>
            <a:ext cx="2340000" cy="175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6948360" y="3568680"/>
            <a:ext cx="2195640" cy="1755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241128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4788000" y="0"/>
            <a:ext cx="2160360" cy="177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4788000" y="522936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2340000" y="5157720"/>
            <a:ext cx="2448000" cy="1751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>
            <a:off x="6948360" y="1773360"/>
            <a:ext cx="2195640" cy="180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>
            <a:off x="0" y="155736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4"/>
          <a:stretch/>
        </p:blipFill>
        <p:spPr>
          <a:xfrm>
            <a:off x="6951600" y="0"/>
            <a:ext cx="2192400" cy="177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>
            <a:off x="0" y="5048280"/>
            <a:ext cx="2484360" cy="1865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7"/>
          <a:stretch/>
        </p:blipFill>
        <p:spPr>
          <a:xfrm>
            <a:off x="2340000" y="3411360"/>
            <a:ext cx="2376360" cy="1783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2320"/>
            <a:ext cx="5724360" cy="68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Aos poucos o Abrahão foi modificando sua expressão e participando mais do grupo. Demonstrou interesse em fazer xixi no banheiro com os coleguinhas e também a soltar-se mais corporalmente, participando de atividades no pátio e se mostrando mais afetuoso com as professoras e com os coleg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Hoje, por exemplo, quando acontece algum fato que o desagrada, ainda não consegue argumentar com seus iguais, mas em vez de bater, chora e pede ajuda para as professoras. Se alguém o agride na disputa por um brinquedo, por exemplo, ele também solicita ajuda, sendo que são poucos os momentos em que o vemos reagindo com violência. Percebemos, sim, que nesses momentos de disputa ou brigas onde ele se sente contrariado apresenta reações fortes e enérgicas preferindo isolar-se a ter de ceder. Para resolver esses conflitos, as professoras respeitam seus sentimentos, conversando sobre o acontecido e procurando deixá-lo à vontade, até que se sinta confortável novamen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Sabemos que foi importante a sensibilidade do professor ao identificar alguns fatores que pudessem estar interferindo no desenvolvimento do Abrahão, mas fundamental foi a comunicação realizada com pais, que resultou no vísivel progresso do Abrahã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Às vezes, é difícil contatar e expor o que é necessário aos pais, mas é dever do educador fazê-lo de maneira que possa ajudar a todos, criança, pais e escola. A negligência de ambas as partes poderá afetar consideravelmente a educação da criança envolvida.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5740560" y="907920"/>
            <a:ext cx="3224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42920" y="83664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725800">
            <a:off x="935280" y="538920"/>
            <a:ext cx="7488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O Abrahão vive um momento de descoberta, onde o desenvolvimento de sua fala e sua motricidade o ajudam a explorar o ambiente a sua volta, a estabelecer relações afetivas com quem convi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É uma criança curiosa e, com isso, segue em plena evolução no seu processo de crescimento e aprendizagem. Encontra-se numa fase em que sente muita necessidade de controlar o meio em que vive e, por isso, apresenta algumas crises de birra e negativismo, dizendo “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Não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!” para tud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É importante respeitá-lo e entendê-lo, mas sem esquecer a necessidade de se estabelecer regras e limites importantes para o seu efetivo desenvolvimento cognitivo e afetiv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Nós, como educadoras, estamos empenhadas nesse processo e esperamos contribuir para que o Abrahão                    cresça tendo no rosto sempre o sorriso de uma criança feliz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6381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ovembro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24000" y="170028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43280" y="3371760"/>
            <a:ext cx="237816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156360" y="5084640"/>
            <a:ext cx="2987640" cy="177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4716360" y="177336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1463400" cy="195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0" y="3294000"/>
            <a:ext cx="2340000" cy="175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6948360" y="3568680"/>
            <a:ext cx="2195640" cy="175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241128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4788000" y="0"/>
            <a:ext cx="2160360" cy="17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4788000" y="522936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2340000" y="5157720"/>
            <a:ext cx="2448000" cy="17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>
            <a:grayscl/>
          </a:blip>
          <a:stretch/>
        </p:blipFill>
        <p:spPr>
          <a:xfrm>
            <a:off x="6948360" y="1773360"/>
            <a:ext cx="219564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>
            <a:grayscl/>
          </a:blip>
          <a:stretch/>
        </p:blipFill>
        <p:spPr>
          <a:xfrm>
            <a:off x="0" y="155736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>
            <a:grayscl/>
          </a:blip>
          <a:stretch/>
        </p:blipFill>
        <p:spPr>
          <a:xfrm>
            <a:off x="6951600" y="0"/>
            <a:ext cx="2192400" cy="177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>
            <a:grayscl/>
          </a:blip>
          <a:stretch/>
        </p:blipFill>
        <p:spPr>
          <a:xfrm>
            <a:off x="0" y="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>
            <a:grayscl/>
          </a:blip>
          <a:stretch/>
        </p:blipFill>
        <p:spPr>
          <a:xfrm>
            <a:off x="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2340000" y="3411360"/>
            <a:ext cx="2376360" cy="178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0281800">
            <a:off x="907560" y="547560"/>
            <a:ext cx="7272360" cy="54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5050"/>
                </a:solidFill>
                <a:latin typeface="Comic Sans MS"/>
              </a:rPr>
              <a:t>Mensagem aos P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5050"/>
                </a:solidFill>
                <a:latin typeface="Comic Sans MS"/>
              </a:rPr>
              <a:t>A avaliação realizada a partir desse portfólio, consiste numa coleção de registros que revelam o crescimento e o desenvolvimento do seu filh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5050"/>
                </a:solidFill>
                <a:latin typeface="Comic Sans MS"/>
              </a:rPr>
              <a:t>Nesse processo são reunidas amostras de trabalhos efetivados pela criança e algumas reflexões sobre o processo de ensino e aprendizagem vivenciado no período escola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5050"/>
                </a:solidFill>
                <a:latin typeface="Comic Sans MS"/>
              </a:rPr>
              <a:t>A realização desse trabalho aproxima pais e escola no aprendizado da criança, além de oportunizar uma comunicação mais rica e gratificante para amb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5050"/>
                </a:solidFill>
                <a:latin typeface="Comic Sans MS"/>
              </a:rPr>
              <a:t>O resultado é que todos aprendem mais sobre as particularidades da criança, possibilitando que seu crescimento aconteça de maneira saudável e interdisciplin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5050"/>
                </a:solidFill>
                <a:latin typeface="Comic Sans MS"/>
              </a:rPr>
              <a:t>Esperamos que vocês, pais, apreciem a evolução de seu filho e estejam cada vez mais envolvidos no processo de aprendizagem cognitiva, afetiva, social e moral de sua crianç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134136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484280"/>
            <a:ext cx="61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692280"/>
            <a:ext cx="5977080" cy="68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 progresso no desenvolvimento do Abrahão,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orrer deste semestre, foi surpreen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quele menino mais quieto, retraído deu luga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ma criança falante e participa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umas mudanças no seu estado de hum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rante o dia,  não diminuem a riqueza de mu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s suas qualidades. Carinhoso, esperto e 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mento for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brahão é uma criança muito especi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ma de suas brincadeiras preferidas é anda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to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173000">
            <a:off x="4716000" y="3068280"/>
            <a:ext cx="3967200" cy="3108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0326800">
            <a:off x="539640" y="907920"/>
            <a:ext cx="39610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00720" y="476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181400">
            <a:off x="5383440" y="394920"/>
            <a:ext cx="353556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rodas de conversa são momentos nos quais combinamos nossas atividades e trocamos experiências com o gru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395800">
            <a:off x="828360" y="4047480"/>
            <a:ext cx="331164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ssas atividades, o Abrahão tem participado mais ativamente. Canta, conversa e brinca com os colegas tanto que agora, às vezes, temos até que chamar sua aten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1136400">
            <a:off x="5435280" y="476280"/>
            <a:ext cx="3319560" cy="2490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931000">
            <a:off x="468000" y="386028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1640" y="620640"/>
            <a:ext cx="324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as atividades dirigidas, ao ar livre, no início do semestre, não demonstrava muita disposição, mesmo nas rodas cantadas e nas atividades motoras, como nos momentos de alongamento no pá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3573360"/>
            <a:ext cx="3456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orém, seu interesse tem ficado mais evidente, principalmente, nas brincadeiras de roda quando brincamos de “Limão entrou na roda” e sua escolha é sempre a música do “Motorist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824360" cy="362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75272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08720" y="620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620640"/>
            <a:ext cx="23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 ambiente no qual a criança atua deve promover o desenvolvimento das suas capacidades cognitivas, afetivas e socia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430880"/>
            <a:ext cx="2735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a sala de aula, através do seu jeito curioso e observador, o Abrahão explora o canto da casinha com seus colegas em busca de nov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3578400"/>
            <a:ext cx="3888000" cy="2803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771640" y="1125360"/>
            <a:ext cx="3672000" cy="2756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148360" y="3627360"/>
            <a:ext cx="3816360" cy="2754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76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620640"/>
            <a:ext cx="223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brahão gosta muito de escutar histórias e manusear os livrinhos. Escuta com atenção as histórias que conta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620640"/>
            <a:ext cx="216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atividades de leitura estimulam sua linguagem e o ajudam na formulação de pequenas narrativas sobre as histó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640080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i="1" lang="pt-BR" sz="1200" spc="-1" strike="noStrike">
                <a:solidFill>
                  <a:srgbClr val="333399"/>
                </a:solidFill>
                <a:latin typeface="Comic Sans MS"/>
              </a:rPr>
              <a:t>O lobo comeu a vozinha!”, dizia depois de ouvir a História da Chapeuzinho vermel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6381720"/>
            <a:ext cx="36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i="1" lang="pt-BR" sz="1200" spc="-1" strike="noStrike">
                <a:solidFill>
                  <a:srgbClr val="333399"/>
                </a:solidFill>
                <a:latin typeface="Comic Sans MS"/>
              </a:rPr>
              <a:t>A pulga filomena”, repetia ao escutar a históra da Pulga Filom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2119320"/>
            <a:ext cx="3600360" cy="254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3313080" cy="234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313080" cy="23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80000" y="18900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a maioria das vezes, Abrahão prefere brincadeiras isoladas a brincar em pequenos grupos, embora essa característica “de uns tempos para cá” tem se transformad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81360"/>
            <a:ext cx="4826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brincadeiras com baldes de areia o tem atraído bastante e, com isso, aproxima-se mais de alguns colegas que também tem essa prefer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494172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a sala de aula, o Abrahão se aproxima dos colegas para escutar e cantar a música da “Sopa”. As crianças se divertem com as rimas, além de interagirem entre 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3038400"/>
            <a:ext cx="4897440" cy="361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64004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678200" cy="351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4392360" cy="329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20419200">
            <a:off x="1972440" y="680760"/>
            <a:ext cx="504036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o pátio, gosta de explorar todos 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mbientes, mas com uma caracter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uito sua: sempre carrega algum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onsigo, seja um bal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um carrinho ou  uma pazin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dora também catar  pequen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 depois vir mostrá-los para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profess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essas ocasiões,  valorizamos s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chados e, às vez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ficamos até surpresas, pois ele cost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pegar pequenos insetos e 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presenta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11:13Z</dcterms:created>
  <dc:creator>Cliente</dc:creator>
  <dc:description/>
  <dc:language>en-US</dc:language>
  <cp:lastModifiedBy>AMAVI</cp:lastModifiedBy>
  <dcterms:modified xsi:type="dcterms:W3CDTF">2007-05-07T17:38:18Z</dcterms:modified>
  <cp:revision>91</cp:revision>
  <dc:subject/>
  <dc:title>Slide 1</dc:title>
</cp:coreProperties>
</file>