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E809-1142-43C5-A823-7D2FA255E1D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F0B2-0FF2-4DF1-A2A0-C0CA1F559A6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F89-2364-44FC-932C-8CF42E778B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EA75-DEB1-4405-8DEF-7F841358894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D32A-95A7-4F04-8E66-D1A13E3033C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08BB-CB89-4D71-A44C-46715FC2320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C207-4E78-4DFA-A914-27330CC5171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F4E2-BA0A-4376-8F85-CA683221B1C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7C24-83DD-4E3C-B296-3B42BEC7F94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65C-C30D-4830-BCDB-73487AF93F2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EB6B-E1BF-4481-97A8-4CBA1525D91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BBF4-3EAA-4F5E-82CA-DD33FFF6444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F0C8-CD44-45CD-BED1-2EDBC68885A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B7CD-C549-4CC0-BBAB-05F94E2CE86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61A5-1233-4F47-BC0C-E20D13ED90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B2D0-9BC3-44A8-A14D-292E7A13CFD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489F-A11E-4E15-8FB7-7CE2F785968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389F-117D-4F3B-A3AE-DD6529D843D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22D6-A7A4-40F2-B2C4-C18EF2A9686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0D84-59A9-480F-A44B-F9C1C14C6C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82F1-1180-477C-A0C8-F2357EF8C3E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2AF-C850-4024-9326-B32DD1A0768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17B-017A-4D07-96B7-FAA00D8D04D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9BC9-5EB4-44C7-BEF0-6A161D6A729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5E13-0464-4627-93F3-C98B0E794D9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Controle social é a participação da população na gestão pública, possibilitando aos cidadãos meios e canais de fiscalização e controle das instituições e organizações governamentais, de modo a verificar o bom andamento das decisões tomadas em seu n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isa direcionar as políticas para o atendimento das necessidades prioritárias da população; melhorar os níveis de oferta e de qualidade dos serviços e fiscalizar a aplicação dos recursos públic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ua concepção está diretamente relacionada com o Estado de Direito, democracia, participação popular, partilhamento de decisões, modelo de Estado a serviço do interesse público – Estado Democrático – direito reclamá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c0504d"/>
                </a:solidFill>
                <a:latin typeface="Calibri"/>
              </a:rPr>
              <a:t>Supõe a existência de espaços públicos onde a sociedade organizada possa exercer este controle sobre o Estado.</a:t>
            </a:r>
            <a:r>
              <a:rPr b="1" i="1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A389-9649-4783-8E4C-4421960D20D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política relaciona-se à mobilização da sociedade para influenciar a agenda governamental e indicar priorida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técnica diz respeito ao trabalho da sociedade para fiscalizar a gestão de recursos e a apreciação dos trabalhos governamentais, inclusive sobre o grau de efetividade desse trabalho na vida dos destinatário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dimensão ética trata da construção de novos valores e de novas referências, fundadas nos ideais de solidariedade, da soberania e da justiça social. Essa dimensão está comprometida com a construção de uma sociedade voltada, como dispõe a LOAS, para o “atendimento das necessidades sociais sobre exigências da rentabilidade econômica (art. 4º)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SLIDE SNA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1"/>
          <p:cNvSpPr/>
          <p:nvPr/>
        </p:nvSpPr>
        <p:spPr>
          <a:xfrm>
            <a:off x="714240" y="2349360"/>
            <a:ext cx="75726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ERÊNCIAS MUNICIPAIS DE ASSIST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PASSO-A-PASSO</a:t>
            </a:r>
            <a:r>
              <a:rPr b="1" i="1" lang="en-GB" sz="5600" spc="-1" strike="noStrike">
                <a:solidFill>
                  <a:srgbClr val="ffc000"/>
                </a:solidFill>
                <a:latin typeface="Tahoma"/>
                <a:ea typeface="Times New Roman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Janice Mer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Assistente Social – FE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onselheira do C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ATRIBUIÇÕES DA COMIS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1280" y="2636640"/>
            <a:ext cx="792144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aborar o or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r estratégias de mobilização e divul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r local da Co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parar a progra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r os palest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ir a minuta do Regimento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er a acessibilidade das pessoas com deficiência  -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Anex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olidar o Relatório Final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– Anexo 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minhar o relatório Final ao C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ORGANIZAÇÃO DA CON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11280" y="2636640"/>
            <a:ext cx="77040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ituir uma comissão organizadora paritária (representantes ou organizações de usuários, entidades de assistência social,trabalhadores da ár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Designação de uma equipe técnica pelo órgão gestor (Prefei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Operacionalização da Conferência: CMAS e Órgão G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A Comissão Organizadora poderá dividir-se em grupos para realizar as taref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MOBILIZAÇÃO PARA AS CONFERÊ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10920" y="3212640"/>
            <a:ext cx="8064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OBJE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* identificar as necessidades relacionadas às política de assistência social nos territó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* Indicar propostas para o aperfeiçoamento das ações do SU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*apresentar os entraves que dificultam a participação dos usuários no conselho municipal e na conferê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MOBILIZAÇÃO PARA AS CONFERÊ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10920" y="3212640"/>
            <a:ext cx="8064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pacitação por meio de reuniões, encontros, palestras, pré-conferencias entre outros – encontros preparató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s Municípios podem utilizar-se dos serviços já existentes no CRAS e CREAS, bem como, outros serviços que reúnem usuários (associações de moradores, reuniões de pais nas escolas, famílias do bolsa família, que recebem o BPC, Pró-jovem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METODOLOGIA DA MOBI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2420640"/>
            <a:ext cx="84247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Discutir as ementas de cada sub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Questões que devem ser elencadas com os usuá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* Importância da participação e control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* Significado das formas de participação do usuário e seu lugar político no SUAS – conselho e co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*Identificação das formas de organização dos usu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* Estratégias para participação qualificada nos conselhos entre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METODOLOGIA DA MOBI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0920" y="2420640"/>
            <a:ext cx="84247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3. Gestor da Assistência Social disponibilizar informações sobre a Assistência Social, constantes no Sistema RedeSUAS, CadÚnico e outros cadastros municipais, com números de beneficiados, bem como o orçamento da Assistência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4. O Resultado das mobilizações devem ser registrados e encaminhados ao Conselho Municipal para  sistematização e apresentação na Conferência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DIVULGAÇÃO DOS EVENTOS DE  MOBI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50920" y="2997360"/>
            <a:ext cx="84247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Meios de comunicação: rádio, jornais, carro de som, faixas, cartazes, intern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vites para as Entidades de Assistência Social, Organizações de usuários e trabalhadores da área, Câmara de Vereadores, Ministério Público, Poder Judiciá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50920" y="1844640"/>
            <a:ext cx="835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Tahoma"/>
                <a:ea typeface="Tahoma"/>
              </a:rPr>
              <a:t>2ª ETAPA: Realização das Conferê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0920" y="141264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CONFERÊNCIAS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1. Ab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2. Apresentação cultural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(preferencialmente pelos usuá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3. Apresentação e aprovação do Regimento In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4. Palestra de Abertura “Participação e Controle Socia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5. Socialização das mobilizações com os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920" y="141264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6. Painéis – Grupo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(1 coordenador e 1 rel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7. Plenária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s propostas dos painé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Discutir e aprovar as mo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Eleição dos delegados para a Conferência Muni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1844640"/>
            <a:ext cx="840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São espaços amplos e democráticos de discussão e articulação coletivas em torno de proposta e estratégias de organiz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Sua principal característica é reunir governo, sociedade civil organizada e cidadãos comuns, para debater e decidir as prioridades nas políticas públicas nos próximos a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EMPO PARA AS CONFERÊNCIAS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Mínimo dois dias, sendo a abertura na noite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CREDENC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Realizado no espaço da Conferência – </a:t>
            </a: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Anexo 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Identificação no verso do crachá, de qual grupo de trabalho o participante irá com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O crachá serve para eleição dos delegados para a Conferência Estadual, portanto sugere-se que sejam em core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ATERIAIS DA CONFERÊNCIA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Pa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Program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gimento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Ficha d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Papéis para anot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Can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Textos de apo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10 Direitos socioassist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MESA DE ABERTURA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ão estendê-la para não comprometer a conferência, ou então fazê-la na noite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resentar um diagnóstico do que foi realizado a partir da Conferênci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  <a:ea typeface="Times New Roman"/>
              </a:rPr>
              <a:t>Convidados Fundament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Presidente do Conselho Municip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último a falar e decreta a abertura da co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Pref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Gestor Municipal da Política de Assistênci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presentante dos usu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  <a:ea typeface="Times New Roman"/>
              </a:rPr>
              <a:t>Demais convid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Coordenador do Fórum d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presentante da Câmara Muni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Autoridades do Governo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presentante do C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presentante do C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presentante da FECAM (COAS/S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EGIMENTO INTERNO </a:t>
            </a:r>
            <a:r>
              <a:rPr b="1" lang="en-GB" sz="3200" spc="-1" strike="noStrike">
                <a:solidFill>
                  <a:srgbClr val="cc0000"/>
                </a:solidFill>
                <a:latin typeface="Tahoma"/>
                <a:ea typeface="Times New Roman"/>
              </a:rPr>
              <a:t>– Anexo 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É um conjunto de normas que regem o funcionamento da Co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Deve dispor: sobre o tema, objetivos, local,data,critérios para credenciamento,dinâmica dos painéis,dos debates, das moções,da votação proposta,da eleição dos delegados e do relatório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EGIMENTO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A leitura e aprovação do Regimento Interno deverão ser realizadas antes do início dos trabal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Plenária faz os desta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Após discussão é colocado em votação para aprov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* Durante a Conferência o regimento deve ser segu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PALESTRA DE A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Tema “Participação e Controle Soc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Palestrante regionais os locais – Universidades, Movimentos Sociais, Militantes dos Conselhos Municipais, Trabalhadores da Assistênci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SOCIALIZAÇÃO DAS MOBILIZ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O CMAS sistematizar e socializar com os participantes da Conferência os resultados das mobilizações com os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PAINÉ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Grupos de Trabalho – 1 coordenador e 1 re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O grupo de trabalho vai garantir o aprofundamento da discussão do temário da Conferência – Participação e Controle Social - e dos painéis -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O grupo vai elaborar proposições que visem implementar a política , as propostas serão apresentadas em Plen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0920" y="1844640"/>
            <a:ext cx="840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As Conferências Municipais de Assistência Social são espaços de caráter propositivo e deliberativo que oportunizam o debate e avaliação da política de Assistência Social e a proposição de novas diretrizes, no sentido de consolidar e ampliar direitos socioassistenciais dos seus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Oportunidade de avaliação das ações governamentais e por meio de convênios e eleição de prioridades na política de Assistência So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50920" y="1699920"/>
            <a:ext cx="840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PLENÁRIA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É um espaço de caráter deliberativo, constituído por delegados (devidamente credenci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Espaço para discutir, modificar, aprovar ou rejeitar as propostas consolidadas pelos grupos de trabalho, além das moções encaminh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920" y="1844640"/>
            <a:ext cx="835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Tahoma"/>
                <a:ea typeface="Tahoma"/>
              </a:rPr>
              <a:t>3ª ETAPA: Elaboração do relatório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267920"/>
            <a:ext cx="840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EL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Seguir orientações do Conselho Estadual de Assistência Social – C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latório dos dados gerais da Conferência Muni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latório sobre levantamento da participação dos usuários – </a:t>
            </a: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Registr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latório sobre os sub-temas – </a:t>
            </a: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Registr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buClr>
                <a:srgbClr val="cc0000"/>
              </a:buClr>
              <a:buFont typeface="Tahom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920" y="1844640"/>
            <a:ext cx="835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Tahoma"/>
                <a:ea typeface="Tahoma"/>
              </a:rPr>
              <a:t>A Realização de uma Conferência não é algo isolado, mas é parte de um processo amplo de diálogo e democratização da GESTÃO PÚBL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(CNAS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ELABO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1280" y="2565360"/>
            <a:ext cx="81374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o power point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ssistente Social Janice Mer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ocial@fecam.org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(48) 32218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terial de referência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selho Nacional de Assistência Social – C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www.mds.gov.br/c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selho Estadual de Assistência Social - C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www.sst.sc.gov.br/c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PROMOTORAS DO TREINAM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1280" y="2997360"/>
            <a:ext cx="7704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deração Catarinense de Municípios – FE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elho Estadual de Assistência Social – C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egiado de Assistentes Sociais das Associações dos Municípios Catarinenses – COAS/S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50920" y="1196640"/>
            <a:ext cx="840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PARTICIPANTES DA CON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Todos os cidadãos credenci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Delegados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com direito a voz e vo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Convidados e Observadores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com direito a 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(Representantes das Universidades, Poder Federal, Estadual e Municipal, Ministério Público, Conselho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920" y="1412640"/>
            <a:ext cx="840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DELEG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Representantes Governament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Representantes da sociedade civ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Entidades de assistência soci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Entidades de trabalhadores da Assistência Soci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lphaL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Usuários e organização de usu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1341360"/>
            <a:ext cx="840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ETAPAS DAS CONFERÊNCI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1ª ETAPA: Preparação das confer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(Mobilizaç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2ª ETAPA: Realização das Conferê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3ª ETAPA: Elaboração do Relatóri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920" y="1844640"/>
            <a:ext cx="835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Tahoma"/>
                <a:ea typeface="Tahoma"/>
              </a:rPr>
              <a:t>1ª ETAPA: Preparação das conferê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Tahoma"/>
                <a:ea typeface="Tahoma"/>
              </a:rPr>
              <a:t>(Mobilizaçõ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0920" y="1844640"/>
            <a:ext cx="840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DECRETO DE CONVOCAÇÃO - </a:t>
            </a:r>
            <a:r>
              <a:rPr b="1" lang="pt-BR" sz="2400" spc="-1" strike="noStrike">
                <a:solidFill>
                  <a:srgbClr val="cc0000"/>
                </a:solidFill>
                <a:latin typeface="Tahoma"/>
                <a:ea typeface="Tahoma"/>
              </a:rPr>
              <a:t>Anex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Municí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Data de re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Responsável financ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Publicado no Diário O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Divulgado: rádios,jornais, faixas,cartazes, carro de som e ou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Arial Unicode MS"/>
              </a:rPr>
              <a:t>ORGANIZAÇÃO DA CON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1280" y="2349360"/>
            <a:ext cx="77040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ituir uma comissão organizadora paritária (representantes ou organizações de usuários, entidades de assistência social,trabalhadores da ár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Designação de uma equipe técnica pelo órgão gestor (Prefei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Operacionalização da Conferência: CMAS e Órgão G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A Comissão Organizadora poderá dividir-se em grupos para realizar as taref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A Comissão deve fazer reuniões periódicas e registrar em ata as decis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4:03:02Z</dcterms:created>
  <dc:creator>daniel.tavares</dc:creator>
  <dc:description/>
  <dc:language>en-US</dc:language>
  <cp:lastModifiedBy>o</cp:lastModifiedBy>
  <dcterms:modified xsi:type="dcterms:W3CDTF">2009-05-30T16:43:10Z</dcterms:modified>
  <cp:revision>257</cp:revision>
  <dc:subject/>
  <dc:title>Slide 1</dc:title>
</cp:coreProperties>
</file>