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6858000" cy="902808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028080"/>
              <a:gd name="textAreaBottom" fmla="*/ 9027720 h 9028080"/>
            </a:gdLst>
            <a:ahLst/>
            <a:rect l="textAreaLeft" t="textAreaTop" r="textAreaRight" b="textAreaBottom"/>
            <a:pathLst>
              <a:path w="21600" h="28435">
                <a:moveTo>
                  <a:pt x="5" y="0"/>
                </a:moveTo>
                <a:arcTo wR="5" hR="5" stAng="16200000" swAng="-5400000"/>
                <a:lnTo>
                  <a:pt x="0" y="28430"/>
                </a:lnTo>
                <a:arcTo wR="5" hR="5" stAng="10800000" swAng="-5400000"/>
                <a:lnTo>
                  <a:pt x="21595" y="2843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6858000" cy="902808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028080"/>
              <a:gd name="textAreaBottom" fmla="*/ 9027720 h 9028080"/>
            </a:gdLst>
            <a:ahLst/>
            <a:rect l="textAreaLeft" t="textAreaTop" r="textAreaRight" b="textAreaBottom"/>
            <a:pathLst>
              <a:path w="21600" h="28435">
                <a:moveTo>
                  <a:pt x="5" y="0"/>
                </a:moveTo>
                <a:arcTo wR="5" hR="5" stAng="16200000" swAng="-5400000"/>
                <a:lnTo>
                  <a:pt x="0" y="28430"/>
                </a:lnTo>
                <a:arcTo wR="5" hR="5" stAng="10800000" swAng="-5400000"/>
                <a:lnTo>
                  <a:pt x="21595" y="2843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6858000" cy="902808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028080"/>
              <a:gd name="textAreaBottom" fmla="*/ 9027720 h 9028080"/>
            </a:gdLst>
            <a:ahLst/>
            <a:rect l="textAreaLeft" t="textAreaTop" r="textAreaRight" b="textAreaBottom"/>
            <a:pathLst>
              <a:path w="21600" h="28435">
                <a:moveTo>
                  <a:pt x="5" y="0"/>
                </a:moveTo>
                <a:arcTo wR="5" hR="5" stAng="16200000" swAng="-5400000"/>
                <a:lnTo>
                  <a:pt x="0" y="28430"/>
                </a:lnTo>
                <a:arcTo wR="5" hR="5" stAng="10800000" swAng="-5400000"/>
                <a:lnTo>
                  <a:pt x="21595" y="2843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6858000" cy="902808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028080"/>
              <a:gd name="textAreaBottom" fmla="*/ 9027720 h 9028080"/>
            </a:gdLst>
            <a:ahLst/>
            <a:rect l="textAreaLeft" t="textAreaTop" r="textAreaRight" b="textAreaBottom"/>
            <a:pathLst>
              <a:path w="21600" h="28435">
                <a:moveTo>
                  <a:pt x="5" y="0"/>
                </a:moveTo>
                <a:arcTo wR="5" hR="5" stAng="16200000" swAng="-5400000"/>
                <a:lnTo>
                  <a:pt x="0" y="28430"/>
                </a:lnTo>
                <a:arcTo wR="5" hR="5" stAng="10800000" swAng="-5400000"/>
                <a:lnTo>
                  <a:pt x="21595" y="2843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653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7"/>
          </p:nvPr>
        </p:nvSpPr>
        <p:spPr>
          <a:xfrm>
            <a:off x="3885840" y="-360"/>
            <a:ext cx="296532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171440" y="676440"/>
            <a:ext cx="4508640" cy="337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914400" y="4287600"/>
            <a:ext cx="502272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8"/>
          </p:nvPr>
        </p:nvSpPr>
        <p:spPr>
          <a:xfrm>
            <a:off x="-360" y="8577360"/>
            <a:ext cx="29653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9"/>
          </p:nvPr>
        </p:nvSpPr>
        <p:spPr>
          <a:xfrm>
            <a:off x="3885840" y="8577360"/>
            <a:ext cx="296532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DDB0A-C48B-4F63-B1EE-FE40E9F391E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71440" y="676440"/>
            <a:ext cx="45151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914040" y="4287600"/>
            <a:ext cx="502452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71440" y="676440"/>
            <a:ext cx="45151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914040" y="4287600"/>
            <a:ext cx="502452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71440" y="676440"/>
            <a:ext cx="45151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14040" y="4287600"/>
            <a:ext cx="502452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71440" y="676440"/>
            <a:ext cx="45151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914040" y="4287600"/>
            <a:ext cx="502452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71440" y="676440"/>
            <a:ext cx="45151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914040" y="4287600"/>
            <a:ext cx="502452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171440" y="676440"/>
            <a:ext cx="45151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914040" y="4287600"/>
            <a:ext cx="502452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171440" y="676440"/>
            <a:ext cx="45151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914040" y="4287600"/>
            <a:ext cx="502452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171440" y="676440"/>
            <a:ext cx="45151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914040" y="4287600"/>
            <a:ext cx="502452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171440" y="676440"/>
            <a:ext cx="45151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914040" y="4287600"/>
            <a:ext cx="502452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171440" y="676440"/>
            <a:ext cx="45151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914040" y="4287600"/>
            <a:ext cx="502452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71440" y="676440"/>
            <a:ext cx="45151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914040" y="4287600"/>
            <a:ext cx="502452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71440" y="676440"/>
            <a:ext cx="4515120" cy="33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914040" y="4287600"/>
            <a:ext cx="5024520" cy="405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2E73-59DA-483A-9643-A9E122D4B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659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87280"/>
            <a:ext cx="77659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E66-7B72-4E2F-86B2-BAC3B1AE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897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49600" y="1676520"/>
            <a:ext cx="37897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87280"/>
            <a:ext cx="37897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0" y="3887280"/>
            <a:ext cx="37897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5D92-5065-4371-833B-71E8E630B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056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6000" y="1676520"/>
            <a:ext cx="250056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2200" y="1676520"/>
            <a:ext cx="250056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87280"/>
            <a:ext cx="250056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6000" y="3887280"/>
            <a:ext cx="250056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2200" y="3887280"/>
            <a:ext cx="250056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07A1-5ED6-4A51-8415-E465B0C14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4371-6A8C-46A2-94F1-7AAE093F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6592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D9A3-1AF7-4506-B806-6DBD0AFD7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65920" cy="42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8242-EE9D-4510-8674-9C8C36C23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89720" cy="42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49600" y="1676520"/>
            <a:ext cx="3789720" cy="42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CAE69-E998-4C17-83A7-3046A8D0A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6675-2F23-494E-90EE-8C379C03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71600" y="0"/>
            <a:ext cx="776592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29DA-1821-4AE2-9D60-09B60AC1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897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49600" y="1676520"/>
            <a:ext cx="3789720" cy="42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0160" y="3887280"/>
            <a:ext cx="37897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3D709-5C98-4957-BB57-0C2B329B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6592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8518-1239-4DA5-BC53-C873B4BB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89720" cy="42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49600" y="1676520"/>
            <a:ext cx="37897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49600" y="3887280"/>
            <a:ext cx="37897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0E2BE-5EA4-4C6A-967E-19B4C112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897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49600" y="1676520"/>
            <a:ext cx="37897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0160" y="3887280"/>
            <a:ext cx="77659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86499-FD86-4DD9-9408-ADD73011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659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0160" y="3887280"/>
            <a:ext cx="77659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A21B1-A7F9-4F2E-9004-9327F423B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897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349600" y="1676520"/>
            <a:ext cx="37897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0160" y="3887280"/>
            <a:ext cx="37897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349600" y="3887280"/>
            <a:ext cx="37897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51AE-FBE4-4EF7-9504-8222B06B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056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996000" y="1676520"/>
            <a:ext cx="250056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622200" y="1676520"/>
            <a:ext cx="250056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0160" y="3887280"/>
            <a:ext cx="250056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996000" y="3887280"/>
            <a:ext cx="250056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622200" y="3887280"/>
            <a:ext cx="250056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59613-DE6C-4F86-9B63-FC3B721A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65920" cy="42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081-84BB-4E49-B292-52090985D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89720" cy="42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9600" y="1676520"/>
            <a:ext cx="3789720" cy="42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57F7-BA4C-42BF-A174-DCE8CCA7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16CC-452E-48B0-8D6C-BBCCE80B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1600" y="0"/>
            <a:ext cx="776592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855D-5369-4CB3-AB74-93DCE26E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897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49600" y="1676520"/>
            <a:ext cx="3789720" cy="42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87280"/>
            <a:ext cx="37897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A81DF-503D-47E8-92FE-1F84E089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89720" cy="42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49600" y="1676520"/>
            <a:ext cx="37897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49600" y="3887280"/>
            <a:ext cx="37897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F2DB-5A97-47DF-8327-657F9A9B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897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49600" y="1676520"/>
            <a:ext cx="37897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87280"/>
            <a:ext cx="7765920" cy="201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3D06-3EFC-4953-B70E-93747D368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800280" cy="6400800"/>
            </a:xfrm>
            <a:custGeom>
              <a:avLst/>
              <a:gdLst>
                <a:gd name="textAreaLeft" fmla="*/ 0 w 800280"/>
                <a:gd name="textAreaRight" fmla="*/ 399960 w 800280"/>
                <a:gd name="textAreaTop" fmla="*/ 0 h 6400800"/>
                <a:gd name="textAreaBottom" fmla="*/ 6400800 h 64008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480" y="465120"/>
              <a:ext cx="799920" cy="6400800"/>
            </a:xfrm>
            <a:custGeom>
              <a:avLst/>
              <a:gdLst>
                <a:gd name="textAreaLeft" fmla="*/ 399960 w 799920"/>
                <a:gd name="textAreaRight" fmla="*/ 799920 w 799920"/>
                <a:gd name="textAreaTop" fmla="*/ 0 h 6400800"/>
                <a:gd name="textAreaBottom" fmla="*/ 6400800 h 64008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3320" y="590400"/>
              <a:ext cx="723960" cy="57132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65920" cy="423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6600" indent="-336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6560" indent="-2793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7EDB6-E7B8-468C-9D28-1A761D1936B6}" type="slidenum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720" cy="6865920"/>
            <a:chOff x="4680" y="0"/>
            <a:chExt cx="1728720" cy="686592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800280" cy="6400800"/>
            </a:xfrm>
            <a:custGeom>
              <a:avLst/>
              <a:gdLst>
                <a:gd name="textAreaLeft" fmla="*/ 0 w 800280"/>
                <a:gd name="textAreaRight" fmla="*/ 399960 w 800280"/>
                <a:gd name="textAreaTop" fmla="*/ 0 h 6400800"/>
                <a:gd name="textAreaBottom" fmla="*/ 6400800 h 64008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480" y="465120"/>
              <a:ext cx="799920" cy="6400800"/>
            </a:xfrm>
            <a:custGeom>
              <a:avLst/>
              <a:gdLst>
                <a:gd name="textAreaLeft" fmla="*/ 399960 w 799920"/>
                <a:gd name="textAreaRight" fmla="*/ 799920 w 799920"/>
                <a:gd name="textAreaTop" fmla="*/ 0 h 6400800"/>
                <a:gd name="textAreaBottom" fmla="*/ 6400800 h 6400800"/>
              </a:gdLst>
              <a:ahLst/>
              <a:rect l="textAreaLeft" t="textAreaTop" r="textAreaRight" b="textAreaBottom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3320" y="2609640"/>
              <a:ext cx="723960" cy="57132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66ccff"/>
                </a:gs>
                <a:gs pos="100000">
                  <a:srgbClr val="ff99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6699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057400"/>
            <a:ext cx="7765920" cy="13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400" y="639936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t-BR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261F84B-FEF6-4F41-A3CD-EF10B755E60D}" type="slidenum">
              <a:rPr b="0" lang="pt-BR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3120" cy="451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6600" indent="-336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6560" indent="-2793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000"/>
            </a:b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00200" y="304920"/>
            <a:ext cx="7238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Times New Roman"/>
              </a:rPr>
              <a:t>MITOS E FATOS SOBRE VITIMIZAÇÃO SEXUAL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336699"/>
                </a:solidFill>
                <a:latin typeface="Times New Roman"/>
              </a:rPr>
              <a:t>(Azevedo &amp; Guerra)</a:t>
            </a:r>
            <a:r>
              <a:rPr b="0" lang="pt-BR" sz="1800" spc="-1" strike="noStrike">
                <a:solidFill>
                  <a:srgbClr val="336699"/>
                </a:solidFill>
                <a:latin typeface="Times New Roman"/>
              </a:rPr>
              <a:t>‏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981080" y="198108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336699"/>
                </a:solidFill>
                <a:uFillTx/>
                <a:latin typeface="Times New Roman"/>
              </a:rPr>
              <a:t>Mi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A vitimização sexual é rara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1136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pt-BR" sz="2400" spc="-1" strike="noStrike" u="sng">
                <a:solidFill>
                  <a:srgbClr val="ff0066"/>
                </a:solidFill>
                <a:uFillTx/>
                <a:latin typeface="Arial Unicode MS"/>
              </a:rPr>
              <a:t>Fa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1 em 3 a 4 meninas e 1 em 6 a 10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meninos  serão vítimas de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10134720"/>
                <a:tab algn="l" pos="1085868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abuso sexual até a idade de 18 anos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dur="indefinite" fill="hold">
                      <p:stCondLst>
                        <p:cond delay="indefinite"/>
                      </p:stCondLst>
                      <p:childTnLst>
                        <p:par>
                          <p:cTn id="1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dur="indefinite" fill="hold">
                      <p:stCondLst>
                        <p:cond delay="indefinite"/>
                      </p:stCondLst>
                      <p:childTnLst>
                        <p:par>
                          <p:cTn id="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135800" y="360360"/>
            <a:ext cx="741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Mi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Falar sobre “toque” e vitimização sexual fará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com que pais e filhos se sintam desconfortávei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em relação ao afeto normal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78280" y="2879640"/>
            <a:ext cx="754164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ff0066"/>
                </a:solidFill>
                <a:uFillTx/>
                <a:latin typeface="Arial Unicode MS"/>
              </a:rPr>
              <a:t>Fa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Todas as pessoas necessi</a:t>
            </a:r>
            <a:r>
              <a:rPr b="1" lang="pt-BR" sz="2200" spc="-1" strike="noStrike">
                <a:solidFill>
                  <a:srgbClr val="ff0066"/>
                </a:solidFill>
                <a:latin typeface="Arial Unicode MS"/>
              </a:rPr>
              <a:t>tam contatos físicos. 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0066"/>
                </a:solidFill>
                <a:latin typeface="Arial Unicode MS"/>
              </a:rPr>
              <a:t>Abuso sexual não deve ser confundido com contatos 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0066"/>
                </a:solidFill>
                <a:latin typeface="Arial Unicode MS"/>
              </a:rPr>
              <a:t>entre um adulto e uma criança que estiverem 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0066"/>
                </a:solidFill>
                <a:latin typeface="Arial Unicode MS"/>
              </a:rPr>
              <a:t>expressando amor. 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0066"/>
                </a:solidFill>
                <a:latin typeface="Arial Unicode MS"/>
              </a:rPr>
              <a:t>Contatos sexualmente abusivos 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0066"/>
                </a:solidFill>
                <a:latin typeface="Arial Unicode MS"/>
              </a:rPr>
              <a:t>são em benefício do agressor, não da criança. 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dur="indefinite" fill="hold">
                      <p:stCondLst>
                        <p:cond delay="indefinite"/>
                      </p:stCondLst>
                      <p:childTnLst>
                        <p:par>
                          <p:cTn id="14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dur="indefinite" fill="hold">
                      <p:stCondLst>
                        <p:cond delay="indefinite"/>
                      </p:stCondLst>
                      <p:childTnLst>
                        <p:par>
                          <p:cTn id="1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11840" y="501480"/>
            <a:ext cx="786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 Unicode MS"/>
              </a:rPr>
              <a:t>Mi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Crianças inventam histórias de vitimização sexual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418760" y="2635200"/>
            <a:ext cx="7619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ff0066"/>
                </a:solidFill>
                <a:uFillTx/>
                <a:latin typeface="Arial Unicode MS"/>
              </a:rPr>
              <a:t>Fa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Crianças raramente inventam histórias de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vitimização sexual. Crianças geralmente falam a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partir de sua própria experiência e não podem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fabricar informação, a menos que tenham sido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expostas a ela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dur="indefinite" fill="hold">
                      <p:stCondLst>
                        <p:cond delay="indefinite"/>
                      </p:stCondLst>
                      <p:childTnLst>
                        <p:par>
                          <p:cTn id="1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dur="indefinite" fill="hold">
                      <p:stCondLst>
                        <p:cond delay="indefinite"/>
                      </p:stCondLst>
                      <p:childTnLst>
                        <p:par>
                          <p:cTn id="1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37480" y="501480"/>
            <a:ext cx="722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 Unicode MS"/>
              </a:rPr>
              <a:t>Mi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Meu (minha) filho(a) jamais será sexualmente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vitimizado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27960" y="3060720"/>
            <a:ext cx="74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ff0066"/>
                </a:solidFill>
                <a:uFillTx/>
                <a:latin typeface="Arial Unicode MS"/>
              </a:rPr>
              <a:t>Fa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Todas as crianças são vulneráveis à vitimização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sexual devido à sua inocência, confiança nos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adultos, tamanho, vontade de agradar e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necessidade de afeto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99480" y="5754600"/>
            <a:ext cx="67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0066"/>
                </a:solidFill>
                <a:latin typeface="Arial Unicode MS"/>
              </a:rPr>
              <a:t>********************</a:t>
            </a:r>
            <a:r>
              <a:rPr b="0" lang="pt-BR" sz="1800" spc="-1" strike="noStrike">
                <a:solidFill>
                  <a:srgbClr val="336699"/>
                </a:solidFill>
                <a:latin typeface="Arial Unicode MS"/>
              </a:rPr>
              <a:t>************</a:t>
            </a:r>
            <a:r>
              <a:rPr b="0" lang="pt-BR" sz="1800" spc="-1" strike="noStrike">
                <a:solidFill>
                  <a:srgbClr val="ff0066"/>
                </a:solidFill>
                <a:latin typeface="Arial Unicode MS"/>
              </a:rPr>
              <a:t>********************</a:t>
            </a:r>
            <a:endParaRPr b="0" lang="en-US" sz="18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dur="indefinite" fill="hold">
                      <p:stCondLst>
                        <p:cond delay="indefinite"/>
                      </p:stCondLst>
                      <p:childTnLst>
                        <p:par>
                          <p:cTn id="1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dur="indefinite" fill="hold">
                      <p:stCondLst>
                        <p:cond delay="indefinite"/>
                      </p:stCondLst>
                      <p:childTnLst>
                        <p:par>
                          <p:cTn id="1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 fill="hold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206000" y="309600"/>
            <a:ext cx="751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     </a:t>
            </a: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 Unicode MS"/>
              </a:rPr>
              <a:t>Mi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     </a:t>
            </a: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As crianças menores de 10 anos estão a salvo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65560" y="3244680"/>
            <a:ext cx="697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ff0066"/>
                </a:solidFill>
                <a:uFillTx/>
                <a:latin typeface="Arial Unicode MS"/>
              </a:rPr>
              <a:t>Fa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Mais de um terço das notificações envolvem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crianças de 5 anos ou menore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307240" y="577800"/>
            <a:ext cx="6229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 Unicode MS"/>
              </a:rPr>
              <a:t>Mi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Se as crianças forem ensinadas a evitar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pt-BR" sz="2400" spc="-1" strike="noStrike">
                <a:solidFill>
                  <a:srgbClr val="336699"/>
                </a:solidFill>
                <a:latin typeface="Arial Unicode MS"/>
              </a:rPr>
              <a:t>“</a:t>
            </a: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estranhos perigosos”, elas não serão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sexualmente vitimizada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391400" y="2879640"/>
            <a:ext cx="74242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ff0066"/>
                </a:solidFill>
                <a:uFillTx/>
                <a:latin typeface="Arial Unicode MS"/>
              </a:rPr>
              <a:t>Fa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85 % a 90 % dos agressores são conhecidos da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criança. Qualquer adulto ou criança mais velho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pode ser um agressor sexual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dur="indefinite" fill="hold">
                      <p:stCondLst>
                        <p:cond delay="indefinite"/>
                      </p:stCondLst>
                      <p:childTnLst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dur="indefinite" fill="hold">
                      <p:stCondLst>
                        <p:cond delay="indefinite"/>
                      </p:stCondLst>
                      <p:childTnLst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950480" y="730080"/>
            <a:ext cx="6279840" cy="20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 Unicode MS"/>
              </a:rPr>
              <a:t>Mi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 Unicode MS"/>
              </a:rPr>
              <a:t>Os agressores são homens velhos, violentos,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 Unicode MS"/>
              </a:rPr>
              <a:t>alcoólatras e desempregados. São sexualmente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 Unicode MS"/>
              </a:rPr>
              <a:t>depravados, homossexuais, retardados ou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336699"/>
                </a:solidFill>
                <a:latin typeface="Arial Unicode MS"/>
              </a:rPr>
              <a:t>loucos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335240" y="3581280"/>
            <a:ext cx="71575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ff0066"/>
                </a:solidFill>
                <a:uFillTx/>
                <a:latin typeface="Arial Unicode MS"/>
              </a:rPr>
              <a:t>Fa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0066"/>
                </a:solidFill>
                <a:latin typeface="Arial Unicode MS"/>
              </a:rPr>
              <a:t>Geralmente os agressores parecem normais, sob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0066"/>
                </a:solidFill>
                <a:latin typeface="Arial Unicode MS"/>
              </a:rPr>
              <a:t>vários aspectos. Os crimes sexuais têm sido cometidos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0066"/>
                </a:solidFill>
                <a:latin typeface="Arial Unicode MS"/>
              </a:rPr>
              <a:t>em todos os níveis sócio-econômicos e em todos os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0066"/>
                </a:solidFill>
                <a:latin typeface="Arial Unicode MS"/>
              </a:rPr>
              <a:t>grupos raciais, religiosos e étnicos. Crianças são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0066"/>
                </a:solidFill>
                <a:latin typeface="Arial Unicode MS"/>
              </a:rPr>
              <a:t>vitimizadas no campo e na cidade. A maioria dos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0066"/>
                </a:solidFill>
                <a:latin typeface="Arial Unicode MS"/>
              </a:rPr>
              <a:t>agressores sexuais são homens heterossexuais e têm 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000" spc="-1" strike="noStrike">
                <a:solidFill>
                  <a:srgbClr val="ff0066"/>
                </a:solidFill>
                <a:latin typeface="Arial Unicode MS"/>
              </a:rPr>
              <a:t>acesso a relações sexuais com adultos.</a:t>
            </a:r>
            <a:endParaRPr b="0" lang="en-US" sz="20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930960" y="231840"/>
            <a:ext cx="699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 Unicode MS"/>
              </a:rPr>
              <a:t>Mi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Se uma criança “consente” é porque deve ter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 </a:t>
            </a: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gostado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Se ela não diz </a:t>
            </a:r>
            <a:r>
              <a:rPr b="1" i="1" lang="pt-BR" sz="2400" spc="-1" strike="noStrike">
                <a:solidFill>
                  <a:srgbClr val="336699"/>
                </a:solidFill>
                <a:latin typeface="Arial Unicode MS"/>
              </a:rPr>
              <a:t>“não”</a:t>
            </a: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 é porque não é abuso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1240" y="2774880"/>
            <a:ext cx="774432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 u="sng">
                <a:solidFill>
                  <a:srgbClr val="ff0066"/>
                </a:solidFill>
                <a:uFillTx/>
                <a:latin typeface="Arial Unicode MS"/>
              </a:rPr>
              <a:t>Fato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0066"/>
                </a:solidFill>
                <a:latin typeface="Arial Unicode MS"/>
              </a:rPr>
              <a:t>Vitimização sexual nunca é culpa ou responsabilidade 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0066"/>
                </a:solidFill>
                <a:latin typeface="Arial Unicode MS"/>
              </a:rPr>
              <a:t>da criança. O agressor sexual tem inteira 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0066"/>
                </a:solidFill>
                <a:latin typeface="Arial Unicode MS"/>
              </a:rPr>
              <a:t>responsabilidade pelo crime, qualquer que seja a 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0066"/>
                </a:solidFill>
                <a:latin typeface="Arial Unicode MS"/>
              </a:rPr>
              <a:t>forma por ele assumida. Muito abuso se dá sem uso 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200" spc="-1" strike="noStrike">
                <a:solidFill>
                  <a:srgbClr val="ff0066"/>
                </a:solidFill>
                <a:latin typeface="Arial Unicode MS"/>
              </a:rPr>
              <a:t>da força física.</a:t>
            </a:r>
            <a:endParaRPr b="0" lang="en-US" sz="22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dur="indefinite" fill="hold">
                      <p:stCondLst>
                        <p:cond delay="indefinite"/>
                      </p:stCondLst>
                      <p:childTnLst>
                        <p:par>
                          <p:cTn id="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75520" y="360360"/>
            <a:ext cx="711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 Unicode MS"/>
              </a:rPr>
              <a:t>Mi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Vitimização sexual costuma ser um único ato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violento que envolve conjunção carnal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39240" y="2519280"/>
            <a:ext cx="7817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ff0066"/>
                </a:solidFill>
                <a:uFillTx/>
                <a:latin typeface="Arial Unicode MS"/>
              </a:rPr>
              <a:t>Fa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A vitimização sexual pode incluir telefonemas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obscenos, exposição de genitais ou seios, mostrar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a uma </a:t>
            </a:r>
            <a:r>
              <a:rPr b="1" lang="pt-BR" sz="2200" spc="-1" strike="noStrike">
                <a:solidFill>
                  <a:srgbClr val="ff0066"/>
                </a:solidFill>
                <a:latin typeface="Arial Unicode MS"/>
              </a:rPr>
              <a:t>criança</a:t>
            </a: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 materiais pornográficos, prática de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atos libidinosos (incluindo masturbação), relações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(ou tentativas) sexuais orais/anais vaginais e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exploração da criança através de prostituição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e/ou produção de pornografia.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dur="indefinite" fill="hold">
                      <p:stCondLst>
                        <p:cond delay="indefinite"/>
                      </p:stCondLst>
                      <p:childTnLst>
                        <p:par>
                          <p:cTn id="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65760" y="425520"/>
            <a:ext cx="753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 Unicode MS"/>
              </a:rPr>
              <a:t>Mi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Se os agressores são detidos e prometem parar,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geralmente o fazem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23040" y="2700360"/>
            <a:ext cx="7919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ff0066"/>
                </a:solidFill>
                <a:uFillTx/>
                <a:latin typeface="Arial Unicode MS"/>
              </a:rPr>
              <a:t>Fa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Os agressores quase nunca procuram um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tratamento para parar o abuso voluntariamente.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Eles podem parar de vitimizar uma dada criança,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mas logo podem fazer o mesmo contra outra.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A vitimização quase sempre continua de um modo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ou de outro, a menos que o agressor esteja em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tratamento em alguma instituição especializada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dur="indefinite" fill="hold">
                      <p:stCondLst>
                        <p:cond delay="indefinite"/>
                      </p:stCondLst>
                      <p:childTnLst>
                        <p:par>
                          <p:cTn id="1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28560" y="243000"/>
            <a:ext cx="733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 Unicode MS"/>
              </a:rPr>
              <a:t>Mi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A maioria das crianças esquecerá a vitimizaçã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 </a:t>
            </a: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desde que os adultos não as relembrem.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6360" y="2519280"/>
            <a:ext cx="7954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ff0066"/>
                </a:solidFill>
                <a:uFillTx/>
                <a:latin typeface="Arial Unicode MS"/>
              </a:rPr>
              <a:t>Fa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Crianças não costumam esquecer. Elas podem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tentar ocultar seu sofrimento, sua confusão e seu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ódio porque acreditam que os adultos não querem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ouvir falar disso. Elas podem interpretar o silêncio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adulto como censura ou raiva. É muito importante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que a vítima, o agressor e o pai (mãe) não-agressor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recebam tratamento terapêutico especializado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dur="indefinite" fill="hold">
                      <p:stCondLst>
                        <p:cond delay="indefinite"/>
                      </p:stCondLst>
                      <p:childTnLst>
                        <p:par>
                          <p:cTn id="1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600560" y="360360"/>
            <a:ext cx="621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336699"/>
                </a:solidFill>
                <a:uFillTx/>
                <a:latin typeface="Arial Unicode MS"/>
              </a:rPr>
              <a:t>Mi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Crianças só não revelam o “segredo” se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336699"/>
                </a:solidFill>
                <a:latin typeface="Arial Unicode MS"/>
              </a:rPr>
              <a:t>tiverem sido ameaçadas com violência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66160" y="2700360"/>
            <a:ext cx="7579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 u="sng">
                <a:solidFill>
                  <a:srgbClr val="ff0066"/>
                </a:solidFill>
                <a:uFillTx/>
                <a:latin typeface="Arial Unicode MS"/>
              </a:rPr>
              <a:t>Fato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Crianças podem não falar por medo de violência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contra si ou contra  alguém que amam. Elas 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também não contam quando temem censura e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 </a:t>
            </a:r>
            <a:r>
              <a:rPr b="1" lang="pt-BR" sz="2400" spc="-1" strike="noStrike">
                <a:solidFill>
                  <a:srgbClr val="ff0066"/>
                </a:solidFill>
                <a:latin typeface="Arial Unicode MS"/>
              </a:rPr>
              <a:t>temem acarretar ruptura da família.</a:t>
            </a:r>
            <a:endParaRPr b="0" lang="en-US" sz="2400" spc="-1" strike="noStrike">
              <a:solidFill>
                <a:srgbClr val="336699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indefinite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atarina</dc:creator>
  <dc:description/>
  <dc:language>en-US</dc:language>
  <cp:lastModifiedBy>Ipesc</cp:lastModifiedBy>
  <cp:revision>0</cp:revision>
  <dc:subject/>
  <dc:title> </dc:title>
</cp:coreProperties>
</file>