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0058400" cy="77724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39440" y="571680"/>
            <a:ext cx="8588520" cy="12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39440" y="2160360"/>
            <a:ext cx="858852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39440" y="4716720"/>
            <a:ext cx="858852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39440" y="571680"/>
            <a:ext cx="8588520" cy="12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39440" y="2160360"/>
            <a:ext cx="419112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40440" y="2160360"/>
            <a:ext cx="419112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39440" y="4716720"/>
            <a:ext cx="419112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40440" y="4716720"/>
            <a:ext cx="419112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39440" y="571680"/>
            <a:ext cx="8588520" cy="12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39440" y="2160360"/>
            <a:ext cx="276516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3200" y="2160360"/>
            <a:ext cx="276516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46960" y="2160360"/>
            <a:ext cx="276516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39440" y="4716720"/>
            <a:ext cx="276516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3200" y="4716720"/>
            <a:ext cx="276516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46960" y="4716720"/>
            <a:ext cx="276516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571680"/>
            <a:ext cx="8588520" cy="12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39440" y="2160360"/>
            <a:ext cx="858852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9440" y="571680"/>
            <a:ext cx="8588520" cy="12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39440" y="2160360"/>
            <a:ext cx="858852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9440" y="571680"/>
            <a:ext cx="8588520" cy="12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39440" y="2160360"/>
            <a:ext cx="419112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0440" y="2160360"/>
            <a:ext cx="419112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39440" y="571680"/>
            <a:ext cx="8588520" cy="12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39440" y="571680"/>
            <a:ext cx="8588520" cy="60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16000" indent="-216000" algn="ctr"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571680"/>
            <a:ext cx="8588520" cy="12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60360"/>
            <a:ext cx="419112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0440" y="2160360"/>
            <a:ext cx="419112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39440" y="4716720"/>
            <a:ext cx="419112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571680"/>
            <a:ext cx="8588520" cy="12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60360"/>
            <a:ext cx="419112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0440" y="2160360"/>
            <a:ext cx="419112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0440" y="4716720"/>
            <a:ext cx="419112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571680"/>
            <a:ext cx="8588520" cy="12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60360"/>
            <a:ext cx="419112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0440" y="2160360"/>
            <a:ext cx="419112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39440" y="4716720"/>
            <a:ext cx="8588520" cy="23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4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03200" y="1946160"/>
            <a:ext cx="9653760" cy="5824800"/>
          </a:xfrm>
          <a:prstGeom prst="roundRect">
            <a:avLst>
              <a:gd name="adj" fmla="val 23"/>
            </a:avLst>
          </a:prstGeom>
          <a:solidFill>
            <a:srgbClr val="dddddd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39440" y="571680"/>
            <a:ext cx="8588520" cy="12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39440" y="2160360"/>
            <a:ext cx="8588520" cy="489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104000"/>
              </a:lnSpc>
              <a:buClr>
                <a:srgbClr val="0e594d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4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104000"/>
              </a:lnSpc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104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181080" cy="944640"/>
          </a:xfrm>
          <a:custGeom>
            <a:avLst/>
            <a:gdLst>
              <a:gd name="textAreaLeft" fmla="*/ 360 w 181080"/>
              <a:gd name="textAreaRight" fmla="*/ 180720 w 181080"/>
              <a:gd name="textAreaTop" fmla="*/ 360 h 944640"/>
              <a:gd name="textAreaBottom" fmla="*/ 944280 h 944640"/>
            </a:gdLst>
            <a:ahLst/>
            <a:rect l="textAreaLeft" t="textAreaTop" r="textAreaRight" b="textAreaBottom"/>
            <a:pathLst>
              <a:path w="21600" h="112500">
                <a:moveTo>
                  <a:pt x="189" y="0"/>
                </a:moveTo>
                <a:arcTo wR="189" hR="189" stAng="16200000" swAng="-5400000"/>
                <a:lnTo>
                  <a:pt x="0" y="112311"/>
                </a:lnTo>
                <a:arcTo wR="189" hR="189" stAng="10800000" swAng="-5400000"/>
                <a:lnTo>
                  <a:pt x="21411" y="112500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48000"/>
            <a:ext cx="181080" cy="944640"/>
          </a:xfrm>
          <a:custGeom>
            <a:avLst/>
            <a:gdLst>
              <a:gd name="textAreaLeft" fmla="*/ 360 w 181080"/>
              <a:gd name="textAreaRight" fmla="*/ 180720 w 181080"/>
              <a:gd name="textAreaTop" fmla="*/ 360 h 944640"/>
              <a:gd name="textAreaBottom" fmla="*/ 944280 h 944640"/>
            </a:gdLst>
            <a:ahLst/>
            <a:rect l="textAreaLeft" t="textAreaTop" r="textAreaRight" b="textAreaBottom"/>
            <a:pathLst>
              <a:path w="21600" h="112500">
                <a:moveTo>
                  <a:pt x="189" y="0"/>
                </a:moveTo>
                <a:arcTo wR="189" hR="189" stAng="16200000" swAng="-5400000"/>
                <a:lnTo>
                  <a:pt x="0" y="112311"/>
                </a:lnTo>
                <a:arcTo wR="189" hR="189" stAng="10800000" swAng="-5400000"/>
                <a:lnTo>
                  <a:pt x="21411" y="112500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1201680"/>
            <a:ext cx="181080" cy="944640"/>
          </a:xfrm>
          <a:custGeom>
            <a:avLst/>
            <a:gdLst>
              <a:gd name="textAreaLeft" fmla="*/ 360 w 181080"/>
              <a:gd name="textAreaRight" fmla="*/ 180720 w 181080"/>
              <a:gd name="textAreaTop" fmla="*/ 360 h 944640"/>
              <a:gd name="textAreaBottom" fmla="*/ 944280 h 944640"/>
            </a:gdLst>
            <a:ahLst/>
            <a:rect l="textAreaLeft" t="textAreaTop" r="textAreaRight" b="textAreaBottom"/>
            <a:pathLst>
              <a:path w="21600" h="112500">
                <a:moveTo>
                  <a:pt x="189" y="0"/>
                </a:moveTo>
                <a:arcTo wR="189" hR="189" stAng="16200000" swAng="-5400000"/>
                <a:lnTo>
                  <a:pt x="0" y="112311"/>
                </a:lnTo>
                <a:arcTo wR="189" hR="189" stAng="10800000" swAng="-5400000"/>
                <a:lnTo>
                  <a:pt x="21411" y="112500"/>
                </a:lnTo>
                <a:arcTo wR="189" hR="189" stAng="5400000" swAng="-5400000"/>
                <a:lnTo>
                  <a:pt x="21600" y="189"/>
                </a:lnTo>
                <a:arcTo wR="189" hR="189" stAng="0" swAng="-5400000"/>
                <a:close/>
              </a:path>
            </a:pathLst>
          </a:custGeom>
          <a:solidFill>
            <a:srgbClr val="125c8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00000" y="900000"/>
            <a:ext cx="828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260360" y="1260360"/>
            <a:ext cx="7920000" cy="54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8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Black"/>
                <a:ea typeface="Arial"/>
              </a:rPr>
              <a:t>PISTAS PARA A IDENTIFICAÇÃO DE CRIANÇAS E ADOLESCENTES VÍTIMAS DE VIOLÊNCIA SEXU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6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ISTAS SEXUA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6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6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2323dc"/>
                </a:solidFill>
                <a:latin typeface="Arial"/>
                <a:ea typeface="Arial"/>
              </a:rPr>
              <a:t> </a:t>
            </a:r>
            <a:r>
              <a:rPr b="1" lang="en-US" sz="2200" spc="-1" strike="noStrike">
                <a:solidFill>
                  <a:srgbClr val="2323dc"/>
                </a:solidFill>
                <a:latin typeface="Arial"/>
                <a:ea typeface="Arial"/>
              </a:rPr>
              <a:t>Conduta muito sexualizada;</a:t>
            </a:r>
            <a:br>
              <a:rPr sz="2200"/>
            </a:br>
            <a:r>
              <a:rPr b="1" lang="en-US" sz="2200" spc="-1" strike="noStrike">
                <a:solidFill>
                  <a:srgbClr val="2323dc"/>
                </a:solidFill>
                <a:latin typeface="Arial"/>
                <a:ea typeface="Arial"/>
              </a:rPr>
              <a:t>Desenha órgãos genitais além de sua idade;</a:t>
            </a:r>
            <a:br>
              <a:rPr sz="2200"/>
            </a:br>
            <a:r>
              <a:rPr b="1" lang="en-US" sz="2200" spc="-1" strike="noStrike">
                <a:solidFill>
                  <a:srgbClr val="2323dc"/>
                </a:solidFill>
                <a:latin typeface="Arial"/>
                <a:ea typeface="Arial"/>
              </a:rPr>
              <a:t>Comportamento sexual inadequado para sua idade;</a:t>
            </a:r>
            <a:br>
              <a:rPr sz="2200"/>
            </a:br>
            <a:r>
              <a:rPr b="1" lang="en-US" sz="2200" spc="-1" strike="noStrike">
                <a:solidFill>
                  <a:srgbClr val="2323dc"/>
                </a:solidFill>
                <a:latin typeface="Arial"/>
                <a:ea typeface="Arial"/>
              </a:rPr>
              <a:t>Mostra interesse não usual por assuntos sexuais;</a:t>
            </a:r>
            <a:br>
              <a:rPr sz="2200"/>
            </a:br>
            <a:r>
              <a:rPr b="1" lang="en-US" sz="2200" spc="-1" strike="noStrike">
                <a:solidFill>
                  <a:srgbClr val="2323dc"/>
                </a:solidFill>
                <a:latin typeface="Arial"/>
                <a:ea typeface="Arial"/>
              </a:rPr>
              <a:t>Pedidos de informação sobre contracepções, podendo ser um grito de ajud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219640" y="2519280"/>
            <a:ext cx="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20720" y="539640"/>
            <a:ext cx="8820000" cy="74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280099"/>
                </a:solidFill>
                <a:latin typeface="Arial"/>
                <a:ea typeface="Arial"/>
              </a:rPr>
              <a:t>CONSEQUÊNCIAS NA INFÂNCIA DE CRIANÇAS E ADOLESCENTES VÍTIMAS DE VIOLÊNCIA SEXU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6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6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6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280099"/>
                </a:solidFill>
                <a:latin typeface="Arial"/>
                <a:ea typeface="Arial"/>
              </a:rPr>
              <a:t>-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Arial"/>
              </a:rPr>
              <a:t>Tentativas de suicídio;</a:t>
            </a:r>
            <a:br>
              <a:rPr sz="2600"/>
            </a:b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Arial"/>
              </a:rPr>
              <a:t>- </a:t>
            </a:r>
            <a:r>
              <a:rPr b="1" lang="en-US" sz="2600" spc="-1" strike="noStrike">
                <a:solidFill>
                  <a:srgbClr val="2300dc"/>
                </a:solidFill>
                <a:latin typeface="Arial"/>
                <a:ea typeface="Arial"/>
              </a:rPr>
              <a:t>Sentimento prolongado de desamparo;</a:t>
            </a:r>
            <a:br>
              <a:rPr sz="2600"/>
            </a:b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Arial"/>
              </a:rPr>
              <a:t>- Tristeza, abatimento profund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6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6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6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6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60360" y="2414520"/>
            <a:ext cx="7740720" cy="17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CONSEQUÊNCIAS ORGÂNI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079640" y="2879640"/>
            <a:ext cx="7199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50960" y="1079640"/>
            <a:ext cx="8069040" cy="633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4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CONSEQUÊNCIAS ORGÂNICA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6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LESÕES FÍSICAS GERAIS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lang="en-US" sz="2000" spc="-1" strike="noStrike">
                <a:solidFill>
                  <a:srgbClr val="dc2300"/>
                </a:solidFill>
                <a:latin typeface="Arial"/>
                <a:ea typeface="Arial"/>
              </a:rPr>
              <a:t>Imobilização coercitiva;</a:t>
            </a:r>
            <a:br>
              <a:rPr sz="2000"/>
            </a:br>
            <a:r>
              <a:rPr b="1" lang="en-US" sz="2000" spc="-1" strike="noStrike">
                <a:solidFill>
                  <a:srgbClr val="dc2300"/>
                </a:solidFill>
                <a:latin typeface="Arial"/>
                <a:ea typeface="Arial"/>
              </a:rPr>
              <a:t>- Espancamento;</a:t>
            </a:r>
            <a:br>
              <a:rPr sz="2000"/>
            </a:br>
            <a:r>
              <a:rPr b="1" lang="en-US" sz="2000" spc="-1" strike="noStrike">
                <a:solidFill>
                  <a:srgbClr val="dc2300"/>
                </a:solidFill>
                <a:latin typeface="Arial"/>
                <a:ea typeface="Arial"/>
              </a:rPr>
              <a:t>- Contusões;</a:t>
            </a:r>
            <a:br>
              <a:rPr sz="2000"/>
            </a:br>
            <a:r>
              <a:rPr b="1" lang="en-US" sz="2000" spc="-1" strike="noStrike">
                <a:solidFill>
                  <a:srgbClr val="dc2300"/>
                </a:solidFill>
                <a:latin typeface="Arial"/>
                <a:ea typeface="Arial"/>
              </a:rPr>
              <a:t>- Fraturas;</a:t>
            </a:r>
            <a:br>
              <a:rPr sz="2000"/>
            </a:br>
            <a:r>
              <a:rPr b="1" lang="en-US" sz="2000" spc="-1" strike="noStrike">
                <a:solidFill>
                  <a:srgbClr val="dc2300"/>
                </a:solidFill>
                <a:latin typeface="Arial"/>
                <a:ea typeface="Arial"/>
              </a:rPr>
              <a:t>- Queimaduras;</a:t>
            </a:r>
            <a:br>
              <a:rPr sz="2000"/>
            </a:br>
            <a:r>
              <a:rPr b="1" lang="en-US" sz="2000" spc="-1" strike="noStrike">
                <a:solidFill>
                  <a:srgbClr val="dc2300"/>
                </a:solidFill>
                <a:latin typeface="Arial"/>
                <a:ea typeface="Arial"/>
              </a:rPr>
              <a:t>- Ferimentos com armas brancas;</a:t>
            </a:r>
            <a:br>
              <a:rPr sz="2000"/>
            </a:br>
            <a:r>
              <a:rPr b="1" lang="en-US" sz="2000" spc="-1" strike="noStrike">
                <a:solidFill>
                  <a:srgbClr val="dc2300"/>
                </a:solidFill>
                <a:latin typeface="Arial"/>
                <a:ea typeface="Arial"/>
              </a:rPr>
              <a:t>- Enforcamento;</a:t>
            </a:r>
            <a:br>
              <a:rPr sz="2000"/>
            </a:br>
            <a:r>
              <a:rPr b="1" lang="en-US" sz="2000" spc="-1" strike="noStrike">
                <a:solidFill>
                  <a:srgbClr val="dc2300"/>
                </a:solidFill>
                <a:latin typeface="Arial"/>
                <a:ea typeface="Arial"/>
              </a:rPr>
              <a:t>- Mor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6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333366"/>
                </a:solidFill>
                <a:latin typeface="Arial"/>
                <a:ea typeface="Arial"/>
              </a:rPr>
              <a:t>Obs.  O que leva o violador a praticar a violência física é a raiva e a intenção de controlar a sua viti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099280" y="2879640"/>
            <a:ext cx="54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720720" y="360360"/>
            <a:ext cx="8459640" cy="77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CONSEQUENCIAS ORGANIC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LESÕES GENITA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6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Hematoma vulvar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Rompimento da mucosa vulvar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Lacerações clitoridianas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Rompimento da uretra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Sangramento genital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Rompimento do hímen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Edema vulvar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Extensos rompimentos da musculatura vulvar perianal atingindo a - esfíncter anal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Irritação da mucosa vaginal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Hemorragias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Rompimento do fundo do saco vaginal.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079640" y="720720"/>
            <a:ext cx="7559640" cy="61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ONSEQUÊNCIAS ORGAN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6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ESÕES ANA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6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6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  <a:ea typeface="Arial"/>
              </a:rPr>
              <a:t>Laceração da mucosa anal;</a:t>
            </a:r>
            <a:br>
              <a:rPr sz="2200"/>
            </a:br>
            <a:r>
              <a:rPr b="1" lang="en-US" sz="2200" spc="-1" strike="noStrike">
                <a:solidFill>
                  <a:srgbClr val="000080"/>
                </a:solidFill>
                <a:latin typeface="Arial"/>
                <a:ea typeface="Arial"/>
              </a:rPr>
              <a:t>-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 Intenso sangramento;</a:t>
            </a:r>
            <a:br>
              <a:rPr sz="2200"/>
            </a:br>
            <a:r>
              <a:rPr b="1" lang="en-US" sz="2200" spc="-1" strike="noStrike">
                <a:solidFill>
                  <a:srgbClr val="000080"/>
                </a:solidFill>
                <a:latin typeface="Arial"/>
                <a:ea typeface="Arial"/>
              </a:rPr>
              <a:t>- Infecções;</a:t>
            </a:r>
            <a:br>
              <a:rPr sz="2200"/>
            </a:br>
            <a:r>
              <a:rPr b="1" lang="en-US" sz="2200" spc="-1" strike="noStrike">
                <a:solidFill>
                  <a:srgbClr val="000080"/>
                </a:solidFill>
                <a:latin typeface="Arial"/>
                <a:ea typeface="Arial"/>
              </a:rPr>
              <a:t>-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Formação de abscessos perianais</a:t>
            </a:r>
            <a:r>
              <a:rPr b="1" lang="en-US" sz="2200" spc="-1" strike="noStrike">
                <a:solidFill>
                  <a:srgbClr val="000080"/>
                </a:solidFill>
                <a:latin typeface="Arial"/>
                <a:ea typeface="Arial"/>
              </a:rPr>
              <a:t>;</a:t>
            </a:r>
            <a:br>
              <a:rPr sz="2200"/>
            </a:br>
            <a:r>
              <a:rPr b="1" lang="en-US" sz="2200" spc="-1" strike="noStrike">
                <a:solidFill>
                  <a:srgbClr val="000080"/>
                </a:solidFill>
                <a:latin typeface="Arial"/>
                <a:ea typeface="Arial"/>
              </a:rPr>
              <a:t>- Rompimento do esfíncter anal;</a:t>
            </a:r>
            <a:br>
              <a:rPr sz="2200"/>
            </a:br>
            <a:r>
              <a:rPr b="1" lang="en-US" sz="2200" spc="-1" strike="noStrike">
                <a:solidFill>
                  <a:srgbClr val="000080"/>
                </a:solidFill>
                <a:latin typeface="Arial"/>
                <a:ea typeface="Arial"/>
              </a:rPr>
              <a:t>-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Rompimento da mucosa retal.</a:t>
            </a:r>
            <a:br>
              <a:rPr sz="2200"/>
            </a:br>
            <a:r>
              <a:rPr b="1" lang="en-US" sz="2200" spc="-1" strike="noStrike">
                <a:solidFill>
                  <a:srgbClr val="000080"/>
                </a:solidFill>
                <a:latin typeface="Arial"/>
                <a:ea typeface="Arial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260360" y="1800360"/>
            <a:ext cx="8640720" cy="42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5e11a6"/>
                </a:solidFill>
                <a:latin typeface="Arial"/>
                <a:ea typeface="Arial"/>
              </a:rPr>
              <a:t>DOENÇAS SEXUALMENTE TRANSMISSÍVEIS:</a:t>
            </a:r>
            <a:br>
              <a:rPr sz="2800"/>
            </a:br>
            <a:r>
              <a:rPr b="1" lang="en-US" sz="2800" spc="-1" strike="noStrike">
                <a:solidFill>
                  <a:srgbClr val="5e11a6"/>
                </a:solidFill>
                <a:latin typeface="Arial"/>
                <a:ea typeface="Arial"/>
              </a:rPr>
              <a:t>- Gonorréia;</a:t>
            </a:r>
            <a:br>
              <a:rPr sz="2800"/>
            </a:br>
            <a:r>
              <a:rPr b="1" lang="en-US" sz="2800" spc="-1" strike="noStrike">
                <a:solidFill>
                  <a:srgbClr val="5e11a6"/>
                </a:solidFill>
                <a:latin typeface="Arial"/>
                <a:ea typeface="Arial"/>
              </a:rPr>
              <a:t>- Sífilis;</a:t>
            </a:r>
            <a:br>
              <a:rPr sz="2800"/>
            </a:br>
            <a:r>
              <a:rPr b="1" lang="en-US" sz="2800" spc="-1" strike="noStrike">
                <a:solidFill>
                  <a:srgbClr val="5e11a6"/>
                </a:solidFill>
                <a:latin typeface="Arial"/>
                <a:ea typeface="Arial"/>
              </a:rPr>
              <a:t>- Cancro mole;</a:t>
            </a:r>
            <a:br>
              <a:rPr sz="2800"/>
            </a:br>
            <a:r>
              <a:rPr b="1" lang="en-US" sz="2800" spc="-1" strike="noStrike">
                <a:solidFill>
                  <a:srgbClr val="5e11a6"/>
                </a:solidFill>
                <a:latin typeface="Arial"/>
                <a:ea typeface="Arial"/>
              </a:rPr>
              <a:t>- Herpes genital;</a:t>
            </a:r>
            <a:br>
              <a:rPr sz="2800"/>
            </a:br>
            <a:r>
              <a:rPr b="1" lang="en-US" sz="2800" spc="-1" strike="noStrike">
                <a:solidFill>
                  <a:srgbClr val="5e11a6"/>
                </a:solidFill>
                <a:latin typeface="Arial"/>
                <a:ea typeface="Arial"/>
              </a:rPr>
              <a:t>- AIDS.</a:t>
            </a:r>
            <a:br>
              <a:rPr sz="16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20720" y="720720"/>
            <a:ext cx="8999640" cy="70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ISTAS GERAI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apel de mãe;</a:t>
            </a:r>
            <a:br>
              <a:rPr sz="2200"/>
            </a:b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- Perturbações do sono – Ex. Enurese noturna, pesadelos, sonolência;</a:t>
            </a:r>
            <a:br>
              <a:rPr sz="2200"/>
            </a:b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- Comportamento regressivo; è     Isolamento social;</a:t>
            </a:r>
            <a:br>
              <a:rPr sz="2200"/>
            </a:b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- Alternância de humor: Quieta, triste, retraída;</a:t>
            </a:r>
            <a:br>
              <a:rPr sz="2200"/>
            </a:b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- Mudança de comportamento alimentar - Ex. Perda de apetite, obesidade;</a:t>
            </a:r>
            <a:br>
              <a:rPr sz="2200"/>
            </a:b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- Mostra medo de lugares fechados;</a:t>
            </a:r>
            <a:br>
              <a:rPr sz="2200"/>
            </a:b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- Falta de confiança nos adultos;</a:t>
            </a:r>
            <a:br>
              <a:rPr sz="2200"/>
            </a:b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- Medo acentuado de homens;</a:t>
            </a:r>
            <a:br>
              <a:rPr sz="2200"/>
            </a:b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- Exibições inapropriadas de afeto entre pais e filhas;</a:t>
            </a:r>
            <a:br>
              <a:rPr sz="2200"/>
            </a:b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- Desobediência na tentativa de chamar atenção.</a:t>
            </a:r>
            <a:r>
              <a:rPr b="0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20720" y="1979640"/>
            <a:ext cx="55800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20720" y="1079640"/>
            <a:ext cx="84596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00000" y="488880"/>
            <a:ext cx="8460000" cy="71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6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6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2323dc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6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6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6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6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00000" y="720720"/>
            <a:ext cx="8280360" cy="696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MPORTAMENTO PASSÍVEL DE SER OBSERVADO NA ESCOLA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Arial"/>
              </a:rPr>
              <a:t>Ausência escolar, sem motivo;</a:t>
            </a:r>
            <a:br>
              <a:rPr sz="2600"/>
            </a:b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Arial"/>
              </a:rPr>
              <a:t>- </a:t>
            </a:r>
            <a:r>
              <a:rPr b="1" lang="en-US" sz="2600" spc="-1" strike="noStrike">
                <a:solidFill>
                  <a:srgbClr val="4700b8"/>
                </a:solidFill>
                <a:latin typeface="Arial"/>
                <a:ea typeface="Arial"/>
              </a:rPr>
              <a:t>Resiste a participar de atividades físicas;</a:t>
            </a:r>
            <a:br>
              <a:rPr sz="2600"/>
            </a:b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Arial"/>
              </a:rPr>
              <a:t>-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Arial"/>
              </a:rPr>
              <a:t>Resiste a se desvestir ou a ser desvestida;</a:t>
            </a:r>
            <a:br>
              <a:rPr sz="2600"/>
            </a:b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Arial"/>
              </a:rPr>
              <a:t>- </a:t>
            </a:r>
            <a:r>
              <a:rPr b="1" lang="en-US" sz="2600" spc="-1" strike="noStrike">
                <a:solidFill>
                  <a:srgbClr val="2300dc"/>
                </a:solidFill>
                <a:latin typeface="Arial"/>
                <a:ea typeface="Arial"/>
              </a:rPr>
              <a:t>Resiste a voltar para casa após a aula;</a:t>
            </a:r>
            <a:br>
              <a:rPr sz="2600"/>
            </a:b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Arial"/>
              </a:rPr>
              <a:t>-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Arial"/>
              </a:rPr>
              <a:t> Inabilidade para concentrar-se;</a:t>
            </a:r>
            <a:br>
              <a:rPr sz="2600"/>
            </a:b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Arial"/>
              </a:rPr>
              <a:t>- </a:t>
            </a:r>
            <a:r>
              <a:rPr b="1" lang="en-US" sz="2600" spc="-1" strike="noStrike">
                <a:solidFill>
                  <a:srgbClr val="4700b8"/>
                </a:solidFill>
                <a:latin typeface="Arial"/>
                <a:ea typeface="Arial"/>
              </a:rPr>
              <a:t>Súbita queda de rendimento escolar; </a:t>
            </a:r>
            <a:br>
              <a:rPr sz="2600"/>
            </a:b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Arial"/>
              </a:rPr>
              <a:t>- </a:t>
            </a:r>
            <a:r>
              <a:rPr b="1" i="1" lang="en-US" sz="2600" spc="-1" strike="noStrike" u="sng">
                <a:solidFill>
                  <a:srgbClr val="7e0021"/>
                </a:solidFill>
                <a:uFillTx/>
                <a:latin typeface="Arial"/>
                <a:ea typeface="Arial"/>
              </a:rPr>
              <a:t>Para algumas crianças vítimas de violência sexual a escola pode ser um paraíso, de modo que elas chegam cedo e saem tard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0" y="5759280"/>
            <a:ext cx="90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39640" y="4500720"/>
            <a:ext cx="28800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20720" y="1079640"/>
            <a:ext cx="8459640" cy="48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COMPORTAMENTO DE CRIANÇAS MAIS VELHAS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6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Arial"/>
              </a:rPr>
              <a:t>Autoflagelação;</a:t>
            </a:r>
            <a:br>
              <a:rPr sz="2600"/>
            </a:b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Arial"/>
              </a:rPr>
              <a:t>- Fugas constantes de casa;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- Comportamento anti-social;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- Tendências suicidas e/ou homicidas;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Arial"/>
              </a:rPr>
              <a:t>Ataques histéricos;</a:t>
            </a:r>
            <a:br>
              <a:rPr sz="2600"/>
            </a:b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Arial"/>
              </a:rPr>
              <a:t>- Dependência de álcool ou drog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39640" y="1260360"/>
            <a:ext cx="8820360" cy="53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UTRAS PISTAS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- Masturba-se excessivamente;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- 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  <a:ea typeface="Arial"/>
              </a:rPr>
              <a:t>Vergonha excessiva;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- Dificuldade de caminhar, urinar ou engolir;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- </a:t>
            </a:r>
            <a:r>
              <a:rPr b="1" lang="en-US" sz="2400" spc="-1" strike="noStrike">
                <a:solidFill>
                  <a:srgbClr val="00ae00"/>
                </a:solidFill>
                <a:latin typeface="Arial"/>
                <a:ea typeface="Arial"/>
              </a:rPr>
              <a:t>Doenças sexualmente transmissíveis;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-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Dor, coceira ou odor na área genital;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- </a:t>
            </a:r>
            <a:r>
              <a:rPr b="1" lang="en-US" sz="2400" spc="-1" strike="noStrike">
                <a:solidFill>
                  <a:srgbClr val="6b0094"/>
                </a:solidFill>
                <a:latin typeface="Arial"/>
                <a:ea typeface="Arial"/>
              </a:rPr>
              <a:t>Roupas rasgadas ou com manchas de sangue;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- Sangramento na região vaginal ou anal;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- </a:t>
            </a:r>
            <a:r>
              <a:rPr b="1" lang="en-US" sz="2400" spc="-1" strike="noStrike">
                <a:solidFill>
                  <a:srgbClr val="000080"/>
                </a:solidFill>
                <a:latin typeface="Arial"/>
                <a:ea typeface="Arial"/>
              </a:rPr>
              <a:t>Sêmen ao redor da boca, nas genitais ou roup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440000" y="3240000"/>
            <a:ext cx="7559640" cy="21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SEQUÊNCIAS NA INFÂNCIA DE CRIANÇAS E ADOLESCENTES VÍTIMAS DE VIOLÊNCIA SEXU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20720" y="0"/>
            <a:ext cx="8099280" cy="84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280099"/>
                </a:solidFill>
                <a:latin typeface="Arial"/>
                <a:ea typeface="Arial"/>
              </a:rPr>
              <a:t>CONSEQUÊNCIAS NA INFÂNCIA DE CRIANÇAS E ADOLESCENTES VÍTIMAS DE VIOLÊNCIA SEXUA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6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arente maturidade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Atitudes perversas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Aumentos das atividades Heterossexuais ou  Homossexuais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Busca constante de confirmação de afeto por parte dos adultos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Comportamento delinqüente impulsivo ou autodestrutivo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Culpa ou vergonha excessiva;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Depressão;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720720" y="1739880"/>
            <a:ext cx="7380360" cy="56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- Desenvolvimento precoce dos interesses e da independência do adolescente;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- Dificuldade em relação a contatos com adultos;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- Distúrbios da personalidade;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- Doenças sexualmente transmissíveis;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- Estágio infantil prolongado ou regredido;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- Inadequação referente às relações sociais;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- Perda da auto-estima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20720" y="3240000"/>
            <a:ext cx="25704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79640" y="8820000"/>
            <a:ext cx="179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00000" y="539640"/>
            <a:ext cx="882036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280099"/>
                </a:solidFill>
                <a:latin typeface="Arial"/>
                <a:ea typeface="Arial"/>
              </a:rPr>
              <a:t>CONSEQUÊNCIAS NA INFÂNCIA DE CRIANÇAS E ADOLESCENTES VÍTIMAS DE VIOLÊNCIA SEXUA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b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900000" y="539640"/>
            <a:ext cx="846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20720" y="360360"/>
            <a:ext cx="831204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4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280099"/>
                </a:solidFill>
                <a:latin typeface="Arial"/>
                <a:ea typeface="Arial"/>
              </a:rPr>
              <a:t>CONSEQUÊNCIAS NA INFÂNCIA DE CRIANÇAS E ADOLESCENTES VÍTIMAS DE VIOLÊNCIA SEXUA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11360" y="36972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1800360"/>
            <a:ext cx="8999640" cy="42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4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- Pessimismo;</a:t>
            </a:r>
            <a:br>
              <a:rPr sz="2200"/>
            </a:b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- </a:t>
            </a:r>
            <a:r>
              <a:rPr b="1" lang="en-US" sz="2200" spc="-1" strike="noStrike">
                <a:solidFill>
                  <a:srgbClr val="004a4a"/>
                </a:solidFill>
                <a:latin typeface="Arial"/>
                <a:ea typeface="Arial"/>
              </a:rPr>
              <a:t>Retardo do desenvolvimento mental e emocional;</a:t>
            </a:r>
            <a:br>
              <a:rPr sz="2200"/>
            </a:b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- Sintomas de nervosismo;</a:t>
            </a:r>
            <a:br>
              <a:rPr sz="2200"/>
            </a:b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- </a:t>
            </a:r>
            <a:r>
              <a:rPr b="1" lang="en-US" sz="2200" spc="-1" strike="noStrike">
                <a:solidFill>
                  <a:srgbClr val="280099"/>
                </a:solidFill>
                <a:latin typeface="Arial"/>
                <a:ea typeface="Arial"/>
              </a:rPr>
              <a:t>Tendência à fuga das atividades normais da </a:t>
            </a:r>
            <a:r>
              <a:rPr b="1" lang="en-US" sz="2200" spc="-1" strike="noStrike">
                <a:solidFill>
                  <a:srgbClr val="4700b8"/>
                </a:solidFill>
                <a:latin typeface="Arial"/>
                <a:ea typeface="Arial"/>
              </a:rPr>
              <a:t>infância.</a:t>
            </a:r>
            <a:br>
              <a:rPr sz="2200"/>
            </a:b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- Altos níveis de ansiedade;</a:t>
            </a:r>
            <a:br>
              <a:rPr sz="2200"/>
            </a:b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- </a:t>
            </a:r>
            <a:r>
              <a:rPr b="1" lang="en-US" sz="2200" spc="-1" strike="noStrike">
                <a:solidFill>
                  <a:srgbClr val="0084d1"/>
                </a:solidFill>
                <a:latin typeface="Arial"/>
                <a:ea typeface="Arial"/>
              </a:rPr>
              <a:t>Autoflagelação;</a:t>
            </a:r>
            <a:br>
              <a:rPr sz="2200"/>
            </a:b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- Choro sem causa aparente;</a:t>
            </a:r>
            <a:br>
              <a:rPr sz="2200"/>
            </a:b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- C</a:t>
            </a:r>
            <a:r>
              <a:rPr b="1" lang="en-US" sz="2200" spc="-1" strike="noStrike">
                <a:solidFill>
                  <a:srgbClr val="0000ff"/>
                </a:solidFill>
                <a:latin typeface="Arial"/>
                <a:ea typeface="Arial"/>
              </a:rPr>
              <a:t>omportamento muito agressivo, apático ou isol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1979640"/>
            <a:ext cx="32076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459640" y="4140360"/>
            <a:ext cx="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Ivonete</dc:creator>
  <dc:description/>
  <dc:language>en-US</dc:language>
  <cp:lastModifiedBy>Ivonete</cp:lastModifiedBy>
  <cp:revision>0</cp:revision>
  <dc:subject/>
  <dc:title/>
</cp:coreProperties>
</file>