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A9E0E2-48B4-42FC-B8D5-49E7E7A6FB0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1294-6D46-4FD2-B75A-5FEB65F84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AB2C-13DE-4A4A-983C-CB0A35B5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DC2-9B91-4809-A9D8-EB47C9F5C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E75-AA48-4EE3-9BCA-6FA31ACE3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AC7-59E0-487B-ABF8-8B86C6AFD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2467-24FC-443E-8B9B-27FBBC85D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3E55-01DC-40FD-8988-C64D3DF0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232C-8F71-4B0C-A8BD-C094D9377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34720"/>
            <a:ext cx="9067680" cy="64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72F9-B931-422B-8627-E88F58D2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9471-1535-4F03-8154-7245A98D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BEF-834C-47E1-9340-F1CD80C3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3E96-5C9E-49DD-939B-178DFD51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34720"/>
            <a:ext cx="9067680" cy="13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104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2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1E7BA-4866-49A1-86A6-7B142CB79F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079640" y="1440000"/>
            <a:ext cx="7199280" cy="47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IMBUI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apacitação para professore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900000" y="1260360"/>
            <a:ext cx="8099640" cy="40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VITIMAÇÃ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RIANÇAS VITIMADAS  SÃO AQUELAS QUE TEM  UMA ALTA PROBABILIDADE  DE SOFRER A VIOLAÇÃO DE SEUS DIREITOS – VIDA, SAÚDDE, ALIMENTAÇÃO, EDUCAÇÃO, LAZER..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ESSA VIOLAÇÃO SE FAZ  ATRAVÉS  DO PROCESSO DE VIOLENCIAA ESTRUTURAL DO NOSSO SISTEMA SÓCIO-ECONÔM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440000" y="900000"/>
            <a:ext cx="7019640" cy="60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ISCIPLINA ESCOLAR:  UM NOVO OLH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rt.</a:t>
            </a:r>
            <a:r>
              <a:rPr b="0" lang="pt-BR" sz="2200" spc="-1" strike="noStrike">
                <a:solidFill>
                  <a:srgbClr val="ff0000"/>
                </a:solidFill>
                <a:latin typeface="Arial"/>
              </a:rPr>
              <a:t> 18 É dever de todos velar pela dignidade da criança e do adolescente, pondo-os a salvo de qualquer tratamento desumano, violento, aterrorizante, vexatório ou constrangedor (estatuto da Criança e do Adolesc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o Estatuto da Criança e do Adolescente,  os  procedimentos educacionais relacionados às medidas  pedagógicas reeducativas previstas no regimento escolar devem ser revistos, observando o atendimento à integridade e à dignidade da criança e do adolescente, assim como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pt-BR" sz="2200" spc="-1" strike="noStrike" u="sng">
                <a:solidFill>
                  <a:srgbClr val="0066cc"/>
                </a:solidFill>
                <a:uFillTx/>
                <a:latin typeface="Arial"/>
              </a:rPr>
              <a:t>coloca-los  a salvo de toda a forma de negligência, discriminação, exploração, violência, crueldade e opressão”. Constituição Federal art. 22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260360" y="1800360"/>
            <a:ext cx="71992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</a:rPr>
              <a:t>Abuso sexu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b84747"/>
                </a:solidFill>
                <a:latin typeface="Arial"/>
              </a:rPr>
              <a:t>“ </a:t>
            </a:r>
            <a:r>
              <a:rPr b="1" lang="pt-BR" sz="4000" spc="-1" strike="noStrike">
                <a:solidFill>
                  <a:srgbClr val="b84747"/>
                </a:solidFill>
                <a:latin typeface="Arial"/>
              </a:rPr>
              <a:t>a  Lei punirá severamente o abuso, a violência e a exploração sexual da criança e do adolescente”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4000" spc="-1" strike="noStrike">
                <a:solidFill>
                  <a:srgbClr val="b84747"/>
                </a:solidFill>
                <a:latin typeface="Arial"/>
              </a:rPr>
              <a:t>Constituição Federal art. 27  </a:t>
            </a:r>
            <a:r>
              <a:rPr b="1" lang="pt-BR" sz="4000" spc="-1" strike="noStrike">
                <a:solidFill>
                  <a:srgbClr val="b84747"/>
                </a:solidFill>
                <a:latin typeface="Arial"/>
                <a:ea typeface="Arial"/>
              </a:rPr>
              <a:t>§ 4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600360" y="1800360"/>
            <a:ext cx="179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979640" y="1979640"/>
            <a:ext cx="6659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800360" y="900000"/>
            <a:ext cx="6300720" cy="58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 u="sng">
                <a:solidFill>
                  <a:srgbClr val="000000"/>
                </a:solidFill>
                <a:uFillTx/>
                <a:latin typeface="Arial"/>
              </a:rPr>
              <a:t>Violência sexual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3200" spc="-1" strike="noStrike">
                <a:solidFill>
                  <a:srgbClr val="0047ff"/>
                </a:solidFill>
                <a:latin typeface="Arial"/>
              </a:rPr>
              <a:t>to de Violência contra a liberdade sexual de crianças e adolescentes. O envolvimento de crianças  e adolescentes em atividade sexuais impróprias à sua idade cronológica, ou ao seu desenvolvimento psico-sexual e as quais não tem capacidade de compreender ou dar consentim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079640" y="1440000"/>
            <a:ext cx="80992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79640" y="1800360"/>
            <a:ext cx="774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260360" y="1658880"/>
            <a:ext cx="702000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t 245 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Estatuto da Criança e do Adolescente:  Deixar o Médico, professor  ou responsável por estabelecimento de atenção a saúde  e de ensino  fundamental, pré-escola ou creche, de comunicar à autoridade competente os casos que tenha conhecimento envolvendo suspeita ou confirmação  de maus tratos contra criança  ou adolesc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a: Multa de 3 a 20 salários de referencia, aplicando-se o dobro em caso de reincidênc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440000" y="1260360"/>
            <a:ext cx="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00360" y="1619280"/>
            <a:ext cx="7380000" cy="57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2323dc"/>
                </a:solidFill>
                <a:latin typeface="Arial"/>
              </a:rPr>
              <a:t>Define-se o abuso ou maus-tratos pela existência de um sujeito em condições superiores (idade, força, posição social ou econômica, inteligencia, autoridade) </a:t>
            </a:r>
            <a:r>
              <a:rPr b="1" lang="pt-BR" sz="2600" spc="-1" strike="noStrike">
                <a:solidFill>
                  <a:srgbClr val="ff0000"/>
                </a:solidFill>
                <a:latin typeface="Arial"/>
              </a:rPr>
              <a:t>que comete um dano físico, psicológico ou sexual, contrariamente à vontade da vítima ou por consentimento obtido a partir de indução ou sedução enganosa (Deslandes, 1994)</a:t>
            </a:r>
            <a:r>
              <a:rPr b="1" lang="pt-BR" sz="26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s maus-tratos  contra criança e  adolescentes podem ser praticados pela omissão,  pela   supressão ou pela transgressão  dos seus direitos, definidos por convenções legais ou normas cultur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00360" y="720720"/>
            <a:ext cx="684036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DEFINIÇÃO DE ABUSO OU MAUS-TRAT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39640" y="855720"/>
            <a:ext cx="7740720" cy="73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TIPOS DE  VIO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000" spc="-1" strike="noStrike">
                <a:solidFill>
                  <a:srgbClr val="2323dc"/>
                </a:solidFill>
                <a:latin typeface="Arial"/>
              </a:rPr>
              <a:t>FISICA: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Uso de força física de forma intencional, não acidental, praticada por  país, responsáveis, familiares ou pessoas próximas da criança ou adolescente, com  o objetivo de ferir, danificar ou destruir esta criança   ou adolescente, deixando ou não  marcas evide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 Black"/>
              </a:rPr>
              <a:t>VIOLÊNCIA SEXUAL</a:t>
            </a:r>
            <a:r>
              <a:rPr b="1" lang="pt-BR" sz="16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pt-BR" sz="13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“É TODO JOGO, PRÁTICA OU ATO SEXUAL ENVOLVENDO CRIANÇA OU ADOLESCENT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ode acontecer com ou sem emprego de força física com ou sem consentimento da vítima, através de cantadas obscenas, beijos e carícias erotizadas até a consumação do ato sexual, tendo como finalidade somente o prazer do violad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19280" y="2146320"/>
            <a:ext cx="684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0" y="2160720"/>
            <a:ext cx="1810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60360" y="1260360"/>
            <a:ext cx="8099640" cy="35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</a:rPr>
              <a:t>VIOLÊNCIA SEXUAL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da criança e do adolescente pode incluir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Comportamento ou comentários sugestivo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Exibicionismo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Exposição dos genitai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Masturbação;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Sexo oral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 Penetração vaginal ou anal, por dedo, pênis ou outro objeto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079640" y="1440000"/>
            <a:ext cx="8459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720720"/>
            <a:ext cx="95392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80000" y="90000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60720" y="1079640"/>
            <a:ext cx="63007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40000" y="1260360"/>
            <a:ext cx="1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0360"/>
            <a:ext cx="8999640" cy="29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700360" y="1768320"/>
            <a:ext cx="18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800360" y="1979640"/>
            <a:ext cx="71992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9280" y="130320"/>
            <a:ext cx="9360000" cy="81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VITIMIZAÇÃ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  <a:ea typeface="Arial"/>
              </a:rPr>
              <a:t>Segundo Azevedo e Guerra (1989) a Violação inerente às relações interpessoais adulto – criança é considerada de VITIMIZAÇÃO. Pressupõe enquanto ação ou omissão de um adulto, criando danos físicos e / ou psicológicos na crianç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1800" spc="-1" strike="noStrike" u="sng">
                <a:solidFill>
                  <a:srgbClr val="0000ff"/>
                </a:solidFill>
                <a:uFillTx/>
                <a:latin typeface="Arial"/>
              </a:rPr>
              <a:t>A vitimização aprisiona a vontade e o desejo da criança, submetendo ao poder do adulto, coagindo a satisfazer seus interesses, expectativas e paixõe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5e11a6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5e11a6"/>
                </a:solidFill>
                <a:latin typeface="Times New Roman"/>
              </a:rPr>
              <a:t>Ele” exige que a vítima seja “cúmplice”, num “PACTO DE SILÊNCIO”. A vítima passa a viver sob o signo do MEDO – Medo da coação e da revel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vitimização não é um fenômeno isolado, mas um processo que se prolonga por anos, onde a vítima passa a viver uma situação típica de um ESTADO DE SÍTIO, onde sua liberdade é limitada, cortada, e só será resgatada recuperando o poder da própria palavra, ou seja, tornando público a violência da qual foi ou é vít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REFERÊNCIAS BIBLIOGRÁF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ZEVEDO M. A &amp; GUERRA V. N. A, (Org.)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rianças vitimizad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a síndrome do pequeno poder. São Paulo: Iglu.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vonete</dc:creator>
  <dc:description/>
  <dc:language>en-US</dc:language>
  <cp:lastModifiedBy>Ivonete</cp:lastModifiedBy>
  <cp:revision>0</cp:revision>
  <dc:subject/>
  <dc:title/>
</cp:coreProperties>
</file>