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4B2-4618-4C6A-9469-6E24295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8B5-2277-4956-B188-0F5341A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1DD-CBE6-4329-97BF-F29B3B36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C96-67A0-4E8A-98AC-D375466B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1D9A-FBAC-4255-BB8B-DBE2EB6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575-D429-4D09-BD90-FCA95015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7D48-F4F6-4069-89A8-4ED60D5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7003-A2E2-43B3-96E6-46868E77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F1F-0F37-4785-BCF8-84E956A6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C93A-68AF-46C6-BBD2-D1CFF627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DB4-BF82-4FED-B972-F625FCD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BA6-70E9-4514-AF85-DDD84E00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0C4-3709-4055-A0EE-7CDF216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3A6-9FEA-4E79-8A97-428B602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6F92-1C94-4694-AB3E-E74A321D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907-53E1-4C95-B20B-B2291E71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BFF-84A0-4672-A4B6-A908AF30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C9F-D55A-4C5D-A04C-608983D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4D6-E42F-4986-8B78-495D4B21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249-C57A-48BB-955D-D071C4D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829-0D21-4321-829B-FAAFECA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89D-C8C8-4CEF-9398-A620F57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CC0-41AA-4BAF-AE91-D452932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63-9A03-405A-B593-27AFBA1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5B4-BCBC-4089-84EA-9CF6A872177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714-E9AB-4A11-AF68-59C7589081D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TEIRO PARA ELABORAÇÃO DE PROJE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PECTOS FUNDAMENTAIS PARA FORMULAÇÃO DE PROPO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4. JUSTIFIC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justificativa deve apresentar respostas a questão POR QUE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 que executar o projeto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 que ele deve ser aprovado e implementado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gumas perguntas que podem ajudar a responder esta quest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 a importância desse problema/questão para a comunida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em outros projetos semelhantes sendo desenvolvidos nessa região ou nessa temática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 a possível relação e atividades semelhantes ou complementares entre eles e o projeto proposto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is os benefícios econômicos, sociais e ambientais a serem alcançados pela comunidade e os resultados para a região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. 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especificação do objetivo responde as questõ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A QUE? 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A QUEM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ormulação do objetivo de um projeto pode considerar de alguma maneira a reformulação futura, positiva das atuais condições negativas do problem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s objetivos devem ser formulados sempre como a solução de um problema e o aproveitamento de uma oportunidad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. 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ao produto final que o projeto quer atingir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 expressar o que se quer alcançar na região a longo prazo, ultrapassando inclusive o tempo de duração do projeto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projeto não pode ser visto como fim em si mesmo, mas como um meio para alcançar um fim mai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PECÍFICOS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às ações que se propõe a executar dentro de um determinado período de tempo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-371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mbém podem ser chamados de resultados esperados e devem se realizar até o final do projet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ão os resultados parciais a serem atingidos e, neste caso, podem e devem ser bastante concretos expressando quantidades e qualidades dos objetivos, ou QUANTO será feito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efinição de metas com elementos quantitativos e qualitativos é conveniente para avaliar os avanç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GUNTA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que queremo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a que o queremos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ando o queremos?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ME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ME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MPORTA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do a meta se refere a um determinado setor da população ou a um determinado tipo de organização, devemos descrevê-los adequadamente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exemplo: informar a quantidade de pessoas que queremos atingir, o sexo, a idade e outras informações que esclareçam a quem estamos nos referindo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da objetivo específico deve ter uma ou mais met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o melhor dimensionada estiver uma meta, mais fácil será definir os indicadores que permitirão evidenciar seu alcanc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7. PÚBLICO AL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item deve ser preenchido somente se  a abrangência e o número de pessoas contempladas não estejam descritos nas META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har o número de pessoas que será beneficiado com o projeto de forma direta ou indireta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ormar qual a área de abrangência: cidades, bairros, regiões, etc.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. METOD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etodologia deve corresponder às seguintes questõ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o projeto vai atingir seus objetivo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começarão as atividade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serão coordenadas e gerenciadas as atividade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e em que momentos haverá a participação e envolvimento direto do grupo social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. METOD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ever o tipo de atuação a ser desenvolvida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squisa, diagnóstico, intervenção ou outras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e procedimentos (métodos, técnicas e instrumentos, etc.) serão adotados e como será sua avaliação e divulgação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importante pesquisar metodologias que foram empregadas em projetos semelhantes, verificando sua aplicabilidade e deficiênci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sempre oportuno mencionar as referências bibliográfic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. METOD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ma boa metodologia prevê três pontos fundamentai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gestão participativ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acompanhamento técnico sistemático e continuado; 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desenvolvimento de ações de disseminação de informações e de conhecimentos entre a população envolvida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9. EQUIPE DE TRABALH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T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ever quem irá executar cada etapa do proje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RET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m fará o acompanhamento do proje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m e de que forma o projeto será monitorad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“ 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jeto é um empreendimento planejado que consiste num conjunto de atividades inter-relacionadas e coordenadas, com o fim de alcançar objetivos específicos dentro dos limites de um orçamento e de um período de tempo dados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NU, 1984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pu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HONW, M., SCHAFFER, W.B., 1999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0. PARCE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nsas ao longo do projeto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alhar os tipos de parcerias e o papel que cada parceiro represent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mentâne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ear as contribuições pontuais e aquelas que são esporádic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. CONTRAPART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nanceir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ormar os recursos que serão destinados por determinada entidade ou órgão público para a execução do projeto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dicar a fonte de onde sairão os recurso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áquinas e equipament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 e quantidade de máquinas; valor da hora trabalhada, ect.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stalações físicas: condições físicas da instalação; custo de locação dia/hora/mês, infra-estrutura que oferec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cursos human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sto da hora de trabalho; detalhes do trabalho que será executado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2. CRONOGRA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cronograma é a disposição gráfica das épocas em que as atividades vão se dar e permite uma rápida visualização da seqüência em que devem acontec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3. ORÇ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orçamento é um resumo ou cronograma financeiro do projeto, no qual se indica como, o que e quando serão gastos os recursos e de que fontes virão os recurs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ideal é detalhar os custos por grupos de contas, como por exempl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 de consumo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stos administrativos, equipe permanente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iços de terceiros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árias e hospedagem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ículos, máquinas e equipamentos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ras e instalações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4. ANEX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RIAIS ILUSTRATIV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het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tas de apoi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as, fotos, dados estatísticos, tabelas, recortes de jornal, etc.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ve currículo dos responsáveis pelo proje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ros documentos oficia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. AVALI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zer breve relatório das condições passada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rever as oportunidades e prioridades do presente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ar as expectativas e desejos futur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icar indicadores que possam medir as mudanças proporcionadas pelo projeto executad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itação de tempo: todo projeto tem um início e um fim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s definidos e tangívei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projeto somente estará concluído quando seu produto ou serviço for produzid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olve um conjunto determinado de recursos humanos, financeiros e materiais que devem ser otimizados para atingir os objetivos dentro do prazo estipulado;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NTO DE PART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gumas perguntas norteadoras para formular uma propost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que pretende fazer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a importância do projeto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m o desenvolverá (principais envolvidos e suas funções)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será realizado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e onde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o custará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o será divulg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TAPAS DO PRO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A E TÍTUL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SENTAÇÃ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EXTO - DIAGNÓSTIC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USTIFICATIV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TIVOS: Gerais e Específic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ÚBLICO ALV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ODOLOGI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QUIPE DE TRABALH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CERI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APARTID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ONOGRAM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ÇAMEN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EX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LIAÇÃ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 TEMA E TÍTU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Tema do projeto deve estar baseado em uma realidade detectada ou vivenciada pelo proponente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e envolver aspectos sociais, econômicos, culturais, entre outro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Título parte do tema é o “cartão de apresentação” do projet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 dar uma idéia clara e concisa do(s) objetivo(s) do proje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 APRESENT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apresentação ou descrição é uma síntese do projet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eçar com um histórico do projeto (da ação ou atividade a ser realizada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rever como surgiu a idéia de realizá-lo, qual a sua importância, número de pessoas envolvidas, principais objetivos, a qual público se destina e, finalmente, em que período e local ocorrerá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 CONTEXTO - DIAGNÓS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 o contexto em que está inserido o proje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ão se baseia em suposiçõ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á diretamente relacionado com a justificativa do proje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 ficar claro que o projeto é uma resposta a um determinado problema percebido e identificado pela comunidade ou pela entidade proponen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ever com detalhes a região onde vai ser implantado o projeto, o diagnóstico do problema que o projeto se propõe a solucionar, a descrição dos antecedentes do problema, relatando os esforços já realizados ou em curso para resolvê-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 resumo: realizar um diagnóstico em torno do tema propos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4. JUSTIFIC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lém de explicitar as razões pelas quais se tomou a iniciativa de realizar o projeto proposto, é preciso enfatizar quais circunstâncias favorecem a sua execução, o justificam e o diferenciam, e também quais suas contribuições para o desenvolvimento cultural do público ao qual se destina ou da localidade/região na qual se inse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01:22Z</dcterms:created>
  <dc:creator>Marilei</dc:creator>
  <dc:description/>
  <dc:language>en-US</dc:language>
  <cp:lastModifiedBy>Janilde Lenzi</cp:lastModifiedBy>
  <dcterms:modified xsi:type="dcterms:W3CDTF">2009-06-16T17:49:15Z</dcterms:modified>
  <cp:revision>28</cp:revision>
  <dc:subject/>
  <dc:title>ROTEIRO PARA ELABORAÇÃO DE PROJETOS</dc:title>
</cp:coreProperties>
</file>