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ACE6-2BA3-44DD-B410-6B063470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D870-A842-4D9D-A3BB-A2C85E0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7882-5DF1-4A37-A25B-AAFA0C21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6857-5562-4B3E-AD81-745DB199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D984-E286-443E-B1E0-C51A7651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68D8-DC82-422A-8B5D-DA0B8E9A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C6B-334E-4F93-B3FC-68429B5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C39B-AF91-44BA-A0B4-AE953BA8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134-1FB0-43A2-A7AE-A80C9061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83D2-828F-437F-B8D8-AF259BBC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4AFC-756D-4B88-B343-AF433224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04E7-1D51-48DB-BF19-DEE45387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9E60-7DD8-49AB-B43E-4397004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46AA-A8F3-4F89-9088-27B1A51B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A1E-B835-4BEE-99DC-4A917458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2C07-5140-4C98-852A-E78CFFE9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C994-8CB7-4A44-AA66-485983C5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03D6-6BC7-4537-BD9F-CFD4012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2350-35A6-4AD4-8A8D-96CFA16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A5DC-D97A-4D84-AC40-74FB3B9F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7525-E010-45F4-9373-637B698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E649-54F4-4057-BC99-29D16F9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633B-4DFC-4B13-B18B-7FEB865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1653-A40A-425C-AED7-B34C2169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0289-68E3-4900-89F0-4BB85FDDE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BA10-330B-4DF5-BCC0-302358AFA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39280" y="1125000"/>
            <a:ext cx="7704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ÇÃO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odologia e Estratégias de Elaboração do Plano Local de Habitação de Interesse Social – PLH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 de agosto de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AL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ditório da Ama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O ALVO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quipes municipais responsáveis pela elaboração do PLH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U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Das Competências e Atribuições na Elaboração do PL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Metodologia de elaboração do PL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Diagnóstico do Setor Habit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1.  Discussão dos conceitos de déficit habitacion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2. Metodologia a ser adotada para a coleta de dados e a quantificação e qualificação da demanda habit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851280" y="5734080"/>
            <a:ext cx="1449360" cy="8650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732720" y="5661000"/>
            <a:ext cx="1766880" cy="9763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508720" y="5734080"/>
            <a:ext cx="90648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objetivo principal desta etapa é mobilizar e estruturar o município para a elaboração do PLHIS. Os objetivos específicos desta fase sã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3852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ulgar o propósito do PLHIS nos municípi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852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r e articular parceiros municipais representativos e instituições que apóiem o process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852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ir o Conselho e o Fundo Municipal de Habitação de Interesse Soci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8520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ovar a metodologia a ser utilizada no processo de elaboração do PL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8520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ar as equipes responsáveis pela implementação do PLHIS no nível muni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 final desta etapa espera-se ter alcançado os seguintes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e municipal instituída e capacitad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lho e Fundo Municipal de Habitação de Interesse Social instituído e em funcionamen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ta de elaboração do PLHIS aprovada e divulg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8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gere-se que a equipe municipal seja multidisciplinar e tenha nível superior nas áreas de: Arquitetura e Urbanismo; Direito; Serviço Social, Sociologia, Psicologia ou Pedagogia, além de outros profissionais, conforme a particularidade do município: Geólogo, Geógrafo, Engenheiro Ambiental, Engenheiros Civil, Engenheiro Sanitarista, entre ou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 definição das estratégias de comunicação, mobilização e participação da população na elaboração do PLHIS devem constar quais serão as ações realizadas (sugere-se que o município estabeleça o número de reuniões e capacitações necessárias e a forma de realização, considerando sua realidade geográfica e características sociais e defina a forma como pretende apresentar os produtos e resultados à população: número de reuniões e/ou audiências públicas, setorização das mesmas, e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8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 definição dos procedimentos adotados para a execução das etapas, definir, entre outras coisas, os tipos de documentos a serem produzidos na etapa de diagnóstico, tais como tabelas, gráficos, relatórios, compilação e cruzamento de dados, fotos, atas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pecificar a forma mais adequada para o município dar publicidade e divulgação das etapas de elaboração do Plano (site, folders, outdoors, publicações, radio e jornal local, agentes saúde PSF, bilhetes nas escolas,et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relatórios de comprovação dos eventos realizados deverão conter, ao menos: material relativo à divulgação (convites, chamadas de rádio, jornal, etc), material apresentado no evento, fotos, lista de presenças, atas, impressões e resultados do mes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8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ere-se que, uma vez aprovada a proposta metodológica pela equipe municipal e pelo Conselho de Habitação de Interesse Social, seja realizado um evento de Lançamento e Divulgação do Plano, com a abertura oficial do início dos trabalhos de elaboração do PLHIS, apresentação da equipe técnica municipal, do Conselho, do cronograma de trabalho e uma apresentação sucinta sobre o PLHIS. Este evento deve ser amplamente divulgado (rádio, televisão, jornais e interne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to final Etapa 1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posta Metodológica, com todos os conteúdos descritos e relatório contendo memória e material comprobatório da participação popular, com lista de presença do evento e fo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ção desta etapa: 60 d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fdef6"/>
                </a:solidFill>
                <a:latin typeface="Arial"/>
              </a:rPr>
              <a:t>2.2.2. ETAPA 2 - DIAGNÓSTICO DO SETOR HABITACIONAL</a:t>
            </a: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objetivo da Etapa 2 é sistematizar as informações da realidade habitacional e construir de uma forma participativa, o diagnóstico habitacional muni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a elaboração do Diagnóstico do Setor Habitacional, deverão ser realizados levantamentos de dados e informações técnicas sob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28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erção regional e caracterização municip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área, população urbana e rural, inserção micro e macro regional, relação com os municípios vizinhos (especialmente no que tange à questão fundiária), principais atividades econômicas entre outras informaçõ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28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ores sociais e suas capac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evantamento de informações sobre as formas de organização dos diversos grupos sociais que atuam no setor habitacional e sua capacidade de atu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fdef6"/>
                </a:solidFill>
                <a:latin typeface="Arial"/>
              </a:rPr>
              <a:t>2.2.2. ETAPA 2 - DIAGNÓSTICO DO SETOR HABITACIONAL</a:t>
            </a:r>
            <a:br>
              <a:rPr sz="24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38052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cessidades habitaciona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racterizar o contingente populacional que demanda investimentos habitacionais, considerando composição familiar, gênero, idade, nível de instrução, composição do domicílio, renda familiar, ocupação principal e secundária dos membros maiores de idade, entre outras. Quantificar e qualificar o déficit habitacional municipal (por incremento ou reposição, pela inadequação habitacional e pela demanda futura). Caracterizar os assentamentos precários existentes (favelas e afin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8052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dições institucionais e administrativ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e de aplicação de recursos próprios para melhorias das condições habitacionais; identificação de recursos humanos tecnicamente qualificados e equipamentos para realização de serviços de infra-estrutura urban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fdef6"/>
                </a:solidFill>
                <a:latin typeface="Arial"/>
              </a:rPr>
              <a:t>2.2.2. ETAPA 2 - DIAGNÓSTICO DO SETOR HABITACIONAL</a:t>
            </a:r>
            <a:br>
              <a:rPr sz="24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40284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ferta habitacion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dentificar a oferta e disponibilidade do solo urbanizado, principalmente para a população de baixa renda e especialmente no que se refere às Zonas Especiais de Interesse Social – ZEIS; identificar as diferentes modalidades de construção ou reforma que contribuem para aumentar a oferta de habitações de interesse social; identificar a produção de moradias realizada pela própria população; identificar a disponibilidade de terras e infra-estrutura para produção de novas unidades habitacionais de uma forma g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284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cursos para financiamen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entificar as fontes de recursos existentes e potenciais para financiamento do setor habitacional, os agentes envolvidos e as responsabilidades de cada 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fdef6"/>
                </a:solidFill>
                <a:latin typeface="Arial"/>
              </a:rPr>
              <a:t>2.2.2. ETAPA 2 - DIAGNÓSTICO DO SETOR HABITACIONAL</a:t>
            </a:r>
            <a:br>
              <a:rPr sz="24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4114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os regulatórios e lega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dentificar os marcos regulatórios institucionais e legais existentes, relativos à questão habitacional, relatando a sua eficácia e apontando as adequações necessárias à realidade existente. Apontar ainda a necessidade de elaboração de novas legislações na perspectiva do direito à cidade e da garantia do acesso à moradia digna especialmente para a população de baixa rend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114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as e açõ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entificar os programas habitacionais financiados ou executados diretamente pelas administrações locais, pelos demais entes federativos ou por agências bilaterais (benefícios já realizados e a previsão de atendimento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fdef6"/>
                </a:solidFill>
                <a:latin typeface="Arial"/>
              </a:rPr>
              <a:t>2.2.2. ETAPA 2 - DIAGNÓSTICO DO SETOR HABITACIONAL</a:t>
            </a: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 os dados e informações em mãos, a equipe técnica municipal deverá fazer a sistematização das informações levantadas e a compilação de dados e discuti-las através de reuniões com o Conselho Municipal de Habitação de Interesse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fechamento desta etapa propõe-se a realização de uma Audiência Pública de apresentação dos resultados e produtos finais para validação do diagnóstico com a Comun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to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iagnóstico Habitacional com todos os conteúdos descritos. Relatório contendo memória e material comprobatório da participação popular, com lista de presença e fotos das reuniões e ev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ção desta etapa: 90 d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1. DAS COMPETÊNCIAS E ATRIBUIÇÕES NA ELABORAÇÃO DO PLHIS</a:t>
            </a:r>
            <a:br>
              <a:rPr sz="18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 AMAV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borar a proposta metodológica para elaboração do PL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ar e realizar reuniões de discussão e socialização com representantes das equipes municipais para a execução da metodologia propos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orar as equipes municipais na execução das atividades previstas, em todas as etapas do processo de elaboração do PL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borar levantamentos e estudos técnicos de apoio ao processo de elaboração do Pla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xiliar no processo de divulgação do PL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é a etapa de Elaboração do Plano de Ação. Para cada problema identificado durante a Etapa 2, deverão ser apresentados os seguintes itens, os quais devem ser discutidos e pactuados com a socieda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72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retriz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diretrizes são as orientações gerais e específicas que devem nortear o PLHIS, levando-se em consideração a Política Nacional de Habitação, a política habitacional local, o Plano Diretor Participativo, os eixos de desenvolvimento que impactem a questão habitacional e urbana e os princípios democrático de participaçã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72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tivos, Metas e Indica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s objetivos devem expressar os resultados que se pretende alcançar, ou seja, a situação que deve ser modificada. Deve ser expresso de modo conciso, evitando a generalidade, dando a idéia do que se pretende de forma cla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 é a quantidade de produto a ser ofertado por programa e ação num determinado período de tempo, constituindo-se no resultado intermediário que contribui para o alcance do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indicadores são instrumentos capazes de medir o desempenho dos programas. Devem ser passíveis de aferição e coerentes com o objetivo estabelecido, serem sensíveis à contribuição das principais ações e apuráveis em tempo oportuno. Permitem, conforme o caso, mensurar a eficácia, eficiência ou efetividade alcançada com a execução do progr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3672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nhas Programátic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s programas resultam da identificação das necessidades levantadas durante a Etapa 2 e das diretrizes e objetivos definidos anteriormente. Articulam um conjunto de ações, orçamentárias e não-orçamentárias, necessárias e suficientes para enfrentar um problema, solucioná-lo ou enfrentar suas caus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72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programas que comporão o PLHIS devem estar em consonância com os instrumentos de gestão orçamentário-financeiro (PPA/LDO/LOA) dos governos loc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72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programas e ações a serem abordados no PLHIS deverão ser definido e classificados, em ordem de importância em discussão com a sociedade civil, tais como: produção habitacional e de loteamentos adequados, urbanização e regularização fundiária de assentamentos precários e informais, destinação de áreas urbanas à habitação de interesse social e outr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24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dentificação das ações prioritárias deverá ser feita considerando o porte e a complexidade das questões urbanas locais, focando em ações de caráter estruturante para a solução das questões de maior gravidade soci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4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 considerar também a mitigação de impactos negativos causados por investimentos em infra-estrutura de grande e médio portes que tenham conseqüências sobre o setor habitacional (hidrelétricas, plantas industriais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4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rá ser considerado, ainda, o tempo previsto para implementação das ações previstas no PLHIS (10, 20 anos ou mais) em conformidade com a capacidade de investimento no setor  (Horizonte temp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40716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cursos e Fontes de Financiament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rão ser especificados os recursos necessários à consecução de cada progra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estimar recursos e fontes por programa ou ação, deverão ser verificados valores médios de investimento alocados em programas habitacionais nos anos anteriores e a porcentagem deste investimento em relação ao total do orçamento loc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obter recursos suficientes para executar o PLHIS, é necessário verificar capacidade de pagamento e endividamento local, possibilidade de ampliação da captação de recursos financeiros e definição da forma de gestão desses recurs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m ser considerados na composição de investimentos, além das obras, elaboração de projetos, aquisição de terreno, contratação de consultoria, trabalho social, revisão de legislação e outros ite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metas, recursos e fontes devem ser expressas em quadro resumo por programa e ação num determinado período, a ser definido em conformidade com a capacidade de investimento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nitoramento, Avaliação e Revisã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monitoramento é uma atividade gerencial contínua que se realiza durante o período de execução e operação dos programas e ações. O PLHIS deverá prever a forma de monitoramento das fases dos programas e ações, identificando para cada uma o resultado obtido, o prazo, o responsável, a situação e as providên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avaliação deve ser sistemática e, de preferência anual, e conter abordagem quanto à concepção, implementação e resultados dos programas e ações do PLHIS, apontando para a necessidade de revisão, se for o ca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3. ETAPA 3 – ESTRATÉGIAS DE AÇÃO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a elaboração das estratégias de ação propõem-se a realização de Reuniões de discussão com o Conselho Municipal. A formulação do documento final, a elaboração de minuta de Projeto de lei relativo ao Plano e a realização de Audiência Pública de apresentação dos resultados e produtos finais para validação com a comunidade são de competência da equipe muni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to final Etapa 03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égias de ação contendo todos os conteúdos previstos na etapa; Relatório contendo material comprobatório da participação popular; Minuta de projeto de lei relativo ao Plano para encaminhamento para a Câmara de Vere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ção desta etapa: 150 di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CRONOGRAMA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8567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DESCRIÇÃO DAS ATIVIDADE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12192" t="7664" r="9204" b="37732"/>
          <a:stretch/>
        </p:blipFill>
        <p:spPr>
          <a:xfrm>
            <a:off x="1476360" y="836640"/>
            <a:ext cx="612000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1. DAS COMPETÊNCIAS E ATRIBUIÇÕES NA ELABORAÇÃO DO PLHIS</a:t>
            </a:r>
            <a:br>
              <a:rPr sz="18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os Municíp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ar às equipes municipais e os membros do Conselho Municipal de Habitação de Interesse Soci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r os diferentes segmentos da sociedade para a construção do Pla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r levantamento de informações que possibilitem a elaboração do diagnóstico habitacional do municípi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r as reuniões com a comunidade utilizando metodologia apropriada a realidade local e com linguagem acessí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nir os resultados e produtos de cada etapa e fazer a compilação de dados e sistematização dos resultad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sentar os resultados de cada etapa a sociedade através de audiência pública, reuniões e canais de comunicaçã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DESCRIÇÃO DAS ATIVIDADE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rcRect l="12311" t="8674" r="10786" b="40234"/>
          <a:stretch/>
        </p:blipFill>
        <p:spPr>
          <a:xfrm>
            <a:off x="1476360" y="766800"/>
            <a:ext cx="648036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DESCRIÇÃO DAS ATIVIDADE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11482" t="10436" r="9928" b="37486"/>
          <a:stretch/>
        </p:blipFill>
        <p:spPr>
          <a:xfrm>
            <a:off x="1403280" y="765000"/>
            <a:ext cx="64087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1. Conceitos de Déficit Habitacion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ndo o Ministério das Cidades, o diagnóstico deve quantificar e qualificar as necessidades habitacionais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por incremento ou reposição, pela inadequação habitacional e pela demanda futu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e identificar os limites e potencialidades do quadro institucional e financeiro existente. Caracterizar o contingente populacional que demanda investimentos habitacionais e identificar as modalidades adequadas a serem ofertadas (terra urbanizada adequada, novas construções, melhorias habitacionais, urbanização, entre outras formas de acesso a moradia dign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a elaboração do diagnóstico do setor habitacional, inicialmente deverão ser definidos alguns conceitos, em especial de déficit habitacional, para que se possam compilar dados e informações técn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Conceitos utilizados pela Fundação João Pinhei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Déficit Habitacional ou Déficit Quantitativ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nsidera-se na composição do déficit habitacional a necessidade de produção de novas habitações devido a parte do estoque de domicílios não oferecer as condições básicas de uma moradia ou à existência de famílias que comprometem excessivamente sua renda com aluguel. A esses conceitos, somamos também a existência de domicílios em assentamentos precários que necessitam ser removidos por risco ou para desadensam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ções nas quais os domicílios não oferecem as condições básicas de morad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94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micílios Rústico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ão aqueles predominantemente “construídos” com material improvisado e devem ser repostos (reconstruídos), seja por que não apresentam paredes de alvenaria ou madeira aparelhada, seja porque representam desconforto e riscos de contaminação por doenças e insalubr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94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micílios improvisado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ão locais utilizados como moradia tendo sido construídos com outra finalidade, denotando necessidade de novas habitações. Exemplos: caixas de papelão, vãos de pontes, carcaças de veícu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ômodos alugados ou ced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amílias que moram em quartos ou cômodos alugados ou cedidos usando de forma comum áreas de acesso e equipamentos sanitários, com ausência de privac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amílias convivent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is de uma família composta por pelo menos duas pessoas (famílias conviventes secundárias) residindo no mesmo domicílio da família considerada “princip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o a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ônus excessivo com alugu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nsideram-se as famílias com renda familiar de até três salários mínimos, que comprometem 30% ou mais de sua renda com pagamento de alug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anda Demográfic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necessidade de construção de novas unidades para atender às novas famílias que venham a se formar e precisem de novas moradias, em função do crescimento populacional e das mudanças nos arranjos familiares (Definir horizonte tempor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adequação ou Déficit Qualita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necessidade de melhoria de unidades habitacionais que apresentem certo tipo de carências, entre os quais se identificam a carência de infra-estrutura, o adensamento excessivo e a inadequação fundiária. Compõem esse déficit os domicílios nas seguintes situaçõ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nsidade excess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rresponde a domicílios com mais de dois moradores por cômodo servindo de dormitório (o que inclui quartos e sala), excluindo-se as famílias conviventes, já consideradas para cálculo do défic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adequação fundiária urba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rresponde a famílias que declaram ser proprietárias da edificação, mas não do terreno em que residem, correspondendo a situações de ocupação de ter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ência de serviços de infra-estrutura bás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omicílios sem acesso a um ou mais dos seguintes serviços: energia elétrica; abastecimento de água por rede com canalização interna; esgotamento sanitário por fossa séptica ou por rede; coleta de lixo direta ou indir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existência de unidade sanitária domiciliar inter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rresponde a famílias que não dispõem de acesso a sanitários ou banheiros no interior de suas morad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. Metodologia a ser adotada para a coleta de dados e a quantificação e qualificação da demanda habit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ntes de coleta de dados suger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ação João Pinheiro: déficit habitacional no Brasi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il socioeconômico municipal (realizado recentemente em parceria com a AMAVI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o Diretor Participativo do municípi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de Informação da Atenção Básica – SIAB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de Vigilância Alimentar e Nutricional – SISVA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0716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stro Único dos Programas Sociais do Governo Federal utilizado pelo Programa Bolsa Famíl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39852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BGE: Censo Demográfico: assentamentos subnormais subestimado (complementar com dados locai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9852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Nacional por Amostra de Domicílio – PNAD (IB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9852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Orçamentos Familiares – PO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9852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ério das Cidades: Sistema Nacional de Informações sobre Saneamento – S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9852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técnicos, gerenciais, administrativos, financeiros e de planejamento municipal (órgão municipal de Saúde, Vigilância Sanitária, Planejamento e Obra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9852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científicos sobre a realidade municipal produzidos no âmbito das instituições de ensino, prefeitura e órgãos do estad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2- METODOLOGIA DE ELABORAÇÃO D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2.1. Introdu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 processo de elaboração e gestão do Plano Local de Habitação de Interesse Social – PLHIS sugerido pelo Ministério das Cidades é o seguin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paração das equipes técnicas municipa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iação e instituição do Conselho e do Fundo Gestor do PLH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vantamento de informaçõ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bilização da socied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ussão e elaboração da Proposta Metodológic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ussão e elaboração do Diagnóstic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ussão e elaboração das Estratégias de 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rovação do PLH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amento e avali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visões periód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3. DIAGNÓSTICO DO SETOR HABITACIONAL</a:t>
            </a:r>
            <a:br>
              <a:rPr sz="40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icação de questionário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ção de reuniões com a comunidade identificando-se os problemas e possíveis soluções para a questão habitacional muni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2- METODOLOGIA DE ELABORAÇÃO D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metodologia adotada para a elaboração do Plano deve prever ações que objetivem promover a participação da sociedade civil no processo de construção do Pla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berá ao município definir como se dará a discussão e pactuação das etapas que compõem o PLHIS com a sociedade, podendo utilizar para tanto, as instâncias de participação já constituíd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de fundamental importância a discussão e pactuação das etapas de elaboração do PLHIS com o Conselho Gestor do Fundo Local de Habitação de Interesse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2- METODOLOGIA DE ELABORAÇÃO D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Estrutura Básica do Plano Municipal de Habitação sugerida pelo Ministério das Cidades é a segui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óstico Habitacion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ípios e diretrizes orientador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, metas e indicado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has Programátic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e fontes de financiamen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amento, Avaliação e Revis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def6"/>
                </a:solidFill>
                <a:uFillTx/>
                <a:latin typeface="Arial"/>
              </a:rPr>
              <a:t>2.2. DAS ETAPAS DE ELABORAÇÃO DO PLANO LOCAL DE HABITAÇÃO DE INTERESSE SOCIAL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a elaboração do PLHIS em si, são sugeridas 3 etap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apa 1 – Proposta Metodológic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apa 2 – Diagnóstico do Setor Habitacion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apa 3 – Estratégias de 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 cada etapa detalhada a seguir, se prevê como resultado, um produto específico, caracterizando o PLHIS o conjunto dos produtos das três etap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ta-se da fase inicial estruturadora das duas etapas posteriores, norteando os procedimentos a serem adotados em cada uma de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ta Metodológica deverá con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estrutura de coordenação e organização dos trabalhos para elaboração do PL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tribuições e responsabilidades da equipe de trabalho municip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procedimentos para a execução das etapas e produtos do PL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2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estratégia de comunicação, mobilização e participação da população, com a identificação dos diferentes ato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.2.1. ETAPA 1 – PROPOSTA METODOLÓGICA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formas de dar publicidade ao início e ao término dos trabalhos e os mecanismos de participação popular e de acesso às informaçõ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cronograma de eventos de discussão com a socieda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prazos estimados para as três etapas e produtos do PLHIS;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rma de articulação com outros programas e aç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19:09Z</dcterms:created>
  <dc:creator>AMAVI</dc:creator>
  <dc:description/>
  <dc:language>en-US</dc:language>
  <cp:lastModifiedBy>AMAVI</cp:lastModifiedBy>
  <dcterms:modified xsi:type="dcterms:W3CDTF">2009-08-05T12:36:58Z</dcterms:modified>
  <cp:revision>16</cp:revision>
  <dc:subject/>
  <dc:title>Slide 1</dc:title>
</cp:coreProperties>
</file>