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B39-3266-4E9C-9994-C168B8B1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90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10C-34AB-4E40-B70B-1F0CABC5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190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016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645-DE79-49B9-BA63-5DCAB71F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70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46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190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70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46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923E-BD10-458C-A760-CAF3FB0A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90A6-6F36-4BC7-9E41-13D3D39D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1AC5-35C0-42B8-9516-D369FBB2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3763-A1A3-4DDE-A24B-4F57B923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6792-0BD9-473D-8BE0-CE5A94FD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A0EE-235E-4D1E-8713-B8C00823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AD2E-E6B2-41B8-B83C-F6A46C02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190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6C16-EAB6-4CC9-AB26-BF97D607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1228-6D01-4885-ACEC-FB917487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016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B495-5630-4B0A-A600-8F7123B8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190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88C2-6518-4845-BD5C-3FFBB1AE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190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7854-DF50-4116-8B00-DAF0DA8B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190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016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9163-6233-4DB1-BA05-F4544B22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70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46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190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70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46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7D75-0DB7-40E5-8812-6DCD2EFB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3CB9-8A8F-4EDD-8897-E600C583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0341-A09D-47FB-8280-07052DB9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E7B-8976-4FC4-9AAB-57E6D838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C41-9DCE-4924-A964-5A6E63B6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90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CA9-6DDB-4770-B8B7-D864E83D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016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870-9291-4B0C-9F2E-C702FC38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90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1A53-1B0A-46AA-AF11-5D96E4D9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00800" y="5867280"/>
            <a:ext cx="2209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61EB-B421-4122-8BD5-03B9B08A97E3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009920" y="61718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09920" y="5486040"/>
            <a:ext cx="2117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748A-CCC2-4A70-B8E9-3ABBBC94D029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557360"/>
            <a:ext cx="777240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ORGANIZAÇÃO DO PISO BÁSICO DE TRANSIÇÃ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333360"/>
            <a:ext cx="808056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REORGANIZAÇÃO DO PISO BÁSICO DE TRANSIÇÃO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Exemplos de cálculo para expansão de PAIF: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Município PP1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= (nº de famílias com renda per capita de até ½ salário mínimo no CadÚnico) = 600 famíl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oderá ter 01 CRAS (referenciado em 2500 família),com financiamento de PAI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Times New Roman"/>
              </a:rPr>
              <a:t>Obs:</a:t>
            </a:r>
            <a:r>
              <a:rPr b="1" lang="pt-BR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Se o município tiver (70% ou 50% ou mais,  aguardar Portaria para verificação do percentual) de recursos  do PBT necessários para implantação do CRAS com financiamento de PAIF, o MDS complementará o recur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333000"/>
            <a:ext cx="808056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REORGANIZAÇÃO DO PISO BÁSICO DE TRANSIÇÃO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1000"/>
          </a:bodyPr>
          <a:p>
            <a:pPr marL="554400" indent="-55440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SOBRA DE RECURSOS PARA OUTROS SERVIÇOS (Piso Básico Variável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1" lang="pt-BR" sz="2400" spc="-1" strike="noStrike">
                <a:solidFill>
                  <a:srgbClr val="00ff00"/>
                </a:solidFill>
                <a:latin typeface="Times New Roman"/>
              </a:rPr>
              <a:t>Exemplo 1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-55440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Times New Roman"/>
              </a:rPr>
              <a:t>Município de GP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m 04 CRAS ( já tem 02 CRAS financiados com PAIF no Piso Básico Fix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Reorganização do recurso do PBT = R$ 283.050,00/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ff00"/>
                </a:solidFill>
                <a:latin typeface="Wingdings"/>
                <a:ea typeface="Wingdings"/>
              </a:rPr>
              <a:t>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02 CRAS a ser financiado com PAIF =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R$ 216.000,00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/an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9.000,00 X 12 X 02 CRAS) – </a:t>
            </a:r>
            <a:r>
              <a:rPr b="1" lang="pt-BR" sz="2400" spc="-1" strike="noStrike">
                <a:solidFill>
                  <a:srgbClr val="00ff00"/>
                </a:solidFill>
                <a:latin typeface="Times New Roman"/>
              </a:rPr>
              <a:t>tem sobra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log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ff00"/>
                </a:solidFill>
                <a:latin typeface="Wingdings"/>
                <a:ea typeface="Wingdings"/>
              </a:rPr>
              <a:t>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Nº de famílias ½ salário mínimo CadÚnico: 20.500 x 1,80 =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R$ 36.900,00/ano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para serviço com crianças até 06 anos e sua família e idosos) – </a:t>
            </a:r>
            <a:r>
              <a:rPr b="1" lang="pt-BR" sz="2400" spc="-1" strike="noStrike">
                <a:solidFill>
                  <a:srgbClr val="00ff00"/>
                </a:solidFill>
                <a:latin typeface="Times New Roman"/>
              </a:rPr>
              <a:t>tem sobra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ff00"/>
                </a:solidFill>
                <a:latin typeface="Wingdings"/>
                <a:ea typeface="Wingdings"/>
              </a:rPr>
              <a:t>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letivos do ProJovem Adolescente: Mais 02 coletivos =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R$ 30.150,00/an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(1.256,25 X 02 coletivos X 12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333360"/>
            <a:ext cx="808056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REORGANIZAÇÃO DO PISO BÁSICO DE TRANSIÇÃO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1" lang="pt-BR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ff00"/>
                </a:solidFill>
                <a:latin typeface="Times New Roman"/>
              </a:rPr>
              <a:t>Exemplo 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00ff00"/>
                </a:solidFill>
                <a:latin typeface="Wingdings 2"/>
                <a:ea typeface="Wingdings 2"/>
              </a:rPr>
              <a:t></a:t>
            </a:r>
            <a:r>
              <a:rPr b="1" lang="pt-BR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ff00"/>
                </a:solidFill>
                <a:latin typeface="Times New Roman"/>
              </a:rPr>
              <a:t>Município de PP1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m 01 CRAS sem financiamento de PAI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Reorganização do recurso do PBT = R$ 58.000,00/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ff00"/>
                </a:solidFill>
                <a:latin typeface="Wingdings"/>
                <a:ea typeface="Wingdings"/>
              </a:rPr>
              <a:t>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00ff00"/>
                </a:solidFill>
                <a:latin typeface="Times New Roman"/>
              </a:rPr>
              <a:t>01 CRAS a ser financiado com PAIF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R$ 54.000,00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/an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4.500,00 X 12 X 01CRAS) </a:t>
            </a:r>
            <a:r>
              <a:rPr b="1" lang="pt-BR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ff00"/>
                </a:solidFill>
                <a:latin typeface="Wingdings"/>
                <a:ea typeface="Wingdings"/>
              </a:rPr>
              <a:t>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pt-BR" sz="2400" spc="-1" strike="noStrike">
                <a:solidFill>
                  <a:srgbClr val="00ff00"/>
                </a:solidFill>
                <a:latin typeface="Times New Roman"/>
              </a:rPr>
              <a:t>Serviço de convivência cças/idosos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: Nº de famílias ½ salário mínimo com presença de cças e idosos CadÚnico: 947 x R$ 1,80 =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R$ 17.046,00/ano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não há saldo suficiente para receber recursos do Piso Básico Variável para incentivo ao trabalho com cças e idosos =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o saldo de R$ 4.000,00 (R$ 58.000,00 – menos- R$ 54.000,00) corresponde apenas a 23,46% de R$ 17.046,00 e o MDS só completaria se o saldo correspondesse a 70% do valor do serviço, ou seja, R$ 11.932,20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333360"/>
            <a:ext cx="808056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REORGANIZAÇÃO DO PISO BÁSICO DE TRANSIÇÃO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Times New Roman"/>
              </a:rPr>
              <a:t>Exemplo 3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pt-BR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</a:t>
            </a:r>
            <a:r>
              <a:rPr b="1" lang="pt-BR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ff00"/>
                </a:solidFill>
                <a:latin typeface="Times New Roman"/>
              </a:rPr>
              <a:t>Município de PP2 (sem CRAS implanta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Reorganização do recurso do PBT = R$ 15.000,00/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(O recurso não é suficiente para financiamento de PA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ff00"/>
                </a:solidFill>
                <a:latin typeface="Wingdings"/>
                <a:ea typeface="Wingdings"/>
              </a:rPr>
              <a:t>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pt-BR" sz="2800" spc="-1" strike="noStrike">
                <a:solidFill>
                  <a:srgbClr val="00ff00"/>
                </a:solidFill>
                <a:latin typeface="Times New Roman"/>
              </a:rPr>
              <a:t>Serviço de convivência cças/idosos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: Nº de famílias ½ salário mínimo com presença de cças e idosos CadÚnico: 850 x R$ 1,80 = 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R$ 18.360,00/ano. Como o recurso do PBT - R$ 15.000,00 corresponde a 81,69% do valor de R$ 18.360,00, o MDS complementará o restante do recurso – R$ 3.360,00 (diferença entre R$ 18.360,00 e R$ 15.000,00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333000"/>
            <a:ext cx="808056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REORGANIZAÇÃO DO PISO BÁSICO DE TRANSIÇÃO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19000" y="1052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 algn="just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Este material tem por objetiv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Informar a forma de reorganização do Piso Básico de Transição, a  ser efetuada até 31/12/200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lertar aos municípios sobre o recebimento pelo MDS das possíveis “opções” que terá que escolher para utilização dos recursos do Piso Básico de Transição, a partir de 01/01/2010, que se transformará em: Piso Básico Fixo (PAIF nos CRAS) e Piso Básico Variável (serviço de convivência com crianças até 06 anos e sua família e idosos, e ProJovem Adolescent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Orientar que os municípios não instituam novos serviços de proteção social básica, aguardando as “opções” a serem apresentadas pelo MDS, para saber com quais serviços e financiamentos poderá contar com o montante de recursos do Piso Básico de Transição que já receb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lertar os municípios para que aguardem a Portaria a ser publicada (já tendo sido efetuada a pactuação na CIT) que melhor identificará os detalhamentos das orientações aqui apresentadas (como os percentuais de recursos necessários para recebimento de complementação pelo MDS) e que dará sustentação legal a esta reorganização do Piso Básico de Transi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56908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ff00"/>
                </a:solidFill>
                <a:latin typeface="Arial"/>
              </a:rPr>
              <a:t>REORGANIZAÇÃO DO PISO BÁSICO DE TRANSIÇÃO</a:t>
            </a:r>
            <a:endParaRPr b="0" lang="en-US" sz="2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19700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>
              <a:lnSpc>
                <a:spcPct val="7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Times New Roman"/>
              </a:rPr>
              <a:t>Reorganização dos recursos que hoje compõem o PBT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Times New Roman"/>
              </a:rPr>
              <a:t>Piso Básico Fixo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: PAIF no CRAS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(incluso no PAIF conforme documento “tipificação de serviços”, além dos serviços com as famílias, aqueles relativos à convivência para crianças de até 06 anos e sua família e idos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</a:t>
            </a:r>
            <a:r>
              <a:rPr b="1" lang="pt-BR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t-BR" sz="3600" spc="-1" strike="noStrike">
                <a:solidFill>
                  <a:srgbClr val="ffff00"/>
                </a:solidFill>
                <a:latin typeface="Times New Roman"/>
              </a:rPr>
              <a:t>Piso Básico Variável: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 serviços de convivência para crianças de até 06 anos e sua família e idosos, e ProJovem Adolescen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333000"/>
            <a:ext cx="808056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REORGANIZAÇÃO DO PISO BÁSICO DE TRANSIÇÃO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ORDEM DE PRIORIDADE DE SERVIÇ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1°) PAIF no CR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Estar habilitado em gestão básica ou plena, ou se habilitar até dezembro de 200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Possuir déficit de CRAS para a cobertura de famílias pobres (famílias com renda percapita de até ½ salário mínimo – cadastradas no CadÚnico), depois de considerada a cobertura de família por CRAS já co-financiados pelo Piso Básico Fixo, e possuir recursos do PBT suficiente para  financiá-los integralment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Ter número de CRAS cadastrados no Censo CRAS 2008 e sem co-financiamento por meio do PBF, superior ao número de CRAS que poderão ser implantados, e segundo déficit de CRAS para atender famílias pobres (CadÚnico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Possuir recurso do PBT suficiente para financiar </a:t>
            </a:r>
            <a:r>
              <a:rPr b="1" lang="pt-BR" sz="2000" spc="-1" strike="noStrike">
                <a:solidFill>
                  <a:srgbClr val="00ff00"/>
                </a:solidFill>
                <a:latin typeface="Times New Roman"/>
              </a:rPr>
              <a:t>70% (50% ou mais)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de um PAIF (considerado o porte do municípi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t-BR" sz="1800" spc="-1" strike="noStrike">
                <a:solidFill>
                  <a:srgbClr val="ffff00"/>
                </a:solidFill>
                <a:latin typeface="Times New Roman"/>
              </a:rPr>
              <a:t>(70% está no documento apresentado na CIT para pactuação e na WebConferência foi comentado 50% ou  mais – aguardar o que determinará a Portari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2560" y="0"/>
            <a:ext cx="80805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REORGANIZAÇÃO DO PISO BÁSICO DE TRANSIÇÃO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362800" cy="5950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2º) Serviços de convivência e de fortalecimento de vínculos familiares e comunitários para cças de até 06 anos e sua família e/ou para idosos (no CRAS ou nos seus territórios de abrangência ou ainda, excepcionalmente, nos territórios de vulnerabilidade ainda sem cobertura de CR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plica-se a municípios que após a aplicação da regra de OFERTA DO PAIF apresentem SOBRA DE RECURSOS DO PBT,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desde que se habilitem em gestão básica ou plena até o mês de dezembro/200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plica-se a municípios que não tiveram recursos do PBT suficientes para ofertar o PAIF,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desde que se habilitem em gestão básica ou plena até junho de 201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ff00"/>
                </a:solidFill>
                <a:latin typeface="Times New Roman"/>
              </a:rPr>
              <a:t>OBS:</a:t>
            </a: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Municípios que não têm CRAS (Registrado noCenso CRAS) </a:t>
            </a:r>
            <a:r>
              <a:rPr b="1" lang="pt-BR" sz="2000" spc="-1" strike="noStrike">
                <a:solidFill>
                  <a:srgbClr val="00ff00"/>
                </a:solidFill>
                <a:latin typeface="Times New Roman"/>
              </a:rPr>
              <a:t>e tiverem recursos do PBT para financiá-lo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, só poderão fazer serviços de convivência se fizerem o aceite do co-financiamento para o PAIF (ou seja, aceite para implantar o CRA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-360"/>
            <a:ext cx="808056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REORGANIZAÇÃO DO PISO BÁSICO DE TRANSIÇÃO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Serviços para crianças de até seis anos e para ido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- Cálculo: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amílias com renda per capita de ½ salário mínimo (CadÚnico) com presença de crianças e idosos por município (multiplicado) R$ 1,8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-Obedecer: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“Tipificação dos serviços socioassistenciais do SUAS”: serviço de convivência e fortalecimento de vínculos familiares e comunitários; serviço de suporte domicili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-Oferta: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no CRAS ou no seu território de abrangência. Em casos excepcionais e por um período transitório, poderão ser ofertados em territórios de vulnerabilida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omplementação do recurso pelo MDS: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a municípios que cobrirem os serviços com 70% ou mais dos recursos do PB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Será transformado em Piso Básico Variáv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259920"/>
            <a:ext cx="80805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REORGANIZAÇÃO DO PISO BÁSICO DE TRANSIÇÃO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3º) Serviço de convivência sócio-educativa para jovens de 15 a 17 anos- Projovem Adolesc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unicípio ser elegíve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Ter SOBRA de recursos do PBT após aplicação das regras relativas às 02 primeiras opções (PAIF/ convivência cças e idoso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Ter recurso suficiente para o co-financiamento integral do coletivo. Ou seja, pelo menos R$ 15.075,00/ano por coletiv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Ter capacidade para ofertar vagas do Projovem conforme as regras de capacidade pactuadas na Resolução CNAS nº3/2008 (Censo CRAS e módulo implantaçã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Será transformado em Piso Básico Variáv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0"/>
            <a:ext cx="80805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REORGANIZAÇÃO DO PISO BÁSICO DE TRANSIÇÃO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Os novos serviços (segundo proposta pactuada na CIT) deverão ser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implantados no mês de janeiro de 2010,</a:t>
            </a: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quando passarão a ser remunerados por meio do Piso Básico Fixo (PAIF e Projetos de Inclusão Produtiva para famílias do Bolsa Família) e Piso Básico Variável (convivência cças de até 06 anos e sua família, idosos e para jovens (ProJovem Adolescent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Os municípios deverão fazer o ACEITE DAS REGRAS E PROCEDIMENTOS para implantação dos serviços em um MÓDULO DE IMPLANTAÇÂO DOS SERVIÇOS (previsto para setembro/2009), do qual constará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Aceite pelo município (todos os serviços aceitos deverão ser implantados em janeiro/2010, tendo o município o ano de 2009 para planejá-lo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Condições de preenchiment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Aprovação do CM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ff00"/>
                </a:solidFill>
                <a:latin typeface="Times New Roman"/>
              </a:rPr>
              <a:t>OBS:</a:t>
            </a: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1) o MDS enviará a cada município as suas possibilidades de “opção” em relação ao montante de recurso do PBT que receb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2) Não será obrigatório o “aceite” de todos os serviços (conforme opções apresentadas pelo MDS). No entanto, caso o município tenha os recursos suficientes para oferecer o serviço e não o fizer – perderá o recurso (o MDS deixará</a:t>
            </a: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e co-financiar o valor correspondente ao recurso não utilizad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-360"/>
            <a:ext cx="808056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REORGANIZAÇÃO DO PISO BÁSICO DE TRANSIÇÃO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686800" cy="6237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Exemplos de cálculo para expansão de PAI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Município GP (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nº de famílias com renda per capita de até ½ salário mínimo no CadÚnico) = 20.000 famíl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Famílias 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já cobertas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com financiamento do PAIF (10.000 famílias = 02 CRAS c/ 5.000 famílias referenciadas em cada u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Famílias 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a serem cobertas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com financiamento do PAIF (10.000 famílias = possibilidade de  implantação de mais 02 CRAS c/ 5.000 famílias referenciadas em cada um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Times New Roman"/>
              </a:rPr>
              <a:t>Obs:</a:t>
            </a:r>
            <a:r>
              <a:rPr b="1" lang="pt-BR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Se o município tiver recurso do PBT para financiar o PAIF de 04 CRAS, mesmo tendo um quinto CRAS em fase de implantação ou em  funcionamento, o recurso vai apenas financiar os 04 CR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333000"/>
            <a:ext cx="8080560" cy="3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REORGANIZAÇÃO DO PISO BÁSICO DE TRANSIÇÃO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Exemplos de cálculo para expansão de PAI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- Município MP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= (nº de famílias com renda per capita de até ½ salário mínimo no CadÚnico) = 7.500 famíl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- Município tem 01 CRAS, mas não recebe financiamento do PAI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Referenciado 5.000 famílias, logo 7.500 famílias correspondem a 01 CRAS e ½ = o município poderá ter financiamento de PAIF para 02 CR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Times New Roman"/>
              </a:rPr>
              <a:t>Obs:</a:t>
            </a:r>
            <a:r>
              <a:rPr b="1" lang="pt-BR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Se o cálculo de número de famílias pobres ficar abaixo de ½ (em relação ao número de famílias referenciadas no CRAS), o financiamento de PAIF será apenas para 01 CR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8T23:05:14Z</dcterms:created>
  <dc:creator>user</dc:creator>
  <dc:description/>
  <dc:language>en-US</dc:language>
  <cp:lastModifiedBy>Egem</cp:lastModifiedBy>
  <dcterms:modified xsi:type="dcterms:W3CDTF">2009-09-21T13:57:50Z</dcterms:modified>
  <cp:revision>17</cp:revision>
  <dc:subject/>
  <dc:title>REORGANIZAÇÃO DO PISO BÁSICO DE TRANSIÇÃO</dc:title>
</cp:coreProperties>
</file>