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8.jpeg" ContentType="image/jpeg"/>
  <Override PartName="/ppt/media/image22.wmf" ContentType="image/x-wmf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76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809520" y="0"/>
            <a:ext cx="2800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914400" y="761760"/>
            <a:ext cx="485784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5784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2"/>
          </p:nvPr>
        </p:nvSpPr>
        <p:spPr>
          <a:xfrm>
            <a:off x="0" y="9372600"/>
            <a:ext cx="2876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3"/>
          </p:nvPr>
        </p:nvSpPr>
        <p:spPr>
          <a:xfrm>
            <a:off x="380952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C405B-0131-4F34-9DF9-339CC35163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15F27-E004-4E06-A582-1D8F5587C9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Text Box 1"/>
          <p:cNvSpPr/>
          <p:nvPr/>
        </p:nvSpPr>
        <p:spPr>
          <a:xfrm>
            <a:off x="9144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672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S POLÍTICAS SOCIAIS SÃO PARA PROMOVER A EMANCIPAÇÃO, O DESENVOLVIMENTO, O BEM COM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 TODAS AS POLÍTICAS VOLTADAS PARA A PRTEÇÃO TEM UM NORTE EM COMUM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 DIREITO À V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DIGNIDADE HUMA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INCL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 A JUSTIÇ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 ESTADO DE BEM ESTAR SOCIAL, DEPOIS DO VENDAVAL NEOLIBERAL BRASILEIRO, APONTOU NOVAMENTE COM NOVOS PARADÍGMAS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É MESMO NOS PAÍSES DA EUROPA E AMÉRICA DO NORTE, COM TODOS OS DESDOBRAMENTOS DO NEOLIBERALISMO, CONTINUA COM UM FORTE SISTEMA DE  PROTEÇÃO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DC1E6-46AA-43E8-9F84-FB05AD2E6B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Text Box 1"/>
          <p:cNvSpPr/>
          <p:nvPr/>
        </p:nvSpPr>
        <p:spPr>
          <a:xfrm>
            <a:off x="0" y="32544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592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0A4F-F041-45D1-AA37-90F833D613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Text Box 1"/>
          <p:cNvSpPr/>
          <p:nvPr/>
        </p:nvSpPr>
        <p:spPr>
          <a:xfrm>
            <a:off x="0" y="32544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592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18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912-A77A-4315-A242-D99C00AB62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Text Box 1"/>
          <p:cNvSpPr/>
          <p:nvPr/>
        </p:nvSpPr>
        <p:spPr>
          <a:xfrm>
            <a:off x="930240" y="736560"/>
            <a:ext cx="48006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592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43CBA-137D-4835-B4D6-F5ED1CA5A0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919080" y="76212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578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C53CD-C354-4339-BF99-99C12AD1B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Text Box 1"/>
          <p:cNvSpPr/>
          <p:nvPr/>
        </p:nvSpPr>
        <p:spPr>
          <a:xfrm>
            <a:off x="0" y="32544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592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41DBB-7B02-468B-A575-26EF2D6C1C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1"/>
          <p:cNvSpPr/>
          <p:nvPr/>
        </p:nvSpPr>
        <p:spPr>
          <a:xfrm>
            <a:off x="914400" y="762120"/>
            <a:ext cx="4870440" cy="36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8592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18"/>
          <p:cNvSpPr/>
          <p:nvPr/>
        </p:nvSpPr>
        <p:spPr>
          <a:xfrm>
            <a:off x="3809880" y="9372600"/>
            <a:ext cx="280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6F7A9-A0EA-4898-BE52-212021BC2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Text Box 1"/>
          <p:cNvSpPr/>
          <p:nvPr/>
        </p:nvSpPr>
        <p:spPr>
          <a:xfrm>
            <a:off x="9144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 racionalidade na gestão: serviços por níveis de complex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1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682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2800" y="16048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8760" y="16048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2800" y="39682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8760" y="3968280"/>
            <a:ext cx="26434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6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604880"/>
            <a:ext cx="4006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82105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604880"/>
            <a:ext cx="4006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6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682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604880"/>
            <a:ext cx="4006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1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03320" y="101520"/>
            <a:ext cx="8924760" cy="678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34920" y="6524640"/>
            <a:ext cx="835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inistério do Desenvolvimento Social e Combate à Fom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ecretaria Nacional de Assistência So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41120" y="146160"/>
            <a:ext cx="1800360" cy="733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0" b="65272"/>
          <a:stretch/>
        </p:blipFill>
        <p:spPr>
          <a:xfrm>
            <a:off x="7667640" y="6453360"/>
            <a:ext cx="1328760" cy="404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82105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5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-17136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908000" y="4149720"/>
            <a:ext cx="47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2997360"/>
            <a:ext cx="6409080" cy="255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STEMA ÚNICO DE ASSISTÊNCI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2544480" cy="2452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55840" y="4489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Verdana"/>
              </a:rPr>
              <a:t>Serviços de Proteção Social Especial de </a:t>
            </a:r>
            <a:br>
              <a:rPr sz="2400"/>
            </a:br>
            <a:r>
              <a:rPr b="1" lang="pt-BR" sz="2400" spc="-1" strike="noStrike">
                <a:solidFill>
                  <a:srgbClr val="008000"/>
                </a:solidFill>
                <a:latin typeface="Verdana"/>
              </a:rPr>
              <a:t>Média Complex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iço de orientação e apoio sócio-famili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Plantão Social – proteção bás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ordagem de ru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 no domicíl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iço de habilitação e reabilitação na comunidade das pessoas com deficiê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das sócio-educativas em meio-aberto (PSC e 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30000"/>
              </a:lnSpc>
              <a:spcBef>
                <a:spcPts val="799"/>
              </a:spcBef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de Referência Especializado da Assistência Social- CREAS, visando à orientação e o convívio sócio-familiar e comunitário; dirigido às situações de violação de dire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3" descr=""/>
          <p:cNvPicPr/>
          <p:nvPr/>
        </p:nvPicPr>
        <p:blipFill>
          <a:blip r:embed="rId8"/>
          <a:stretch/>
        </p:blipFill>
        <p:spPr>
          <a:xfrm>
            <a:off x="6588000" y="1557360"/>
            <a:ext cx="1663920" cy="1392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76360" y="584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Verdana"/>
              </a:rPr>
              <a:t>Serviços de Proteção Social Especial de </a:t>
            </a:r>
            <a:br>
              <a:rPr sz="2400"/>
            </a:br>
            <a:r>
              <a:rPr b="1" lang="pt-BR" sz="2400" spc="-1" strike="noStrike">
                <a:solidFill>
                  <a:srgbClr val="008000"/>
                </a:solidFill>
                <a:latin typeface="Verdana"/>
              </a:rPr>
              <a:t>Alta Complex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a L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úbl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a de Passag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berg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mília Substitu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das sócio-educativas restritivas e privativas de liberdade (semi-liberdade, internação provisória e sentenciad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Picture 3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5" name="Group 2"/>
          <p:cNvGrpSpPr/>
          <p:nvPr/>
        </p:nvGrpSpPr>
        <p:grpSpPr>
          <a:xfrm>
            <a:off x="0" y="866880"/>
            <a:ext cx="9136080" cy="5991120"/>
            <a:chOff x="0" y="866880"/>
            <a:chExt cx="9136080" cy="5991120"/>
          </a:xfrm>
        </p:grpSpPr>
        <p:sp>
          <p:nvSpPr>
            <p:cNvPr id="906" name="AutoShape 3"/>
            <p:cNvSpPr/>
            <p:nvPr/>
          </p:nvSpPr>
          <p:spPr>
            <a:xfrm>
              <a:off x="6848640" y="4762440"/>
              <a:ext cx="2286000" cy="131292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AutoShape 4"/>
            <p:cNvSpPr/>
            <p:nvPr/>
          </p:nvSpPr>
          <p:spPr>
            <a:xfrm>
              <a:off x="2362320" y="5716800"/>
              <a:ext cx="2209680" cy="358560"/>
            </a:xfrm>
            <a:prstGeom prst="roundRect">
              <a:avLst>
                <a:gd name="adj" fmla="val 4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AutoShape 5"/>
            <p:cNvSpPr/>
            <p:nvPr/>
          </p:nvSpPr>
          <p:spPr>
            <a:xfrm>
              <a:off x="2362320" y="4253040"/>
              <a:ext cx="2209680" cy="51444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AutoShape 6"/>
            <p:cNvSpPr/>
            <p:nvPr/>
          </p:nvSpPr>
          <p:spPr>
            <a:xfrm>
              <a:off x="2362320" y="2946600"/>
              <a:ext cx="220968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0" name="Group 7"/>
            <p:cNvGrpSpPr/>
            <p:nvPr/>
          </p:nvGrpSpPr>
          <p:grpSpPr>
            <a:xfrm>
              <a:off x="0" y="6075360"/>
              <a:ext cx="9121680" cy="768600"/>
              <a:chOff x="0" y="6075360"/>
              <a:chExt cx="9121680" cy="768600"/>
            </a:xfrm>
          </p:grpSpPr>
          <p:sp>
            <p:nvSpPr>
              <p:cNvPr id="911" name="AutoShape 8"/>
              <p:cNvSpPr/>
              <p:nvPr/>
            </p:nvSpPr>
            <p:spPr>
              <a:xfrm>
                <a:off x="0" y="6075360"/>
                <a:ext cx="912168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Text Box 9"/>
              <p:cNvSpPr/>
              <p:nvPr/>
            </p:nvSpPr>
            <p:spPr>
              <a:xfrm>
                <a:off x="0" y="6075360"/>
                <a:ext cx="91216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REDE SOCIOASSISTENCIAL: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rviços de Proteção Social Básica e Especial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(Governamental e Não Governamental)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0"/>
            <p:cNvGrpSpPr/>
            <p:nvPr/>
          </p:nvGrpSpPr>
          <p:grpSpPr>
            <a:xfrm>
              <a:off x="4568760" y="4762440"/>
              <a:ext cx="2274840" cy="1369080"/>
              <a:chOff x="4568760" y="4762440"/>
              <a:chExt cx="2274840" cy="1369080"/>
            </a:xfrm>
          </p:grpSpPr>
          <p:sp>
            <p:nvSpPr>
              <p:cNvPr id="914" name="AutoShape 11"/>
              <p:cNvSpPr/>
              <p:nvPr/>
            </p:nvSpPr>
            <p:spPr>
              <a:xfrm>
                <a:off x="4568760" y="4762440"/>
                <a:ext cx="2274840" cy="130176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Text Box 12"/>
              <p:cNvSpPr/>
              <p:nvPr/>
            </p:nvSpPr>
            <p:spPr>
              <a:xfrm>
                <a:off x="4568760" y="4762440"/>
                <a:ext cx="2274840" cy="13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Times New Roman"/>
                  </a:rPr>
                  <a:t>FM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Municip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3"/>
            <p:cNvGrpSpPr/>
            <p:nvPr/>
          </p:nvGrpSpPr>
          <p:grpSpPr>
            <a:xfrm>
              <a:off x="2362320" y="4762440"/>
              <a:ext cx="2198520" cy="949680"/>
              <a:chOff x="2362320" y="4762440"/>
              <a:chExt cx="2198520" cy="949680"/>
            </a:xfrm>
          </p:grpSpPr>
          <p:sp>
            <p:nvSpPr>
              <p:cNvPr id="917" name="AutoShape 14"/>
              <p:cNvSpPr/>
              <p:nvPr/>
            </p:nvSpPr>
            <p:spPr>
              <a:xfrm>
                <a:off x="2362320" y="4762440"/>
                <a:ext cx="2198520" cy="943200"/>
              </a:xfrm>
              <a:prstGeom prst="roundRect">
                <a:avLst>
                  <a:gd name="adj" fmla="val 1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Text Box 15"/>
              <p:cNvSpPr/>
              <p:nvPr/>
            </p:nvSpPr>
            <p:spPr>
              <a:xfrm>
                <a:off x="2362320" y="4762440"/>
                <a:ext cx="2198520" cy="9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660066"/>
                    </a:solidFill>
                    <a:latin typeface="Times New Roman"/>
                  </a:rPr>
                  <a:t>CM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Municip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"/>
            <p:cNvGrpSpPr/>
            <p:nvPr/>
          </p:nvGrpSpPr>
          <p:grpSpPr>
            <a:xfrm>
              <a:off x="0" y="4762440"/>
              <a:ext cx="2349360" cy="1300320"/>
              <a:chOff x="0" y="4762440"/>
              <a:chExt cx="2349360" cy="1300320"/>
            </a:xfrm>
          </p:grpSpPr>
          <p:sp>
            <p:nvSpPr>
              <p:cNvPr id="920" name="AutoShape 17"/>
              <p:cNvSpPr/>
              <p:nvPr/>
            </p:nvSpPr>
            <p:spPr>
              <a:xfrm>
                <a:off x="0" y="4762440"/>
                <a:ext cx="2349360" cy="130032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Text Box 18"/>
              <p:cNvSpPr/>
              <p:nvPr/>
            </p:nvSpPr>
            <p:spPr>
              <a:xfrm>
                <a:off x="0" y="4762440"/>
                <a:ext cx="234936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Governo Municip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Secretaria Municipal de Assistência Social ou congênere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9"/>
            <p:cNvGrpSpPr/>
            <p:nvPr/>
          </p:nvGrpSpPr>
          <p:grpSpPr>
            <a:xfrm>
              <a:off x="6848640" y="3311640"/>
              <a:ext cx="2274840" cy="1469520"/>
              <a:chOff x="6848640" y="3311640"/>
              <a:chExt cx="2274840" cy="1469520"/>
            </a:xfrm>
          </p:grpSpPr>
          <p:sp>
            <p:nvSpPr>
              <p:cNvPr id="923" name="AutoShape 20"/>
              <p:cNvSpPr/>
              <p:nvPr/>
            </p:nvSpPr>
            <p:spPr>
              <a:xfrm>
                <a:off x="6848640" y="3311640"/>
                <a:ext cx="2274840" cy="144936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Text Box 21"/>
              <p:cNvSpPr/>
              <p:nvPr/>
            </p:nvSpPr>
            <p:spPr>
              <a:xfrm>
                <a:off x="6848640" y="3311640"/>
                <a:ext cx="2274840" cy="14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9933"/>
                    </a:solidFill>
                    <a:latin typeface="Times New Roman"/>
                  </a:rPr>
                  <a:t>CI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missão Intergestora Biparti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22"/>
            <p:cNvGrpSpPr/>
            <p:nvPr/>
          </p:nvGrpSpPr>
          <p:grpSpPr>
            <a:xfrm>
              <a:off x="4568760" y="3311640"/>
              <a:ext cx="2274840" cy="1449360"/>
              <a:chOff x="4568760" y="3311640"/>
              <a:chExt cx="2274840" cy="1449360"/>
            </a:xfrm>
          </p:grpSpPr>
          <p:sp>
            <p:nvSpPr>
              <p:cNvPr id="926" name="AutoShape 23"/>
              <p:cNvSpPr/>
              <p:nvPr/>
            </p:nvSpPr>
            <p:spPr>
              <a:xfrm>
                <a:off x="4568760" y="3311640"/>
                <a:ext cx="2274840" cy="144936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Text Box 24"/>
              <p:cNvSpPr/>
              <p:nvPr/>
            </p:nvSpPr>
            <p:spPr>
              <a:xfrm>
                <a:off x="4568760" y="3311640"/>
                <a:ext cx="2274840" cy="13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Times New Roman"/>
                  </a:rPr>
                  <a:t>FE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Estadu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25"/>
            <p:cNvGrpSpPr/>
            <p:nvPr/>
          </p:nvGrpSpPr>
          <p:grpSpPr>
            <a:xfrm>
              <a:off x="2362320" y="3311640"/>
              <a:ext cx="2197080" cy="997920"/>
              <a:chOff x="2362320" y="3311640"/>
              <a:chExt cx="2197080" cy="997920"/>
            </a:xfrm>
          </p:grpSpPr>
          <p:sp>
            <p:nvSpPr>
              <p:cNvPr id="929" name="AutoShape 26"/>
              <p:cNvSpPr/>
              <p:nvPr/>
            </p:nvSpPr>
            <p:spPr>
              <a:xfrm>
                <a:off x="2362320" y="3311640"/>
                <a:ext cx="2197080" cy="933480"/>
              </a:xfrm>
              <a:prstGeom prst="roundRect">
                <a:avLst>
                  <a:gd name="adj" fmla="val 1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2362320" y="3311640"/>
                <a:ext cx="2197080" cy="99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660066"/>
                    </a:solidFill>
                    <a:latin typeface="Times New Roman"/>
                  </a:rPr>
                  <a:t>CE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Estadu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28"/>
            <p:cNvGrpSpPr/>
            <p:nvPr/>
          </p:nvGrpSpPr>
          <p:grpSpPr>
            <a:xfrm>
              <a:off x="0" y="3311640"/>
              <a:ext cx="2351160" cy="1449360"/>
              <a:chOff x="0" y="3311640"/>
              <a:chExt cx="2351160" cy="1449360"/>
            </a:xfrm>
          </p:grpSpPr>
          <p:sp>
            <p:nvSpPr>
              <p:cNvPr id="932" name="AutoShape 29"/>
              <p:cNvSpPr/>
              <p:nvPr/>
            </p:nvSpPr>
            <p:spPr>
              <a:xfrm>
                <a:off x="0" y="3311640"/>
                <a:ext cx="2351160" cy="1449360"/>
              </a:xfrm>
              <a:prstGeom prst="roundRect">
                <a:avLst>
                  <a:gd name="adj" fmla="val 1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Text Box 30"/>
              <p:cNvSpPr/>
              <p:nvPr/>
            </p:nvSpPr>
            <p:spPr>
              <a:xfrm>
                <a:off x="0" y="3311640"/>
                <a:ext cx="235116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Governo Estadu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Secretaria de Estado de Assistência Social ou congêner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31"/>
            <p:cNvGrpSpPr/>
            <p:nvPr/>
          </p:nvGrpSpPr>
          <p:grpSpPr>
            <a:xfrm>
              <a:off x="6848640" y="2144880"/>
              <a:ext cx="2274840" cy="1408680"/>
              <a:chOff x="6848640" y="2144880"/>
              <a:chExt cx="2274840" cy="1408680"/>
            </a:xfrm>
          </p:grpSpPr>
          <p:sp>
            <p:nvSpPr>
              <p:cNvPr id="935" name="AutoShape 32"/>
              <p:cNvSpPr/>
              <p:nvPr/>
            </p:nvSpPr>
            <p:spPr>
              <a:xfrm>
                <a:off x="6848640" y="2144880"/>
                <a:ext cx="2274840" cy="115560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Text Box 33"/>
              <p:cNvSpPr/>
              <p:nvPr/>
            </p:nvSpPr>
            <p:spPr>
              <a:xfrm>
                <a:off x="6848640" y="2144880"/>
                <a:ext cx="2274840" cy="14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9933"/>
                    </a:solidFill>
                    <a:latin typeface="Times New Roman"/>
                  </a:rPr>
                  <a:t>CI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missão Intergestora Triparti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34"/>
            <p:cNvGrpSpPr/>
            <p:nvPr/>
          </p:nvGrpSpPr>
          <p:grpSpPr>
            <a:xfrm>
              <a:off x="4568760" y="2144880"/>
              <a:ext cx="2274840" cy="1155600"/>
              <a:chOff x="4568760" y="2144880"/>
              <a:chExt cx="2274840" cy="1155600"/>
            </a:xfrm>
          </p:grpSpPr>
          <p:sp>
            <p:nvSpPr>
              <p:cNvPr id="938" name="AutoShape 35"/>
              <p:cNvSpPr/>
              <p:nvPr/>
            </p:nvSpPr>
            <p:spPr>
              <a:xfrm>
                <a:off x="4568760" y="2144880"/>
                <a:ext cx="2274840" cy="115560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Text Box 36"/>
              <p:cNvSpPr/>
              <p:nvPr/>
            </p:nvSpPr>
            <p:spPr>
              <a:xfrm>
                <a:off x="4568760" y="2144880"/>
                <a:ext cx="227484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Times New Roman"/>
                  </a:rPr>
                  <a:t>FN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1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Fundo Nacion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37"/>
            <p:cNvGrpSpPr/>
            <p:nvPr/>
          </p:nvGrpSpPr>
          <p:grpSpPr>
            <a:xfrm>
              <a:off x="2362320" y="2144880"/>
              <a:ext cx="2197080" cy="788760"/>
              <a:chOff x="2362320" y="2144880"/>
              <a:chExt cx="2197080" cy="788760"/>
            </a:xfrm>
          </p:grpSpPr>
          <p:sp>
            <p:nvSpPr>
              <p:cNvPr id="941" name="AutoShape 38"/>
              <p:cNvSpPr/>
              <p:nvPr/>
            </p:nvSpPr>
            <p:spPr>
              <a:xfrm>
                <a:off x="2362320" y="2144880"/>
                <a:ext cx="2197080" cy="78876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Text Box 39"/>
              <p:cNvSpPr/>
              <p:nvPr/>
            </p:nvSpPr>
            <p:spPr>
              <a:xfrm>
                <a:off x="2362320" y="2144880"/>
                <a:ext cx="2197080" cy="7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660066"/>
                    </a:solidFill>
                    <a:latin typeface="Times New Roman"/>
                  </a:rPr>
                  <a:t>CN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Conselho Nacional de Assistência Soci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40"/>
            <p:cNvGrpSpPr/>
            <p:nvPr/>
          </p:nvGrpSpPr>
          <p:grpSpPr>
            <a:xfrm>
              <a:off x="0" y="2144880"/>
              <a:ext cx="2349360" cy="1154160"/>
              <a:chOff x="0" y="2144880"/>
              <a:chExt cx="2349360" cy="1154160"/>
            </a:xfrm>
          </p:grpSpPr>
          <p:sp>
            <p:nvSpPr>
              <p:cNvPr id="944" name="AutoShape 41"/>
              <p:cNvSpPr/>
              <p:nvPr/>
            </p:nvSpPr>
            <p:spPr>
              <a:xfrm>
                <a:off x="0" y="2144880"/>
                <a:ext cx="2349360" cy="1154160"/>
              </a:xfrm>
              <a:prstGeom prst="roundRect">
                <a:avLst>
                  <a:gd name="adj" fmla="val 13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Text Box 42"/>
              <p:cNvSpPr/>
              <p:nvPr/>
            </p:nvSpPr>
            <p:spPr>
              <a:xfrm>
                <a:off x="0" y="2144880"/>
                <a:ext cx="2349360" cy="11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Governo Feder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Unicode MS"/>
                  </a:rPr>
                  <a:t>Ministério de Desenvolvimento Social e Combate à Fo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43"/>
            <p:cNvGrpSpPr/>
            <p:nvPr/>
          </p:nvGrpSpPr>
          <p:grpSpPr>
            <a:xfrm>
              <a:off x="6848640" y="866880"/>
              <a:ext cx="2273040" cy="1265400"/>
              <a:chOff x="6848640" y="866880"/>
              <a:chExt cx="2273040" cy="1265400"/>
            </a:xfrm>
          </p:grpSpPr>
          <p:sp>
            <p:nvSpPr>
              <p:cNvPr id="947" name="AutoShape 44"/>
              <p:cNvSpPr/>
              <p:nvPr/>
            </p:nvSpPr>
            <p:spPr>
              <a:xfrm>
                <a:off x="6848640" y="866880"/>
                <a:ext cx="227304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Text Box 45"/>
              <p:cNvSpPr/>
              <p:nvPr/>
            </p:nvSpPr>
            <p:spPr>
              <a:xfrm>
                <a:off x="6848640" y="866880"/>
                <a:ext cx="2273040" cy="6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600" spc="-1" strike="noStrike">
                    <a:solidFill>
                      <a:srgbClr val="ff9933"/>
                    </a:solidFill>
                    <a:latin typeface="Times New Roman"/>
                  </a:rPr>
                  <a:t>QUEM PACTU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46"/>
            <p:cNvGrpSpPr/>
            <p:nvPr/>
          </p:nvGrpSpPr>
          <p:grpSpPr>
            <a:xfrm>
              <a:off x="4568760" y="866880"/>
              <a:ext cx="2273400" cy="1265400"/>
              <a:chOff x="4568760" y="866880"/>
              <a:chExt cx="2273400" cy="1265400"/>
            </a:xfrm>
          </p:grpSpPr>
          <p:sp>
            <p:nvSpPr>
              <p:cNvPr id="950" name="AutoShape 47"/>
              <p:cNvSpPr/>
              <p:nvPr/>
            </p:nvSpPr>
            <p:spPr>
              <a:xfrm>
                <a:off x="4568760" y="866880"/>
                <a:ext cx="227340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Text Box 48"/>
              <p:cNvSpPr/>
              <p:nvPr/>
            </p:nvSpPr>
            <p:spPr>
              <a:xfrm>
                <a:off x="4568760" y="866880"/>
                <a:ext cx="22734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QUEM FINANC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49"/>
            <p:cNvGrpSpPr/>
            <p:nvPr/>
          </p:nvGrpSpPr>
          <p:grpSpPr>
            <a:xfrm>
              <a:off x="2362320" y="866880"/>
              <a:ext cx="2198520" cy="1266840"/>
              <a:chOff x="2362320" y="866880"/>
              <a:chExt cx="2198520" cy="1266840"/>
            </a:xfrm>
          </p:grpSpPr>
          <p:sp>
            <p:nvSpPr>
              <p:cNvPr id="953" name="AutoShape 50"/>
              <p:cNvSpPr/>
              <p:nvPr/>
            </p:nvSpPr>
            <p:spPr>
              <a:xfrm>
                <a:off x="2362320" y="866880"/>
                <a:ext cx="2198520" cy="126684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Text Box 51"/>
              <p:cNvSpPr/>
              <p:nvPr/>
            </p:nvSpPr>
            <p:spPr>
              <a:xfrm>
                <a:off x="2362320" y="866880"/>
                <a:ext cx="219852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500" spc="-1" strike="noStrike">
                    <a:solidFill>
                      <a:srgbClr val="660066"/>
                    </a:solidFill>
                    <a:latin typeface="Times New Roman"/>
                  </a:rPr>
                  <a:t>QUEM DELIBERA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500" spc="-1" strike="noStrike">
                    <a:solidFill>
                      <a:srgbClr val="660066"/>
                    </a:solidFill>
                    <a:latin typeface="Times New Roman"/>
                  </a:rPr>
                  <a:t>E FISCALIZA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52"/>
            <p:cNvGrpSpPr/>
            <p:nvPr/>
          </p:nvGrpSpPr>
          <p:grpSpPr>
            <a:xfrm>
              <a:off x="0" y="866880"/>
              <a:ext cx="2349360" cy="1265400"/>
              <a:chOff x="0" y="866880"/>
              <a:chExt cx="2349360" cy="1265400"/>
            </a:xfrm>
          </p:grpSpPr>
          <p:sp>
            <p:nvSpPr>
              <p:cNvPr id="956" name="AutoShape 53"/>
              <p:cNvSpPr/>
              <p:nvPr/>
            </p:nvSpPr>
            <p:spPr>
              <a:xfrm>
                <a:off x="0" y="866880"/>
                <a:ext cx="2349360" cy="1265400"/>
              </a:xfrm>
              <a:prstGeom prst="roundRect">
                <a:avLst>
                  <a:gd name="adj" fmla="val 1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5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Text Box 54"/>
              <p:cNvSpPr/>
              <p:nvPr/>
            </p:nvSpPr>
            <p:spPr>
              <a:xfrm>
                <a:off x="0" y="866880"/>
                <a:ext cx="234936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QUEM EXECU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8" name="Line 55"/>
            <p:cNvSpPr/>
            <p:nvPr/>
          </p:nvSpPr>
          <p:spPr>
            <a:xfrm>
              <a:off x="0" y="866880"/>
              <a:ext cx="913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6"/>
            <p:cNvSpPr/>
            <p:nvPr/>
          </p:nvSpPr>
          <p:spPr>
            <a:xfrm>
              <a:off x="0" y="2144880"/>
              <a:ext cx="9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7"/>
            <p:cNvSpPr/>
            <p:nvPr/>
          </p:nvSpPr>
          <p:spPr>
            <a:xfrm>
              <a:off x="0" y="3311640"/>
              <a:ext cx="913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8"/>
            <p:cNvSpPr/>
            <p:nvPr/>
          </p:nvSpPr>
          <p:spPr>
            <a:xfrm>
              <a:off x="0" y="6075360"/>
              <a:ext cx="913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0" y="6856560"/>
              <a:ext cx="9134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0" y="866880"/>
              <a:ext cx="1440" cy="59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2362320" y="866880"/>
              <a:ext cx="144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4568760" y="866880"/>
              <a:ext cx="180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63"/>
            <p:cNvSpPr/>
            <p:nvPr/>
          </p:nvSpPr>
          <p:spPr>
            <a:xfrm>
              <a:off x="6848640" y="866880"/>
              <a:ext cx="1440" cy="520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64"/>
            <p:cNvSpPr/>
            <p:nvPr/>
          </p:nvSpPr>
          <p:spPr>
            <a:xfrm>
              <a:off x="9134640" y="866880"/>
              <a:ext cx="1440" cy="59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362320" y="294660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2362320" y="425304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2362320" y="5716800"/>
              <a:ext cx="22082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0" y="4762440"/>
              <a:ext cx="913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2" name="Group 69"/>
          <p:cNvGrpSpPr/>
          <p:nvPr/>
        </p:nvGrpSpPr>
        <p:grpSpPr>
          <a:xfrm>
            <a:off x="755640" y="0"/>
            <a:ext cx="7610400" cy="1117440"/>
            <a:chOff x="755640" y="0"/>
            <a:chExt cx="7610400" cy="1117440"/>
          </a:xfrm>
        </p:grpSpPr>
        <p:sp>
          <p:nvSpPr>
            <p:cNvPr id="973" name="AutoShape 70"/>
            <p:cNvSpPr/>
            <p:nvPr/>
          </p:nvSpPr>
          <p:spPr>
            <a:xfrm>
              <a:off x="755640" y="0"/>
              <a:ext cx="7610400" cy="111744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Text Box 71"/>
            <p:cNvSpPr/>
            <p:nvPr/>
          </p:nvSpPr>
          <p:spPr>
            <a:xfrm>
              <a:off x="755640" y="348480"/>
              <a:ext cx="7610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 u="sng">
                  <a:solidFill>
                    <a:srgbClr val="008000"/>
                  </a:solidFill>
                  <a:uFillTx/>
                  <a:latin typeface="Verdana"/>
                </a:rPr>
                <a:t>Instância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75" name="Picture 72" descr=""/>
          <p:cNvPicPr/>
          <p:nvPr/>
        </p:nvPicPr>
        <p:blipFill>
          <a:blip r:embed="rId1"/>
          <a:stretch/>
        </p:blipFill>
        <p:spPr>
          <a:xfrm>
            <a:off x="4786200" y="1143000"/>
            <a:ext cx="2000520" cy="1000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73" descr=""/>
          <p:cNvPicPr/>
          <p:nvPr/>
        </p:nvPicPr>
        <p:blipFill>
          <a:blip r:embed="rId2"/>
          <a:stretch/>
        </p:blipFill>
        <p:spPr>
          <a:xfrm>
            <a:off x="2343240" y="1301760"/>
            <a:ext cx="2157480" cy="7938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74" descr=""/>
          <p:cNvPicPr/>
          <p:nvPr/>
        </p:nvPicPr>
        <p:blipFill>
          <a:blip r:embed="rId3"/>
          <a:stretch/>
        </p:blipFill>
        <p:spPr>
          <a:xfrm>
            <a:off x="428760" y="1297080"/>
            <a:ext cx="1571400" cy="726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75" descr=""/>
          <p:cNvPicPr/>
          <p:nvPr/>
        </p:nvPicPr>
        <p:blipFill>
          <a:blip r:embed="rId4"/>
          <a:stretch/>
        </p:blipFill>
        <p:spPr>
          <a:xfrm>
            <a:off x="7308720" y="1125360"/>
            <a:ext cx="1357560" cy="928800"/>
          </a:xfrm>
          <a:prstGeom prst="rect">
            <a:avLst/>
          </a:prstGeom>
          <a:ln w="0">
            <a:noFill/>
          </a:ln>
        </p:spPr>
      </p:pic>
      <p:grpSp>
        <p:nvGrpSpPr>
          <p:cNvPr id="979" name="Group 76"/>
          <p:cNvGrpSpPr/>
          <p:nvPr/>
        </p:nvGrpSpPr>
        <p:grpSpPr>
          <a:xfrm>
            <a:off x="6934320" y="5791320"/>
            <a:ext cx="330120" cy="561600"/>
            <a:chOff x="6934320" y="5791320"/>
            <a:chExt cx="330120" cy="561600"/>
          </a:xfrm>
        </p:grpSpPr>
        <p:sp>
          <p:nvSpPr>
            <p:cNvPr id="980" name="Freeform 77"/>
            <p:cNvSpPr/>
            <p:nvPr/>
          </p:nvSpPr>
          <p:spPr>
            <a:xfrm>
              <a:off x="6934320" y="5961960"/>
              <a:ext cx="330120" cy="390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78"/>
            <p:cNvSpPr/>
            <p:nvPr/>
          </p:nvSpPr>
          <p:spPr>
            <a:xfrm>
              <a:off x="6934320" y="5791320"/>
              <a:ext cx="330120" cy="2768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Group 79"/>
          <p:cNvGrpSpPr/>
          <p:nvPr/>
        </p:nvGrpSpPr>
        <p:grpSpPr>
          <a:xfrm>
            <a:off x="1979640" y="5734080"/>
            <a:ext cx="291960" cy="560160"/>
            <a:chOff x="1979640" y="5734080"/>
            <a:chExt cx="291960" cy="560160"/>
          </a:xfrm>
        </p:grpSpPr>
        <p:sp>
          <p:nvSpPr>
            <p:cNvPr id="983" name="Freeform 80"/>
            <p:cNvSpPr/>
            <p:nvPr/>
          </p:nvSpPr>
          <p:spPr>
            <a:xfrm>
              <a:off x="1979640" y="5905080"/>
              <a:ext cx="291960" cy="3891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81"/>
            <p:cNvSpPr/>
            <p:nvPr/>
          </p:nvSpPr>
          <p:spPr>
            <a:xfrm>
              <a:off x="1979640" y="5734080"/>
              <a:ext cx="291960" cy="277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5" name="Freeform 82"/>
          <p:cNvSpPr/>
          <p:nvPr/>
        </p:nvSpPr>
        <p:spPr>
          <a:xfrm>
            <a:off x="5580000" y="465300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Freeform 83"/>
          <p:cNvSpPr/>
          <p:nvPr/>
        </p:nvSpPr>
        <p:spPr>
          <a:xfrm>
            <a:off x="3348000" y="465300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Freeform 84"/>
          <p:cNvSpPr/>
          <p:nvPr/>
        </p:nvSpPr>
        <p:spPr>
          <a:xfrm>
            <a:off x="5581800" y="3200400"/>
            <a:ext cx="228600" cy="3445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Freeform 85"/>
          <p:cNvSpPr/>
          <p:nvPr/>
        </p:nvSpPr>
        <p:spPr>
          <a:xfrm>
            <a:off x="7867800" y="3219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Freeform 86"/>
          <p:cNvSpPr/>
          <p:nvPr/>
        </p:nvSpPr>
        <p:spPr>
          <a:xfrm>
            <a:off x="3348000" y="3213000"/>
            <a:ext cx="228600" cy="3430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Freeform 87"/>
          <p:cNvSpPr/>
          <p:nvPr/>
        </p:nvSpPr>
        <p:spPr>
          <a:xfrm>
            <a:off x="1028880" y="3219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Freeform 88"/>
          <p:cNvSpPr/>
          <p:nvPr/>
        </p:nvSpPr>
        <p:spPr>
          <a:xfrm>
            <a:off x="990720" y="4686480"/>
            <a:ext cx="228600" cy="342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Freeform 89"/>
          <p:cNvSpPr/>
          <p:nvPr/>
        </p:nvSpPr>
        <p:spPr>
          <a:xfrm>
            <a:off x="4400640" y="280044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Freeform 90"/>
          <p:cNvSpPr/>
          <p:nvPr/>
        </p:nvSpPr>
        <p:spPr>
          <a:xfrm>
            <a:off x="4381560" y="407664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Freeform 91"/>
          <p:cNvSpPr/>
          <p:nvPr/>
        </p:nvSpPr>
        <p:spPr>
          <a:xfrm>
            <a:off x="4427640" y="501336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Freeform 92"/>
          <p:cNvSpPr/>
          <p:nvPr/>
        </p:nvSpPr>
        <p:spPr>
          <a:xfrm>
            <a:off x="2171880" y="281952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Freeform 93"/>
          <p:cNvSpPr/>
          <p:nvPr/>
        </p:nvSpPr>
        <p:spPr>
          <a:xfrm>
            <a:off x="2152800" y="411480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Freeform 94"/>
          <p:cNvSpPr/>
          <p:nvPr/>
        </p:nvSpPr>
        <p:spPr>
          <a:xfrm>
            <a:off x="2195640" y="501336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Freeform 95"/>
          <p:cNvSpPr/>
          <p:nvPr/>
        </p:nvSpPr>
        <p:spPr>
          <a:xfrm>
            <a:off x="6629400" y="4191120"/>
            <a:ext cx="3445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reeform 96"/>
          <p:cNvSpPr/>
          <p:nvPr/>
        </p:nvSpPr>
        <p:spPr>
          <a:xfrm>
            <a:off x="6667560" y="2762280"/>
            <a:ext cx="342720" cy="2286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91440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pt-BR" sz="2600" spc="-1" strike="noStrike">
                <a:solidFill>
                  <a:srgbClr val="ffffff"/>
                </a:solidFill>
                <a:latin typeface="Verdana"/>
              </a:rPr>
              <a:t>O ATUAL MODELO DE ADESÃO MUNICIPAL AO SISTEMA ÚNICO DE ASSISTÊNCIA SOCIAL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2290320"/>
            <a:ext cx="821052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adesão dos municípios ao Sistema Único de Assistência Social (SUAS), contrapartida para o co-financiamento federal, está condicionada ao atendimento dos </a:t>
            </a:r>
            <a:r>
              <a:rPr b="1" lang="pt-BR" sz="2600" spc="-1" strike="noStrike" u="sng">
                <a:solidFill>
                  <a:srgbClr val="008000"/>
                </a:solidFill>
                <a:uFillTx/>
                <a:latin typeface="Arial"/>
              </a:rPr>
              <a:t>requisitos de habilit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que devem ser devidamente comprovados por meio da apresentação da documentação adequada e à assunção das </a:t>
            </a:r>
            <a:r>
              <a:rPr b="1" lang="pt-BR" sz="2600" spc="-1" strike="noStrike" u="sng">
                <a:solidFill>
                  <a:srgbClr val="008000"/>
                </a:solidFill>
                <a:uFillTx/>
                <a:latin typeface="Arial"/>
              </a:rPr>
              <a:t>responsabilidad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todos estabelecidos na NOB/SU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1"/>
          <p:cNvGrpSpPr/>
          <p:nvPr/>
        </p:nvGrpSpPr>
        <p:grpSpPr>
          <a:xfrm>
            <a:off x="1925640" y="260280"/>
            <a:ext cx="7218360" cy="877680"/>
            <a:chOff x="1925640" y="260280"/>
            <a:chExt cx="7218360" cy="877680"/>
          </a:xfrm>
        </p:grpSpPr>
        <p:sp>
          <p:nvSpPr>
            <p:cNvPr id="1003" name="AutoShape 2"/>
            <p:cNvSpPr/>
            <p:nvPr/>
          </p:nvSpPr>
          <p:spPr>
            <a:xfrm>
              <a:off x="1925640" y="260280"/>
              <a:ext cx="7218360" cy="877680"/>
            </a:xfrm>
            <a:prstGeom prst="roundRect">
              <a:avLst>
                <a:gd name="adj" fmla="val 18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Text Box 3"/>
            <p:cNvSpPr/>
            <p:nvPr/>
          </p:nvSpPr>
          <p:spPr>
            <a:xfrm>
              <a:off x="1925640" y="423000"/>
              <a:ext cx="721836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 u="sng">
                  <a:solidFill>
                    <a:srgbClr val="008000"/>
                  </a:solidFill>
                  <a:uFillTx/>
                  <a:latin typeface="Verdana"/>
                </a:rPr>
                <a:t>Níveis de Gestão do SUA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Text Box 4"/>
          <p:cNvSpPr/>
          <p:nvPr/>
        </p:nvSpPr>
        <p:spPr>
          <a:xfrm>
            <a:off x="395280" y="1346040"/>
            <a:ext cx="862164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Gestão Inici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Gestão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Gestão Pl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Desabilitação dos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3" descr=""/>
          <p:cNvPicPr/>
          <p:nvPr/>
        </p:nvPicPr>
        <p:blipFill>
          <a:blip r:embed="rId1"/>
          <a:stretch/>
        </p:blipFill>
        <p:spPr>
          <a:xfrm>
            <a:off x="5940360" y="191628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8" name="Group 2"/>
          <p:cNvGrpSpPr/>
          <p:nvPr/>
        </p:nvGrpSpPr>
        <p:grpSpPr>
          <a:xfrm>
            <a:off x="3124080" y="0"/>
            <a:ext cx="3760920" cy="453960"/>
            <a:chOff x="3124080" y="0"/>
            <a:chExt cx="3760920" cy="453960"/>
          </a:xfrm>
        </p:grpSpPr>
        <p:sp>
          <p:nvSpPr>
            <p:cNvPr id="1009" name="AutoShape 3"/>
            <p:cNvSpPr/>
            <p:nvPr/>
          </p:nvSpPr>
          <p:spPr>
            <a:xfrm>
              <a:off x="3124080" y="0"/>
              <a:ext cx="3524400" cy="390600"/>
            </a:xfrm>
            <a:prstGeom prst="roundRect">
              <a:avLst>
                <a:gd name="adj" fmla="val 40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0" name="Group 4"/>
            <p:cNvGrpSpPr/>
            <p:nvPr/>
          </p:nvGrpSpPr>
          <p:grpSpPr>
            <a:xfrm>
              <a:off x="3124080" y="0"/>
              <a:ext cx="3760920" cy="453960"/>
              <a:chOff x="3124080" y="0"/>
              <a:chExt cx="3760920" cy="453960"/>
            </a:xfrm>
          </p:grpSpPr>
          <p:sp>
            <p:nvSpPr>
              <p:cNvPr id="1011" name="AutoShape 5"/>
              <p:cNvSpPr/>
              <p:nvPr/>
            </p:nvSpPr>
            <p:spPr>
              <a:xfrm>
                <a:off x="3124080" y="0"/>
                <a:ext cx="3519720" cy="385920"/>
              </a:xfrm>
              <a:prstGeom prst="roundRect">
                <a:avLst>
                  <a:gd name="adj" fmla="val 41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2" name="Group 6"/>
              <p:cNvGrpSpPr/>
              <p:nvPr/>
            </p:nvGrpSpPr>
            <p:grpSpPr>
              <a:xfrm>
                <a:off x="3124080" y="0"/>
                <a:ext cx="3760920" cy="453960"/>
                <a:chOff x="3124080" y="0"/>
                <a:chExt cx="3760920" cy="453960"/>
              </a:xfrm>
            </p:grpSpPr>
            <p:sp>
              <p:nvSpPr>
                <p:cNvPr id="1013" name="AutoShape 7"/>
                <p:cNvSpPr/>
                <p:nvPr/>
              </p:nvSpPr>
              <p:spPr>
                <a:xfrm>
                  <a:off x="3124080" y="0"/>
                  <a:ext cx="3516480" cy="384120"/>
                </a:xfrm>
                <a:prstGeom prst="roundRect">
                  <a:avLst>
                    <a:gd name="adj" fmla="val 41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4" name="Group 8"/>
                <p:cNvGrpSpPr/>
                <p:nvPr/>
              </p:nvGrpSpPr>
              <p:grpSpPr>
                <a:xfrm>
                  <a:off x="3124080" y="0"/>
                  <a:ext cx="3760920" cy="453960"/>
                  <a:chOff x="3124080" y="0"/>
                  <a:chExt cx="3760920" cy="453960"/>
                </a:xfrm>
              </p:grpSpPr>
              <p:sp>
                <p:nvSpPr>
                  <p:cNvPr id="1015" name="AutoShape 9"/>
                  <p:cNvSpPr/>
                  <p:nvPr/>
                </p:nvSpPr>
                <p:spPr>
                  <a:xfrm>
                    <a:off x="3124080" y="0"/>
                    <a:ext cx="3514680" cy="382680"/>
                  </a:xfrm>
                  <a:prstGeom prst="roundRect">
                    <a:avLst>
                      <a:gd name="adj" fmla="val 41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6" name="Group 10"/>
                  <p:cNvGrpSpPr/>
                  <p:nvPr/>
                </p:nvGrpSpPr>
                <p:grpSpPr>
                  <a:xfrm>
                    <a:off x="3124080" y="0"/>
                    <a:ext cx="3760920" cy="453960"/>
                    <a:chOff x="3124080" y="0"/>
                    <a:chExt cx="3760920" cy="453960"/>
                  </a:xfrm>
                </p:grpSpPr>
                <p:sp>
                  <p:nvSpPr>
                    <p:cNvPr id="1017" name="AutoShape 11"/>
                    <p:cNvSpPr/>
                    <p:nvPr/>
                  </p:nvSpPr>
                  <p:spPr>
                    <a:xfrm>
                      <a:off x="3124080" y="0"/>
                      <a:ext cx="3514680" cy="38268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8" name="Group 12"/>
                    <p:cNvGrpSpPr/>
                    <p:nvPr/>
                  </p:nvGrpSpPr>
                  <p:grpSpPr>
                    <a:xfrm>
                      <a:off x="3124080" y="0"/>
                      <a:ext cx="3760920" cy="453960"/>
                      <a:chOff x="3124080" y="0"/>
                      <a:chExt cx="3760920" cy="453960"/>
                    </a:xfrm>
                  </p:grpSpPr>
                  <p:sp>
                    <p:nvSpPr>
                      <p:cNvPr id="1019" name="AutoShape 13"/>
                      <p:cNvSpPr/>
                      <p:nvPr/>
                    </p:nvSpPr>
                    <p:spPr>
                      <a:xfrm>
                        <a:off x="3124080" y="0"/>
                        <a:ext cx="3760920" cy="453960"/>
                      </a:xfrm>
                      <a:prstGeom prst="roundRect">
                        <a:avLst>
                          <a:gd name="adj" fmla="val 34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0" name="Group 14"/>
                      <p:cNvGrpSpPr/>
                      <p:nvPr/>
                    </p:nvGrpSpPr>
                    <p:grpSpPr>
                      <a:xfrm>
                        <a:off x="3124080" y="0"/>
                        <a:ext cx="3756240" cy="449280"/>
                        <a:chOff x="3124080" y="0"/>
                        <a:chExt cx="3756240" cy="449280"/>
                      </a:xfrm>
                    </p:grpSpPr>
                    <p:sp>
                      <p:nvSpPr>
                        <p:cNvPr id="1021" name="AutoShape 15"/>
                        <p:cNvSpPr/>
                        <p:nvPr/>
                      </p:nvSpPr>
                      <p:spPr>
                        <a:xfrm>
                          <a:off x="3124080" y="0"/>
                          <a:ext cx="3756240" cy="449280"/>
                        </a:xfrm>
                        <a:prstGeom prst="roundRect">
                          <a:avLst>
                            <a:gd name="adj" fmla="val 352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22" name="Group 16"/>
                        <p:cNvGrpSpPr/>
                        <p:nvPr/>
                      </p:nvGrpSpPr>
                      <p:grpSpPr>
                        <a:xfrm>
                          <a:off x="3124080" y="0"/>
                          <a:ext cx="3753000" cy="446040"/>
                          <a:chOff x="3124080" y="0"/>
                          <a:chExt cx="3753000" cy="446040"/>
                        </a:xfrm>
                      </p:grpSpPr>
                      <p:sp>
                        <p:nvSpPr>
                          <p:cNvPr id="1023" name="AutoShape 17"/>
                          <p:cNvSpPr/>
                          <p:nvPr/>
                        </p:nvSpPr>
                        <p:spPr>
                          <a:xfrm>
                            <a:off x="3124080" y="0"/>
                            <a:ext cx="3753000" cy="446040"/>
                          </a:xfrm>
                          <a:prstGeom prst="roundRect">
                            <a:avLst>
                              <a:gd name="adj" fmla="val 356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24" name="Group 18"/>
                          <p:cNvGrpSpPr/>
                          <p:nvPr/>
                        </p:nvGrpSpPr>
                        <p:grpSpPr>
                          <a:xfrm>
                            <a:off x="3124080" y="0"/>
                            <a:ext cx="3751560" cy="444600"/>
                            <a:chOff x="3124080" y="0"/>
                            <a:chExt cx="3751560" cy="444600"/>
                          </a:xfrm>
                        </p:grpSpPr>
                        <p:sp>
                          <p:nvSpPr>
                            <p:cNvPr id="1025" name="AutoShape 19"/>
                            <p:cNvSpPr/>
                            <p:nvPr/>
                          </p:nvSpPr>
                          <p:spPr>
                            <a:xfrm>
                              <a:off x="3124080" y="0"/>
                              <a:ext cx="3751560" cy="444600"/>
                            </a:xfrm>
                            <a:prstGeom prst="roundRect">
                              <a:avLst>
                                <a:gd name="adj" fmla="val 356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26" name="Group 20"/>
                            <p:cNvGrpSpPr/>
                            <p:nvPr/>
                          </p:nvGrpSpPr>
                          <p:grpSpPr>
                            <a:xfrm>
                              <a:off x="3124080" y="0"/>
                              <a:ext cx="3751560" cy="444600"/>
                              <a:chOff x="3124080" y="0"/>
                              <a:chExt cx="3751560" cy="444600"/>
                            </a:xfrm>
                          </p:grpSpPr>
                          <p:sp>
                            <p:nvSpPr>
                              <p:cNvPr id="1027" name="AutoShape 21"/>
                              <p:cNvSpPr/>
                              <p:nvPr/>
                            </p:nvSpPr>
                            <p:spPr>
                              <a:xfrm>
                                <a:off x="3124080" y="0"/>
                                <a:ext cx="3751560" cy="444600"/>
                              </a:xfrm>
                              <a:prstGeom prst="roundRect">
                                <a:avLst>
                                  <a:gd name="adj" fmla="val 3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AutoShape 22"/>
                              <p:cNvSpPr/>
                              <p:nvPr/>
                            </p:nvSpPr>
                            <p:spPr>
                              <a:xfrm>
                                <a:off x="3202200" y="0"/>
                                <a:ext cx="3330000" cy="369000"/>
                              </a:xfrm>
                              <a:prstGeom prst="roundRect">
                                <a:avLst>
                                  <a:gd name="adj" fmla="val 3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pt-BR" sz="18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ETAPAS PARA HABILITAÇÃO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029" name="Group 23"/>
          <p:cNvGrpSpPr/>
          <p:nvPr/>
        </p:nvGrpSpPr>
        <p:grpSpPr>
          <a:xfrm>
            <a:off x="609480" y="685800"/>
            <a:ext cx="2041560" cy="669960"/>
            <a:chOff x="609480" y="685800"/>
            <a:chExt cx="2041560" cy="669960"/>
          </a:xfrm>
        </p:grpSpPr>
        <p:sp>
          <p:nvSpPr>
            <p:cNvPr id="1030" name="Oval 24"/>
            <p:cNvSpPr/>
            <p:nvPr/>
          </p:nvSpPr>
          <p:spPr>
            <a:xfrm>
              <a:off x="609480" y="685800"/>
              <a:ext cx="2041560" cy="669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1" name="Group 25"/>
            <p:cNvGrpSpPr/>
            <p:nvPr/>
          </p:nvGrpSpPr>
          <p:grpSpPr>
            <a:xfrm>
              <a:off x="914040" y="781200"/>
              <a:ext cx="1430640" cy="489960"/>
              <a:chOff x="914040" y="781200"/>
              <a:chExt cx="1430640" cy="489960"/>
            </a:xfrm>
          </p:grpSpPr>
          <p:sp>
            <p:nvSpPr>
              <p:cNvPr id="1032" name="AutoShape 26"/>
              <p:cNvSpPr/>
              <p:nvPr/>
            </p:nvSpPr>
            <p:spPr>
              <a:xfrm>
                <a:off x="914040" y="786600"/>
                <a:ext cx="1430640" cy="467280"/>
              </a:xfrm>
              <a:prstGeom prst="roundRect">
                <a:avLst>
                  <a:gd name="adj" fmla="val 33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Text Box 27"/>
              <p:cNvSpPr/>
              <p:nvPr/>
            </p:nvSpPr>
            <p:spPr>
              <a:xfrm>
                <a:off x="914040" y="781200"/>
                <a:ext cx="1429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Gestor municipal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4" name="Group 28"/>
          <p:cNvGrpSpPr/>
          <p:nvPr/>
        </p:nvGrpSpPr>
        <p:grpSpPr>
          <a:xfrm>
            <a:off x="6629400" y="609480"/>
            <a:ext cx="2193840" cy="974880"/>
            <a:chOff x="6629400" y="609480"/>
            <a:chExt cx="2193840" cy="974880"/>
          </a:xfrm>
        </p:grpSpPr>
        <p:sp>
          <p:nvSpPr>
            <p:cNvPr id="1035" name="Oval 29"/>
            <p:cNvSpPr/>
            <p:nvPr/>
          </p:nvSpPr>
          <p:spPr>
            <a:xfrm>
              <a:off x="6629400" y="609480"/>
              <a:ext cx="2193840" cy="974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6" name="Group 30"/>
            <p:cNvGrpSpPr/>
            <p:nvPr/>
          </p:nvGrpSpPr>
          <p:grpSpPr>
            <a:xfrm>
              <a:off x="6955920" y="649080"/>
              <a:ext cx="1538640" cy="885960"/>
              <a:chOff x="6955920" y="649080"/>
              <a:chExt cx="1538640" cy="885960"/>
            </a:xfrm>
          </p:grpSpPr>
          <p:sp>
            <p:nvSpPr>
              <p:cNvPr id="1037" name="AutoShape 31"/>
              <p:cNvSpPr/>
              <p:nvPr/>
            </p:nvSpPr>
            <p:spPr>
              <a:xfrm>
                <a:off x="6955920" y="754560"/>
                <a:ext cx="1538640" cy="68328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Text Box 32"/>
              <p:cNvSpPr/>
              <p:nvPr/>
            </p:nvSpPr>
            <p:spPr>
              <a:xfrm>
                <a:off x="6955920" y="649080"/>
                <a:ext cx="15354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nselho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nicipal d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ssistência Social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9" name="Group 33"/>
          <p:cNvGrpSpPr/>
          <p:nvPr/>
        </p:nvGrpSpPr>
        <p:grpSpPr>
          <a:xfrm>
            <a:off x="228600" y="2120400"/>
            <a:ext cx="2422440" cy="1083960"/>
            <a:chOff x="228600" y="2120400"/>
            <a:chExt cx="2422440" cy="1083960"/>
          </a:xfrm>
        </p:grpSpPr>
        <p:sp>
          <p:nvSpPr>
            <p:cNvPr id="1040" name="Oval 34"/>
            <p:cNvSpPr/>
            <p:nvPr/>
          </p:nvSpPr>
          <p:spPr>
            <a:xfrm>
              <a:off x="228600" y="2144880"/>
              <a:ext cx="2422440" cy="1041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1" name="Group 35"/>
            <p:cNvGrpSpPr/>
            <p:nvPr/>
          </p:nvGrpSpPr>
          <p:grpSpPr>
            <a:xfrm>
              <a:off x="588600" y="2120400"/>
              <a:ext cx="1695600" cy="1083960"/>
              <a:chOff x="588600" y="2120400"/>
              <a:chExt cx="1695600" cy="1083960"/>
            </a:xfrm>
          </p:grpSpPr>
          <p:sp>
            <p:nvSpPr>
              <p:cNvPr id="1042" name="AutoShape 36"/>
              <p:cNvSpPr/>
              <p:nvPr/>
            </p:nvSpPr>
            <p:spPr>
              <a:xfrm>
                <a:off x="588600" y="2300040"/>
                <a:ext cx="1695600" cy="722880"/>
              </a:xfrm>
              <a:prstGeom prst="roundRect">
                <a:avLst>
                  <a:gd name="adj" fmla="val 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Text Box 37"/>
              <p:cNvSpPr/>
              <p:nvPr/>
            </p:nvSpPr>
            <p:spPr>
              <a:xfrm>
                <a:off x="588600" y="2120400"/>
                <a:ext cx="1694160" cy="10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Secretaria de Estado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e Assistência Social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ou congêner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4" name="Group 38"/>
          <p:cNvGrpSpPr/>
          <p:nvPr/>
        </p:nvGrpSpPr>
        <p:grpSpPr>
          <a:xfrm>
            <a:off x="3429000" y="3505320"/>
            <a:ext cx="2498760" cy="974520"/>
            <a:chOff x="3429000" y="3505320"/>
            <a:chExt cx="2498760" cy="974520"/>
          </a:xfrm>
        </p:grpSpPr>
        <p:sp>
          <p:nvSpPr>
            <p:cNvPr id="1045" name="Oval 39"/>
            <p:cNvSpPr/>
            <p:nvPr/>
          </p:nvSpPr>
          <p:spPr>
            <a:xfrm>
              <a:off x="3429000" y="3505320"/>
              <a:ext cx="2498760" cy="97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6" name="Group 40"/>
            <p:cNvGrpSpPr/>
            <p:nvPr/>
          </p:nvGrpSpPr>
          <p:grpSpPr>
            <a:xfrm>
              <a:off x="3800160" y="3643560"/>
              <a:ext cx="1748160" cy="687960"/>
              <a:chOff x="3800160" y="3643560"/>
              <a:chExt cx="1748160" cy="687960"/>
            </a:xfrm>
          </p:grpSpPr>
          <p:sp>
            <p:nvSpPr>
              <p:cNvPr id="1047" name="AutoShape 41"/>
              <p:cNvSpPr/>
              <p:nvPr/>
            </p:nvSpPr>
            <p:spPr>
              <a:xfrm>
                <a:off x="3800160" y="3650400"/>
                <a:ext cx="1748160" cy="67644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Text Box 42"/>
              <p:cNvSpPr/>
              <p:nvPr/>
            </p:nvSpPr>
            <p:spPr>
              <a:xfrm>
                <a:off x="3800160" y="3643560"/>
                <a:ext cx="174636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missão Intergestor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ipartite (CIB):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Group 43"/>
          <p:cNvGrpSpPr/>
          <p:nvPr/>
        </p:nvGrpSpPr>
        <p:grpSpPr>
          <a:xfrm>
            <a:off x="3581280" y="682560"/>
            <a:ext cx="2270160" cy="687960"/>
            <a:chOff x="3581280" y="682560"/>
            <a:chExt cx="2270160" cy="687960"/>
          </a:xfrm>
        </p:grpSpPr>
        <p:sp>
          <p:nvSpPr>
            <p:cNvPr id="1050" name="AutoShape 44"/>
            <p:cNvSpPr/>
            <p:nvPr/>
          </p:nvSpPr>
          <p:spPr>
            <a:xfrm>
              <a:off x="3581280" y="689040"/>
              <a:ext cx="2270160" cy="669960"/>
            </a:xfrm>
            <a:prstGeom prst="roundRect">
              <a:avLst>
                <a:gd name="adj" fmla="val 23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1" name="Group 45"/>
            <p:cNvGrpSpPr/>
            <p:nvPr/>
          </p:nvGrpSpPr>
          <p:grpSpPr>
            <a:xfrm>
              <a:off x="3581280" y="682560"/>
              <a:ext cx="2257200" cy="687960"/>
              <a:chOff x="3581280" y="682560"/>
              <a:chExt cx="2257200" cy="687960"/>
            </a:xfrm>
          </p:grpSpPr>
          <p:sp>
            <p:nvSpPr>
              <p:cNvPr id="1052" name="AutoShape 46"/>
              <p:cNvSpPr/>
              <p:nvPr/>
            </p:nvSpPr>
            <p:spPr>
              <a:xfrm>
                <a:off x="3581280" y="688680"/>
                <a:ext cx="2257200" cy="657360"/>
              </a:xfrm>
              <a:prstGeom prst="roundRect">
                <a:avLst>
                  <a:gd name="adj" fmla="val 24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Text Box 47"/>
              <p:cNvSpPr/>
              <p:nvPr/>
            </p:nvSpPr>
            <p:spPr>
              <a:xfrm>
                <a:off x="3581280" y="682560"/>
                <a:ext cx="2257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reparação do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ocumentos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mprobatório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Group 48"/>
          <p:cNvGrpSpPr/>
          <p:nvPr/>
        </p:nvGrpSpPr>
        <p:grpSpPr>
          <a:xfrm>
            <a:off x="6553080" y="1977840"/>
            <a:ext cx="2346480" cy="687960"/>
            <a:chOff x="6553080" y="1977840"/>
            <a:chExt cx="2346480" cy="687960"/>
          </a:xfrm>
        </p:grpSpPr>
        <p:sp>
          <p:nvSpPr>
            <p:cNvPr id="1055" name="AutoShape 49"/>
            <p:cNvSpPr/>
            <p:nvPr/>
          </p:nvSpPr>
          <p:spPr>
            <a:xfrm>
              <a:off x="6553080" y="1984320"/>
              <a:ext cx="2346480" cy="67788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6" name="Group 50"/>
            <p:cNvGrpSpPr/>
            <p:nvPr/>
          </p:nvGrpSpPr>
          <p:grpSpPr>
            <a:xfrm>
              <a:off x="6553080" y="1977840"/>
              <a:ext cx="2332440" cy="687960"/>
              <a:chOff x="6553080" y="1977840"/>
              <a:chExt cx="2332440" cy="687960"/>
            </a:xfrm>
          </p:grpSpPr>
          <p:sp>
            <p:nvSpPr>
              <p:cNvPr id="1057" name="AutoShape 51"/>
              <p:cNvSpPr/>
              <p:nvPr/>
            </p:nvSpPr>
            <p:spPr>
              <a:xfrm>
                <a:off x="6553080" y="1983960"/>
                <a:ext cx="2332440" cy="662040"/>
              </a:xfrm>
              <a:prstGeom prst="roundRect">
                <a:avLst>
                  <a:gd name="adj" fmla="val 23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Text Box 52"/>
              <p:cNvSpPr/>
              <p:nvPr/>
            </p:nvSpPr>
            <p:spPr>
              <a:xfrm>
                <a:off x="6553080" y="1977840"/>
                <a:ext cx="233244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nálise e deliberaçã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os documento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mprobatório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9" name="Group 53"/>
          <p:cNvGrpSpPr/>
          <p:nvPr/>
        </p:nvGrpSpPr>
        <p:grpSpPr>
          <a:xfrm>
            <a:off x="3505320" y="2286000"/>
            <a:ext cx="1965240" cy="822240"/>
            <a:chOff x="3505320" y="2286000"/>
            <a:chExt cx="1965240" cy="822240"/>
          </a:xfrm>
        </p:grpSpPr>
        <p:sp>
          <p:nvSpPr>
            <p:cNvPr id="1060" name="AutoShape 54"/>
            <p:cNvSpPr/>
            <p:nvPr/>
          </p:nvSpPr>
          <p:spPr>
            <a:xfrm>
              <a:off x="3505320" y="2286000"/>
              <a:ext cx="1965240" cy="82224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1" name="Group 55"/>
            <p:cNvGrpSpPr/>
            <p:nvPr/>
          </p:nvGrpSpPr>
          <p:grpSpPr>
            <a:xfrm>
              <a:off x="3505320" y="2286000"/>
              <a:ext cx="1951200" cy="807840"/>
              <a:chOff x="3505320" y="2286000"/>
              <a:chExt cx="1951200" cy="807840"/>
            </a:xfrm>
          </p:grpSpPr>
          <p:sp>
            <p:nvSpPr>
              <p:cNvPr id="1062" name="AutoShape 56"/>
              <p:cNvSpPr/>
              <p:nvPr/>
            </p:nvSpPr>
            <p:spPr>
              <a:xfrm>
                <a:off x="3505320" y="2286000"/>
                <a:ext cx="1951200" cy="80784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Text Box 57"/>
              <p:cNvSpPr/>
              <p:nvPr/>
            </p:nvSpPr>
            <p:spPr>
              <a:xfrm>
                <a:off x="3505320" y="2346840"/>
                <a:ext cx="1951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valiaçã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arecer técnic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(máximo 30 dias)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Group 58"/>
          <p:cNvGrpSpPr/>
          <p:nvPr/>
        </p:nvGrpSpPr>
        <p:grpSpPr>
          <a:xfrm>
            <a:off x="3124080" y="4724280"/>
            <a:ext cx="2880000" cy="898560"/>
            <a:chOff x="3124080" y="4724280"/>
            <a:chExt cx="2880000" cy="898560"/>
          </a:xfrm>
        </p:grpSpPr>
        <p:sp>
          <p:nvSpPr>
            <p:cNvPr id="1065" name="AutoShape 59"/>
            <p:cNvSpPr/>
            <p:nvPr/>
          </p:nvSpPr>
          <p:spPr>
            <a:xfrm>
              <a:off x="3124080" y="4724280"/>
              <a:ext cx="2880000" cy="898560"/>
            </a:xfrm>
            <a:prstGeom prst="roundRect">
              <a:avLst>
                <a:gd name="adj" fmla="val 1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6" name="Group 60"/>
            <p:cNvGrpSpPr/>
            <p:nvPr/>
          </p:nvGrpSpPr>
          <p:grpSpPr>
            <a:xfrm>
              <a:off x="3124080" y="4724280"/>
              <a:ext cx="2865600" cy="885600"/>
              <a:chOff x="3124080" y="4724280"/>
              <a:chExt cx="2865600" cy="885600"/>
            </a:xfrm>
          </p:grpSpPr>
          <p:sp>
            <p:nvSpPr>
              <p:cNvPr id="1067" name="AutoShape 61"/>
              <p:cNvSpPr/>
              <p:nvPr/>
            </p:nvSpPr>
            <p:spPr>
              <a:xfrm>
                <a:off x="3124080" y="4724280"/>
                <a:ext cx="2865600" cy="8856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Text Box 62"/>
              <p:cNvSpPr/>
              <p:nvPr/>
            </p:nvSpPr>
            <p:spPr>
              <a:xfrm>
                <a:off x="3124080" y="4826160"/>
                <a:ext cx="2865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.Apreciação e posicionament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.Preenchimento do termo d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habilitaçã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Group 63"/>
          <p:cNvGrpSpPr/>
          <p:nvPr/>
        </p:nvGrpSpPr>
        <p:grpSpPr>
          <a:xfrm>
            <a:off x="380880" y="4724280"/>
            <a:ext cx="2117880" cy="898560"/>
            <a:chOff x="380880" y="4724280"/>
            <a:chExt cx="2117880" cy="898560"/>
          </a:xfrm>
        </p:grpSpPr>
        <p:sp>
          <p:nvSpPr>
            <p:cNvPr id="1070" name="AutoShape 64"/>
            <p:cNvSpPr/>
            <p:nvPr/>
          </p:nvSpPr>
          <p:spPr>
            <a:xfrm>
              <a:off x="380880" y="4724280"/>
              <a:ext cx="2117880" cy="898560"/>
            </a:xfrm>
            <a:prstGeom prst="roundRect">
              <a:avLst>
                <a:gd name="adj" fmla="val 17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1" name="Group 65"/>
            <p:cNvGrpSpPr/>
            <p:nvPr/>
          </p:nvGrpSpPr>
          <p:grpSpPr>
            <a:xfrm>
              <a:off x="380880" y="4724280"/>
              <a:ext cx="2103840" cy="885600"/>
              <a:chOff x="380880" y="4724280"/>
              <a:chExt cx="2103840" cy="885600"/>
            </a:xfrm>
          </p:grpSpPr>
          <p:sp>
            <p:nvSpPr>
              <p:cNvPr id="1072" name="AutoShape 66"/>
              <p:cNvSpPr/>
              <p:nvPr/>
            </p:nvSpPr>
            <p:spPr>
              <a:xfrm>
                <a:off x="380880" y="4724280"/>
                <a:ext cx="2103840" cy="8856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Text Box 67"/>
              <p:cNvSpPr/>
              <p:nvPr/>
            </p:nvSpPr>
            <p:spPr>
              <a:xfrm>
                <a:off x="380880" y="4826160"/>
                <a:ext cx="210384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ublicação da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habilitação pactuada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 </a:t>
                </a: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a CIB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Group 68"/>
          <p:cNvGrpSpPr/>
          <p:nvPr/>
        </p:nvGrpSpPr>
        <p:grpSpPr>
          <a:xfrm>
            <a:off x="6477120" y="3429000"/>
            <a:ext cx="2498760" cy="974880"/>
            <a:chOff x="6477120" y="3429000"/>
            <a:chExt cx="2498760" cy="974880"/>
          </a:xfrm>
        </p:grpSpPr>
        <p:sp>
          <p:nvSpPr>
            <p:cNvPr id="1075" name="Oval 69"/>
            <p:cNvSpPr/>
            <p:nvPr/>
          </p:nvSpPr>
          <p:spPr>
            <a:xfrm>
              <a:off x="6477120" y="3429000"/>
              <a:ext cx="2498760" cy="974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6" name="Group 70"/>
            <p:cNvGrpSpPr/>
            <p:nvPr/>
          </p:nvGrpSpPr>
          <p:grpSpPr>
            <a:xfrm>
              <a:off x="6849720" y="3569040"/>
              <a:ext cx="1751400" cy="687960"/>
              <a:chOff x="6849720" y="3569040"/>
              <a:chExt cx="1751400" cy="687960"/>
            </a:xfrm>
          </p:grpSpPr>
          <p:sp>
            <p:nvSpPr>
              <p:cNvPr id="1077" name="AutoShape 71"/>
              <p:cNvSpPr/>
              <p:nvPr/>
            </p:nvSpPr>
            <p:spPr>
              <a:xfrm>
                <a:off x="6849720" y="3574440"/>
                <a:ext cx="1751400" cy="67536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Text Box 72"/>
              <p:cNvSpPr/>
              <p:nvPr/>
            </p:nvSpPr>
            <p:spPr>
              <a:xfrm>
                <a:off x="6849720" y="3569040"/>
                <a:ext cx="17514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missão Intergestor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Tripartite (CIT):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Group 73"/>
          <p:cNvGrpSpPr/>
          <p:nvPr/>
        </p:nvGrpSpPr>
        <p:grpSpPr>
          <a:xfrm>
            <a:off x="6629400" y="4724280"/>
            <a:ext cx="2117880" cy="822600"/>
            <a:chOff x="6629400" y="4724280"/>
            <a:chExt cx="2117880" cy="822600"/>
          </a:xfrm>
        </p:grpSpPr>
        <p:sp>
          <p:nvSpPr>
            <p:cNvPr id="1080" name="AutoShape 74"/>
            <p:cNvSpPr/>
            <p:nvPr/>
          </p:nvSpPr>
          <p:spPr>
            <a:xfrm>
              <a:off x="6629400" y="4724280"/>
              <a:ext cx="2117880" cy="82260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1" name="Group 75"/>
            <p:cNvGrpSpPr/>
            <p:nvPr/>
          </p:nvGrpSpPr>
          <p:grpSpPr>
            <a:xfrm>
              <a:off x="6629400" y="4724280"/>
              <a:ext cx="2103480" cy="808200"/>
              <a:chOff x="6629400" y="4724280"/>
              <a:chExt cx="2103480" cy="808200"/>
            </a:xfrm>
          </p:grpSpPr>
          <p:sp>
            <p:nvSpPr>
              <p:cNvPr id="1082" name="AutoShape 76"/>
              <p:cNvSpPr/>
              <p:nvPr/>
            </p:nvSpPr>
            <p:spPr>
              <a:xfrm>
                <a:off x="6629400" y="4724280"/>
                <a:ext cx="2103480" cy="808200"/>
              </a:xfrm>
              <a:prstGeom prst="roundRect">
                <a:avLst>
                  <a:gd name="adj" fmla="val 1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Text Box 77"/>
              <p:cNvSpPr/>
              <p:nvPr/>
            </p:nvSpPr>
            <p:spPr>
              <a:xfrm>
                <a:off x="6629400" y="4785120"/>
                <a:ext cx="21034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ópia da publicação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a  habilitação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actuada na CIB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Group 78"/>
          <p:cNvGrpSpPr/>
          <p:nvPr/>
        </p:nvGrpSpPr>
        <p:grpSpPr>
          <a:xfrm>
            <a:off x="2895480" y="5940360"/>
            <a:ext cx="3565800" cy="687960"/>
            <a:chOff x="2895480" y="5940360"/>
            <a:chExt cx="3565800" cy="687960"/>
          </a:xfrm>
        </p:grpSpPr>
        <p:sp>
          <p:nvSpPr>
            <p:cNvPr id="1085" name="AutoShape 79"/>
            <p:cNvSpPr/>
            <p:nvPr/>
          </p:nvSpPr>
          <p:spPr>
            <a:xfrm>
              <a:off x="2895480" y="5946840"/>
              <a:ext cx="3565800" cy="669960"/>
            </a:xfrm>
            <a:prstGeom prst="roundRect">
              <a:avLst>
                <a:gd name="adj" fmla="val 23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6" name="Group 80"/>
            <p:cNvGrpSpPr/>
            <p:nvPr/>
          </p:nvGrpSpPr>
          <p:grpSpPr>
            <a:xfrm>
              <a:off x="2895480" y="5940360"/>
              <a:ext cx="3551400" cy="687960"/>
              <a:chOff x="2895480" y="5940360"/>
              <a:chExt cx="3551400" cy="687960"/>
            </a:xfrm>
          </p:grpSpPr>
          <p:sp>
            <p:nvSpPr>
              <p:cNvPr id="1087" name="AutoShape 81"/>
              <p:cNvSpPr/>
              <p:nvPr/>
            </p:nvSpPr>
            <p:spPr>
              <a:xfrm>
                <a:off x="2895480" y="5946480"/>
                <a:ext cx="3551400" cy="657360"/>
              </a:xfrm>
              <a:prstGeom prst="roundRect">
                <a:avLst>
                  <a:gd name="adj" fmla="val 24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Text Box 82"/>
              <p:cNvSpPr/>
              <p:nvPr/>
            </p:nvSpPr>
            <p:spPr>
              <a:xfrm>
                <a:off x="2895480" y="5940360"/>
                <a:ext cx="35514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rquivamento de tod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o processo e da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ublicação de habilitaçã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Line 83"/>
          <p:cNvSpPr/>
          <p:nvPr/>
        </p:nvSpPr>
        <p:spPr>
          <a:xfrm>
            <a:off x="2666880" y="9907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Line 84"/>
          <p:cNvSpPr/>
          <p:nvPr/>
        </p:nvSpPr>
        <p:spPr>
          <a:xfrm>
            <a:off x="5867280" y="9907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Line 85"/>
          <p:cNvSpPr/>
          <p:nvPr/>
        </p:nvSpPr>
        <p:spPr>
          <a:xfrm>
            <a:off x="7696080" y="16002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Line 86"/>
          <p:cNvSpPr/>
          <p:nvPr/>
        </p:nvSpPr>
        <p:spPr>
          <a:xfrm flipH="1">
            <a:off x="3328920" y="2057400"/>
            <a:ext cx="32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Line 87"/>
          <p:cNvSpPr/>
          <p:nvPr/>
        </p:nvSpPr>
        <p:spPr>
          <a:xfrm flipH="1" flipV="1">
            <a:off x="2261880" y="1271160"/>
            <a:ext cx="111420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Line 88"/>
          <p:cNvSpPr/>
          <p:nvPr/>
        </p:nvSpPr>
        <p:spPr>
          <a:xfrm>
            <a:off x="1523880" y="13716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Line 89"/>
          <p:cNvSpPr/>
          <p:nvPr/>
        </p:nvSpPr>
        <p:spPr>
          <a:xfrm>
            <a:off x="1523880" y="3200400"/>
            <a:ext cx="18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Line 90"/>
          <p:cNvSpPr/>
          <p:nvPr/>
        </p:nvSpPr>
        <p:spPr>
          <a:xfrm>
            <a:off x="2666880" y="26668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Line 91"/>
          <p:cNvSpPr/>
          <p:nvPr/>
        </p:nvSpPr>
        <p:spPr>
          <a:xfrm>
            <a:off x="7772400" y="4419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Line 92"/>
          <p:cNvSpPr/>
          <p:nvPr/>
        </p:nvSpPr>
        <p:spPr>
          <a:xfrm>
            <a:off x="4648320" y="44956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Line 93"/>
          <p:cNvSpPr/>
          <p:nvPr/>
        </p:nvSpPr>
        <p:spPr>
          <a:xfrm flipH="1" flipV="1">
            <a:off x="1499760" y="3176640"/>
            <a:ext cx="1647720" cy="19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Line 94"/>
          <p:cNvSpPr/>
          <p:nvPr/>
        </p:nvSpPr>
        <p:spPr>
          <a:xfrm>
            <a:off x="6019920" y="51055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Line 95"/>
          <p:cNvSpPr/>
          <p:nvPr/>
        </p:nvSpPr>
        <p:spPr>
          <a:xfrm>
            <a:off x="4572000" y="56386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Line 96"/>
          <p:cNvSpPr/>
          <p:nvPr/>
        </p:nvSpPr>
        <p:spPr>
          <a:xfrm>
            <a:off x="4572000" y="31240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3" name="Group 97"/>
          <p:cNvGrpSpPr/>
          <p:nvPr/>
        </p:nvGrpSpPr>
        <p:grpSpPr>
          <a:xfrm>
            <a:off x="4619160" y="1752480"/>
            <a:ext cx="848880" cy="297000"/>
            <a:chOff x="4619160" y="1752480"/>
            <a:chExt cx="848880" cy="297000"/>
          </a:xfrm>
        </p:grpSpPr>
        <p:sp>
          <p:nvSpPr>
            <p:cNvPr id="1104" name="AutoShape 98"/>
            <p:cNvSpPr/>
            <p:nvPr/>
          </p:nvSpPr>
          <p:spPr>
            <a:xfrm>
              <a:off x="4648320" y="1752480"/>
              <a:ext cx="741240" cy="292320"/>
            </a:xfrm>
            <a:prstGeom prst="roundRect">
              <a:avLst>
                <a:gd name="adj" fmla="val 5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5" name="Group 99"/>
            <p:cNvGrpSpPr/>
            <p:nvPr/>
          </p:nvGrpSpPr>
          <p:grpSpPr>
            <a:xfrm>
              <a:off x="4619160" y="1752480"/>
              <a:ext cx="848880" cy="297000"/>
              <a:chOff x="4619160" y="1752480"/>
              <a:chExt cx="848880" cy="297000"/>
            </a:xfrm>
          </p:grpSpPr>
          <p:sp>
            <p:nvSpPr>
              <p:cNvPr id="1106" name="AutoShape 100"/>
              <p:cNvSpPr/>
              <p:nvPr/>
            </p:nvSpPr>
            <p:spPr>
              <a:xfrm>
                <a:off x="4648320" y="1752480"/>
                <a:ext cx="736560" cy="284400"/>
              </a:xfrm>
              <a:prstGeom prst="roundRect">
                <a:avLst>
                  <a:gd name="adj" fmla="val 56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7" name="Group 101"/>
              <p:cNvGrpSpPr/>
              <p:nvPr/>
            </p:nvGrpSpPr>
            <p:grpSpPr>
              <a:xfrm>
                <a:off x="4619160" y="1752480"/>
                <a:ext cx="848880" cy="297000"/>
                <a:chOff x="4619160" y="1752480"/>
                <a:chExt cx="848880" cy="297000"/>
              </a:xfrm>
            </p:grpSpPr>
            <p:sp>
              <p:nvSpPr>
                <p:cNvPr id="1108" name="AutoShape 102"/>
                <p:cNvSpPr/>
                <p:nvPr/>
              </p:nvSpPr>
              <p:spPr>
                <a:xfrm>
                  <a:off x="4648320" y="1752480"/>
                  <a:ext cx="733320" cy="282600"/>
                </a:xfrm>
                <a:prstGeom prst="roundRect">
                  <a:avLst>
                    <a:gd name="adj" fmla="val 56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Group 103"/>
                <p:cNvGrpSpPr/>
                <p:nvPr/>
              </p:nvGrpSpPr>
              <p:grpSpPr>
                <a:xfrm>
                  <a:off x="4619160" y="1752480"/>
                  <a:ext cx="848880" cy="297000"/>
                  <a:chOff x="4619160" y="1752480"/>
                  <a:chExt cx="848880" cy="297000"/>
                </a:xfrm>
              </p:grpSpPr>
              <p:sp>
                <p:nvSpPr>
                  <p:cNvPr id="1110" name="AutoShape 104"/>
                  <p:cNvSpPr/>
                  <p:nvPr/>
                </p:nvSpPr>
                <p:spPr>
                  <a:xfrm>
                    <a:off x="4648320" y="1752480"/>
                    <a:ext cx="731880" cy="279360"/>
                  </a:xfrm>
                  <a:prstGeom prst="roundRect">
                    <a:avLst>
                      <a:gd name="adj" fmla="val 56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1" name="Group 105"/>
                  <p:cNvGrpSpPr/>
                  <p:nvPr/>
                </p:nvGrpSpPr>
                <p:grpSpPr>
                  <a:xfrm>
                    <a:off x="4619160" y="1752480"/>
                    <a:ext cx="848880" cy="297000"/>
                    <a:chOff x="4619160" y="1752480"/>
                    <a:chExt cx="848880" cy="297000"/>
                  </a:xfrm>
                </p:grpSpPr>
                <p:sp>
                  <p:nvSpPr>
                    <p:cNvPr id="1112" name="AutoShape 106"/>
                    <p:cNvSpPr/>
                    <p:nvPr/>
                  </p:nvSpPr>
                  <p:spPr>
                    <a:xfrm>
                      <a:off x="4648320" y="1752480"/>
                      <a:ext cx="731880" cy="279360"/>
                    </a:xfrm>
                    <a:prstGeom prst="roundRect">
                      <a:avLst>
                        <a:gd name="adj" fmla="val 565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3" name="Group 107"/>
                    <p:cNvGrpSpPr/>
                    <p:nvPr/>
                  </p:nvGrpSpPr>
                  <p:grpSpPr>
                    <a:xfrm>
                      <a:off x="4619160" y="1752480"/>
                      <a:ext cx="848880" cy="297000"/>
                      <a:chOff x="4619160" y="1752480"/>
                      <a:chExt cx="848880" cy="297000"/>
                    </a:xfrm>
                  </p:grpSpPr>
                  <p:sp>
                    <p:nvSpPr>
                      <p:cNvPr id="1114" name="AutoShape 108"/>
                      <p:cNvSpPr/>
                      <p:nvPr/>
                    </p:nvSpPr>
                    <p:spPr>
                      <a:xfrm>
                        <a:off x="4648320" y="1752480"/>
                        <a:ext cx="793800" cy="282600"/>
                      </a:xfrm>
                      <a:prstGeom prst="roundRect">
                        <a:avLst>
                          <a:gd name="adj" fmla="val 56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15" name="Group 109"/>
                      <p:cNvGrpSpPr/>
                      <p:nvPr/>
                    </p:nvGrpSpPr>
                    <p:grpSpPr>
                      <a:xfrm>
                        <a:off x="4619160" y="1752480"/>
                        <a:ext cx="848880" cy="297000"/>
                        <a:chOff x="4619160" y="1752480"/>
                        <a:chExt cx="848880" cy="297000"/>
                      </a:xfrm>
                    </p:grpSpPr>
                    <p:sp>
                      <p:nvSpPr>
                        <p:cNvPr id="1116" name="AutoShape 110"/>
                        <p:cNvSpPr/>
                        <p:nvPr/>
                      </p:nvSpPr>
                      <p:spPr>
                        <a:xfrm>
                          <a:off x="4648320" y="1752480"/>
                          <a:ext cx="788760" cy="279360"/>
                        </a:xfrm>
                        <a:prstGeom prst="roundRect">
                          <a:avLst>
                            <a:gd name="adj" fmla="val 565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17" name="Group 111"/>
                        <p:cNvGrpSpPr/>
                        <p:nvPr/>
                      </p:nvGrpSpPr>
                      <p:grpSpPr>
                        <a:xfrm>
                          <a:off x="4619160" y="1752480"/>
                          <a:ext cx="848880" cy="297000"/>
                          <a:chOff x="4619160" y="1752480"/>
                          <a:chExt cx="848880" cy="297000"/>
                        </a:xfrm>
                      </p:grpSpPr>
                      <p:sp>
                        <p:nvSpPr>
                          <p:cNvPr id="1118" name="AutoShape 112"/>
                          <p:cNvSpPr/>
                          <p:nvPr/>
                        </p:nvSpPr>
                        <p:spPr>
                          <a:xfrm>
                            <a:off x="4648320" y="1752480"/>
                            <a:ext cx="785520" cy="274680"/>
                          </a:xfrm>
                          <a:prstGeom prst="roundRect">
                            <a:avLst>
                              <a:gd name="adj" fmla="val 579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19" name="Group 113"/>
                          <p:cNvGrpSpPr/>
                          <p:nvPr/>
                        </p:nvGrpSpPr>
                        <p:grpSpPr>
                          <a:xfrm>
                            <a:off x="4619160" y="1752480"/>
                            <a:ext cx="848880" cy="297000"/>
                            <a:chOff x="4619160" y="1752480"/>
                            <a:chExt cx="848880" cy="297000"/>
                          </a:xfrm>
                        </p:grpSpPr>
                        <p:sp>
                          <p:nvSpPr>
                            <p:cNvPr id="1120" name="AutoShape 114"/>
                            <p:cNvSpPr/>
                            <p:nvPr/>
                          </p:nvSpPr>
                          <p:spPr>
                            <a:xfrm>
                              <a:off x="4648320" y="1752480"/>
                              <a:ext cx="784080" cy="274680"/>
                            </a:xfrm>
                            <a:prstGeom prst="roundRect">
                              <a:avLst>
                                <a:gd name="adj" fmla="val 579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21" name="Group 115"/>
                            <p:cNvGrpSpPr/>
                            <p:nvPr/>
                          </p:nvGrpSpPr>
                          <p:grpSpPr>
                            <a:xfrm>
                              <a:off x="4619160" y="1752480"/>
                              <a:ext cx="848880" cy="297000"/>
                              <a:chOff x="4619160" y="1752480"/>
                              <a:chExt cx="848880" cy="297000"/>
                            </a:xfrm>
                          </p:grpSpPr>
                          <p:sp>
                            <p:nvSpPr>
                              <p:cNvPr id="1122" name="AutoShape 116"/>
                              <p:cNvSpPr/>
                              <p:nvPr/>
                            </p:nvSpPr>
                            <p:spPr>
                              <a:xfrm>
                                <a:off x="4648320" y="1752480"/>
                                <a:ext cx="782640" cy="273240"/>
                              </a:xfrm>
                              <a:prstGeom prst="roundRect">
                                <a:avLst>
                                  <a:gd name="adj" fmla="val 579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3" name="AutoShape 117"/>
                              <p:cNvSpPr/>
                              <p:nvPr/>
                            </p:nvSpPr>
                            <p:spPr>
                              <a:xfrm>
                                <a:off x="4619160" y="1752480"/>
                                <a:ext cx="848880" cy="297000"/>
                              </a:xfrm>
                              <a:prstGeom prst="roundRect">
                                <a:avLst>
                                  <a:gd name="adj" fmla="val 588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Retorna</a:t>
                                </a:r>
                                <a:endParaRPr b="0" lang="en-US" sz="1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124" name="Group 118"/>
          <p:cNvGrpSpPr/>
          <p:nvPr/>
        </p:nvGrpSpPr>
        <p:grpSpPr>
          <a:xfrm>
            <a:off x="580680" y="1523880"/>
            <a:ext cx="977040" cy="267840"/>
            <a:chOff x="580680" y="1523880"/>
            <a:chExt cx="977040" cy="267840"/>
          </a:xfrm>
        </p:grpSpPr>
        <p:sp>
          <p:nvSpPr>
            <p:cNvPr id="1125" name="AutoShape 119"/>
            <p:cNvSpPr/>
            <p:nvPr/>
          </p:nvSpPr>
          <p:spPr>
            <a:xfrm>
              <a:off x="609480" y="1523880"/>
              <a:ext cx="86688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Group 120"/>
            <p:cNvGrpSpPr/>
            <p:nvPr/>
          </p:nvGrpSpPr>
          <p:grpSpPr>
            <a:xfrm>
              <a:off x="580680" y="1523880"/>
              <a:ext cx="977040" cy="267840"/>
              <a:chOff x="580680" y="1523880"/>
              <a:chExt cx="977040" cy="267840"/>
            </a:xfrm>
          </p:grpSpPr>
          <p:sp>
            <p:nvSpPr>
              <p:cNvPr id="1127" name="AutoShape 121"/>
              <p:cNvSpPr/>
              <p:nvPr/>
            </p:nvSpPr>
            <p:spPr>
              <a:xfrm>
                <a:off x="609480" y="1523880"/>
                <a:ext cx="862200" cy="255600"/>
              </a:xfrm>
              <a:prstGeom prst="roundRect">
                <a:avLst>
                  <a:gd name="adj" fmla="val 62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8" name="Group 122"/>
              <p:cNvGrpSpPr/>
              <p:nvPr/>
            </p:nvGrpSpPr>
            <p:grpSpPr>
              <a:xfrm>
                <a:off x="580680" y="1523880"/>
                <a:ext cx="977040" cy="267840"/>
                <a:chOff x="580680" y="1523880"/>
                <a:chExt cx="977040" cy="267840"/>
              </a:xfrm>
            </p:grpSpPr>
            <p:sp>
              <p:nvSpPr>
                <p:cNvPr id="1129" name="AutoShape 123"/>
                <p:cNvSpPr/>
                <p:nvPr/>
              </p:nvSpPr>
              <p:spPr>
                <a:xfrm>
                  <a:off x="609480" y="1523880"/>
                  <a:ext cx="858960" cy="255600"/>
                </a:xfrm>
                <a:prstGeom prst="roundRect">
                  <a:avLst>
                    <a:gd name="adj" fmla="val 62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Group 124"/>
                <p:cNvGrpSpPr/>
                <p:nvPr/>
              </p:nvGrpSpPr>
              <p:grpSpPr>
                <a:xfrm>
                  <a:off x="580680" y="1523880"/>
                  <a:ext cx="977040" cy="267840"/>
                  <a:chOff x="580680" y="1523880"/>
                  <a:chExt cx="977040" cy="267840"/>
                </a:xfrm>
              </p:grpSpPr>
              <p:sp>
                <p:nvSpPr>
                  <p:cNvPr id="1131" name="AutoShape 125"/>
                  <p:cNvSpPr/>
                  <p:nvPr/>
                </p:nvSpPr>
                <p:spPr>
                  <a:xfrm>
                    <a:off x="609480" y="1523880"/>
                    <a:ext cx="857520" cy="254160"/>
                  </a:xfrm>
                  <a:prstGeom prst="roundRect">
                    <a:avLst>
                      <a:gd name="adj" fmla="val 62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2" name="Group 126"/>
                  <p:cNvGrpSpPr/>
                  <p:nvPr/>
                </p:nvGrpSpPr>
                <p:grpSpPr>
                  <a:xfrm>
                    <a:off x="580680" y="1523880"/>
                    <a:ext cx="977040" cy="267840"/>
                    <a:chOff x="580680" y="1523880"/>
                    <a:chExt cx="977040" cy="267840"/>
                  </a:xfrm>
                </p:grpSpPr>
                <p:sp>
                  <p:nvSpPr>
                    <p:cNvPr id="1133" name="AutoShape 127"/>
                    <p:cNvSpPr/>
                    <p:nvPr/>
                  </p:nvSpPr>
                  <p:spPr>
                    <a:xfrm>
                      <a:off x="609480" y="1523880"/>
                      <a:ext cx="857520" cy="250920"/>
                    </a:xfrm>
                    <a:prstGeom prst="roundRect">
                      <a:avLst>
                        <a:gd name="adj" fmla="val 63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34" name="Group 128"/>
                    <p:cNvGrpSpPr/>
                    <p:nvPr/>
                  </p:nvGrpSpPr>
                  <p:grpSpPr>
                    <a:xfrm>
                      <a:off x="580680" y="1523880"/>
                      <a:ext cx="977040" cy="267840"/>
                      <a:chOff x="580680" y="1523880"/>
                      <a:chExt cx="977040" cy="267840"/>
                    </a:xfrm>
                  </p:grpSpPr>
                  <p:sp>
                    <p:nvSpPr>
                      <p:cNvPr id="1135" name="AutoShape 129"/>
                      <p:cNvSpPr/>
                      <p:nvPr/>
                    </p:nvSpPr>
                    <p:spPr>
                      <a:xfrm>
                        <a:off x="609480" y="1523880"/>
                        <a:ext cx="912960" cy="252360"/>
                      </a:xfrm>
                      <a:prstGeom prst="roundRect">
                        <a:avLst>
                          <a:gd name="adj" fmla="val 63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36" name="Group 130"/>
                      <p:cNvGrpSpPr/>
                      <p:nvPr/>
                    </p:nvGrpSpPr>
                    <p:grpSpPr>
                      <a:xfrm>
                        <a:off x="580680" y="1523880"/>
                        <a:ext cx="977040" cy="267840"/>
                        <a:chOff x="580680" y="1523880"/>
                        <a:chExt cx="977040" cy="267840"/>
                      </a:xfrm>
                    </p:grpSpPr>
                    <p:sp>
                      <p:nvSpPr>
                        <p:cNvPr id="1137" name="AutoShape 131"/>
                        <p:cNvSpPr/>
                        <p:nvPr/>
                      </p:nvSpPr>
                      <p:spPr>
                        <a:xfrm>
                          <a:off x="609480" y="1523880"/>
                          <a:ext cx="908280" cy="247680"/>
                        </a:xfrm>
                        <a:prstGeom prst="roundRect">
                          <a:avLst>
                            <a:gd name="adj" fmla="val 639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38" name="Group 132"/>
                        <p:cNvGrpSpPr/>
                        <p:nvPr/>
                      </p:nvGrpSpPr>
                      <p:grpSpPr>
                        <a:xfrm>
                          <a:off x="580680" y="1523880"/>
                          <a:ext cx="977040" cy="267840"/>
                          <a:chOff x="580680" y="1523880"/>
                          <a:chExt cx="977040" cy="267840"/>
                        </a:xfrm>
                      </p:grpSpPr>
                      <p:sp>
                        <p:nvSpPr>
                          <p:cNvPr id="1139" name="AutoShape 133"/>
                          <p:cNvSpPr/>
                          <p:nvPr/>
                        </p:nvSpPr>
                        <p:spPr>
                          <a:xfrm>
                            <a:off x="609480" y="1523880"/>
                            <a:ext cx="905040" cy="244440"/>
                          </a:xfrm>
                          <a:prstGeom prst="roundRect">
                            <a:avLst>
                              <a:gd name="adj" fmla="val 64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40" name="Group 134"/>
                          <p:cNvGrpSpPr/>
                          <p:nvPr/>
                        </p:nvGrpSpPr>
                        <p:grpSpPr>
                          <a:xfrm>
                            <a:off x="580680" y="1523880"/>
                            <a:ext cx="977040" cy="267840"/>
                            <a:chOff x="580680" y="1523880"/>
                            <a:chExt cx="977040" cy="267840"/>
                          </a:xfrm>
                        </p:grpSpPr>
                        <p:sp>
                          <p:nvSpPr>
                            <p:cNvPr id="1141" name="AutoShape 135"/>
                            <p:cNvSpPr/>
                            <p:nvPr/>
                          </p:nvSpPr>
                          <p:spPr>
                            <a:xfrm>
                              <a:off x="609480" y="1523880"/>
                              <a:ext cx="903240" cy="243000"/>
                            </a:xfrm>
                            <a:prstGeom prst="roundRect">
                              <a:avLst>
                                <a:gd name="adj" fmla="val 65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42" name="Group 136"/>
                            <p:cNvGrpSpPr/>
                            <p:nvPr/>
                          </p:nvGrpSpPr>
                          <p:grpSpPr>
                            <a:xfrm>
                              <a:off x="580680" y="1523880"/>
                              <a:ext cx="977040" cy="267840"/>
                              <a:chOff x="580680" y="1523880"/>
                              <a:chExt cx="977040" cy="267840"/>
                            </a:xfrm>
                          </p:grpSpPr>
                          <p:sp>
                            <p:nvSpPr>
                              <p:cNvPr id="1143" name="AutoShape 137"/>
                              <p:cNvSpPr/>
                              <p:nvPr/>
                            </p:nvSpPr>
                            <p:spPr>
                              <a:xfrm>
                                <a:off x="609480" y="1523880"/>
                                <a:ext cx="903240" cy="243000"/>
                              </a:xfrm>
                              <a:prstGeom prst="roundRect">
                                <a:avLst>
                                  <a:gd name="adj" fmla="val 657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44" name="AutoShape 138"/>
                              <p:cNvSpPr/>
                              <p:nvPr/>
                            </p:nvSpPr>
                            <p:spPr>
                              <a:xfrm>
                                <a:off x="580680" y="1523880"/>
                                <a:ext cx="977040" cy="267840"/>
                              </a:xfrm>
                              <a:prstGeom prst="roundRect">
                                <a:avLst>
                                  <a:gd name="adj" fmla="val 657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2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Encaminha</a:t>
                                </a:r>
                                <a:endParaRPr b="0" lang="en-US" sz="12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145" name="Group 139"/>
          <p:cNvGrpSpPr/>
          <p:nvPr/>
        </p:nvGrpSpPr>
        <p:grpSpPr>
          <a:xfrm>
            <a:off x="2819520" y="457200"/>
            <a:ext cx="344520" cy="444600"/>
            <a:chOff x="2819520" y="457200"/>
            <a:chExt cx="344520" cy="444600"/>
          </a:xfrm>
        </p:grpSpPr>
        <p:sp>
          <p:nvSpPr>
            <p:cNvPr id="1146" name="AutoShape 140"/>
            <p:cNvSpPr/>
            <p:nvPr/>
          </p:nvSpPr>
          <p:spPr>
            <a:xfrm>
              <a:off x="2819520" y="457200"/>
              <a:ext cx="330120" cy="444600"/>
            </a:xfrm>
            <a:custGeom>
              <a:avLst/>
              <a:gdLst>
                <a:gd name="textAreaLeft" fmla="*/ 360 w 330120"/>
                <a:gd name="textAreaRight" fmla="*/ 329760 w 33012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82">
                  <a:moveTo>
                    <a:pt x="103" y="0"/>
                  </a:moveTo>
                  <a:arcTo wR="103" hR="103" stAng="16200000" swAng="-5400000"/>
                  <a:lnTo>
                    <a:pt x="0" y="28979"/>
                  </a:lnTo>
                  <a:arcTo wR="103" hR="103" stAng="10800000" swAng="-5400000"/>
                  <a:lnTo>
                    <a:pt x="21497" y="29082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7" name="Group 141"/>
            <p:cNvGrpSpPr/>
            <p:nvPr/>
          </p:nvGrpSpPr>
          <p:grpSpPr>
            <a:xfrm>
              <a:off x="2819520" y="457200"/>
              <a:ext cx="344520" cy="433440"/>
              <a:chOff x="2819520" y="457200"/>
              <a:chExt cx="344520" cy="433440"/>
            </a:xfrm>
          </p:grpSpPr>
          <p:sp>
            <p:nvSpPr>
              <p:cNvPr id="1148" name="AutoShape 142"/>
              <p:cNvSpPr/>
              <p:nvPr/>
            </p:nvSpPr>
            <p:spPr>
              <a:xfrm>
                <a:off x="2819520" y="45720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9" name="Group 143"/>
              <p:cNvGrpSpPr/>
              <p:nvPr/>
            </p:nvGrpSpPr>
            <p:grpSpPr>
              <a:xfrm>
                <a:off x="2819520" y="457200"/>
                <a:ext cx="344520" cy="423720"/>
                <a:chOff x="2819520" y="457200"/>
                <a:chExt cx="344520" cy="423720"/>
              </a:xfrm>
            </p:grpSpPr>
            <p:sp>
              <p:nvSpPr>
                <p:cNvPr id="1150" name="AutoShape 144"/>
                <p:cNvSpPr/>
                <p:nvPr/>
              </p:nvSpPr>
              <p:spPr>
                <a:xfrm>
                  <a:off x="2819520" y="457200"/>
                  <a:ext cx="322200" cy="423720"/>
                </a:xfrm>
                <a:custGeom>
                  <a:avLst/>
                  <a:gdLst>
                    <a:gd name="textAreaLeft" fmla="*/ 360 w 322200"/>
                    <a:gd name="textAreaRight" fmla="*/ 321840 w 32220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398">
                      <a:moveTo>
                        <a:pt x="106" y="0"/>
                      </a:moveTo>
                      <a:arcTo wR="106" hR="106" stAng="16200000" swAng="-5400000"/>
                      <a:lnTo>
                        <a:pt x="0" y="28292"/>
                      </a:lnTo>
                      <a:arcTo wR="106" hR="106" stAng="10800000" swAng="-5400000"/>
                      <a:lnTo>
                        <a:pt x="21494" y="28398"/>
                      </a:lnTo>
                      <a:arcTo wR="106" hR="106" stAng="5400000" swAng="-5400000"/>
                      <a:lnTo>
                        <a:pt x="21600" y="106"/>
                      </a:lnTo>
                      <a:arcTo wR="106" hR="10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1" name="Group 145"/>
                <p:cNvGrpSpPr/>
                <p:nvPr/>
              </p:nvGrpSpPr>
              <p:grpSpPr>
                <a:xfrm>
                  <a:off x="2819520" y="457200"/>
                  <a:ext cx="344520" cy="420840"/>
                  <a:chOff x="2819520" y="457200"/>
                  <a:chExt cx="344520" cy="420840"/>
                </a:xfrm>
              </p:grpSpPr>
              <p:sp>
                <p:nvSpPr>
                  <p:cNvPr id="1152" name="AutoShape 146"/>
                  <p:cNvSpPr/>
                  <p:nvPr/>
                </p:nvSpPr>
                <p:spPr>
                  <a:xfrm>
                    <a:off x="2819520" y="457200"/>
                    <a:ext cx="322200" cy="420840"/>
                  </a:xfrm>
                  <a:custGeom>
                    <a:avLst/>
                    <a:gdLst>
                      <a:gd name="textAreaLeft" fmla="*/ 360 w 322200"/>
                      <a:gd name="textAreaRight" fmla="*/ 321840 w 322200"/>
                      <a:gd name="textAreaTop" fmla="*/ 360 h 420840"/>
                      <a:gd name="textAreaBottom" fmla="*/ 420480 h 420840"/>
                    </a:gdLst>
                    <a:ahLst/>
                    <a:rect l="textAreaLeft" t="textAreaTop" r="textAreaRight" b="textAreaBottom"/>
                    <a:pathLst>
                      <a:path w="21600" h="28205">
                        <a:moveTo>
                          <a:pt x="106" y="0"/>
                        </a:moveTo>
                        <a:arcTo wR="106" hR="106" stAng="16200000" swAng="-5400000"/>
                        <a:lnTo>
                          <a:pt x="0" y="28099"/>
                        </a:lnTo>
                        <a:arcTo wR="106" hR="106" stAng="10800000" swAng="-5400000"/>
                        <a:lnTo>
                          <a:pt x="21494" y="28205"/>
                        </a:lnTo>
                        <a:arcTo wR="106" hR="106" stAng="5400000" swAng="-5400000"/>
                        <a:lnTo>
                          <a:pt x="21600" y="106"/>
                        </a:lnTo>
                        <a:arcTo wR="106" hR="10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3" name="Group 147"/>
                  <p:cNvGrpSpPr/>
                  <p:nvPr/>
                </p:nvGrpSpPr>
                <p:grpSpPr>
                  <a:xfrm>
                    <a:off x="2819520" y="457200"/>
                    <a:ext cx="344520" cy="415800"/>
                    <a:chOff x="2819520" y="457200"/>
                    <a:chExt cx="344520" cy="415800"/>
                  </a:xfrm>
                </p:grpSpPr>
                <p:sp>
                  <p:nvSpPr>
                    <p:cNvPr id="1154" name="AutoShape 148"/>
                    <p:cNvSpPr/>
                    <p:nvPr/>
                  </p:nvSpPr>
                  <p:spPr>
                    <a:xfrm>
                      <a:off x="2819520" y="457200"/>
                      <a:ext cx="322200" cy="415800"/>
                    </a:xfrm>
                    <a:custGeom>
                      <a:avLst/>
                      <a:gdLst>
                        <a:gd name="textAreaLeft" fmla="*/ 360 w 322200"/>
                        <a:gd name="textAreaRight" fmla="*/ 321840 w 322200"/>
                        <a:gd name="textAreaTop" fmla="*/ 360 h 415800"/>
                        <a:gd name="textAreaBottom" fmla="*/ 415440 h 415800"/>
                      </a:gdLst>
                      <a:ahLst/>
                      <a:rect l="textAreaLeft" t="textAreaTop" r="textAreaRight" b="textAreaBottom"/>
                      <a:pathLst>
                        <a:path w="21600" h="27868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762"/>
                          </a:lnTo>
                          <a:arcTo wR="106" hR="106" stAng="10800000" swAng="-5400000"/>
                          <a:lnTo>
                            <a:pt x="21494" y="27868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55" name="Group 149"/>
                    <p:cNvGrpSpPr/>
                    <p:nvPr/>
                  </p:nvGrpSpPr>
                  <p:grpSpPr>
                    <a:xfrm>
                      <a:off x="2819520" y="457200"/>
                      <a:ext cx="344520" cy="411120"/>
                      <a:chOff x="2819520" y="457200"/>
                      <a:chExt cx="344520" cy="411120"/>
                    </a:xfrm>
                  </p:grpSpPr>
                  <p:sp>
                    <p:nvSpPr>
                      <p:cNvPr id="1156" name="AutoShape 150"/>
                      <p:cNvSpPr/>
                      <p:nvPr/>
                    </p:nvSpPr>
                    <p:spPr>
                      <a:xfrm>
                        <a:off x="2819520" y="457200"/>
                        <a:ext cx="344520" cy="4111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1120"/>
                          <a:gd name="textAreaBottom" fmla="*/ 410760 h 411120"/>
                        </a:gdLst>
                        <a:ahLst/>
                        <a:rect l="textAreaLeft" t="textAreaTop" r="textAreaRight" b="textAreaBottom"/>
                        <a:pathLst>
                          <a:path w="21600" h="25771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671"/>
                            </a:lnTo>
                            <a:arcTo wR="100" hR="100" stAng="10800000" swAng="-5400000"/>
                            <a:lnTo>
                              <a:pt x="21500" y="25771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57" name="Group 151"/>
                      <p:cNvGrpSpPr/>
                      <p:nvPr/>
                    </p:nvGrpSpPr>
                    <p:grpSpPr>
                      <a:xfrm>
                        <a:off x="2819520" y="457200"/>
                        <a:ext cx="339480" cy="406440"/>
                        <a:chOff x="2819520" y="457200"/>
                        <a:chExt cx="339480" cy="406440"/>
                      </a:xfrm>
                    </p:grpSpPr>
                    <p:sp>
                      <p:nvSpPr>
                        <p:cNvPr id="1158" name="AutoShape 152"/>
                        <p:cNvSpPr/>
                        <p:nvPr/>
                      </p:nvSpPr>
                      <p:spPr>
                        <a:xfrm>
                          <a:off x="2819520" y="457200"/>
                          <a:ext cx="339480" cy="406440"/>
                        </a:xfrm>
                        <a:custGeom>
                          <a:avLst/>
                          <a:gdLst>
                            <a:gd name="textAreaLeft" fmla="*/ 360 w 339480"/>
                            <a:gd name="textAreaRight" fmla="*/ 339120 w 339480"/>
                            <a:gd name="textAreaTop" fmla="*/ 360 h 406440"/>
                            <a:gd name="textAreaBottom" fmla="*/ 406080 h 406440"/>
                          </a:gdLst>
                          <a:ahLst/>
                          <a:rect l="textAreaLeft" t="textAreaTop" r="textAreaRight" b="textAreaBottom"/>
                          <a:pathLst>
                            <a:path w="21600" h="25856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756"/>
                              </a:lnTo>
                              <a:arcTo wR="100" hR="100" stAng="10800000" swAng="-5400000"/>
                              <a:lnTo>
                                <a:pt x="21500" y="25856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59" name="Group 153"/>
                        <p:cNvGrpSpPr/>
                        <p:nvPr/>
                      </p:nvGrpSpPr>
                      <p:grpSpPr>
                        <a:xfrm>
                          <a:off x="2819520" y="457200"/>
                          <a:ext cx="336600" cy="401760"/>
                          <a:chOff x="2819520" y="457200"/>
                          <a:chExt cx="336600" cy="401760"/>
                        </a:xfrm>
                      </p:grpSpPr>
                      <p:sp>
                        <p:nvSpPr>
                          <p:cNvPr id="1160" name="AutoShape 154"/>
                          <p:cNvSpPr/>
                          <p:nvPr/>
                        </p:nvSpPr>
                        <p:spPr>
                          <a:xfrm>
                            <a:off x="2819520" y="457200"/>
                            <a:ext cx="336600" cy="4017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1760"/>
                              <a:gd name="textAreaBottom" fmla="*/ 401400 h 401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7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676"/>
                                </a:lnTo>
                                <a:arcTo wR="101" hR="101" stAng="10800000" swAng="-5400000"/>
                                <a:lnTo>
                                  <a:pt x="21499" y="257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61" name="Group 155"/>
                          <p:cNvGrpSpPr/>
                          <p:nvPr/>
                        </p:nvGrpSpPr>
                        <p:grpSpPr>
                          <a:xfrm>
                            <a:off x="2819520" y="457200"/>
                            <a:ext cx="334800" cy="398520"/>
                            <a:chOff x="2819520" y="457200"/>
                            <a:chExt cx="334800" cy="398520"/>
                          </a:xfrm>
                        </p:grpSpPr>
                        <p:sp>
                          <p:nvSpPr>
                            <p:cNvPr id="1162" name="AutoShape 156"/>
                            <p:cNvSpPr/>
                            <p:nvPr/>
                          </p:nvSpPr>
                          <p:spPr>
                            <a:xfrm>
                              <a:off x="2819520" y="457200"/>
                              <a:ext cx="334800" cy="398520"/>
                            </a:xfrm>
                            <a:custGeom>
                              <a:avLst/>
                              <a:gdLst>
                                <a:gd name="textAreaLeft" fmla="*/ 360 w 334800"/>
                                <a:gd name="textAreaRight" fmla="*/ 334440 w 334800"/>
                                <a:gd name="textAreaTop" fmla="*/ 360 h 398520"/>
                                <a:gd name="textAreaBottom" fmla="*/ 398160 h 398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707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605"/>
                                  </a:lnTo>
                                  <a:arcTo wR="102" hR="102" stAng="10800000" swAng="-5400000"/>
                                  <a:lnTo>
                                    <a:pt x="21498" y="25707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63" name="Group 157"/>
                            <p:cNvGrpSpPr/>
                            <p:nvPr/>
                          </p:nvGrpSpPr>
                          <p:grpSpPr>
                            <a:xfrm>
                              <a:off x="2819520" y="457200"/>
                              <a:ext cx="333360" cy="398520"/>
                              <a:chOff x="2819520" y="457200"/>
                              <a:chExt cx="333360" cy="398520"/>
                            </a:xfrm>
                          </p:grpSpPr>
                          <p:sp>
                            <p:nvSpPr>
                              <p:cNvPr id="1164" name="AutoShape 158"/>
                              <p:cNvSpPr/>
                              <p:nvPr/>
                            </p:nvSpPr>
                            <p:spPr>
                              <a:xfrm>
                                <a:off x="2819520" y="457200"/>
                                <a:ext cx="333360" cy="398520"/>
                              </a:xfrm>
                              <a:custGeom>
                                <a:avLst/>
                                <a:gdLst>
                                  <a:gd name="textAreaLeft" fmla="*/ 360 w 333360"/>
                                  <a:gd name="textAreaRight" fmla="*/ 333000 w 333360"/>
                                  <a:gd name="textAreaTop" fmla="*/ 360 h 398520"/>
                                  <a:gd name="textAreaBottom" fmla="*/ 398160 h 398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817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715"/>
                                    </a:lnTo>
                                    <a:arcTo wR="102" hR="102" stAng="10800000" swAng="-5400000"/>
                                    <a:lnTo>
                                      <a:pt x="21498" y="25817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65" name="AutoShape 159"/>
                              <p:cNvSpPr/>
                              <p:nvPr/>
                            </p:nvSpPr>
                            <p:spPr>
                              <a:xfrm>
                                <a:off x="2819520" y="45720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166" name="Group 160"/>
          <p:cNvGrpSpPr/>
          <p:nvPr/>
        </p:nvGrpSpPr>
        <p:grpSpPr>
          <a:xfrm>
            <a:off x="5486400" y="1523880"/>
            <a:ext cx="344520" cy="444600"/>
            <a:chOff x="5486400" y="1523880"/>
            <a:chExt cx="344520" cy="444600"/>
          </a:xfrm>
        </p:grpSpPr>
        <p:sp>
          <p:nvSpPr>
            <p:cNvPr id="1167" name="AutoShape 161"/>
            <p:cNvSpPr/>
            <p:nvPr/>
          </p:nvSpPr>
          <p:spPr>
            <a:xfrm>
              <a:off x="5486400" y="1523880"/>
              <a:ext cx="330120" cy="444600"/>
            </a:xfrm>
            <a:custGeom>
              <a:avLst/>
              <a:gdLst>
                <a:gd name="textAreaLeft" fmla="*/ 360 w 330120"/>
                <a:gd name="textAreaRight" fmla="*/ 329760 w 33012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82">
                  <a:moveTo>
                    <a:pt x="103" y="0"/>
                  </a:moveTo>
                  <a:arcTo wR="103" hR="103" stAng="16200000" swAng="-5400000"/>
                  <a:lnTo>
                    <a:pt x="0" y="28979"/>
                  </a:lnTo>
                  <a:arcTo wR="103" hR="103" stAng="10800000" swAng="-5400000"/>
                  <a:lnTo>
                    <a:pt x="21497" y="29082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8" name="Group 162"/>
            <p:cNvGrpSpPr/>
            <p:nvPr/>
          </p:nvGrpSpPr>
          <p:grpSpPr>
            <a:xfrm>
              <a:off x="5486400" y="1523880"/>
              <a:ext cx="344520" cy="435240"/>
              <a:chOff x="5486400" y="1523880"/>
              <a:chExt cx="344520" cy="435240"/>
            </a:xfrm>
          </p:grpSpPr>
          <p:sp>
            <p:nvSpPr>
              <p:cNvPr id="1169" name="AutoShape 163"/>
              <p:cNvSpPr/>
              <p:nvPr/>
            </p:nvSpPr>
            <p:spPr>
              <a:xfrm>
                <a:off x="5486400" y="1523880"/>
                <a:ext cx="325440" cy="4352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5240"/>
                  <a:gd name="textAreaBottom" fmla="*/ 434880 h 435240"/>
                </a:gdLst>
                <a:ahLst/>
                <a:rect l="textAreaLeft" t="textAreaTop" r="textAreaRight" b="textAreaBottom"/>
                <a:pathLst>
                  <a:path w="21600" h="28880">
                    <a:moveTo>
                      <a:pt x="105" y="0"/>
                    </a:moveTo>
                    <a:arcTo wR="105" hR="105" stAng="16200000" swAng="-5400000"/>
                    <a:lnTo>
                      <a:pt x="0" y="28775"/>
                    </a:lnTo>
                    <a:arcTo wR="105" hR="105" stAng="10800000" swAng="-5400000"/>
                    <a:lnTo>
                      <a:pt x="21495" y="2888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64"/>
              <p:cNvGrpSpPr/>
              <p:nvPr/>
            </p:nvGrpSpPr>
            <p:grpSpPr>
              <a:xfrm>
                <a:off x="5486400" y="1523880"/>
                <a:ext cx="344520" cy="425520"/>
                <a:chOff x="5486400" y="1523880"/>
                <a:chExt cx="344520" cy="425520"/>
              </a:xfrm>
            </p:grpSpPr>
            <p:sp>
              <p:nvSpPr>
                <p:cNvPr id="1171" name="AutoShape 165"/>
                <p:cNvSpPr/>
                <p:nvPr/>
              </p:nvSpPr>
              <p:spPr>
                <a:xfrm>
                  <a:off x="5486400" y="1523880"/>
                  <a:ext cx="322200" cy="425520"/>
                </a:xfrm>
                <a:custGeom>
                  <a:avLst/>
                  <a:gdLst>
                    <a:gd name="textAreaLeft" fmla="*/ 360 w 322200"/>
                    <a:gd name="textAreaRight" fmla="*/ 321840 w 322200"/>
                    <a:gd name="textAreaTop" fmla="*/ 360 h 425520"/>
                    <a:gd name="textAreaBottom" fmla="*/ 425160 h 425520"/>
                  </a:gdLst>
                  <a:ahLst/>
                  <a:rect l="textAreaLeft" t="textAreaTop" r="textAreaRight" b="textAreaBottom"/>
                  <a:pathLst>
                    <a:path w="21600" h="28519">
                      <a:moveTo>
                        <a:pt x="106" y="0"/>
                      </a:moveTo>
                      <a:arcTo wR="106" hR="106" stAng="16200000" swAng="-5400000"/>
                      <a:lnTo>
                        <a:pt x="0" y="28413"/>
                      </a:lnTo>
                      <a:arcTo wR="106" hR="106" stAng="10800000" swAng="-5400000"/>
                      <a:lnTo>
                        <a:pt x="21494" y="28519"/>
                      </a:lnTo>
                      <a:arcTo wR="106" hR="106" stAng="5400000" swAng="-5400000"/>
                      <a:lnTo>
                        <a:pt x="21600" y="106"/>
                      </a:lnTo>
                      <a:arcTo wR="106" hR="10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2" name="Group 166"/>
                <p:cNvGrpSpPr/>
                <p:nvPr/>
              </p:nvGrpSpPr>
              <p:grpSpPr>
                <a:xfrm>
                  <a:off x="5486400" y="1523880"/>
                  <a:ext cx="344520" cy="419400"/>
                  <a:chOff x="5486400" y="1523880"/>
                  <a:chExt cx="344520" cy="419400"/>
                </a:xfrm>
              </p:grpSpPr>
              <p:sp>
                <p:nvSpPr>
                  <p:cNvPr id="1173" name="AutoShape 167"/>
                  <p:cNvSpPr/>
                  <p:nvPr/>
                </p:nvSpPr>
                <p:spPr>
                  <a:xfrm>
                    <a:off x="5486400" y="1523880"/>
                    <a:ext cx="320760" cy="419400"/>
                  </a:xfrm>
                  <a:custGeom>
                    <a:avLst/>
                    <a:gdLst>
                      <a:gd name="textAreaLeft" fmla="*/ 360 w 320760"/>
                      <a:gd name="textAreaRight" fmla="*/ 320400 w 320760"/>
                      <a:gd name="textAreaTop" fmla="*/ 360 h 419400"/>
                      <a:gd name="textAreaBottom" fmla="*/ 419040 h 419400"/>
                    </a:gdLst>
                    <a:ahLst/>
                    <a:rect l="textAreaLeft" t="textAreaTop" r="textAreaRight" b="textAreaBottom"/>
                    <a:pathLst>
                      <a:path w="21600" h="28235">
                        <a:moveTo>
                          <a:pt x="106" y="0"/>
                        </a:moveTo>
                        <a:arcTo wR="106" hR="106" stAng="16200000" swAng="-5400000"/>
                        <a:lnTo>
                          <a:pt x="0" y="28129"/>
                        </a:lnTo>
                        <a:arcTo wR="106" hR="106" stAng="10800000" swAng="-5400000"/>
                        <a:lnTo>
                          <a:pt x="21494" y="28235"/>
                        </a:lnTo>
                        <a:arcTo wR="106" hR="106" stAng="5400000" swAng="-5400000"/>
                        <a:lnTo>
                          <a:pt x="21600" y="106"/>
                        </a:lnTo>
                        <a:arcTo wR="106" hR="10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4" name="Group 168"/>
                  <p:cNvGrpSpPr/>
                  <p:nvPr/>
                </p:nvGrpSpPr>
                <p:grpSpPr>
                  <a:xfrm>
                    <a:off x="5486400" y="1523880"/>
                    <a:ext cx="344520" cy="414360"/>
                    <a:chOff x="5486400" y="1523880"/>
                    <a:chExt cx="344520" cy="414360"/>
                  </a:xfrm>
                </p:grpSpPr>
                <p:sp>
                  <p:nvSpPr>
                    <p:cNvPr id="1175" name="AutoShape 169"/>
                    <p:cNvSpPr/>
                    <p:nvPr/>
                  </p:nvSpPr>
                  <p:spPr>
                    <a:xfrm>
                      <a:off x="5486400" y="1523880"/>
                      <a:ext cx="320760" cy="414360"/>
                    </a:xfrm>
                    <a:custGeom>
                      <a:avLst/>
                      <a:gdLst>
                        <a:gd name="textAreaLeft" fmla="*/ 360 w 320760"/>
                        <a:gd name="textAreaRight" fmla="*/ 320400 w 320760"/>
                        <a:gd name="textAreaTop" fmla="*/ 360 h 414360"/>
                        <a:gd name="textAreaBottom" fmla="*/ 414000 h 414360"/>
                      </a:gdLst>
                      <a:ahLst/>
                      <a:rect l="textAreaLeft" t="textAreaTop" r="textAreaRight" b="textAreaBottom"/>
                      <a:pathLst>
                        <a:path w="21600" h="27896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790"/>
                          </a:lnTo>
                          <a:arcTo wR="106" hR="106" stAng="10800000" swAng="-5400000"/>
                          <a:lnTo>
                            <a:pt x="21494" y="27896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76" name="Group 170"/>
                    <p:cNvGrpSpPr/>
                    <p:nvPr/>
                  </p:nvGrpSpPr>
                  <p:grpSpPr>
                    <a:xfrm>
                      <a:off x="5486400" y="1523880"/>
                      <a:ext cx="344520" cy="412920"/>
                      <a:chOff x="5486400" y="1523880"/>
                      <a:chExt cx="344520" cy="412920"/>
                    </a:xfrm>
                  </p:grpSpPr>
                  <p:sp>
                    <p:nvSpPr>
                      <p:cNvPr id="1177" name="AutoShape 171"/>
                      <p:cNvSpPr/>
                      <p:nvPr/>
                    </p:nvSpPr>
                    <p:spPr>
                      <a:xfrm>
                        <a:off x="5486400" y="1523880"/>
                        <a:ext cx="344520" cy="4129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2920"/>
                          <a:gd name="textAreaBottom" fmla="*/ 412560 h 412920"/>
                        </a:gdLst>
                        <a:ahLst/>
                        <a:rect l="textAreaLeft" t="textAreaTop" r="textAreaRight" b="textAreaBottom"/>
                        <a:pathLst>
                          <a:path w="21600" h="25884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784"/>
                            </a:lnTo>
                            <a:arcTo wR="100" hR="100" stAng="10800000" swAng="-5400000"/>
                            <a:lnTo>
                              <a:pt x="21500" y="25884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8" name="Group 172"/>
                      <p:cNvGrpSpPr/>
                      <p:nvPr/>
                    </p:nvGrpSpPr>
                    <p:grpSpPr>
                      <a:xfrm>
                        <a:off x="5486400" y="1523880"/>
                        <a:ext cx="339840" cy="409680"/>
                        <a:chOff x="5486400" y="1523880"/>
                        <a:chExt cx="339840" cy="409680"/>
                      </a:xfrm>
                    </p:grpSpPr>
                    <p:sp>
                      <p:nvSpPr>
                        <p:cNvPr id="1179" name="AutoShape 173"/>
                        <p:cNvSpPr/>
                        <p:nvPr/>
                      </p:nvSpPr>
                      <p:spPr>
                        <a:xfrm>
                          <a:off x="5486400" y="1523880"/>
                          <a:ext cx="339840" cy="40968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9680"/>
                            <a:gd name="textAreaBottom" fmla="*/ 40932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6034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934"/>
                              </a:lnTo>
                              <a:arcTo wR="100" hR="100" stAng="10800000" swAng="-5400000"/>
                              <a:lnTo>
                                <a:pt x="21500" y="26034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80" name="Group 174"/>
                        <p:cNvGrpSpPr/>
                        <p:nvPr/>
                      </p:nvGrpSpPr>
                      <p:grpSpPr>
                        <a:xfrm>
                          <a:off x="5486400" y="1523880"/>
                          <a:ext cx="336600" cy="406440"/>
                          <a:chOff x="5486400" y="1523880"/>
                          <a:chExt cx="336600" cy="406440"/>
                        </a:xfrm>
                      </p:grpSpPr>
                      <p:sp>
                        <p:nvSpPr>
                          <p:cNvPr id="1181" name="AutoShape 175"/>
                          <p:cNvSpPr/>
                          <p:nvPr/>
                        </p:nvSpPr>
                        <p:spPr>
                          <a:xfrm>
                            <a:off x="5486400" y="1523880"/>
                            <a:ext cx="336600" cy="40644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6440"/>
                              <a:gd name="textAreaBottom" fmla="*/ 406080 h 406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60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976"/>
                                </a:lnTo>
                                <a:arcTo wR="101" hR="101" stAng="10800000" swAng="-5400000"/>
                                <a:lnTo>
                                  <a:pt x="21499" y="260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82" name="Group 176"/>
                          <p:cNvGrpSpPr/>
                          <p:nvPr/>
                        </p:nvGrpSpPr>
                        <p:grpSpPr>
                          <a:xfrm>
                            <a:off x="5486400" y="1523880"/>
                            <a:ext cx="334800" cy="403200"/>
                            <a:chOff x="5486400" y="1523880"/>
                            <a:chExt cx="334800" cy="403200"/>
                          </a:xfrm>
                        </p:grpSpPr>
                        <p:sp>
                          <p:nvSpPr>
                            <p:cNvPr id="1183" name="AutoShape 177"/>
                            <p:cNvSpPr/>
                            <p:nvPr/>
                          </p:nvSpPr>
                          <p:spPr>
                            <a:xfrm>
                              <a:off x="5486400" y="1523880"/>
                              <a:ext cx="334800" cy="403200"/>
                            </a:xfrm>
                            <a:custGeom>
                              <a:avLst/>
                              <a:gdLst>
                                <a:gd name="textAreaLeft" fmla="*/ 360 w 334800"/>
                                <a:gd name="textAreaRight" fmla="*/ 334440 w 334800"/>
                                <a:gd name="textAreaTop" fmla="*/ 360 h 403200"/>
                                <a:gd name="textAreaBottom" fmla="*/ 402840 h 40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6008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906"/>
                                  </a:lnTo>
                                  <a:arcTo wR="102" hR="102" stAng="10800000" swAng="-5400000"/>
                                  <a:lnTo>
                                    <a:pt x="21498" y="26008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84" name="Group 178"/>
                            <p:cNvGrpSpPr/>
                            <p:nvPr/>
                          </p:nvGrpSpPr>
                          <p:grpSpPr>
                            <a:xfrm>
                              <a:off x="5486400" y="1523880"/>
                              <a:ext cx="334800" cy="400320"/>
                              <a:chOff x="5486400" y="1523880"/>
                              <a:chExt cx="334800" cy="400320"/>
                            </a:xfrm>
                          </p:grpSpPr>
                          <p:sp>
                            <p:nvSpPr>
                              <p:cNvPr id="1185" name="AutoShape 179"/>
                              <p:cNvSpPr/>
                              <p:nvPr/>
                            </p:nvSpPr>
                            <p:spPr>
                              <a:xfrm>
                                <a:off x="5486400" y="1523880"/>
                                <a:ext cx="334800" cy="400320"/>
                              </a:xfrm>
                              <a:custGeom>
                                <a:avLst/>
                                <a:gdLst>
                                  <a:gd name="textAreaLeft" fmla="*/ 360 w 334800"/>
                                  <a:gd name="textAreaRight" fmla="*/ 334440 w 334800"/>
                                  <a:gd name="textAreaTop" fmla="*/ 360 h 400320"/>
                                  <a:gd name="textAreaBottom" fmla="*/ 399960 h 400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82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721"/>
                                    </a:lnTo>
                                    <a:arcTo wR="102" hR="102" stAng="10800000" swAng="-5400000"/>
                                    <a:lnTo>
                                      <a:pt x="21498" y="2582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86" name="AutoShape 180"/>
                              <p:cNvSpPr/>
                              <p:nvPr/>
                            </p:nvSpPr>
                            <p:spPr>
                              <a:xfrm>
                                <a:off x="5486400" y="152388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3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187" name="Group 181"/>
          <p:cNvGrpSpPr/>
          <p:nvPr/>
        </p:nvGrpSpPr>
        <p:grpSpPr>
          <a:xfrm>
            <a:off x="6095880" y="457200"/>
            <a:ext cx="344520" cy="444600"/>
            <a:chOff x="6095880" y="457200"/>
            <a:chExt cx="344520" cy="444600"/>
          </a:xfrm>
        </p:grpSpPr>
        <p:sp>
          <p:nvSpPr>
            <p:cNvPr id="1188" name="AutoShape 182"/>
            <p:cNvSpPr/>
            <p:nvPr/>
          </p:nvSpPr>
          <p:spPr>
            <a:xfrm>
              <a:off x="6095880" y="457200"/>
              <a:ext cx="330480" cy="444600"/>
            </a:xfrm>
            <a:custGeom>
              <a:avLst/>
              <a:gdLst>
                <a:gd name="textAreaLeft" fmla="*/ 360 w 330480"/>
                <a:gd name="textAreaRight" fmla="*/ 330120 w 33048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51">
                  <a:moveTo>
                    <a:pt x="103" y="0"/>
                  </a:moveTo>
                  <a:arcTo wR="103" hR="103" stAng="16200000" swAng="-5400000"/>
                  <a:lnTo>
                    <a:pt x="0" y="28948"/>
                  </a:lnTo>
                  <a:arcTo wR="103" hR="103" stAng="10800000" swAng="-5400000"/>
                  <a:lnTo>
                    <a:pt x="21497" y="29051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9" name="Group 183"/>
            <p:cNvGrpSpPr/>
            <p:nvPr/>
          </p:nvGrpSpPr>
          <p:grpSpPr>
            <a:xfrm>
              <a:off x="6095880" y="457200"/>
              <a:ext cx="344520" cy="433440"/>
              <a:chOff x="6095880" y="457200"/>
              <a:chExt cx="344520" cy="433440"/>
            </a:xfrm>
          </p:grpSpPr>
          <p:sp>
            <p:nvSpPr>
              <p:cNvPr id="1190" name="AutoShape 184"/>
              <p:cNvSpPr/>
              <p:nvPr/>
            </p:nvSpPr>
            <p:spPr>
              <a:xfrm>
                <a:off x="6095880" y="45720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1" name="Group 185"/>
              <p:cNvGrpSpPr/>
              <p:nvPr/>
            </p:nvGrpSpPr>
            <p:grpSpPr>
              <a:xfrm>
                <a:off x="6095880" y="457200"/>
                <a:ext cx="344520" cy="423720"/>
                <a:chOff x="6095880" y="457200"/>
                <a:chExt cx="344520" cy="423720"/>
              </a:xfrm>
            </p:grpSpPr>
            <p:sp>
              <p:nvSpPr>
                <p:cNvPr id="1192" name="AutoShape 186"/>
                <p:cNvSpPr/>
                <p:nvPr/>
              </p:nvSpPr>
              <p:spPr>
                <a:xfrm>
                  <a:off x="6095880" y="457200"/>
                  <a:ext cx="325440" cy="423720"/>
                </a:xfrm>
                <a:custGeom>
                  <a:avLst/>
                  <a:gdLst>
                    <a:gd name="textAreaLeft" fmla="*/ 360 w 325440"/>
                    <a:gd name="textAreaRight" fmla="*/ 325080 w 32544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116">
                      <a:moveTo>
                        <a:pt x="105" y="0"/>
                      </a:moveTo>
                      <a:arcTo wR="105" hR="105" stAng="16200000" swAng="-5400000"/>
                      <a:lnTo>
                        <a:pt x="0" y="28011"/>
                      </a:lnTo>
                      <a:arcTo wR="105" hR="105" stAng="10800000" swAng="-5400000"/>
                      <a:lnTo>
                        <a:pt x="21495" y="28116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3" name="Group 187"/>
                <p:cNvGrpSpPr/>
                <p:nvPr/>
              </p:nvGrpSpPr>
              <p:grpSpPr>
                <a:xfrm>
                  <a:off x="6095880" y="457200"/>
                  <a:ext cx="344520" cy="420840"/>
                  <a:chOff x="6095880" y="457200"/>
                  <a:chExt cx="344520" cy="420840"/>
                </a:xfrm>
              </p:grpSpPr>
              <p:sp>
                <p:nvSpPr>
                  <p:cNvPr id="1194" name="AutoShape 188"/>
                  <p:cNvSpPr/>
                  <p:nvPr/>
                </p:nvSpPr>
                <p:spPr>
                  <a:xfrm>
                    <a:off x="6095880" y="457200"/>
                    <a:ext cx="324000" cy="420840"/>
                  </a:xfrm>
                  <a:custGeom>
                    <a:avLst/>
                    <a:gdLst>
                      <a:gd name="textAreaLeft" fmla="*/ 360 w 324000"/>
                      <a:gd name="textAreaRight" fmla="*/ 323640 w 324000"/>
                      <a:gd name="textAreaTop" fmla="*/ 360 h 420840"/>
                      <a:gd name="textAreaBottom" fmla="*/ 420480 h 420840"/>
                    </a:gdLst>
                    <a:ahLst/>
                    <a:rect l="textAreaLeft" t="textAreaTop" r="textAreaRight" b="textAreaBottom"/>
                    <a:pathLst>
                      <a:path w="21600" h="28049">
                        <a:moveTo>
                          <a:pt x="105" y="0"/>
                        </a:moveTo>
                        <a:arcTo wR="105" hR="105" stAng="16200000" swAng="-5400000"/>
                        <a:lnTo>
                          <a:pt x="0" y="27944"/>
                        </a:lnTo>
                        <a:arcTo wR="105" hR="105" stAng="10800000" swAng="-5400000"/>
                        <a:lnTo>
                          <a:pt x="21495" y="28049"/>
                        </a:lnTo>
                        <a:arcTo wR="105" hR="105" stAng="5400000" swAng="-5400000"/>
                        <a:lnTo>
                          <a:pt x="21600" y="105"/>
                        </a:lnTo>
                        <a:arcTo wR="105" hR="105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5" name="Group 189"/>
                  <p:cNvGrpSpPr/>
                  <p:nvPr/>
                </p:nvGrpSpPr>
                <p:grpSpPr>
                  <a:xfrm>
                    <a:off x="6095880" y="457200"/>
                    <a:ext cx="344520" cy="415800"/>
                    <a:chOff x="6095880" y="457200"/>
                    <a:chExt cx="344520" cy="415800"/>
                  </a:xfrm>
                </p:grpSpPr>
                <p:sp>
                  <p:nvSpPr>
                    <p:cNvPr id="1196" name="AutoShape 190"/>
                    <p:cNvSpPr/>
                    <p:nvPr/>
                  </p:nvSpPr>
                  <p:spPr>
                    <a:xfrm>
                      <a:off x="6095880" y="457200"/>
                      <a:ext cx="322560" cy="415800"/>
                    </a:xfrm>
                    <a:custGeom>
                      <a:avLst/>
                      <a:gdLst>
                        <a:gd name="textAreaLeft" fmla="*/ 360 w 322560"/>
                        <a:gd name="textAreaRight" fmla="*/ 322200 w 322560"/>
                        <a:gd name="textAreaTop" fmla="*/ 360 h 415800"/>
                        <a:gd name="textAreaBottom" fmla="*/ 415440 h 415800"/>
                      </a:gdLst>
                      <a:ahLst/>
                      <a:rect l="textAreaLeft" t="textAreaTop" r="textAreaRight" b="textAreaBottom"/>
                      <a:pathLst>
                        <a:path w="21600" h="27837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731"/>
                          </a:lnTo>
                          <a:arcTo wR="106" hR="106" stAng="10800000" swAng="-5400000"/>
                          <a:lnTo>
                            <a:pt x="21494" y="27837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97" name="Group 191"/>
                    <p:cNvGrpSpPr/>
                    <p:nvPr/>
                  </p:nvGrpSpPr>
                  <p:grpSpPr>
                    <a:xfrm>
                      <a:off x="6095880" y="457200"/>
                      <a:ext cx="344520" cy="411120"/>
                      <a:chOff x="6095880" y="457200"/>
                      <a:chExt cx="344520" cy="411120"/>
                    </a:xfrm>
                  </p:grpSpPr>
                  <p:sp>
                    <p:nvSpPr>
                      <p:cNvPr id="1198" name="AutoShape 192"/>
                      <p:cNvSpPr/>
                      <p:nvPr/>
                    </p:nvSpPr>
                    <p:spPr>
                      <a:xfrm>
                        <a:off x="6095880" y="457200"/>
                        <a:ext cx="344520" cy="4111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1120"/>
                          <a:gd name="textAreaBottom" fmla="*/ 410760 h 411120"/>
                        </a:gdLst>
                        <a:ahLst/>
                        <a:rect l="textAreaLeft" t="textAreaTop" r="textAreaRight" b="textAreaBottom"/>
                        <a:pathLst>
                          <a:path w="21600" h="25771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671"/>
                            </a:lnTo>
                            <a:arcTo wR="100" hR="100" stAng="10800000" swAng="-5400000"/>
                            <a:lnTo>
                              <a:pt x="21500" y="25771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99" name="Group 193"/>
                      <p:cNvGrpSpPr/>
                      <p:nvPr/>
                    </p:nvGrpSpPr>
                    <p:grpSpPr>
                      <a:xfrm>
                        <a:off x="6095880" y="457200"/>
                        <a:ext cx="339840" cy="406440"/>
                        <a:chOff x="6095880" y="457200"/>
                        <a:chExt cx="339840" cy="406440"/>
                      </a:xfrm>
                    </p:grpSpPr>
                    <p:sp>
                      <p:nvSpPr>
                        <p:cNvPr id="1200" name="AutoShape 194"/>
                        <p:cNvSpPr/>
                        <p:nvPr/>
                      </p:nvSpPr>
                      <p:spPr>
                        <a:xfrm>
                          <a:off x="6095880" y="457200"/>
                          <a:ext cx="339840" cy="40644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6440"/>
                            <a:gd name="textAreaBottom" fmla="*/ 406080 h 406440"/>
                          </a:gdLst>
                          <a:ahLst/>
                          <a:rect l="textAreaLeft" t="textAreaTop" r="textAreaRight" b="textAreaBottom"/>
                          <a:pathLst>
                            <a:path w="21600" h="25829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729"/>
                              </a:lnTo>
                              <a:arcTo wR="100" hR="100" stAng="10800000" swAng="-5400000"/>
                              <a:lnTo>
                                <a:pt x="21500" y="25829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01" name="Group 195"/>
                        <p:cNvGrpSpPr/>
                        <p:nvPr/>
                      </p:nvGrpSpPr>
                      <p:grpSpPr>
                        <a:xfrm>
                          <a:off x="6095880" y="457200"/>
                          <a:ext cx="336600" cy="401760"/>
                          <a:chOff x="6095880" y="457200"/>
                          <a:chExt cx="336600" cy="401760"/>
                        </a:xfrm>
                      </p:grpSpPr>
                      <p:sp>
                        <p:nvSpPr>
                          <p:cNvPr id="1202" name="AutoShape 196"/>
                          <p:cNvSpPr/>
                          <p:nvPr/>
                        </p:nvSpPr>
                        <p:spPr>
                          <a:xfrm>
                            <a:off x="6095880" y="457200"/>
                            <a:ext cx="336600" cy="4017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1760"/>
                              <a:gd name="textAreaBottom" fmla="*/ 401400 h 401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7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676"/>
                                </a:lnTo>
                                <a:arcTo wR="101" hR="101" stAng="10800000" swAng="-5400000"/>
                                <a:lnTo>
                                  <a:pt x="21499" y="257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03" name="Group 197"/>
                          <p:cNvGrpSpPr/>
                          <p:nvPr/>
                        </p:nvGrpSpPr>
                        <p:grpSpPr>
                          <a:xfrm>
                            <a:off x="6095880" y="457200"/>
                            <a:ext cx="335160" cy="398520"/>
                            <a:chOff x="6095880" y="457200"/>
                            <a:chExt cx="335160" cy="398520"/>
                          </a:xfrm>
                        </p:grpSpPr>
                        <p:sp>
                          <p:nvSpPr>
                            <p:cNvPr id="1204" name="AutoShape 198"/>
                            <p:cNvSpPr/>
                            <p:nvPr/>
                          </p:nvSpPr>
                          <p:spPr>
                            <a:xfrm>
                              <a:off x="6095880" y="457200"/>
                              <a:ext cx="335160" cy="398520"/>
                            </a:xfrm>
                            <a:custGeom>
                              <a:avLst/>
                              <a:gdLst>
                                <a:gd name="textAreaLeft" fmla="*/ 360 w 335160"/>
                                <a:gd name="textAreaRight" fmla="*/ 334800 w 335160"/>
                                <a:gd name="textAreaTop" fmla="*/ 360 h 398520"/>
                                <a:gd name="textAreaBottom" fmla="*/ 398160 h 398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679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577"/>
                                  </a:lnTo>
                                  <a:arcTo wR="102" hR="102" stAng="10800000" swAng="-5400000"/>
                                  <a:lnTo>
                                    <a:pt x="21498" y="25679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05" name="Group 199"/>
                            <p:cNvGrpSpPr/>
                            <p:nvPr/>
                          </p:nvGrpSpPr>
                          <p:grpSpPr>
                            <a:xfrm>
                              <a:off x="6095880" y="457200"/>
                              <a:ext cx="335160" cy="398520"/>
                              <a:chOff x="6095880" y="457200"/>
                              <a:chExt cx="335160" cy="398520"/>
                            </a:xfrm>
                          </p:grpSpPr>
                          <p:sp>
                            <p:nvSpPr>
                              <p:cNvPr id="1206" name="AutoShape 200"/>
                              <p:cNvSpPr/>
                              <p:nvPr/>
                            </p:nvSpPr>
                            <p:spPr>
                              <a:xfrm>
                                <a:off x="6095880" y="457200"/>
                                <a:ext cx="335160" cy="398520"/>
                              </a:xfrm>
                              <a:custGeom>
                                <a:avLst/>
                                <a:gdLst>
                                  <a:gd name="textAreaLeft" fmla="*/ 360 w 335160"/>
                                  <a:gd name="textAreaRight" fmla="*/ 334800 w 335160"/>
                                  <a:gd name="textAreaTop" fmla="*/ 360 h 398520"/>
                                  <a:gd name="textAreaBottom" fmla="*/ 398160 h 398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679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577"/>
                                    </a:lnTo>
                                    <a:arcTo wR="102" hR="102" stAng="10800000" swAng="-5400000"/>
                                    <a:lnTo>
                                      <a:pt x="21498" y="25679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07" name="AutoShape 201"/>
                              <p:cNvSpPr/>
                              <p:nvPr/>
                            </p:nvSpPr>
                            <p:spPr>
                              <a:xfrm>
                                <a:off x="6096240" y="45720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208" name="Group 202"/>
          <p:cNvGrpSpPr/>
          <p:nvPr/>
        </p:nvGrpSpPr>
        <p:grpSpPr>
          <a:xfrm>
            <a:off x="2895480" y="2133720"/>
            <a:ext cx="344520" cy="444240"/>
            <a:chOff x="2895480" y="2133720"/>
            <a:chExt cx="344520" cy="444240"/>
          </a:xfrm>
        </p:grpSpPr>
        <p:sp>
          <p:nvSpPr>
            <p:cNvPr id="1209" name="AutoShape 203"/>
            <p:cNvSpPr/>
            <p:nvPr/>
          </p:nvSpPr>
          <p:spPr>
            <a:xfrm>
              <a:off x="2895480" y="2133720"/>
              <a:ext cx="330480" cy="444240"/>
            </a:xfrm>
            <a:custGeom>
              <a:avLst/>
              <a:gdLst>
                <a:gd name="textAreaLeft" fmla="*/ 360 w 330480"/>
                <a:gd name="textAreaRight" fmla="*/ 330120 w 330480"/>
                <a:gd name="textAreaTop" fmla="*/ 360 h 444240"/>
                <a:gd name="textAreaBottom" fmla="*/ 443880 h 444240"/>
              </a:gdLst>
              <a:ahLst/>
              <a:rect l="textAreaLeft" t="textAreaTop" r="textAreaRight" b="textAreaBottom"/>
              <a:pathLst>
                <a:path w="21600" h="29027">
                  <a:moveTo>
                    <a:pt x="103" y="0"/>
                  </a:moveTo>
                  <a:arcTo wR="103" hR="103" stAng="16200000" swAng="-5400000"/>
                  <a:lnTo>
                    <a:pt x="0" y="28924"/>
                  </a:lnTo>
                  <a:arcTo wR="103" hR="103" stAng="10800000" swAng="-5400000"/>
                  <a:lnTo>
                    <a:pt x="21497" y="29027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0" name="Group 204"/>
            <p:cNvGrpSpPr/>
            <p:nvPr/>
          </p:nvGrpSpPr>
          <p:grpSpPr>
            <a:xfrm>
              <a:off x="2895480" y="2133720"/>
              <a:ext cx="344520" cy="433440"/>
              <a:chOff x="2895480" y="2133720"/>
              <a:chExt cx="344520" cy="433440"/>
            </a:xfrm>
          </p:grpSpPr>
          <p:sp>
            <p:nvSpPr>
              <p:cNvPr id="1211" name="AutoShape 205"/>
              <p:cNvSpPr/>
              <p:nvPr/>
            </p:nvSpPr>
            <p:spPr>
              <a:xfrm>
                <a:off x="2895480" y="213372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2" name="Group 206"/>
              <p:cNvGrpSpPr/>
              <p:nvPr/>
            </p:nvGrpSpPr>
            <p:grpSpPr>
              <a:xfrm>
                <a:off x="2895480" y="2133720"/>
                <a:ext cx="344520" cy="423720"/>
                <a:chOff x="2895480" y="2133720"/>
                <a:chExt cx="344520" cy="423720"/>
              </a:xfrm>
            </p:grpSpPr>
            <p:sp>
              <p:nvSpPr>
                <p:cNvPr id="1213" name="AutoShape 207"/>
                <p:cNvSpPr/>
                <p:nvPr/>
              </p:nvSpPr>
              <p:spPr>
                <a:xfrm>
                  <a:off x="2895480" y="2133720"/>
                  <a:ext cx="325440" cy="423720"/>
                </a:xfrm>
                <a:custGeom>
                  <a:avLst/>
                  <a:gdLst>
                    <a:gd name="textAreaLeft" fmla="*/ 360 w 325440"/>
                    <a:gd name="textAreaRight" fmla="*/ 325080 w 32544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116">
                      <a:moveTo>
                        <a:pt x="105" y="0"/>
                      </a:moveTo>
                      <a:arcTo wR="105" hR="105" stAng="16200000" swAng="-5400000"/>
                      <a:lnTo>
                        <a:pt x="0" y="28011"/>
                      </a:lnTo>
                      <a:arcTo wR="105" hR="105" stAng="10800000" swAng="-5400000"/>
                      <a:lnTo>
                        <a:pt x="21495" y="28116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Group 208"/>
                <p:cNvGrpSpPr/>
                <p:nvPr/>
              </p:nvGrpSpPr>
              <p:grpSpPr>
                <a:xfrm>
                  <a:off x="2895480" y="2133720"/>
                  <a:ext cx="344520" cy="417240"/>
                  <a:chOff x="2895480" y="2133720"/>
                  <a:chExt cx="344520" cy="417240"/>
                </a:xfrm>
              </p:grpSpPr>
              <p:sp>
                <p:nvSpPr>
                  <p:cNvPr id="1215" name="AutoShape 209"/>
                  <p:cNvSpPr/>
                  <p:nvPr/>
                </p:nvSpPr>
                <p:spPr>
                  <a:xfrm>
                    <a:off x="2895480" y="2133720"/>
                    <a:ext cx="324000" cy="417240"/>
                  </a:xfrm>
                  <a:custGeom>
                    <a:avLst/>
                    <a:gdLst>
                      <a:gd name="textAreaLeft" fmla="*/ 360 w 324000"/>
                      <a:gd name="textAreaRight" fmla="*/ 323640 w 324000"/>
                      <a:gd name="textAreaTop" fmla="*/ 360 h 417240"/>
                      <a:gd name="textAreaBottom" fmla="*/ 416880 h 417240"/>
                    </a:gdLst>
                    <a:ahLst/>
                    <a:rect l="textAreaLeft" t="textAreaTop" r="textAreaRight" b="textAreaBottom"/>
                    <a:pathLst>
                      <a:path w="21600" h="27809">
                        <a:moveTo>
                          <a:pt x="105" y="0"/>
                        </a:moveTo>
                        <a:arcTo wR="105" hR="105" stAng="16200000" swAng="-5400000"/>
                        <a:lnTo>
                          <a:pt x="0" y="27704"/>
                        </a:lnTo>
                        <a:arcTo wR="105" hR="105" stAng="10800000" swAng="-5400000"/>
                        <a:lnTo>
                          <a:pt x="21495" y="27809"/>
                        </a:lnTo>
                        <a:arcTo wR="105" hR="105" stAng="5400000" swAng="-5400000"/>
                        <a:lnTo>
                          <a:pt x="21600" y="105"/>
                        </a:lnTo>
                        <a:arcTo wR="105" hR="105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6" name="Group 210"/>
                  <p:cNvGrpSpPr/>
                  <p:nvPr/>
                </p:nvGrpSpPr>
                <p:grpSpPr>
                  <a:xfrm>
                    <a:off x="2895480" y="2133720"/>
                    <a:ext cx="344520" cy="412560"/>
                    <a:chOff x="2895480" y="2133720"/>
                    <a:chExt cx="344520" cy="412560"/>
                  </a:xfrm>
                </p:grpSpPr>
                <p:sp>
                  <p:nvSpPr>
                    <p:cNvPr id="1217" name="AutoShape 211"/>
                    <p:cNvSpPr/>
                    <p:nvPr/>
                  </p:nvSpPr>
                  <p:spPr>
                    <a:xfrm>
                      <a:off x="2895480" y="2133720"/>
                      <a:ext cx="322560" cy="412560"/>
                    </a:xfrm>
                    <a:custGeom>
                      <a:avLst/>
                      <a:gdLst>
                        <a:gd name="textAreaLeft" fmla="*/ 360 w 322560"/>
                        <a:gd name="textAreaRight" fmla="*/ 322200 w 322560"/>
                        <a:gd name="textAreaTop" fmla="*/ 360 h 412560"/>
                        <a:gd name="textAreaBottom" fmla="*/ 412200 h 412560"/>
                      </a:gdLst>
                      <a:ahLst/>
                      <a:rect l="textAreaLeft" t="textAreaTop" r="textAreaRight" b="textAreaBottom"/>
                      <a:pathLst>
                        <a:path w="21600" h="27620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514"/>
                          </a:lnTo>
                          <a:arcTo wR="106" hR="106" stAng="10800000" swAng="-5400000"/>
                          <a:lnTo>
                            <a:pt x="21494" y="27620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18" name="Group 212"/>
                    <p:cNvGrpSpPr/>
                    <p:nvPr/>
                  </p:nvGrpSpPr>
                  <p:grpSpPr>
                    <a:xfrm>
                      <a:off x="2895480" y="2133720"/>
                      <a:ext cx="344520" cy="407880"/>
                      <a:chOff x="2895480" y="2133720"/>
                      <a:chExt cx="344520" cy="407880"/>
                    </a:xfrm>
                  </p:grpSpPr>
                  <p:sp>
                    <p:nvSpPr>
                      <p:cNvPr id="1219" name="AutoShape 213"/>
                      <p:cNvSpPr/>
                      <p:nvPr/>
                    </p:nvSpPr>
                    <p:spPr>
                      <a:xfrm>
                        <a:off x="2895480" y="2133720"/>
                        <a:ext cx="344520" cy="40788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07880"/>
                          <a:gd name="textAreaBottom" fmla="*/ 407520 h 407880"/>
                        </a:gdLst>
                        <a:ahLst/>
                        <a:rect l="textAreaLeft" t="textAreaTop" r="textAreaRight" b="textAreaBottom"/>
                        <a:pathLst>
                          <a:path w="21600" h="25568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468"/>
                            </a:lnTo>
                            <a:arcTo wR="100" hR="100" stAng="10800000" swAng="-5400000"/>
                            <a:lnTo>
                              <a:pt x="21500" y="25568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20" name="Group 214"/>
                      <p:cNvGrpSpPr/>
                      <p:nvPr/>
                    </p:nvGrpSpPr>
                    <p:grpSpPr>
                      <a:xfrm>
                        <a:off x="2895480" y="2133720"/>
                        <a:ext cx="339840" cy="403200"/>
                        <a:chOff x="2895480" y="2133720"/>
                        <a:chExt cx="339840" cy="403200"/>
                      </a:xfrm>
                    </p:grpSpPr>
                    <p:sp>
                      <p:nvSpPr>
                        <p:cNvPr id="1221" name="AutoShape 215"/>
                        <p:cNvSpPr/>
                        <p:nvPr/>
                      </p:nvSpPr>
                      <p:spPr>
                        <a:xfrm>
                          <a:off x="2895480" y="2133720"/>
                          <a:ext cx="339840" cy="40320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3200"/>
                            <a:gd name="textAreaBottom" fmla="*/ 402840 h 403200"/>
                          </a:gdLst>
                          <a:ahLst/>
                          <a:rect l="textAreaLeft" t="textAreaTop" r="textAreaRight" b="textAreaBottom"/>
                          <a:pathLst>
                            <a:path w="21600" h="25623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523"/>
                              </a:lnTo>
                              <a:arcTo wR="100" hR="100" stAng="10800000" swAng="-5400000"/>
                              <a:lnTo>
                                <a:pt x="21500" y="25623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22" name="Group 216"/>
                        <p:cNvGrpSpPr/>
                        <p:nvPr/>
                      </p:nvGrpSpPr>
                      <p:grpSpPr>
                        <a:xfrm>
                          <a:off x="2895480" y="2133720"/>
                          <a:ext cx="336600" cy="399960"/>
                          <a:chOff x="2895480" y="2133720"/>
                          <a:chExt cx="336600" cy="399960"/>
                        </a:xfrm>
                      </p:grpSpPr>
                      <p:sp>
                        <p:nvSpPr>
                          <p:cNvPr id="1223" name="AutoShape 217"/>
                          <p:cNvSpPr/>
                          <p:nvPr/>
                        </p:nvSpPr>
                        <p:spPr>
                          <a:xfrm>
                            <a:off x="2895480" y="2133720"/>
                            <a:ext cx="336600" cy="3999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399960"/>
                              <a:gd name="textAreaBottom" fmla="*/ 399600 h 3999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662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561"/>
                                </a:lnTo>
                                <a:arcTo wR="101" hR="101" stAng="10800000" swAng="-5400000"/>
                                <a:lnTo>
                                  <a:pt x="21499" y="25662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24" name="Group 218"/>
                          <p:cNvGrpSpPr/>
                          <p:nvPr/>
                        </p:nvGrpSpPr>
                        <p:grpSpPr>
                          <a:xfrm>
                            <a:off x="2895480" y="2133720"/>
                            <a:ext cx="335160" cy="399960"/>
                            <a:chOff x="2895480" y="2133720"/>
                            <a:chExt cx="335160" cy="399960"/>
                          </a:xfrm>
                        </p:grpSpPr>
                        <p:sp>
                          <p:nvSpPr>
                            <p:cNvPr id="1225" name="AutoShape 219"/>
                            <p:cNvSpPr/>
                            <p:nvPr/>
                          </p:nvSpPr>
                          <p:spPr>
                            <a:xfrm>
                              <a:off x="2895480" y="2133720"/>
                              <a:ext cx="335160" cy="399960"/>
                            </a:xfrm>
                            <a:custGeom>
                              <a:avLst/>
                              <a:gdLst>
                                <a:gd name="textAreaLeft" fmla="*/ 360 w 335160"/>
                                <a:gd name="textAreaRight" fmla="*/ 334800 w 335160"/>
                                <a:gd name="textAreaTop" fmla="*/ 360 h 399960"/>
                                <a:gd name="textAreaBottom" fmla="*/ 399600 h 39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772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670"/>
                                  </a:lnTo>
                                  <a:arcTo wR="102" hR="102" stAng="10800000" swAng="-5400000"/>
                                  <a:lnTo>
                                    <a:pt x="21498" y="25772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26" name="Group 220"/>
                            <p:cNvGrpSpPr/>
                            <p:nvPr/>
                          </p:nvGrpSpPr>
                          <p:grpSpPr>
                            <a:xfrm>
                              <a:off x="2895480" y="2133720"/>
                              <a:ext cx="335160" cy="399960"/>
                              <a:chOff x="2895480" y="2133720"/>
                              <a:chExt cx="335160" cy="399960"/>
                            </a:xfrm>
                          </p:grpSpPr>
                          <p:sp>
                            <p:nvSpPr>
                              <p:cNvPr id="1227" name="AutoShape 221"/>
                              <p:cNvSpPr/>
                              <p:nvPr/>
                            </p:nvSpPr>
                            <p:spPr>
                              <a:xfrm>
                                <a:off x="2895480" y="2133720"/>
                                <a:ext cx="335160" cy="399960"/>
                              </a:xfrm>
                              <a:custGeom>
                                <a:avLst/>
                                <a:gdLst>
                                  <a:gd name="textAreaLeft" fmla="*/ 360 w 335160"/>
                                  <a:gd name="textAreaRight" fmla="*/ 334800 w 335160"/>
                                  <a:gd name="textAreaTop" fmla="*/ 360 h 399960"/>
                                  <a:gd name="textAreaBottom" fmla="*/ 399600 h 39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772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670"/>
                                    </a:lnTo>
                                    <a:arcTo wR="102" hR="102" stAng="10800000" swAng="-5400000"/>
                                    <a:lnTo>
                                      <a:pt x="21498" y="25772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8" name="AutoShape 222"/>
                              <p:cNvSpPr/>
                              <p:nvPr/>
                            </p:nvSpPr>
                            <p:spPr>
                              <a:xfrm>
                                <a:off x="2895840" y="213372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5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229" name="Group 223"/>
          <p:cNvGrpSpPr/>
          <p:nvPr/>
        </p:nvGrpSpPr>
        <p:grpSpPr>
          <a:xfrm>
            <a:off x="1600200" y="1523880"/>
            <a:ext cx="344520" cy="444600"/>
            <a:chOff x="1600200" y="1523880"/>
            <a:chExt cx="344520" cy="444600"/>
          </a:xfrm>
        </p:grpSpPr>
        <p:sp>
          <p:nvSpPr>
            <p:cNvPr id="1230" name="AutoShape 224"/>
            <p:cNvSpPr/>
            <p:nvPr/>
          </p:nvSpPr>
          <p:spPr>
            <a:xfrm>
              <a:off x="1600200" y="1523880"/>
              <a:ext cx="330120" cy="444600"/>
            </a:xfrm>
            <a:custGeom>
              <a:avLst/>
              <a:gdLst>
                <a:gd name="textAreaLeft" fmla="*/ 360 w 330120"/>
                <a:gd name="textAreaRight" fmla="*/ 329760 w 33012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82">
                  <a:moveTo>
                    <a:pt x="103" y="0"/>
                  </a:moveTo>
                  <a:arcTo wR="103" hR="103" stAng="16200000" swAng="-5400000"/>
                  <a:lnTo>
                    <a:pt x="0" y="28979"/>
                  </a:lnTo>
                  <a:arcTo wR="103" hR="103" stAng="10800000" swAng="-5400000"/>
                  <a:lnTo>
                    <a:pt x="21497" y="29082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1" name="Group 225"/>
            <p:cNvGrpSpPr/>
            <p:nvPr/>
          </p:nvGrpSpPr>
          <p:grpSpPr>
            <a:xfrm>
              <a:off x="1600200" y="1523880"/>
              <a:ext cx="344520" cy="435240"/>
              <a:chOff x="1600200" y="1523880"/>
              <a:chExt cx="344520" cy="435240"/>
            </a:xfrm>
          </p:grpSpPr>
          <p:sp>
            <p:nvSpPr>
              <p:cNvPr id="1232" name="AutoShape 226"/>
              <p:cNvSpPr/>
              <p:nvPr/>
            </p:nvSpPr>
            <p:spPr>
              <a:xfrm>
                <a:off x="1600200" y="1523880"/>
                <a:ext cx="325440" cy="4352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5240"/>
                  <a:gd name="textAreaBottom" fmla="*/ 434880 h 435240"/>
                </a:gdLst>
                <a:ahLst/>
                <a:rect l="textAreaLeft" t="textAreaTop" r="textAreaRight" b="textAreaBottom"/>
                <a:pathLst>
                  <a:path w="21600" h="28880">
                    <a:moveTo>
                      <a:pt x="105" y="0"/>
                    </a:moveTo>
                    <a:arcTo wR="105" hR="105" stAng="16200000" swAng="-5400000"/>
                    <a:lnTo>
                      <a:pt x="0" y="28775"/>
                    </a:lnTo>
                    <a:arcTo wR="105" hR="105" stAng="10800000" swAng="-5400000"/>
                    <a:lnTo>
                      <a:pt x="21495" y="2888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3" name="Group 227"/>
              <p:cNvGrpSpPr/>
              <p:nvPr/>
            </p:nvGrpSpPr>
            <p:grpSpPr>
              <a:xfrm>
                <a:off x="1600200" y="1523880"/>
                <a:ext cx="344520" cy="425520"/>
                <a:chOff x="1600200" y="1523880"/>
                <a:chExt cx="344520" cy="425520"/>
              </a:xfrm>
            </p:grpSpPr>
            <p:sp>
              <p:nvSpPr>
                <p:cNvPr id="1234" name="AutoShape 228"/>
                <p:cNvSpPr/>
                <p:nvPr/>
              </p:nvSpPr>
              <p:spPr>
                <a:xfrm>
                  <a:off x="1600200" y="1523880"/>
                  <a:ext cx="322200" cy="425520"/>
                </a:xfrm>
                <a:custGeom>
                  <a:avLst/>
                  <a:gdLst>
                    <a:gd name="textAreaLeft" fmla="*/ 360 w 322200"/>
                    <a:gd name="textAreaRight" fmla="*/ 321840 w 322200"/>
                    <a:gd name="textAreaTop" fmla="*/ 360 h 425520"/>
                    <a:gd name="textAreaBottom" fmla="*/ 425160 h 425520"/>
                  </a:gdLst>
                  <a:ahLst/>
                  <a:rect l="textAreaLeft" t="textAreaTop" r="textAreaRight" b="textAreaBottom"/>
                  <a:pathLst>
                    <a:path w="21600" h="28519">
                      <a:moveTo>
                        <a:pt x="106" y="0"/>
                      </a:moveTo>
                      <a:arcTo wR="106" hR="106" stAng="16200000" swAng="-5400000"/>
                      <a:lnTo>
                        <a:pt x="0" y="28413"/>
                      </a:lnTo>
                      <a:arcTo wR="106" hR="106" stAng="10800000" swAng="-5400000"/>
                      <a:lnTo>
                        <a:pt x="21494" y="28519"/>
                      </a:lnTo>
                      <a:arcTo wR="106" hR="106" stAng="5400000" swAng="-5400000"/>
                      <a:lnTo>
                        <a:pt x="21600" y="106"/>
                      </a:lnTo>
                      <a:arcTo wR="106" hR="10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5" name="Group 229"/>
                <p:cNvGrpSpPr/>
                <p:nvPr/>
              </p:nvGrpSpPr>
              <p:grpSpPr>
                <a:xfrm>
                  <a:off x="1600200" y="1523880"/>
                  <a:ext cx="344520" cy="419400"/>
                  <a:chOff x="1600200" y="1523880"/>
                  <a:chExt cx="344520" cy="419400"/>
                </a:xfrm>
              </p:grpSpPr>
              <p:sp>
                <p:nvSpPr>
                  <p:cNvPr id="1236" name="AutoShape 230"/>
                  <p:cNvSpPr/>
                  <p:nvPr/>
                </p:nvSpPr>
                <p:spPr>
                  <a:xfrm>
                    <a:off x="1600200" y="1523880"/>
                    <a:ext cx="320760" cy="419400"/>
                  </a:xfrm>
                  <a:custGeom>
                    <a:avLst/>
                    <a:gdLst>
                      <a:gd name="textAreaLeft" fmla="*/ 360 w 320760"/>
                      <a:gd name="textAreaRight" fmla="*/ 320400 w 320760"/>
                      <a:gd name="textAreaTop" fmla="*/ 360 h 419400"/>
                      <a:gd name="textAreaBottom" fmla="*/ 419040 h 419400"/>
                    </a:gdLst>
                    <a:ahLst/>
                    <a:rect l="textAreaLeft" t="textAreaTop" r="textAreaRight" b="textAreaBottom"/>
                    <a:pathLst>
                      <a:path w="21600" h="28235">
                        <a:moveTo>
                          <a:pt x="106" y="0"/>
                        </a:moveTo>
                        <a:arcTo wR="106" hR="106" stAng="16200000" swAng="-5400000"/>
                        <a:lnTo>
                          <a:pt x="0" y="28129"/>
                        </a:lnTo>
                        <a:arcTo wR="106" hR="106" stAng="10800000" swAng="-5400000"/>
                        <a:lnTo>
                          <a:pt x="21494" y="28235"/>
                        </a:lnTo>
                        <a:arcTo wR="106" hR="106" stAng="5400000" swAng="-5400000"/>
                        <a:lnTo>
                          <a:pt x="21600" y="106"/>
                        </a:lnTo>
                        <a:arcTo wR="106" hR="10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7" name="Group 231"/>
                  <p:cNvGrpSpPr/>
                  <p:nvPr/>
                </p:nvGrpSpPr>
                <p:grpSpPr>
                  <a:xfrm>
                    <a:off x="1600200" y="1523880"/>
                    <a:ext cx="344520" cy="414360"/>
                    <a:chOff x="1600200" y="1523880"/>
                    <a:chExt cx="344520" cy="414360"/>
                  </a:xfrm>
                </p:grpSpPr>
                <p:sp>
                  <p:nvSpPr>
                    <p:cNvPr id="1238" name="AutoShape 232"/>
                    <p:cNvSpPr/>
                    <p:nvPr/>
                  </p:nvSpPr>
                  <p:spPr>
                    <a:xfrm>
                      <a:off x="1600200" y="1523880"/>
                      <a:ext cx="320760" cy="414360"/>
                    </a:xfrm>
                    <a:custGeom>
                      <a:avLst/>
                      <a:gdLst>
                        <a:gd name="textAreaLeft" fmla="*/ 360 w 320760"/>
                        <a:gd name="textAreaRight" fmla="*/ 320400 w 320760"/>
                        <a:gd name="textAreaTop" fmla="*/ 360 h 414360"/>
                        <a:gd name="textAreaBottom" fmla="*/ 414000 h 414360"/>
                      </a:gdLst>
                      <a:ahLst/>
                      <a:rect l="textAreaLeft" t="textAreaTop" r="textAreaRight" b="textAreaBottom"/>
                      <a:pathLst>
                        <a:path w="21600" h="27896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790"/>
                          </a:lnTo>
                          <a:arcTo wR="106" hR="106" stAng="10800000" swAng="-5400000"/>
                          <a:lnTo>
                            <a:pt x="21494" y="27896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39" name="Group 233"/>
                    <p:cNvGrpSpPr/>
                    <p:nvPr/>
                  </p:nvGrpSpPr>
                  <p:grpSpPr>
                    <a:xfrm>
                      <a:off x="1600200" y="1523880"/>
                      <a:ext cx="344520" cy="412920"/>
                      <a:chOff x="1600200" y="1523880"/>
                      <a:chExt cx="344520" cy="412920"/>
                    </a:xfrm>
                  </p:grpSpPr>
                  <p:sp>
                    <p:nvSpPr>
                      <p:cNvPr id="1240" name="AutoShape 234"/>
                      <p:cNvSpPr/>
                      <p:nvPr/>
                    </p:nvSpPr>
                    <p:spPr>
                      <a:xfrm>
                        <a:off x="1600200" y="1523880"/>
                        <a:ext cx="344520" cy="4129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2920"/>
                          <a:gd name="textAreaBottom" fmla="*/ 412560 h 412920"/>
                        </a:gdLst>
                        <a:ahLst/>
                        <a:rect l="textAreaLeft" t="textAreaTop" r="textAreaRight" b="textAreaBottom"/>
                        <a:pathLst>
                          <a:path w="21600" h="25884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784"/>
                            </a:lnTo>
                            <a:arcTo wR="100" hR="100" stAng="10800000" swAng="-5400000"/>
                            <a:lnTo>
                              <a:pt x="21500" y="25884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41" name="Group 235"/>
                      <p:cNvGrpSpPr/>
                      <p:nvPr/>
                    </p:nvGrpSpPr>
                    <p:grpSpPr>
                      <a:xfrm>
                        <a:off x="1600200" y="1523880"/>
                        <a:ext cx="339840" cy="409680"/>
                        <a:chOff x="1600200" y="1523880"/>
                        <a:chExt cx="339840" cy="409680"/>
                      </a:xfrm>
                    </p:grpSpPr>
                    <p:sp>
                      <p:nvSpPr>
                        <p:cNvPr id="1242" name="AutoShape 236"/>
                        <p:cNvSpPr/>
                        <p:nvPr/>
                      </p:nvSpPr>
                      <p:spPr>
                        <a:xfrm>
                          <a:off x="1600200" y="1523880"/>
                          <a:ext cx="339840" cy="40968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9680"/>
                            <a:gd name="textAreaBottom" fmla="*/ 40932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6034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934"/>
                              </a:lnTo>
                              <a:arcTo wR="100" hR="100" stAng="10800000" swAng="-5400000"/>
                              <a:lnTo>
                                <a:pt x="21500" y="26034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43" name="Group 237"/>
                        <p:cNvGrpSpPr/>
                        <p:nvPr/>
                      </p:nvGrpSpPr>
                      <p:grpSpPr>
                        <a:xfrm>
                          <a:off x="1600200" y="1523880"/>
                          <a:ext cx="336600" cy="406440"/>
                          <a:chOff x="1600200" y="1523880"/>
                          <a:chExt cx="336600" cy="406440"/>
                        </a:xfrm>
                      </p:grpSpPr>
                      <p:sp>
                        <p:nvSpPr>
                          <p:cNvPr id="1244" name="AutoShape 238"/>
                          <p:cNvSpPr/>
                          <p:nvPr/>
                        </p:nvSpPr>
                        <p:spPr>
                          <a:xfrm>
                            <a:off x="1600200" y="1523880"/>
                            <a:ext cx="336600" cy="40644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6440"/>
                              <a:gd name="textAreaBottom" fmla="*/ 406080 h 40644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60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976"/>
                                </a:lnTo>
                                <a:arcTo wR="101" hR="101" stAng="10800000" swAng="-5400000"/>
                                <a:lnTo>
                                  <a:pt x="21499" y="260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45" name="Group 239"/>
                          <p:cNvGrpSpPr/>
                          <p:nvPr/>
                        </p:nvGrpSpPr>
                        <p:grpSpPr>
                          <a:xfrm>
                            <a:off x="1600200" y="1523880"/>
                            <a:ext cx="334800" cy="403200"/>
                            <a:chOff x="1600200" y="1523880"/>
                            <a:chExt cx="334800" cy="403200"/>
                          </a:xfrm>
                        </p:grpSpPr>
                        <p:sp>
                          <p:nvSpPr>
                            <p:cNvPr id="1246" name="AutoShape 240"/>
                            <p:cNvSpPr/>
                            <p:nvPr/>
                          </p:nvSpPr>
                          <p:spPr>
                            <a:xfrm>
                              <a:off x="1600200" y="1523880"/>
                              <a:ext cx="334800" cy="403200"/>
                            </a:xfrm>
                            <a:custGeom>
                              <a:avLst/>
                              <a:gdLst>
                                <a:gd name="textAreaLeft" fmla="*/ 360 w 334800"/>
                                <a:gd name="textAreaRight" fmla="*/ 334440 w 334800"/>
                                <a:gd name="textAreaTop" fmla="*/ 360 h 403200"/>
                                <a:gd name="textAreaBottom" fmla="*/ 402840 h 40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6008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906"/>
                                  </a:lnTo>
                                  <a:arcTo wR="102" hR="102" stAng="10800000" swAng="-5400000"/>
                                  <a:lnTo>
                                    <a:pt x="21498" y="26008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47" name="Group 241"/>
                            <p:cNvGrpSpPr/>
                            <p:nvPr/>
                          </p:nvGrpSpPr>
                          <p:grpSpPr>
                            <a:xfrm>
                              <a:off x="1600200" y="1523880"/>
                              <a:ext cx="334800" cy="400320"/>
                              <a:chOff x="1600200" y="1523880"/>
                              <a:chExt cx="334800" cy="400320"/>
                            </a:xfrm>
                          </p:grpSpPr>
                          <p:sp>
                            <p:nvSpPr>
                              <p:cNvPr id="1248" name="AutoShape 242"/>
                              <p:cNvSpPr/>
                              <p:nvPr/>
                            </p:nvSpPr>
                            <p:spPr>
                              <a:xfrm>
                                <a:off x="1600200" y="1523880"/>
                                <a:ext cx="334800" cy="400320"/>
                              </a:xfrm>
                              <a:custGeom>
                                <a:avLst/>
                                <a:gdLst>
                                  <a:gd name="textAreaLeft" fmla="*/ 360 w 334800"/>
                                  <a:gd name="textAreaRight" fmla="*/ 334440 w 334800"/>
                                  <a:gd name="textAreaTop" fmla="*/ 360 h 400320"/>
                                  <a:gd name="textAreaBottom" fmla="*/ 399960 h 400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82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721"/>
                                    </a:lnTo>
                                    <a:arcTo wR="102" hR="102" stAng="10800000" swAng="-5400000"/>
                                    <a:lnTo>
                                      <a:pt x="21498" y="2582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9" name="AutoShape 243"/>
                              <p:cNvSpPr/>
                              <p:nvPr/>
                            </p:nvSpPr>
                            <p:spPr>
                              <a:xfrm>
                                <a:off x="1600200" y="152388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4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250" name="Group 244"/>
          <p:cNvGrpSpPr/>
          <p:nvPr/>
        </p:nvGrpSpPr>
        <p:grpSpPr>
          <a:xfrm>
            <a:off x="2438280" y="3886200"/>
            <a:ext cx="344520" cy="444600"/>
            <a:chOff x="2438280" y="3886200"/>
            <a:chExt cx="344520" cy="444600"/>
          </a:xfrm>
        </p:grpSpPr>
        <p:sp>
          <p:nvSpPr>
            <p:cNvPr id="1251" name="AutoShape 245"/>
            <p:cNvSpPr/>
            <p:nvPr/>
          </p:nvSpPr>
          <p:spPr>
            <a:xfrm>
              <a:off x="2438280" y="3886200"/>
              <a:ext cx="330480" cy="444600"/>
            </a:xfrm>
            <a:custGeom>
              <a:avLst/>
              <a:gdLst>
                <a:gd name="textAreaLeft" fmla="*/ 360 w 330480"/>
                <a:gd name="textAreaRight" fmla="*/ 330120 w 33048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51">
                  <a:moveTo>
                    <a:pt x="103" y="0"/>
                  </a:moveTo>
                  <a:arcTo wR="103" hR="103" stAng="16200000" swAng="-5400000"/>
                  <a:lnTo>
                    <a:pt x="0" y="28948"/>
                  </a:lnTo>
                  <a:arcTo wR="103" hR="103" stAng="10800000" swAng="-5400000"/>
                  <a:lnTo>
                    <a:pt x="21497" y="29051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2" name="Group 246"/>
            <p:cNvGrpSpPr/>
            <p:nvPr/>
          </p:nvGrpSpPr>
          <p:grpSpPr>
            <a:xfrm>
              <a:off x="2438280" y="3886200"/>
              <a:ext cx="344520" cy="433440"/>
              <a:chOff x="2438280" y="3886200"/>
              <a:chExt cx="344520" cy="433440"/>
            </a:xfrm>
          </p:grpSpPr>
          <p:sp>
            <p:nvSpPr>
              <p:cNvPr id="1253" name="AutoShape 247"/>
              <p:cNvSpPr/>
              <p:nvPr/>
            </p:nvSpPr>
            <p:spPr>
              <a:xfrm>
                <a:off x="2438280" y="388620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4" name="Group 248"/>
              <p:cNvGrpSpPr/>
              <p:nvPr/>
            </p:nvGrpSpPr>
            <p:grpSpPr>
              <a:xfrm>
                <a:off x="2438280" y="3886200"/>
                <a:ext cx="344520" cy="423720"/>
                <a:chOff x="2438280" y="3886200"/>
                <a:chExt cx="344520" cy="423720"/>
              </a:xfrm>
            </p:grpSpPr>
            <p:sp>
              <p:nvSpPr>
                <p:cNvPr id="1255" name="AutoShape 249"/>
                <p:cNvSpPr/>
                <p:nvPr/>
              </p:nvSpPr>
              <p:spPr>
                <a:xfrm>
                  <a:off x="2438280" y="3886200"/>
                  <a:ext cx="325440" cy="423720"/>
                </a:xfrm>
                <a:custGeom>
                  <a:avLst/>
                  <a:gdLst>
                    <a:gd name="textAreaLeft" fmla="*/ 360 w 325440"/>
                    <a:gd name="textAreaRight" fmla="*/ 325080 w 32544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116">
                      <a:moveTo>
                        <a:pt x="105" y="0"/>
                      </a:moveTo>
                      <a:arcTo wR="105" hR="105" stAng="16200000" swAng="-5400000"/>
                      <a:lnTo>
                        <a:pt x="0" y="28011"/>
                      </a:lnTo>
                      <a:arcTo wR="105" hR="105" stAng="10800000" swAng="-5400000"/>
                      <a:lnTo>
                        <a:pt x="21495" y="28116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" name="Group 250"/>
                <p:cNvGrpSpPr/>
                <p:nvPr/>
              </p:nvGrpSpPr>
              <p:grpSpPr>
                <a:xfrm>
                  <a:off x="2438280" y="3886200"/>
                  <a:ext cx="344520" cy="420840"/>
                  <a:chOff x="2438280" y="3886200"/>
                  <a:chExt cx="344520" cy="420840"/>
                </a:xfrm>
              </p:grpSpPr>
              <p:sp>
                <p:nvSpPr>
                  <p:cNvPr id="1257" name="AutoShape 251"/>
                  <p:cNvSpPr/>
                  <p:nvPr/>
                </p:nvSpPr>
                <p:spPr>
                  <a:xfrm>
                    <a:off x="2438280" y="3886200"/>
                    <a:ext cx="324000" cy="420840"/>
                  </a:xfrm>
                  <a:custGeom>
                    <a:avLst/>
                    <a:gdLst>
                      <a:gd name="textAreaLeft" fmla="*/ 360 w 324000"/>
                      <a:gd name="textAreaRight" fmla="*/ 323640 w 324000"/>
                      <a:gd name="textAreaTop" fmla="*/ 360 h 420840"/>
                      <a:gd name="textAreaBottom" fmla="*/ 420480 h 420840"/>
                    </a:gdLst>
                    <a:ahLst/>
                    <a:rect l="textAreaLeft" t="textAreaTop" r="textAreaRight" b="textAreaBottom"/>
                    <a:pathLst>
                      <a:path w="21600" h="28049">
                        <a:moveTo>
                          <a:pt x="105" y="0"/>
                        </a:moveTo>
                        <a:arcTo wR="105" hR="105" stAng="16200000" swAng="-5400000"/>
                        <a:lnTo>
                          <a:pt x="0" y="27944"/>
                        </a:lnTo>
                        <a:arcTo wR="105" hR="105" stAng="10800000" swAng="-5400000"/>
                        <a:lnTo>
                          <a:pt x="21495" y="28049"/>
                        </a:lnTo>
                        <a:arcTo wR="105" hR="105" stAng="5400000" swAng="-5400000"/>
                        <a:lnTo>
                          <a:pt x="21600" y="105"/>
                        </a:lnTo>
                        <a:arcTo wR="105" hR="105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8" name="Group 252"/>
                  <p:cNvGrpSpPr/>
                  <p:nvPr/>
                </p:nvGrpSpPr>
                <p:grpSpPr>
                  <a:xfrm>
                    <a:off x="2438280" y="3886200"/>
                    <a:ext cx="344520" cy="415800"/>
                    <a:chOff x="2438280" y="3886200"/>
                    <a:chExt cx="344520" cy="415800"/>
                  </a:xfrm>
                </p:grpSpPr>
                <p:sp>
                  <p:nvSpPr>
                    <p:cNvPr id="1259" name="AutoShape 253"/>
                    <p:cNvSpPr/>
                    <p:nvPr/>
                  </p:nvSpPr>
                  <p:spPr>
                    <a:xfrm>
                      <a:off x="2438280" y="3886200"/>
                      <a:ext cx="322560" cy="415800"/>
                    </a:xfrm>
                    <a:custGeom>
                      <a:avLst/>
                      <a:gdLst>
                        <a:gd name="textAreaLeft" fmla="*/ 360 w 322560"/>
                        <a:gd name="textAreaRight" fmla="*/ 322200 w 322560"/>
                        <a:gd name="textAreaTop" fmla="*/ 360 h 415800"/>
                        <a:gd name="textAreaBottom" fmla="*/ 415440 h 415800"/>
                      </a:gdLst>
                      <a:ahLst/>
                      <a:rect l="textAreaLeft" t="textAreaTop" r="textAreaRight" b="textAreaBottom"/>
                      <a:pathLst>
                        <a:path w="21600" h="27837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731"/>
                          </a:lnTo>
                          <a:arcTo wR="106" hR="106" stAng="10800000" swAng="-5400000"/>
                          <a:lnTo>
                            <a:pt x="21494" y="27837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0" name="Group 254"/>
                    <p:cNvGrpSpPr/>
                    <p:nvPr/>
                  </p:nvGrpSpPr>
                  <p:grpSpPr>
                    <a:xfrm>
                      <a:off x="2438280" y="3886200"/>
                      <a:ext cx="344520" cy="411120"/>
                      <a:chOff x="2438280" y="3886200"/>
                      <a:chExt cx="344520" cy="411120"/>
                    </a:xfrm>
                  </p:grpSpPr>
                  <p:sp>
                    <p:nvSpPr>
                      <p:cNvPr id="1261" name="AutoShape 255"/>
                      <p:cNvSpPr/>
                      <p:nvPr/>
                    </p:nvSpPr>
                    <p:spPr>
                      <a:xfrm>
                        <a:off x="2438280" y="3886200"/>
                        <a:ext cx="344520" cy="4111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1120"/>
                          <a:gd name="textAreaBottom" fmla="*/ 410760 h 411120"/>
                        </a:gdLst>
                        <a:ahLst/>
                        <a:rect l="textAreaLeft" t="textAreaTop" r="textAreaRight" b="textAreaBottom"/>
                        <a:pathLst>
                          <a:path w="21600" h="25771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671"/>
                            </a:lnTo>
                            <a:arcTo wR="100" hR="100" stAng="10800000" swAng="-5400000"/>
                            <a:lnTo>
                              <a:pt x="21500" y="25771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62" name="Group 256"/>
                      <p:cNvGrpSpPr/>
                      <p:nvPr/>
                    </p:nvGrpSpPr>
                    <p:grpSpPr>
                      <a:xfrm>
                        <a:off x="2438280" y="3886200"/>
                        <a:ext cx="339840" cy="406440"/>
                        <a:chOff x="2438280" y="3886200"/>
                        <a:chExt cx="339840" cy="406440"/>
                      </a:xfrm>
                    </p:grpSpPr>
                    <p:sp>
                      <p:nvSpPr>
                        <p:cNvPr id="1263" name="AutoShape 257"/>
                        <p:cNvSpPr/>
                        <p:nvPr/>
                      </p:nvSpPr>
                      <p:spPr>
                        <a:xfrm>
                          <a:off x="2438280" y="3886200"/>
                          <a:ext cx="339840" cy="40644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6440"/>
                            <a:gd name="textAreaBottom" fmla="*/ 406080 h 406440"/>
                          </a:gdLst>
                          <a:ahLst/>
                          <a:rect l="textAreaLeft" t="textAreaTop" r="textAreaRight" b="textAreaBottom"/>
                          <a:pathLst>
                            <a:path w="21600" h="25829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729"/>
                              </a:lnTo>
                              <a:arcTo wR="100" hR="100" stAng="10800000" swAng="-5400000"/>
                              <a:lnTo>
                                <a:pt x="21500" y="25829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64" name="Group 258"/>
                        <p:cNvGrpSpPr/>
                        <p:nvPr/>
                      </p:nvGrpSpPr>
                      <p:grpSpPr>
                        <a:xfrm>
                          <a:off x="2438280" y="3886200"/>
                          <a:ext cx="336600" cy="401760"/>
                          <a:chOff x="2438280" y="3886200"/>
                          <a:chExt cx="336600" cy="401760"/>
                        </a:xfrm>
                      </p:grpSpPr>
                      <p:sp>
                        <p:nvSpPr>
                          <p:cNvPr id="1265" name="AutoShape 259"/>
                          <p:cNvSpPr/>
                          <p:nvPr/>
                        </p:nvSpPr>
                        <p:spPr>
                          <a:xfrm>
                            <a:off x="2438280" y="3886200"/>
                            <a:ext cx="336600" cy="4017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1760"/>
                              <a:gd name="textAreaBottom" fmla="*/ 401400 h 401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7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676"/>
                                </a:lnTo>
                                <a:arcTo wR="101" hR="101" stAng="10800000" swAng="-5400000"/>
                                <a:lnTo>
                                  <a:pt x="21499" y="257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66" name="Group 260"/>
                          <p:cNvGrpSpPr/>
                          <p:nvPr/>
                        </p:nvGrpSpPr>
                        <p:grpSpPr>
                          <a:xfrm>
                            <a:off x="2438280" y="3886200"/>
                            <a:ext cx="335160" cy="398520"/>
                            <a:chOff x="2438280" y="3886200"/>
                            <a:chExt cx="335160" cy="398520"/>
                          </a:xfrm>
                        </p:grpSpPr>
                        <p:sp>
                          <p:nvSpPr>
                            <p:cNvPr id="1267" name="AutoShape 261"/>
                            <p:cNvSpPr/>
                            <p:nvPr/>
                          </p:nvSpPr>
                          <p:spPr>
                            <a:xfrm>
                              <a:off x="2438280" y="3886200"/>
                              <a:ext cx="335160" cy="398520"/>
                            </a:xfrm>
                            <a:custGeom>
                              <a:avLst/>
                              <a:gdLst>
                                <a:gd name="textAreaLeft" fmla="*/ 360 w 335160"/>
                                <a:gd name="textAreaRight" fmla="*/ 334800 w 335160"/>
                                <a:gd name="textAreaTop" fmla="*/ 360 h 398520"/>
                                <a:gd name="textAreaBottom" fmla="*/ 398160 h 398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679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577"/>
                                  </a:lnTo>
                                  <a:arcTo wR="102" hR="102" stAng="10800000" swAng="-5400000"/>
                                  <a:lnTo>
                                    <a:pt x="21498" y="25679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68" name="Group 262"/>
                            <p:cNvGrpSpPr/>
                            <p:nvPr/>
                          </p:nvGrpSpPr>
                          <p:grpSpPr>
                            <a:xfrm>
                              <a:off x="2438280" y="3886200"/>
                              <a:ext cx="335160" cy="398520"/>
                              <a:chOff x="2438280" y="3886200"/>
                              <a:chExt cx="335160" cy="398520"/>
                            </a:xfrm>
                          </p:grpSpPr>
                          <p:sp>
                            <p:nvSpPr>
                              <p:cNvPr id="1269" name="AutoShape 263"/>
                              <p:cNvSpPr/>
                              <p:nvPr/>
                            </p:nvSpPr>
                            <p:spPr>
                              <a:xfrm>
                                <a:off x="2438280" y="3886200"/>
                                <a:ext cx="335160" cy="398520"/>
                              </a:xfrm>
                              <a:custGeom>
                                <a:avLst/>
                                <a:gdLst>
                                  <a:gd name="textAreaLeft" fmla="*/ 360 w 335160"/>
                                  <a:gd name="textAreaRight" fmla="*/ 334800 w 335160"/>
                                  <a:gd name="textAreaTop" fmla="*/ 360 h 398520"/>
                                  <a:gd name="textAreaBottom" fmla="*/ 398160 h 398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679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577"/>
                                    </a:lnTo>
                                    <a:arcTo wR="102" hR="102" stAng="10800000" swAng="-5400000"/>
                                    <a:lnTo>
                                      <a:pt x="21498" y="25679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0" name="AutoShape 264"/>
                              <p:cNvSpPr/>
                              <p:nvPr/>
                            </p:nvSpPr>
                            <p:spPr>
                              <a:xfrm>
                                <a:off x="2438640" y="388620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7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271" name="Group 265"/>
          <p:cNvGrpSpPr/>
          <p:nvPr/>
        </p:nvGrpSpPr>
        <p:grpSpPr>
          <a:xfrm>
            <a:off x="4648320" y="3048120"/>
            <a:ext cx="344520" cy="444240"/>
            <a:chOff x="4648320" y="3048120"/>
            <a:chExt cx="344520" cy="444240"/>
          </a:xfrm>
        </p:grpSpPr>
        <p:sp>
          <p:nvSpPr>
            <p:cNvPr id="1272" name="AutoShape 266"/>
            <p:cNvSpPr/>
            <p:nvPr/>
          </p:nvSpPr>
          <p:spPr>
            <a:xfrm>
              <a:off x="4648320" y="3048120"/>
              <a:ext cx="330120" cy="444240"/>
            </a:xfrm>
            <a:custGeom>
              <a:avLst/>
              <a:gdLst>
                <a:gd name="textAreaLeft" fmla="*/ 360 w 330120"/>
                <a:gd name="textAreaRight" fmla="*/ 329760 w 330120"/>
                <a:gd name="textAreaTop" fmla="*/ 360 h 444240"/>
                <a:gd name="textAreaBottom" fmla="*/ 443880 h 444240"/>
              </a:gdLst>
              <a:ahLst/>
              <a:rect l="textAreaLeft" t="textAreaTop" r="textAreaRight" b="textAreaBottom"/>
              <a:pathLst>
                <a:path w="21600" h="29059">
                  <a:moveTo>
                    <a:pt x="103" y="0"/>
                  </a:moveTo>
                  <a:arcTo wR="103" hR="103" stAng="16200000" swAng="-5400000"/>
                  <a:lnTo>
                    <a:pt x="0" y="28956"/>
                  </a:lnTo>
                  <a:arcTo wR="103" hR="103" stAng="10800000" swAng="-5400000"/>
                  <a:lnTo>
                    <a:pt x="21497" y="29059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3" name="Group 267"/>
            <p:cNvGrpSpPr/>
            <p:nvPr/>
          </p:nvGrpSpPr>
          <p:grpSpPr>
            <a:xfrm>
              <a:off x="4648320" y="3048120"/>
              <a:ext cx="344520" cy="433440"/>
              <a:chOff x="4648320" y="3048120"/>
              <a:chExt cx="344520" cy="433440"/>
            </a:xfrm>
          </p:grpSpPr>
          <p:sp>
            <p:nvSpPr>
              <p:cNvPr id="1274" name="AutoShape 268"/>
              <p:cNvSpPr/>
              <p:nvPr/>
            </p:nvSpPr>
            <p:spPr>
              <a:xfrm>
                <a:off x="4648320" y="304812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5" name="Group 269"/>
              <p:cNvGrpSpPr/>
              <p:nvPr/>
            </p:nvGrpSpPr>
            <p:grpSpPr>
              <a:xfrm>
                <a:off x="4648320" y="3048120"/>
                <a:ext cx="344520" cy="423720"/>
                <a:chOff x="4648320" y="3048120"/>
                <a:chExt cx="344520" cy="423720"/>
              </a:xfrm>
            </p:grpSpPr>
            <p:sp>
              <p:nvSpPr>
                <p:cNvPr id="1276" name="AutoShape 270"/>
                <p:cNvSpPr/>
                <p:nvPr/>
              </p:nvSpPr>
              <p:spPr>
                <a:xfrm>
                  <a:off x="4648320" y="3048120"/>
                  <a:ext cx="322200" cy="423720"/>
                </a:xfrm>
                <a:custGeom>
                  <a:avLst/>
                  <a:gdLst>
                    <a:gd name="textAreaLeft" fmla="*/ 360 w 322200"/>
                    <a:gd name="textAreaRight" fmla="*/ 321840 w 32220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398">
                      <a:moveTo>
                        <a:pt x="106" y="0"/>
                      </a:moveTo>
                      <a:arcTo wR="106" hR="106" stAng="16200000" swAng="-5400000"/>
                      <a:lnTo>
                        <a:pt x="0" y="28292"/>
                      </a:lnTo>
                      <a:arcTo wR="106" hR="106" stAng="10800000" swAng="-5400000"/>
                      <a:lnTo>
                        <a:pt x="21494" y="28398"/>
                      </a:lnTo>
                      <a:arcTo wR="106" hR="106" stAng="5400000" swAng="-5400000"/>
                      <a:lnTo>
                        <a:pt x="21600" y="106"/>
                      </a:lnTo>
                      <a:arcTo wR="106" hR="10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Group 271"/>
                <p:cNvGrpSpPr/>
                <p:nvPr/>
              </p:nvGrpSpPr>
              <p:grpSpPr>
                <a:xfrm>
                  <a:off x="4648320" y="3048120"/>
                  <a:ext cx="344520" cy="417240"/>
                  <a:chOff x="4648320" y="3048120"/>
                  <a:chExt cx="344520" cy="417240"/>
                </a:xfrm>
              </p:grpSpPr>
              <p:sp>
                <p:nvSpPr>
                  <p:cNvPr id="1278" name="AutoShape 272"/>
                  <p:cNvSpPr/>
                  <p:nvPr/>
                </p:nvSpPr>
                <p:spPr>
                  <a:xfrm>
                    <a:off x="4648320" y="3048120"/>
                    <a:ext cx="322200" cy="417240"/>
                  </a:xfrm>
                  <a:custGeom>
                    <a:avLst/>
                    <a:gdLst>
                      <a:gd name="textAreaLeft" fmla="*/ 360 w 322200"/>
                      <a:gd name="textAreaRight" fmla="*/ 321840 w 322200"/>
                      <a:gd name="textAreaTop" fmla="*/ 360 h 417240"/>
                      <a:gd name="textAreaBottom" fmla="*/ 416880 h 417240"/>
                    </a:gdLst>
                    <a:ahLst/>
                    <a:rect l="textAreaLeft" t="textAreaTop" r="textAreaRight" b="textAreaBottom"/>
                    <a:pathLst>
                      <a:path w="21600" h="27964">
                        <a:moveTo>
                          <a:pt x="106" y="0"/>
                        </a:moveTo>
                        <a:arcTo wR="106" hR="106" stAng="16200000" swAng="-5400000"/>
                        <a:lnTo>
                          <a:pt x="0" y="27858"/>
                        </a:lnTo>
                        <a:arcTo wR="106" hR="106" stAng="10800000" swAng="-5400000"/>
                        <a:lnTo>
                          <a:pt x="21494" y="27964"/>
                        </a:lnTo>
                        <a:arcTo wR="106" hR="106" stAng="5400000" swAng="-5400000"/>
                        <a:lnTo>
                          <a:pt x="21600" y="106"/>
                        </a:lnTo>
                        <a:arcTo wR="106" hR="10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9" name="Group 273"/>
                  <p:cNvGrpSpPr/>
                  <p:nvPr/>
                </p:nvGrpSpPr>
                <p:grpSpPr>
                  <a:xfrm>
                    <a:off x="4648320" y="3048120"/>
                    <a:ext cx="344520" cy="412560"/>
                    <a:chOff x="4648320" y="3048120"/>
                    <a:chExt cx="344520" cy="412560"/>
                  </a:xfrm>
                </p:grpSpPr>
                <p:sp>
                  <p:nvSpPr>
                    <p:cNvPr id="1280" name="AutoShape 274"/>
                    <p:cNvSpPr/>
                    <p:nvPr/>
                  </p:nvSpPr>
                  <p:spPr>
                    <a:xfrm>
                      <a:off x="4648320" y="3048120"/>
                      <a:ext cx="322200" cy="412560"/>
                    </a:xfrm>
                    <a:custGeom>
                      <a:avLst/>
                      <a:gdLst>
                        <a:gd name="textAreaLeft" fmla="*/ 360 w 322200"/>
                        <a:gd name="textAreaRight" fmla="*/ 321840 w 322200"/>
                        <a:gd name="textAreaTop" fmla="*/ 360 h 412560"/>
                        <a:gd name="textAreaBottom" fmla="*/ 412200 h 412560"/>
                      </a:gdLst>
                      <a:ahLst/>
                      <a:rect l="textAreaLeft" t="textAreaTop" r="textAreaRight" b="textAreaBottom"/>
                      <a:pathLst>
                        <a:path w="21600" h="27651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545"/>
                          </a:lnTo>
                          <a:arcTo wR="106" hR="106" stAng="10800000" swAng="-5400000"/>
                          <a:lnTo>
                            <a:pt x="21494" y="27651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1" name="Group 275"/>
                    <p:cNvGrpSpPr/>
                    <p:nvPr/>
                  </p:nvGrpSpPr>
                  <p:grpSpPr>
                    <a:xfrm>
                      <a:off x="4648320" y="3048120"/>
                      <a:ext cx="344520" cy="407880"/>
                      <a:chOff x="4648320" y="3048120"/>
                      <a:chExt cx="344520" cy="407880"/>
                    </a:xfrm>
                  </p:grpSpPr>
                  <p:sp>
                    <p:nvSpPr>
                      <p:cNvPr id="1282" name="AutoShape 276"/>
                      <p:cNvSpPr/>
                      <p:nvPr/>
                    </p:nvSpPr>
                    <p:spPr>
                      <a:xfrm>
                        <a:off x="4648320" y="3048120"/>
                        <a:ext cx="344520" cy="40788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07880"/>
                          <a:gd name="textAreaBottom" fmla="*/ 407520 h 407880"/>
                        </a:gdLst>
                        <a:ahLst/>
                        <a:rect l="textAreaLeft" t="textAreaTop" r="textAreaRight" b="textAreaBottom"/>
                        <a:pathLst>
                          <a:path w="21600" h="25568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468"/>
                            </a:lnTo>
                            <a:arcTo wR="100" hR="100" stAng="10800000" swAng="-5400000"/>
                            <a:lnTo>
                              <a:pt x="21500" y="25568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83" name="Group 277"/>
                      <p:cNvGrpSpPr/>
                      <p:nvPr/>
                    </p:nvGrpSpPr>
                    <p:grpSpPr>
                      <a:xfrm>
                        <a:off x="4648320" y="3048120"/>
                        <a:ext cx="339480" cy="403200"/>
                        <a:chOff x="4648320" y="3048120"/>
                        <a:chExt cx="339480" cy="403200"/>
                      </a:xfrm>
                    </p:grpSpPr>
                    <p:sp>
                      <p:nvSpPr>
                        <p:cNvPr id="1284" name="AutoShape 278"/>
                        <p:cNvSpPr/>
                        <p:nvPr/>
                      </p:nvSpPr>
                      <p:spPr>
                        <a:xfrm>
                          <a:off x="4648320" y="3048120"/>
                          <a:ext cx="339480" cy="403200"/>
                        </a:xfrm>
                        <a:custGeom>
                          <a:avLst/>
                          <a:gdLst>
                            <a:gd name="textAreaLeft" fmla="*/ 360 w 339480"/>
                            <a:gd name="textAreaRight" fmla="*/ 339120 w 339480"/>
                            <a:gd name="textAreaTop" fmla="*/ 360 h 403200"/>
                            <a:gd name="textAreaBottom" fmla="*/ 402840 h 403200"/>
                          </a:gdLst>
                          <a:ahLst/>
                          <a:rect l="textAreaLeft" t="textAreaTop" r="textAreaRight" b="textAreaBottom"/>
                          <a:pathLst>
                            <a:path w="21600" h="25650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550"/>
                              </a:lnTo>
                              <a:arcTo wR="100" hR="100" stAng="10800000" swAng="-5400000"/>
                              <a:lnTo>
                                <a:pt x="21500" y="25650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85" name="Group 279"/>
                        <p:cNvGrpSpPr/>
                        <p:nvPr/>
                      </p:nvGrpSpPr>
                      <p:grpSpPr>
                        <a:xfrm>
                          <a:off x="4648320" y="3048120"/>
                          <a:ext cx="336600" cy="399960"/>
                          <a:chOff x="4648320" y="3048120"/>
                          <a:chExt cx="336600" cy="399960"/>
                        </a:xfrm>
                      </p:grpSpPr>
                      <p:sp>
                        <p:nvSpPr>
                          <p:cNvPr id="1286" name="AutoShape 280"/>
                          <p:cNvSpPr/>
                          <p:nvPr/>
                        </p:nvSpPr>
                        <p:spPr>
                          <a:xfrm>
                            <a:off x="4648320" y="3048120"/>
                            <a:ext cx="336600" cy="3999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399960"/>
                              <a:gd name="textAreaBottom" fmla="*/ 399600 h 3999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662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561"/>
                                </a:lnTo>
                                <a:arcTo wR="101" hR="101" stAng="10800000" swAng="-5400000"/>
                                <a:lnTo>
                                  <a:pt x="21499" y="25662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87" name="Group 281"/>
                          <p:cNvGrpSpPr/>
                          <p:nvPr/>
                        </p:nvGrpSpPr>
                        <p:grpSpPr>
                          <a:xfrm>
                            <a:off x="4648320" y="3048120"/>
                            <a:ext cx="334800" cy="399960"/>
                            <a:chOff x="4648320" y="3048120"/>
                            <a:chExt cx="334800" cy="399960"/>
                          </a:xfrm>
                        </p:grpSpPr>
                        <p:sp>
                          <p:nvSpPr>
                            <p:cNvPr id="1288" name="AutoShape 282"/>
                            <p:cNvSpPr/>
                            <p:nvPr/>
                          </p:nvSpPr>
                          <p:spPr>
                            <a:xfrm>
                              <a:off x="4648320" y="3048120"/>
                              <a:ext cx="334800" cy="399960"/>
                            </a:xfrm>
                            <a:custGeom>
                              <a:avLst/>
                              <a:gdLst>
                                <a:gd name="textAreaLeft" fmla="*/ 360 w 334800"/>
                                <a:gd name="textAreaRight" fmla="*/ 334440 w 334800"/>
                                <a:gd name="textAreaTop" fmla="*/ 360 h 399960"/>
                                <a:gd name="textAreaBottom" fmla="*/ 399600 h 39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799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697"/>
                                  </a:lnTo>
                                  <a:arcTo wR="102" hR="102" stAng="10800000" swAng="-5400000"/>
                                  <a:lnTo>
                                    <a:pt x="21498" y="25799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89" name="Group 283"/>
                            <p:cNvGrpSpPr/>
                            <p:nvPr/>
                          </p:nvGrpSpPr>
                          <p:grpSpPr>
                            <a:xfrm>
                              <a:off x="4648320" y="3048120"/>
                              <a:ext cx="333360" cy="399960"/>
                              <a:chOff x="4648320" y="3048120"/>
                              <a:chExt cx="333360" cy="399960"/>
                            </a:xfrm>
                          </p:grpSpPr>
                          <p:sp>
                            <p:nvSpPr>
                              <p:cNvPr id="1290" name="AutoShape 284"/>
                              <p:cNvSpPr/>
                              <p:nvPr/>
                            </p:nvSpPr>
                            <p:spPr>
                              <a:xfrm>
                                <a:off x="4648320" y="3048120"/>
                                <a:ext cx="333360" cy="399960"/>
                              </a:xfrm>
                              <a:custGeom>
                                <a:avLst/>
                                <a:gdLst>
                                  <a:gd name="textAreaLeft" fmla="*/ 360 w 333360"/>
                                  <a:gd name="textAreaRight" fmla="*/ 333000 w 333360"/>
                                  <a:gd name="textAreaTop" fmla="*/ 360 h 399960"/>
                                  <a:gd name="textAreaBottom" fmla="*/ 399600 h 39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911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809"/>
                                    </a:lnTo>
                                    <a:arcTo wR="102" hR="102" stAng="10800000" swAng="-5400000"/>
                                    <a:lnTo>
                                      <a:pt x="21498" y="25911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1" name="AutoShape 285"/>
                              <p:cNvSpPr/>
                              <p:nvPr/>
                            </p:nvSpPr>
                            <p:spPr>
                              <a:xfrm>
                                <a:off x="4648320" y="304812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6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292" name="Group 286"/>
          <p:cNvGrpSpPr/>
          <p:nvPr/>
        </p:nvGrpSpPr>
        <p:grpSpPr>
          <a:xfrm>
            <a:off x="1143000" y="3886200"/>
            <a:ext cx="344520" cy="444600"/>
            <a:chOff x="1143000" y="3886200"/>
            <a:chExt cx="344520" cy="444600"/>
          </a:xfrm>
        </p:grpSpPr>
        <p:sp>
          <p:nvSpPr>
            <p:cNvPr id="1293" name="AutoShape 287"/>
            <p:cNvSpPr/>
            <p:nvPr/>
          </p:nvSpPr>
          <p:spPr>
            <a:xfrm>
              <a:off x="1143000" y="3886200"/>
              <a:ext cx="330120" cy="444600"/>
            </a:xfrm>
            <a:custGeom>
              <a:avLst/>
              <a:gdLst>
                <a:gd name="textAreaLeft" fmla="*/ 360 w 330120"/>
                <a:gd name="textAreaRight" fmla="*/ 329760 w 330120"/>
                <a:gd name="textAreaTop" fmla="*/ 360 h 444600"/>
                <a:gd name="textAreaBottom" fmla="*/ 444240 h 444600"/>
              </a:gdLst>
              <a:ahLst/>
              <a:rect l="textAreaLeft" t="textAreaTop" r="textAreaRight" b="textAreaBottom"/>
              <a:pathLst>
                <a:path w="21600" h="29082">
                  <a:moveTo>
                    <a:pt x="103" y="0"/>
                  </a:moveTo>
                  <a:arcTo wR="103" hR="103" stAng="16200000" swAng="-5400000"/>
                  <a:lnTo>
                    <a:pt x="0" y="28979"/>
                  </a:lnTo>
                  <a:arcTo wR="103" hR="103" stAng="10800000" swAng="-5400000"/>
                  <a:lnTo>
                    <a:pt x="21497" y="29082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4" name="Group 288"/>
            <p:cNvGrpSpPr/>
            <p:nvPr/>
          </p:nvGrpSpPr>
          <p:grpSpPr>
            <a:xfrm>
              <a:off x="1143000" y="3886200"/>
              <a:ext cx="344520" cy="433440"/>
              <a:chOff x="1143000" y="3886200"/>
              <a:chExt cx="344520" cy="433440"/>
            </a:xfrm>
          </p:grpSpPr>
          <p:sp>
            <p:nvSpPr>
              <p:cNvPr id="1295" name="AutoShape 289"/>
              <p:cNvSpPr/>
              <p:nvPr/>
            </p:nvSpPr>
            <p:spPr>
              <a:xfrm>
                <a:off x="1143000" y="388620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90"/>
              <p:cNvGrpSpPr/>
              <p:nvPr/>
            </p:nvGrpSpPr>
            <p:grpSpPr>
              <a:xfrm>
                <a:off x="1143000" y="3886200"/>
                <a:ext cx="344520" cy="423720"/>
                <a:chOff x="1143000" y="3886200"/>
                <a:chExt cx="344520" cy="423720"/>
              </a:xfrm>
            </p:grpSpPr>
            <p:sp>
              <p:nvSpPr>
                <p:cNvPr id="1297" name="AutoShape 291"/>
                <p:cNvSpPr/>
                <p:nvPr/>
              </p:nvSpPr>
              <p:spPr>
                <a:xfrm>
                  <a:off x="1143000" y="3886200"/>
                  <a:ext cx="322200" cy="423720"/>
                </a:xfrm>
                <a:custGeom>
                  <a:avLst/>
                  <a:gdLst>
                    <a:gd name="textAreaLeft" fmla="*/ 360 w 322200"/>
                    <a:gd name="textAreaRight" fmla="*/ 321840 w 32220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398">
                      <a:moveTo>
                        <a:pt x="106" y="0"/>
                      </a:moveTo>
                      <a:arcTo wR="106" hR="106" stAng="16200000" swAng="-5400000"/>
                      <a:lnTo>
                        <a:pt x="0" y="28292"/>
                      </a:lnTo>
                      <a:arcTo wR="106" hR="106" stAng="10800000" swAng="-5400000"/>
                      <a:lnTo>
                        <a:pt x="21494" y="28398"/>
                      </a:lnTo>
                      <a:arcTo wR="106" hR="106" stAng="5400000" swAng="-5400000"/>
                      <a:lnTo>
                        <a:pt x="21600" y="106"/>
                      </a:lnTo>
                      <a:arcTo wR="106" hR="10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8" name="Group 292"/>
                <p:cNvGrpSpPr/>
                <p:nvPr/>
              </p:nvGrpSpPr>
              <p:grpSpPr>
                <a:xfrm>
                  <a:off x="1143000" y="3886200"/>
                  <a:ext cx="344520" cy="420840"/>
                  <a:chOff x="1143000" y="3886200"/>
                  <a:chExt cx="344520" cy="420840"/>
                </a:xfrm>
              </p:grpSpPr>
              <p:sp>
                <p:nvSpPr>
                  <p:cNvPr id="1299" name="AutoShape 293"/>
                  <p:cNvSpPr/>
                  <p:nvPr/>
                </p:nvSpPr>
                <p:spPr>
                  <a:xfrm>
                    <a:off x="1143000" y="3886200"/>
                    <a:ext cx="320760" cy="420840"/>
                  </a:xfrm>
                  <a:custGeom>
                    <a:avLst/>
                    <a:gdLst>
                      <a:gd name="textAreaLeft" fmla="*/ 360 w 320760"/>
                      <a:gd name="textAreaRight" fmla="*/ 320400 w 320760"/>
                      <a:gd name="textAreaTop" fmla="*/ 360 h 420840"/>
                      <a:gd name="textAreaBottom" fmla="*/ 420480 h 420840"/>
                    </a:gdLst>
                    <a:ahLst/>
                    <a:rect l="textAreaLeft" t="textAreaTop" r="textAreaRight" b="textAreaBottom"/>
                    <a:pathLst>
                      <a:path w="21600" h="28332">
                        <a:moveTo>
                          <a:pt x="106" y="0"/>
                        </a:moveTo>
                        <a:arcTo wR="106" hR="106" stAng="16200000" swAng="-5400000"/>
                        <a:lnTo>
                          <a:pt x="0" y="28226"/>
                        </a:lnTo>
                        <a:arcTo wR="106" hR="106" stAng="10800000" swAng="-5400000"/>
                        <a:lnTo>
                          <a:pt x="21494" y="28332"/>
                        </a:lnTo>
                        <a:arcTo wR="106" hR="106" stAng="5400000" swAng="-5400000"/>
                        <a:lnTo>
                          <a:pt x="21600" y="106"/>
                        </a:lnTo>
                        <a:arcTo wR="106" hR="10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0" name="Group 294"/>
                  <p:cNvGrpSpPr/>
                  <p:nvPr/>
                </p:nvGrpSpPr>
                <p:grpSpPr>
                  <a:xfrm>
                    <a:off x="1143000" y="3886200"/>
                    <a:ext cx="344520" cy="415800"/>
                    <a:chOff x="1143000" y="3886200"/>
                    <a:chExt cx="344520" cy="415800"/>
                  </a:xfrm>
                </p:grpSpPr>
                <p:sp>
                  <p:nvSpPr>
                    <p:cNvPr id="1301" name="AutoShape 295"/>
                    <p:cNvSpPr/>
                    <p:nvPr/>
                  </p:nvSpPr>
                  <p:spPr>
                    <a:xfrm>
                      <a:off x="1143000" y="3886200"/>
                      <a:ext cx="320760" cy="415800"/>
                    </a:xfrm>
                    <a:custGeom>
                      <a:avLst/>
                      <a:gdLst>
                        <a:gd name="textAreaLeft" fmla="*/ 360 w 320760"/>
                        <a:gd name="textAreaRight" fmla="*/ 320400 w 320760"/>
                        <a:gd name="textAreaTop" fmla="*/ 360 h 415800"/>
                        <a:gd name="textAreaBottom" fmla="*/ 415440 h 415800"/>
                      </a:gdLst>
                      <a:ahLst/>
                      <a:rect l="textAreaLeft" t="textAreaTop" r="textAreaRight" b="textAreaBottom"/>
                      <a:pathLst>
                        <a:path w="21600" h="27993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887"/>
                          </a:lnTo>
                          <a:arcTo wR="106" hR="106" stAng="10800000" swAng="-5400000"/>
                          <a:lnTo>
                            <a:pt x="21494" y="27993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02" name="Group 296"/>
                    <p:cNvGrpSpPr/>
                    <p:nvPr/>
                  </p:nvGrpSpPr>
                  <p:grpSpPr>
                    <a:xfrm>
                      <a:off x="1143000" y="3886200"/>
                      <a:ext cx="344520" cy="411120"/>
                      <a:chOff x="1143000" y="3886200"/>
                      <a:chExt cx="344520" cy="411120"/>
                    </a:xfrm>
                  </p:grpSpPr>
                  <p:sp>
                    <p:nvSpPr>
                      <p:cNvPr id="1303" name="AutoShape 297"/>
                      <p:cNvSpPr/>
                      <p:nvPr/>
                    </p:nvSpPr>
                    <p:spPr>
                      <a:xfrm>
                        <a:off x="1143000" y="3886200"/>
                        <a:ext cx="344520" cy="41112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11120"/>
                          <a:gd name="textAreaBottom" fmla="*/ 410760 h 411120"/>
                        </a:gdLst>
                        <a:ahLst/>
                        <a:rect l="textAreaLeft" t="textAreaTop" r="textAreaRight" b="textAreaBottom"/>
                        <a:pathLst>
                          <a:path w="21600" h="25771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671"/>
                            </a:lnTo>
                            <a:arcTo wR="100" hR="100" stAng="10800000" swAng="-5400000"/>
                            <a:lnTo>
                              <a:pt x="21500" y="25771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04" name="Group 298"/>
                      <p:cNvGrpSpPr/>
                      <p:nvPr/>
                    </p:nvGrpSpPr>
                    <p:grpSpPr>
                      <a:xfrm>
                        <a:off x="1143000" y="3886200"/>
                        <a:ext cx="339840" cy="406440"/>
                        <a:chOff x="1143000" y="3886200"/>
                        <a:chExt cx="339840" cy="406440"/>
                      </a:xfrm>
                    </p:grpSpPr>
                    <p:sp>
                      <p:nvSpPr>
                        <p:cNvPr id="1305" name="AutoShape 299"/>
                        <p:cNvSpPr/>
                        <p:nvPr/>
                      </p:nvSpPr>
                      <p:spPr>
                        <a:xfrm>
                          <a:off x="1143000" y="3886200"/>
                          <a:ext cx="339840" cy="40644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6440"/>
                            <a:gd name="textAreaBottom" fmla="*/ 406080 h 406440"/>
                          </a:gdLst>
                          <a:ahLst/>
                          <a:rect l="textAreaLeft" t="textAreaTop" r="textAreaRight" b="textAreaBottom"/>
                          <a:pathLst>
                            <a:path w="21600" h="25829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729"/>
                              </a:lnTo>
                              <a:arcTo wR="100" hR="100" stAng="10800000" swAng="-5400000"/>
                              <a:lnTo>
                                <a:pt x="21500" y="25829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06" name="Group 300"/>
                        <p:cNvGrpSpPr/>
                        <p:nvPr/>
                      </p:nvGrpSpPr>
                      <p:grpSpPr>
                        <a:xfrm>
                          <a:off x="1143000" y="3886200"/>
                          <a:ext cx="336600" cy="401760"/>
                          <a:chOff x="1143000" y="3886200"/>
                          <a:chExt cx="336600" cy="401760"/>
                        </a:xfrm>
                      </p:grpSpPr>
                      <p:sp>
                        <p:nvSpPr>
                          <p:cNvPr id="1307" name="AutoShape 301"/>
                          <p:cNvSpPr/>
                          <p:nvPr/>
                        </p:nvSpPr>
                        <p:spPr>
                          <a:xfrm>
                            <a:off x="1143000" y="3886200"/>
                            <a:ext cx="336600" cy="4017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401760"/>
                              <a:gd name="textAreaBottom" fmla="*/ 401400 h 4017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777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676"/>
                                </a:lnTo>
                                <a:arcTo wR="101" hR="101" stAng="10800000" swAng="-5400000"/>
                                <a:lnTo>
                                  <a:pt x="21499" y="25777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308" name="Group 302"/>
                          <p:cNvGrpSpPr/>
                          <p:nvPr/>
                        </p:nvGrpSpPr>
                        <p:grpSpPr>
                          <a:xfrm>
                            <a:off x="1143000" y="3886200"/>
                            <a:ext cx="334800" cy="398520"/>
                            <a:chOff x="1143000" y="3886200"/>
                            <a:chExt cx="334800" cy="398520"/>
                          </a:xfrm>
                        </p:grpSpPr>
                        <p:sp>
                          <p:nvSpPr>
                            <p:cNvPr id="1309" name="AutoShape 303"/>
                            <p:cNvSpPr/>
                            <p:nvPr/>
                          </p:nvSpPr>
                          <p:spPr>
                            <a:xfrm>
                              <a:off x="1143000" y="3886200"/>
                              <a:ext cx="334800" cy="398520"/>
                            </a:xfrm>
                            <a:custGeom>
                              <a:avLst/>
                              <a:gdLst>
                                <a:gd name="textAreaLeft" fmla="*/ 360 w 334800"/>
                                <a:gd name="textAreaRight" fmla="*/ 334440 w 334800"/>
                                <a:gd name="textAreaTop" fmla="*/ 360 h 398520"/>
                                <a:gd name="textAreaBottom" fmla="*/ 398160 h 398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707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605"/>
                                  </a:lnTo>
                                  <a:arcTo wR="102" hR="102" stAng="10800000" swAng="-5400000"/>
                                  <a:lnTo>
                                    <a:pt x="21498" y="25707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310" name="Group 304"/>
                            <p:cNvGrpSpPr/>
                            <p:nvPr/>
                          </p:nvGrpSpPr>
                          <p:grpSpPr>
                            <a:xfrm>
                              <a:off x="1143000" y="3886200"/>
                              <a:ext cx="334800" cy="398520"/>
                              <a:chOff x="1143000" y="3886200"/>
                              <a:chExt cx="334800" cy="398520"/>
                            </a:xfrm>
                          </p:grpSpPr>
                          <p:sp>
                            <p:nvSpPr>
                              <p:cNvPr id="1311" name="AutoShape 305"/>
                              <p:cNvSpPr/>
                              <p:nvPr/>
                            </p:nvSpPr>
                            <p:spPr>
                              <a:xfrm>
                                <a:off x="1143000" y="3886200"/>
                                <a:ext cx="334800" cy="398520"/>
                              </a:xfrm>
                              <a:custGeom>
                                <a:avLst/>
                                <a:gdLst>
                                  <a:gd name="textAreaLeft" fmla="*/ 360 w 334800"/>
                                  <a:gd name="textAreaRight" fmla="*/ 334440 w 334800"/>
                                  <a:gd name="textAreaTop" fmla="*/ 360 h 398520"/>
                                  <a:gd name="textAreaBottom" fmla="*/ 398160 h 398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707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605"/>
                                    </a:lnTo>
                                    <a:arcTo wR="102" hR="102" stAng="10800000" swAng="-5400000"/>
                                    <a:lnTo>
                                      <a:pt x="21498" y="25707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2" name="AutoShape 306"/>
                              <p:cNvSpPr/>
                              <p:nvPr/>
                            </p:nvSpPr>
                            <p:spPr>
                              <a:xfrm>
                                <a:off x="1143000" y="388620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8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313" name="Group 307"/>
          <p:cNvGrpSpPr/>
          <p:nvPr/>
        </p:nvGrpSpPr>
        <p:grpSpPr>
          <a:xfrm>
            <a:off x="4648320" y="5562720"/>
            <a:ext cx="511200" cy="809640"/>
            <a:chOff x="4648320" y="5562720"/>
            <a:chExt cx="511200" cy="809640"/>
          </a:xfrm>
        </p:grpSpPr>
        <p:sp>
          <p:nvSpPr>
            <p:cNvPr id="1314" name="AutoShape 308"/>
            <p:cNvSpPr/>
            <p:nvPr/>
          </p:nvSpPr>
          <p:spPr>
            <a:xfrm>
              <a:off x="4648320" y="5562720"/>
              <a:ext cx="482400" cy="809640"/>
            </a:xfrm>
            <a:custGeom>
              <a:avLst/>
              <a:gdLst>
                <a:gd name="textAreaLeft" fmla="*/ 360 w 482400"/>
                <a:gd name="textAreaRight" fmla="*/ 482040 w 482400"/>
                <a:gd name="textAreaTop" fmla="*/ 360 h 809640"/>
                <a:gd name="textAreaBottom" fmla="*/ 809280 h 809640"/>
              </a:gdLst>
              <a:ahLst/>
              <a:rect l="textAreaLeft" t="textAreaTop" r="textAreaRight" b="textAreaBottom"/>
              <a:pathLst>
                <a:path w="21600" h="36242">
                  <a:moveTo>
                    <a:pt x="71" y="0"/>
                  </a:moveTo>
                  <a:arcTo wR="71" hR="71" stAng="16200000" swAng="-5400000"/>
                  <a:lnTo>
                    <a:pt x="0" y="36171"/>
                  </a:lnTo>
                  <a:arcTo wR="71" hR="71" stAng="10800000" swAng="-5400000"/>
                  <a:lnTo>
                    <a:pt x="21529" y="3624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5" name="Group 309"/>
            <p:cNvGrpSpPr/>
            <p:nvPr/>
          </p:nvGrpSpPr>
          <p:grpSpPr>
            <a:xfrm>
              <a:off x="4648320" y="5562720"/>
              <a:ext cx="511200" cy="798480"/>
              <a:chOff x="4648320" y="5562720"/>
              <a:chExt cx="511200" cy="798480"/>
            </a:xfrm>
          </p:grpSpPr>
          <p:sp>
            <p:nvSpPr>
              <p:cNvPr id="1316" name="AutoShape 310"/>
              <p:cNvSpPr/>
              <p:nvPr/>
            </p:nvSpPr>
            <p:spPr>
              <a:xfrm>
                <a:off x="4648320" y="5562720"/>
                <a:ext cx="477720" cy="798480"/>
              </a:xfrm>
              <a:custGeom>
                <a:avLst/>
                <a:gdLst>
                  <a:gd name="textAreaLeft" fmla="*/ 360 w 477720"/>
                  <a:gd name="textAreaRight" fmla="*/ 477360 w 477720"/>
                  <a:gd name="textAreaTop" fmla="*/ 360 h 798480"/>
                  <a:gd name="textAreaBottom" fmla="*/ 798120 h 798480"/>
                </a:gdLst>
                <a:ahLst/>
                <a:rect l="textAreaLeft" t="textAreaTop" r="textAreaRight" b="textAreaBottom"/>
                <a:pathLst>
                  <a:path w="21600" h="36092">
                    <a:moveTo>
                      <a:pt x="72" y="0"/>
                    </a:moveTo>
                    <a:arcTo wR="72" hR="72" stAng="16200000" swAng="-5400000"/>
                    <a:lnTo>
                      <a:pt x="0" y="36020"/>
                    </a:lnTo>
                    <a:arcTo wR="72" hR="72" stAng="10800000" swAng="-5400000"/>
                    <a:lnTo>
                      <a:pt x="21528" y="36092"/>
                    </a:lnTo>
                    <a:arcTo wR="72" hR="72" stAng="5400000" swAng="-5400000"/>
                    <a:lnTo>
                      <a:pt x="21600" y="72"/>
                    </a:lnTo>
                    <a:arcTo wR="72" hR="72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7" name="Group 311"/>
              <p:cNvGrpSpPr/>
              <p:nvPr/>
            </p:nvGrpSpPr>
            <p:grpSpPr>
              <a:xfrm>
                <a:off x="4648320" y="5562720"/>
                <a:ext cx="511200" cy="788760"/>
                <a:chOff x="4648320" y="5562720"/>
                <a:chExt cx="511200" cy="788760"/>
              </a:xfrm>
            </p:grpSpPr>
            <p:sp>
              <p:nvSpPr>
                <p:cNvPr id="1318" name="AutoShape 312"/>
                <p:cNvSpPr/>
                <p:nvPr/>
              </p:nvSpPr>
              <p:spPr>
                <a:xfrm>
                  <a:off x="4648320" y="5562720"/>
                  <a:ext cx="474480" cy="788760"/>
                </a:xfrm>
                <a:custGeom>
                  <a:avLst/>
                  <a:gdLst>
                    <a:gd name="textAreaLeft" fmla="*/ 360 w 474480"/>
                    <a:gd name="textAreaRight" fmla="*/ 474120 w 474480"/>
                    <a:gd name="textAreaTop" fmla="*/ 360 h 788760"/>
                    <a:gd name="textAreaBottom" fmla="*/ 788400 h 788760"/>
                  </a:gdLst>
                  <a:ahLst/>
                  <a:rect l="textAreaLeft" t="textAreaTop" r="textAreaRight" b="textAreaBottom"/>
                  <a:pathLst>
                    <a:path w="21600" h="35896">
                      <a:moveTo>
                        <a:pt x="72" y="0"/>
                      </a:moveTo>
                      <a:arcTo wR="72" hR="72" stAng="16200000" swAng="-5400000"/>
                      <a:lnTo>
                        <a:pt x="0" y="35824"/>
                      </a:lnTo>
                      <a:arcTo wR="72" hR="72" stAng="10800000" swAng="-5400000"/>
                      <a:lnTo>
                        <a:pt x="21528" y="35896"/>
                      </a:lnTo>
                      <a:arcTo wR="72" hR="72" stAng="5400000" swAng="-5400000"/>
                      <a:lnTo>
                        <a:pt x="21600" y="72"/>
                      </a:lnTo>
                      <a:arcTo wR="72" hR="72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9" name="Group 313"/>
                <p:cNvGrpSpPr/>
                <p:nvPr/>
              </p:nvGrpSpPr>
              <p:grpSpPr>
                <a:xfrm>
                  <a:off x="4648320" y="5562720"/>
                  <a:ext cx="511200" cy="782640"/>
                  <a:chOff x="4648320" y="5562720"/>
                  <a:chExt cx="511200" cy="782640"/>
                </a:xfrm>
              </p:grpSpPr>
              <p:sp>
                <p:nvSpPr>
                  <p:cNvPr id="1320" name="AutoShape 314"/>
                  <p:cNvSpPr/>
                  <p:nvPr/>
                </p:nvSpPr>
                <p:spPr>
                  <a:xfrm>
                    <a:off x="4648320" y="5562720"/>
                    <a:ext cx="473040" cy="782640"/>
                  </a:xfrm>
                  <a:custGeom>
                    <a:avLst/>
                    <a:gdLst>
                      <a:gd name="textAreaLeft" fmla="*/ 360 w 473040"/>
                      <a:gd name="textAreaRight" fmla="*/ 472680 w 473040"/>
                      <a:gd name="textAreaTop" fmla="*/ 360 h 782640"/>
                      <a:gd name="textAreaBottom" fmla="*/ 782280 h 782640"/>
                    </a:gdLst>
                    <a:ahLst/>
                    <a:rect l="textAreaLeft" t="textAreaTop" r="textAreaRight" b="textAreaBottom"/>
                    <a:pathLst>
                      <a:path w="21600" h="35726">
                        <a:moveTo>
                          <a:pt x="72" y="0"/>
                        </a:moveTo>
                        <a:arcTo wR="72" hR="72" stAng="16200000" swAng="-5400000"/>
                        <a:lnTo>
                          <a:pt x="0" y="35654"/>
                        </a:lnTo>
                        <a:arcTo wR="72" hR="72" stAng="10800000" swAng="-5400000"/>
                        <a:lnTo>
                          <a:pt x="21528" y="35726"/>
                        </a:lnTo>
                        <a:arcTo wR="72" hR="72" stAng="5400000" swAng="-5400000"/>
                        <a:lnTo>
                          <a:pt x="21600" y="72"/>
                        </a:lnTo>
                        <a:arcTo wR="72" hR="72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1" name="Group 315"/>
                  <p:cNvGrpSpPr/>
                  <p:nvPr/>
                </p:nvGrpSpPr>
                <p:grpSpPr>
                  <a:xfrm>
                    <a:off x="4648320" y="5562720"/>
                    <a:ext cx="511200" cy="777600"/>
                    <a:chOff x="4648320" y="5562720"/>
                    <a:chExt cx="511200" cy="777600"/>
                  </a:xfrm>
                </p:grpSpPr>
                <p:sp>
                  <p:nvSpPr>
                    <p:cNvPr id="1322" name="AutoShape 316"/>
                    <p:cNvSpPr/>
                    <p:nvPr/>
                  </p:nvSpPr>
                  <p:spPr>
                    <a:xfrm>
                      <a:off x="4648320" y="5562720"/>
                      <a:ext cx="473040" cy="777600"/>
                    </a:xfrm>
                    <a:custGeom>
                      <a:avLst/>
                      <a:gdLst>
                        <a:gd name="textAreaLeft" fmla="*/ 360 w 473040"/>
                        <a:gd name="textAreaRight" fmla="*/ 472680 w 473040"/>
                        <a:gd name="textAreaTop" fmla="*/ 360 h 777600"/>
                        <a:gd name="textAreaBottom" fmla="*/ 777240 h 777600"/>
                      </a:gdLst>
                      <a:ahLst/>
                      <a:rect l="textAreaLeft" t="textAreaTop" r="textAreaRight" b="textAreaBottom"/>
                      <a:pathLst>
                        <a:path w="21600" h="35496">
                          <a:moveTo>
                            <a:pt x="72" y="0"/>
                          </a:moveTo>
                          <a:arcTo wR="72" hR="72" stAng="16200000" swAng="-5400000"/>
                          <a:lnTo>
                            <a:pt x="0" y="35424"/>
                          </a:lnTo>
                          <a:arcTo wR="72" hR="72" stAng="10800000" swAng="-5400000"/>
                          <a:lnTo>
                            <a:pt x="21528" y="35496"/>
                          </a:lnTo>
                          <a:arcTo wR="72" hR="72" stAng="5400000" swAng="-5400000"/>
                          <a:lnTo>
                            <a:pt x="21600" y="72"/>
                          </a:lnTo>
                          <a:arcTo wR="72" hR="72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23" name="Group 317"/>
                    <p:cNvGrpSpPr/>
                    <p:nvPr/>
                  </p:nvGrpSpPr>
                  <p:grpSpPr>
                    <a:xfrm>
                      <a:off x="4648320" y="5562720"/>
                      <a:ext cx="511200" cy="772920"/>
                      <a:chOff x="4648320" y="5562720"/>
                      <a:chExt cx="511200" cy="772920"/>
                    </a:xfrm>
                  </p:grpSpPr>
                  <p:sp>
                    <p:nvSpPr>
                      <p:cNvPr id="1324" name="AutoShape 318"/>
                      <p:cNvSpPr/>
                      <p:nvPr/>
                    </p:nvSpPr>
                    <p:spPr>
                      <a:xfrm>
                        <a:off x="4648320" y="5562720"/>
                        <a:ext cx="511200" cy="772920"/>
                      </a:xfrm>
                      <a:custGeom>
                        <a:avLst/>
                        <a:gdLst>
                          <a:gd name="textAreaLeft" fmla="*/ 360 w 511200"/>
                          <a:gd name="textAreaRight" fmla="*/ 510840 w 511200"/>
                          <a:gd name="textAreaTop" fmla="*/ 360 h 772920"/>
                          <a:gd name="textAreaBottom" fmla="*/ 772560 h 772920"/>
                        </a:gdLst>
                        <a:ahLst/>
                        <a:rect l="textAreaLeft" t="textAreaTop" r="textAreaRight" b="textAreaBottom"/>
                        <a:pathLst>
                          <a:path w="21600" h="32651">
                            <a:moveTo>
                              <a:pt x="67" y="0"/>
                            </a:moveTo>
                            <a:arcTo wR="67" hR="67" stAng="16200000" swAng="-5400000"/>
                            <a:lnTo>
                              <a:pt x="0" y="32584"/>
                            </a:lnTo>
                            <a:arcTo wR="67" hR="67" stAng="10800000" swAng="-5400000"/>
                            <a:lnTo>
                              <a:pt x="21533" y="32651"/>
                            </a:lnTo>
                            <a:arcTo wR="67" hR="67" stAng="5400000" swAng="-5400000"/>
                            <a:lnTo>
                              <a:pt x="21600" y="67"/>
                            </a:lnTo>
                            <a:arcTo wR="67" hR="67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25" name="Group 319"/>
                      <p:cNvGrpSpPr/>
                      <p:nvPr/>
                    </p:nvGrpSpPr>
                    <p:grpSpPr>
                      <a:xfrm>
                        <a:off x="4648320" y="5562720"/>
                        <a:ext cx="506160" cy="768240"/>
                        <a:chOff x="4648320" y="5562720"/>
                        <a:chExt cx="506160" cy="768240"/>
                      </a:xfrm>
                    </p:grpSpPr>
                    <p:sp>
                      <p:nvSpPr>
                        <p:cNvPr id="1326" name="AutoShape 320"/>
                        <p:cNvSpPr/>
                        <p:nvPr/>
                      </p:nvSpPr>
                      <p:spPr>
                        <a:xfrm>
                          <a:off x="4648320" y="5562720"/>
                          <a:ext cx="506160" cy="768240"/>
                        </a:xfrm>
                        <a:custGeom>
                          <a:avLst/>
                          <a:gdLst>
                            <a:gd name="textAreaLeft" fmla="*/ 360 w 506160"/>
                            <a:gd name="textAreaRight" fmla="*/ 505800 w 506160"/>
                            <a:gd name="textAreaTop" fmla="*/ 360 h 768240"/>
                            <a:gd name="textAreaBottom" fmla="*/ 767880 h 768240"/>
                          </a:gdLst>
                          <a:ahLst/>
                          <a:rect l="textAreaLeft" t="textAreaTop" r="textAreaRight" b="textAreaBottom"/>
                          <a:pathLst>
                            <a:path w="21600" h="32776">
                              <a:moveTo>
                                <a:pt x="67" y="0"/>
                              </a:moveTo>
                              <a:arcTo wR="67" hR="67" stAng="16200000" swAng="-5400000"/>
                              <a:lnTo>
                                <a:pt x="0" y="32709"/>
                              </a:lnTo>
                              <a:arcTo wR="67" hR="67" stAng="10800000" swAng="-5400000"/>
                              <a:lnTo>
                                <a:pt x="21533" y="32776"/>
                              </a:lnTo>
                              <a:arcTo wR="67" hR="67" stAng="5400000" swAng="-5400000"/>
                              <a:lnTo>
                                <a:pt x="21600" y="67"/>
                              </a:lnTo>
                              <a:arcTo wR="67" hR="67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27" name="Group 321"/>
                        <p:cNvGrpSpPr/>
                        <p:nvPr/>
                      </p:nvGrpSpPr>
                      <p:grpSpPr>
                        <a:xfrm>
                          <a:off x="4648320" y="5562720"/>
                          <a:ext cx="503280" cy="765000"/>
                          <a:chOff x="4648320" y="5562720"/>
                          <a:chExt cx="503280" cy="765000"/>
                        </a:xfrm>
                      </p:grpSpPr>
                      <p:sp>
                        <p:nvSpPr>
                          <p:cNvPr id="1328" name="AutoShape 322"/>
                          <p:cNvSpPr/>
                          <p:nvPr/>
                        </p:nvSpPr>
                        <p:spPr>
                          <a:xfrm>
                            <a:off x="4648320" y="5562720"/>
                            <a:ext cx="503280" cy="765000"/>
                          </a:xfrm>
                          <a:custGeom>
                            <a:avLst/>
                            <a:gdLst>
                              <a:gd name="textAreaLeft" fmla="*/ 360 w 503280"/>
                              <a:gd name="textAreaRight" fmla="*/ 502920 w 503280"/>
                              <a:gd name="textAreaTop" fmla="*/ 360 h 765000"/>
                              <a:gd name="textAreaBottom" fmla="*/ 764640 h 76500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32825">
                                <a:moveTo>
                                  <a:pt x="68" y="0"/>
                                </a:moveTo>
                                <a:arcTo wR="68" hR="68" stAng="16200000" swAng="-5400000"/>
                                <a:lnTo>
                                  <a:pt x="0" y="32757"/>
                                </a:lnTo>
                                <a:arcTo wR="68" hR="68" stAng="10800000" swAng="-5400000"/>
                                <a:lnTo>
                                  <a:pt x="21532" y="32825"/>
                                </a:lnTo>
                                <a:arcTo wR="68" hR="68" stAng="5400000" swAng="-5400000"/>
                                <a:lnTo>
                                  <a:pt x="21600" y="68"/>
                                </a:lnTo>
                                <a:arcTo wR="68" hR="68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329" name="Group 323"/>
                          <p:cNvGrpSpPr/>
                          <p:nvPr/>
                        </p:nvGrpSpPr>
                        <p:grpSpPr>
                          <a:xfrm>
                            <a:off x="4648320" y="5562720"/>
                            <a:ext cx="501480" cy="761760"/>
                            <a:chOff x="4648320" y="5562720"/>
                            <a:chExt cx="501480" cy="761760"/>
                          </a:xfrm>
                        </p:grpSpPr>
                        <p:sp>
                          <p:nvSpPr>
                            <p:cNvPr id="1330" name="AutoShape 324"/>
                            <p:cNvSpPr/>
                            <p:nvPr/>
                          </p:nvSpPr>
                          <p:spPr>
                            <a:xfrm>
                              <a:off x="4648320" y="5562720"/>
                              <a:ext cx="501480" cy="761760"/>
                            </a:xfrm>
                            <a:custGeom>
                              <a:avLst/>
                              <a:gdLst>
                                <a:gd name="textAreaLeft" fmla="*/ 360 w 501480"/>
                                <a:gd name="textAreaRight" fmla="*/ 501120 w 501480"/>
                                <a:gd name="textAreaTop" fmla="*/ 360 h 761760"/>
                                <a:gd name="textAreaBottom" fmla="*/ 761400 h 76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32803">
                                  <a:moveTo>
                                    <a:pt x="68" y="0"/>
                                  </a:moveTo>
                                  <a:arcTo wR="68" hR="68" stAng="16200000" swAng="-5400000"/>
                                  <a:lnTo>
                                    <a:pt x="0" y="32735"/>
                                  </a:lnTo>
                                  <a:arcTo wR="68" hR="68" stAng="10800000" swAng="-5400000"/>
                                  <a:lnTo>
                                    <a:pt x="21532" y="32803"/>
                                  </a:lnTo>
                                  <a:arcTo wR="68" hR="68" stAng="5400000" swAng="-5400000"/>
                                  <a:lnTo>
                                    <a:pt x="21600" y="68"/>
                                  </a:lnTo>
                                  <a:arcTo wR="68" hR="68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331" name="Group 325"/>
                            <p:cNvGrpSpPr/>
                            <p:nvPr/>
                          </p:nvGrpSpPr>
                          <p:grpSpPr>
                            <a:xfrm>
                              <a:off x="4648320" y="5562720"/>
                              <a:ext cx="500040" cy="760320"/>
                              <a:chOff x="4648320" y="5562720"/>
                              <a:chExt cx="500040" cy="760320"/>
                            </a:xfrm>
                          </p:grpSpPr>
                          <p:sp>
                            <p:nvSpPr>
                              <p:cNvPr id="1332" name="AutoShape 326"/>
                              <p:cNvSpPr/>
                              <p:nvPr/>
                            </p:nvSpPr>
                            <p:spPr>
                              <a:xfrm>
                                <a:off x="4648320" y="5562720"/>
                                <a:ext cx="500040" cy="760320"/>
                              </a:xfrm>
                              <a:custGeom>
                                <a:avLst/>
                                <a:gdLst>
                                  <a:gd name="textAreaLeft" fmla="*/ 360 w 500040"/>
                                  <a:gd name="textAreaRight" fmla="*/ 499680 w 500040"/>
                                  <a:gd name="textAreaTop" fmla="*/ 360 h 760320"/>
                                  <a:gd name="textAreaBottom" fmla="*/ 759960 h 760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32835">
                                    <a:moveTo>
                                      <a:pt x="68" y="0"/>
                                    </a:moveTo>
                                    <a:arcTo wR="68" hR="68" stAng="16200000" swAng="-5400000"/>
                                    <a:lnTo>
                                      <a:pt x="0" y="32767"/>
                                    </a:lnTo>
                                    <a:arcTo wR="68" hR="68" stAng="10800000" swAng="-5400000"/>
                                    <a:lnTo>
                                      <a:pt x="21532" y="32835"/>
                                    </a:lnTo>
                                    <a:arcTo wR="68" hR="68" stAng="5400000" swAng="-5400000"/>
                                    <a:lnTo>
                                      <a:pt x="21600" y="68"/>
                                    </a:lnTo>
                                    <a:arcTo wR="68" hR="68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3" name="AutoShape 327"/>
                              <p:cNvSpPr/>
                              <p:nvPr/>
                            </p:nvSpPr>
                            <p:spPr>
                              <a:xfrm>
                                <a:off x="4648680" y="5562720"/>
                                <a:ext cx="443520" cy="629280"/>
                              </a:xfrm>
                              <a:custGeom>
                                <a:avLst/>
                                <a:gdLst>
                                  <a:gd name="textAreaLeft" fmla="*/ 360 w 443520"/>
                                  <a:gd name="textAreaRight" fmla="*/ 443160 w 443520"/>
                                  <a:gd name="textAreaTop" fmla="*/ 360 h 629280"/>
                                  <a:gd name="textAreaBottom" fmla="*/ 628920 h 62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30639">
                                    <a:moveTo>
                                      <a:pt x="68" y="0"/>
                                    </a:moveTo>
                                    <a:arcTo wR="68" hR="68" stAng="16200000" swAng="-5400000"/>
                                    <a:lnTo>
                                      <a:pt x="0" y="30571"/>
                                    </a:lnTo>
                                    <a:arcTo wR="68" hR="68" stAng="10800000" swAng="-5400000"/>
                                    <a:lnTo>
                                      <a:pt x="21532" y="30639"/>
                                    </a:lnTo>
                                    <a:arcTo wR="68" hR="68" stAng="5400000" swAng="-5400000"/>
                                    <a:lnTo>
                                      <a:pt x="21600" y="68"/>
                                    </a:lnTo>
                                    <a:arcTo wR="68" hR="68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10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1334" name="Group 328"/>
          <p:cNvGrpSpPr/>
          <p:nvPr/>
        </p:nvGrpSpPr>
        <p:grpSpPr>
          <a:xfrm>
            <a:off x="6095880" y="4648320"/>
            <a:ext cx="344520" cy="444240"/>
            <a:chOff x="6095880" y="4648320"/>
            <a:chExt cx="344520" cy="444240"/>
          </a:xfrm>
        </p:grpSpPr>
        <p:sp>
          <p:nvSpPr>
            <p:cNvPr id="1335" name="AutoShape 329"/>
            <p:cNvSpPr/>
            <p:nvPr/>
          </p:nvSpPr>
          <p:spPr>
            <a:xfrm>
              <a:off x="6095880" y="4648320"/>
              <a:ext cx="330480" cy="444240"/>
            </a:xfrm>
            <a:custGeom>
              <a:avLst/>
              <a:gdLst>
                <a:gd name="textAreaLeft" fmla="*/ 360 w 330480"/>
                <a:gd name="textAreaRight" fmla="*/ 330120 w 330480"/>
                <a:gd name="textAreaTop" fmla="*/ 360 h 444240"/>
                <a:gd name="textAreaBottom" fmla="*/ 443880 h 444240"/>
              </a:gdLst>
              <a:ahLst/>
              <a:rect l="textAreaLeft" t="textAreaTop" r="textAreaRight" b="textAreaBottom"/>
              <a:pathLst>
                <a:path w="21600" h="29027">
                  <a:moveTo>
                    <a:pt x="103" y="0"/>
                  </a:moveTo>
                  <a:arcTo wR="103" hR="103" stAng="16200000" swAng="-5400000"/>
                  <a:lnTo>
                    <a:pt x="0" y="28924"/>
                  </a:lnTo>
                  <a:arcTo wR="103" hR="103" stAng="10800000" swAng="-5400000"/>
                  <a:lnTo>
                    <a:pt x="21497" y="29027"/>
                  </a:lnTo>
                  <a:arcTo wR="103" hR="103" stAng="5400000" swAng="-5400000"/>
                  <a:lnTo>
                    <a:pt x="21600" y="103"/>
                  </a:lnTo>
                  <a:arcTo wR="103" hR="10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6" name="Group 330"/>
            <p:cNvGrpSpPr/>
            <p:nvPr/>
          </p:nvGrpSpPr>
          <p:grpSpPr>
            <a:xfrm>
              <a:off x="6095880" y="4648320"/>
              <a:ext cx="344520" cy="433440"/>
              <a:chOff x="6095880" y="4648320"/>
              <a:chExt cx="344520" cy="433440"/>
            </a:xfrm>
          </p:grpSpPr>
          <p:sp>
            <p:nvSpPr>
              <p:cNvPr id="1337" name="AutoShape 331"/>
              <p:cNvSpPr/>
              <p:nvPr/>
            </p:nvSpPr>
            <p:spPr>
              <a:xfrm>
                <a:off x="6095880" y="4648320"/>
                <a:ext cx="325440" cy="433440"/>
              </a:xfrm>
              <a:custGeom>
                <a:avLst/>
                <a:gdLst>
                  <a:gd name="textAreaLeft" fmla="*/ 360 w 325440"/>
                  <a:gd name="textAreaRight" fmla="*/ 325080 w 325440"/>
                  <a:gd name="textAreaTop" fmla="*/ 360 h 433440"/>
                  <a:gd name="textAreaBottom" fmla="*/ 433080 h 433440"/>
                </a:gdLst>
                <a:ahLst/>
                <a:rect l="textAreaLeft" t="textAreaTop" r="textAreaRight" b="textAreaBottom"/>
                <a:pathLst>
                  <a:path w="21600" h="28760">
                    <a:moveTo>
                      <a:pt x="105" y="0"/>
                    </a:moveTo>
                    <a:arcTo wR="105" hR="105" stAng="16200000" swAng="-5400000"/>
                    <a:lnTo>
                      <a:pt x="0" y="28655"/>
                    </a:lnTo>
                    <a:arcTo wR="105" hR="105" stAng="10800000" swAng="-5400000"/>
                    <a:lnTo>
                      <a:pt x="21495" y="28760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8" name="Group 332"/>
              <p:cNvGrpSpPr/>
              <p:nvPr/>
            </p:nvGrpSpPr>
            <p:grpSpPr>
              <a:xfrm>
                <a:off x="6095880" y="4648320"/>
                <a:ext cx="344520" cy="423720"/>
                <a:chOff x="6095880" y="4648320"/>
                <a:chExt cx="344520" cy="423720"/>
              </a:xfrm>
            </p:grpSpPr>
            <p:sp>
              <p:nvSpPr>
                <p:cNvPr id="1339" name="AutoShape 333"/>
                <p:cNvSpPr/>
                <p:nvPr/>
              </p:nvSpPr>
              <p:spPr>
                <a:xfrm>
                  <a:off x="6095880" y="4648320"/>
                  <a:ext cx="325440" cy="423720"/>
                </a:xfrm>
                <a:custGeom>
                  <a:avLst/>
                  <a:gdLst>
                    <a:gd name="textAreaLeft" fmla="*/ 360 w 325440"/>
                    <a:gd name="textAreaRight" fmla="*/ 325080 w 32544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28116">
                      <a:moveTo>
                        <a:pt x="105" y="0"/>
                      </a:moveTo>
                      <a:arcTo wR="105" hR="105" stAng="16200000" swAng="-5400000"/>
                      <a:lnTo>
                        <a:pt x="0" y="28011"/>
                      </a:lnTo>
                      <a:arcTo wR="105" hR="105" stAng="10800000" swAng="-5400000"/>
                      <a:lnTo>
                        <a:pt x="21495" y="28116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0" name="Group 334"/>
                <p:cNvGrpSpPr/>
                <p:nvPr/>
              </p:nvGrpSpPr>
              <p:grpSpPr>
                <a:xfrm>
                  <a:off x="6095880" y="4648320"/>
                  <a:ext cx="344520" cy="417240"/>
                  <a:chOff x="6095880" y="4648320"/>
                  <a:chExt cx="344520" cy="417240"/>
                </a:xfrm>
              </p:grpSpPr>
              <p:sp>
                <p:nvSpPr>
                  <p:cNvPr id="1341" name="AutoShape 335"/>
                  <p:cNvSpPr/>
                  <p:nvPr/>
                </p:nvSpPr>
                <p:spPr>
                  <a:xfrm>
                    <a:off x="6095880" y="4648320"/>
                    <a:ext cx="324000" cy="417240"/>
                  </a:xfrm>
                  <a:custGeom>
                    <a:avLst/>
                    <a:gdLst>
                      <a:gd name="textAreaLeft" fmla="*/ 360 w 324000"/>
                      <a:gd name="textAreaRight" fmla="*/ 323640 w 324000"/>
                      <a:gd name="textAreaTop" fmla="*/ 360 h 417240"/>
                      <a:gd name="textAreaBottom" fmla="*/ 416880 h 417240"/>
                    </a:gdLst>
                    <a:ahLst/>
                    <a:rect l="textAreaLeft" t="textAreaTop" r="textAreaRight" b="textAreaBottom"/>
                    <a:pathLst>
                      <a:path w="21600" h="27809">
                        <a:moveTo>
                          <a:pt x="105" y="0"/>
                        </a:moveTo>
                        <a:arcTo wR="105" hR="105" stAng="16200000" swAng="-5400000"/>
                        <a:lnTo>
                          <a:pt x="0" y="27704"/>
                        </a:lnTo>
                        <a:arcTo wR="105" hR="105" stAng="10800000" swAng="-5400000"/>
                        <a:lnTo>
                          <a:pt x="21495" y="27809"/>
                        </a:lnTo>
                        <a:arcTo wR="105" hR="105" stAng="5400000" swAng="-5400000"/>
                        <a:lnTo>
                          <a:pt x="21600" y="105"/>
                        </a:lnTo>
                        <a:arcTo wR="105" hR="105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2" name="Group 336"/>
                  <p:cNvGrpSpPr/>
                  <p:nvPr/>
                </p:nvGrpSpPr>
                <p:grpSpPr>
                  <a:xfrm>
                    <a:off x="6095880" y="4648320"/>
                    <a:ext cx="344520" cy="412560"/>
                    <a:chOff x="6095880" y="4648320"/>
                    <a:chExt cx="344520" cy="412560"/>
                  </a:xfrm>
                </p:grpSpPr>
                <p:sp>
                  <p:nvSpPr>
                    <p:cNvPr id="1343" name="AutoShape 337"/>
                    <p:cNvSpPr/>
                    <p:nvPr/>
                  </p:nvSpPr>
                  <p:spPr>
                    <a:xfrm>
                      <a:off x="6095880" y="4648320"/>
                      <a:ext cx="322560" cy="412560"/>
                    </a:xfrm>
                    <a:custGeom>
                      <a:avLst/>
                      <a:gdLst>
                        <a:gd name="textAreaLeft" fmla="*/ 360 w 322560"/>
                        <a:gd name="textAreaRight" fmla="*/ 322200 w 322560"/>
                        <a:gd name="textAreaTop" fmla="*/ 360 h 412560"/>
                        <a:gd name="textAreaBottom" fmla="*/ 412200 h 412560"/>
                      </a:gdLst>
                      <a:ahLst/>
                      <a:rect l="textAreaLeft" t="textAreaTop" r="textAreaRight" b="textAreaBottom"/>
                      <a:pathLst>
                        <a:path w="21600" h="27620">
                          <a:moveTo>
                            <a:pt x="106" y="0"/>
                          </a:moveTo>
                          <a:arcTo wR="106" hR="106" stAng="16200000" swAng="-5400000"/>
                          <a:lnTo>
                            <a:pt x="0" y="27514"/>
                          </a:lnTo>
                          <a:arcTo wR="106" hR="106" stAng="10800000" swAng="-5400000"/>
                          <a:lnTo>
                            <a:pt x="21494" y="27620"/>
                          </a:lnTo>
                          <a:arcTo wR="106" hR="106" stAng="5400000" swAng="-5400000"/>
                          <a:lnTo>
                            <a:pt x="21600" y="106"/>
                          </a:lnTo>
                          <a:arcTo wR="106" hR="106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44" name="Group 338"/>
                    <p:cNvGrpSpPr/>
                    <p:nvPr/>
                  </p:nvGrpSpPr>
                  <p:grpSpPr>
                    <a:xfrm>
                      <a:off x="6095880" y="4648320"/>
                      <a:ext cx="344520" cy="407880"/>
                      <a:chOff x="6095880" y="4648320"/>
                      <a:chExt cx="344520" cy="407880"/>
                    </a:xfrm>
                  </p:grpSpPr>
                  <p:sp>
                    <p:nvSpPr>
                      <p:cNvPr id="1345" name="AutoShape 339"/>
                      <p:cNvSpPr/>
                      <p:nvPr/>
                    </p:nvSpPr>
                    <p:spPr>
                      <a:xfrm>
                        <a:off x="6095880" y="4648320"/>
                        <a:ext cx="344520" cy="407880"/>
                      </a:xfrm>
                      <a:custGeom>
                        <a:avLst/>
                        <a:gdLst>
                          <a:gd name="textAreaLeft" fmla="*/ 360 w 344520"/>
                          <a:gd name="textAreaRight" fmla="*/ 344160 w 344520"/>
                          <a:gd name="textAreaTop" fmla="*/ 360 h 407880"/>
                          <a:gd name="textAreaBottom" fmla="*/ 407520 h 407880"/>
                        </a:gdLst>
                        <a:ahLst/>
                        <a:rect l="textAreaLeft" t="textAreaTop" r="textAreaRight" b="textAreaBottom"/>
                        <a:pathLst>
                          <a:path w="21600" h="25568">
                            <a:moveTo>
                              <a:pt x="100" y="0"/>
                            </a:moveTo>
                            <a:arcTo wR="100" hR="100" stAng="16200000" swAng="-5400000"/>
                            <a:lnTo>
                              <a:pt x="0" y="25468"/>
                            </a:lnTo>
                            <a:arcTo wR="100" hR="100" stAng="10800000" swAng="-5400000"/>
                            <a:lnTo>
                              <a:pt x="21500" y="25568"/>
                            </a:lnTo>
                            <a:arcTo wR="100" hR="100" stAng="5400000" swAng="-5400000"/>
                            <a:lnTo>
                              <a:pt x="21600" y="100"/>
                            </a:lnTo>
                            <a:arcTo wR="100" hR="1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46" name="Group 340"/>
                      <p:cNvGrpSpPr/>
                      <p:nvPr/>
                    </p:nvGrpSpPr>
                    <p:grpSpPr>
                      <a:xfrm>
                        <a:off x="6095880" y="4648320"/>
                        <a:ext cx="339840" cy="403200"/>
                        <a:chOff x="6095880" y="4648320"/>
                        <a:chExt cx="339840" cy="403200"/>
                      </a:xfrm>
                    </p:grpSpPr>
                    <p:sp>
                      <p:nvSpPr>
                        <p:cNvPr id="1347" name="AutoShape 341"/>
                        <p:cNvSpPr/>
                        <p:nvPr/>
                      </p:nvSpPr>
                      <p:spPr>
                        <a:xfrm>
                          <a:off x="6095880" y="4648320"/>
                          <a:ext cx="339840" cy="403200"/>
                        </a:xfrm>
                        <a:custGeom>
                          <a:avLst/>
                          <a:gdLst>
                            <a:gd name="textAreaLeft" fmla="*/ 360 w 339840"/>
                            <a:gd name="textAreaRight" fmla="*/ 339480 w 339840"/>
                            <a:gd name="textAreaTop" fmla="*/ 360 h 403200"/>
                            <a:gd name="textAreaBottom" fmla="*/ 402840 h 403200"/>
                          </a:gdLst>
                          <a:ahLst/>
                          <a:rect l="textAreaLeft" t="textAreaTop" r="textAreaRight" b="textAreaBottom"/>
                          <a:pathLst>
                            <a:path w="21600" h="25623">
                              <a:moveTo>
                                <a:pt x="100" y="0"/>
                              </a:moveTo>
                              <a:arcTo wR="100" hR="100" stAng="16200000" swAng="-5400000"/>
                              <a:lnTo>
                                <a:pt x="0" y="25523"/>
                              </a:lnTo>
                              <a:arcTo wR="100" hR="100" stAng="10800000" swAng="-5400000"/>
                              <a:lnTo>
                                <a:pt x="21500" y="25623"/>
                              </a:lnTo>
                              <a:arcTo wR="100" hR="100" stAng="5400000" swAng="-5400000"/>
                              <a:lnTo>
                                <a:pt x="21600" y="100"/>
                              </a:lnTo>
                              <a:arcTo wR="100" hR="1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48" name="Group 342"/>
                        <p:cNvGrpSpPr/>
                        <p:nvPr/>
                      </p:nvGrpSpPr>
                      <p:grpSpPr>
                        <a:xfrm>
                          <a:off x="6095880" y="4648320"/>
                          <a:ext cx="336600" cy="399960"/>
                          <a:chOff x="6095880" y="4648320"/>
                          <a:chExt cx="336600" cy="399960"/>
                        </a:xfrm>
                      </p:grpSpPr>
                      <p:sp>
                        <p:nvSpPr>
                          <p:cNvPr id="1349" name="AutoShape 343"/>
                          <p:cNvSpPr/>
                          <p:nvPr/>
                        </p:nvSpPr>
                        <p:spPr>
                          <a:xfrm>
                            <a:off x="6095880" y="4648320"/>
                            <a:ext cx="336600" cy="399960"/>
                          </a:xfrm>
                          <a:custGeom>
                            <a:avLst/>
                            <a:gdLst>
                              <a:gd name="textAreaLeft" fmla="*/ 360 w 336600"/>
                              <a:gd name="textAreaRight" fmla="*/ 336240 w 336600"/>
                              <a:gd name="textAreaTop" fmla="*/ 360 h 399960"/>
                              <a:gd name="textAreaBottom" fmla="*/ 399600 h 39996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5662">
                                <a:moveTo>
                                  <a:pt x="101" y="0"/>
                                </a:moveTo>
                                <a:arcTo wR="101" hR="101" stAng="16200000" swAng="-5400000"/>
                                <a:lnTo>
                                  <a:pt x="0" y="25561"/>
                                </a:lnTo>
                                <a:arcTo wR="101" hR="101" stAng="10800000" swAng="-5400000"/>
                                <a:lnTo>
                                  <a:pt x="21499" y="25662"/>
                                </a:lnTo>
                                <a:arcTo wR="101" hR="101" stAng="5400000" swAng="-5400000"/>
                                <a:lnTo>
                                  <a:pt x="21600" y="101"/>
                                </a:lnTo>
                                <a:arcTo wR="101" hR="101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350" name="Group 344"/>
                          <p:cNvGrpSpPr/>
                          <p:nvPr/>
                        </p:nvGrpSpPr>
                        <p:grpSpPr>
                          <a:xfrm>
                            <a:off x="6095880" y="4648320"/>
                            <a:ext cx="335160" cy="399960"/>
                            <a:chOff x="6095880" y="4648320"/>
                            <a:chExt cx="335160" cy="399960"/>
                          </a:xfrm>
                        </p:grpSpPr>
                        <p:sp>
                          <p:nvSpPr>
                            <p:cNvPr id="1351" name="AutoShape 345"/>
                            <p:cNvSpPr/>
                            <p:nvPr/>
                          </p:nvSpPr>
                          <p:spPr>
                            <a:xfrm>
                              <a:off x="6095880" y="4648320"/>
                              <a:ext cx="335160" cy="399960"/>
                            </a:xfrm>
                            <a:custGeom>
                              <a:avLst/>
                              <a:gdLst>
                                <a:gd name="textAreaLeft" fmla="*/ 360 w 335160"/>
                                <a:gd name="textAreaRight" fmla="*/ 334800 w 335160"/>
                                <a:gd name="textAreaTop" fmla="*/ 360 h 399960"/>
                                <a:gd name="textAreaBottom" fmla="*/ 399600 h 39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5772">
                                  <a:moveTo>
                                    <a:pt x="102" y="0"/>
                                  </a:moveTo>
                                  <a:arcTo wR="102" hR="102" stAng="16200000" swAng="-5400000"/>
                                  <a:lnTo>
                                    <a:pt x="0" y="25670"/>
                                  </a:lnTo>
                                  <a:arcTo wR="102" hR="102" stAng="10800000" swAng="-5400000"/>
                                  <a:lnTo>
                                    <a:pt x="21498" y="25772"/>
                                  </a:lnTo>
                                  <a:arcTo wR="102" hR="102" stAng="5400000" swAng="-5400000"/>
                                  <a:lnTo>
                                    <a:pt x="21600" y="102"/>
                                  </a:lnTo>
                                  <a:arcTo wR="102" hR="102" stAng="0" swAng="-5400000"/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352" name="Group 346"/>
                            <p:cNvGrpSpPr/>
                            <p:nvPr/>
                          </p:nvGrpSpPr>
                          <p:grpSpPr>
                            <a:xfrm>
                              <a:off x="6095880" y="4648320"/>
                              <a:ext cx="335160" cy="399960"/>
                              <a:chOff x="6095880" y="4648320"/>
                              <a:chExt cx="335160" cy="399960"/>
                            </a:xfrm>
                          </p:grpSpPr>
                          <p:sp>
                            <p:nvSpPr>
                              <p:cNvPr id="1353" name="AutoShape 347"/>
                              <p:cNvSpPr/>
                              <p:nvPr/>
                            </p:nvSpPr>
                            <p:spPr>
                              <a:xfrm>
                                <a:off x="6095880" y="4648320"/>
                                <a:ext cx="335160" cy="399960"/>
                              </a:xfrm>
                              <a:custGeom>
                                <a:avLst/>
                                <a:gdLst>
                                  <a:gd name="textAreaLeft" fmla="*/ 360 w 335160"/>
                                  <a:gd name="textAreaRight" fmla="*/ 334800 w 335160"/>
                                  <a:gd name="textAreaTop" fmla="*/ 360 h 399960"/>
                                  <a:gd name="textAreaBottom" fmla="*/ 399600 h 39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5772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5670"/>
                                    </a:lnTo>
                                    <a:arcTo wR="102" hR="102" stAng="10800000" swAng="-5400000"/>
                                    <a:lnTo>
                                      <a:pt x="21498" y="25772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4" name="AutoShape 348"/>
                              <p:cNvSpPr/>
                              <p:nvPr/>
                            </p:nvSpPr>
                            <p:spPr>
                              <a:xfrm>
                                <a:off x="6096240" y="4648320"/>
                                <a:ext cx="312480" cy="354960"/>
                              </a:xfrm>
                              <a:custGeom>
                                <a:avLst/>
                                <a:gdLst>
                                  <a:gd name="textAreaLeft" fmla="*/ 360 w 312480"/>
                                  <a:gd name="textAreaRight" fmla="*/ 312120 w 312480"/>
                                  <a:gd name="textAreaTop" fmla="*/ 360 h 354960"/>
                                  <a:gd name="textAreaBottom" fmla="*/ 354600 h 35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600" h="24533">
                                    <a:moveTo>
                                      <a:pt x="102" y="0"/>
                                    </a:moveTo>
                                    <a:arcTo wR="102" hR="102" stAng="16200000" swAng="-5400000"/>
                                    <a:lnTo>
                                      <a:pt x="0" y="24431"/>
                                    </a:lnTo>
                                    <a:arcTo wR="102" hR="102" stAng="10800000" swAng="-5400000"/>
                                    <a:lnTo>
                                      <a:pt x="21498" y="24533"/>
                                    </a:lnTo>
                                    <a:arcTo wR="102" hR="102" stAng="5400000" swAng="-5400000"/>
                                    <a:lnTo>
                                      <a:pt x="21600" y="102"/>
                                    </a:lnTo>
                                    <a:arcTo wR="102" hR="102" stAng="0" swAng="-5400000"/>
                                    <a:close/>
                                  </a:path>
                                </a:pathLst>
                              </a:cu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95000"/>
                                  </a:lnSpc>
                                  <a:tabLst>
                                    <a:tab algn="l" pos="0"/>
                                    <a:tab algn="l" pos="447840"/>
                                    <a:tab algn="l" pos="896760"/>
                                    <a:tab algn="l" pos="1346040"/>
                                    <a:tab algn="l" pos="1795320"/>
                                    <a:tab algn="l" pos="2244600"/>
                                    <a:tab algn="l" pos="2693880"/>
                                    <a:tab algn="l" pos="3143160"/>
                                    <a:tab algn="l" pos="3592440"/>
                                    <a:tab algn="l" pos="4041720"/>
                                    <a:tab algn="l" pos="4491000"/>
                                    <a:tab algn="l" pos="4940280"/>
                                    <a:tab algn="l" pos="5389560"/>
                                    <a:tab algn="l" pos="5838840"/>
                                    <a:tab algn="l" pos="6288120"/>
                                    <a:tab algn="l" pos="6737400"/>
                                    <a:tab algn="l" pos="7186680"/>
                                    <a:tab algn="l" pos="7635960"/>
                                    <a:tab algn="l" pos="8085240"/>
                                    <a:tab algn="l" pos="8534520"/>
                                    <a:tab algn="l" pos="89838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pt-BR" sz="1800" spc="-1" strike="noStrike">
                                    <a:solidFill>
                                      <a:srgbClr val="cc3300"/>
                                    </a:solidFill>
                                    <a:latin typeface="Tahoma"/>
                                  </a:rPr>
                                  <a:t>9</a:t>
                                </a: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5"/>
          <p:cNvSpPr/>
          <p:nvPr/>
        </p:nvSpPr>
        <p:spPr>
          <a:xfrm>
            <a:off x="608760" y="1052640"/>
            <a:ext cx="33721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 Rounded MT Bold"/>
              </a:rPr>
              <a:t>Suporte Gerencial e Apoio a Decis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639720" y="1282680"/>
            <a:ext cx="334332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000" spc="-1" strike="noStrike">
                <a:solidFill>
                  <a:srgbClr val="008000"/>
                </a:solidFill>
                <a:latin typeface="Arial Rounded MT Bold"/>
              </a:rPr>
              <a:t>Informações Gerenciais e de Apoio a Decis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AutoShape 15"/>
          <p:cNvSpPr/>
          <p:nvPr/>
        </p:nvSpPr>
        <p:spPr>
          <a:xfrm>
            <a:off x="460440" y="549360"/>
            <a:ext cx="3206520" cy="6048360"/>
          </a:xfrm>
          <a:custGeom>
            <a:avLst/>
            <a:gdLst>
              <a:gd name="textAreaLeft" fmla="*/ 942480 w 3206520"/>
              <a:gd name="textAreaRight" fmla="*/ 3206880 w 3206520"/>
              <a:gd name="textAreaTop" fmla="*/ 252000 h 6048360"/>
              <a:gd name="textAreaBottom" fmla="*/ 579636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AutoShape 16"/>
          <p:cNvSpPr/>
          <p:nvPr/>
        </p:nvSpPr>
        <p:spPr>
          <a:xfrm flipH="1">
            <a:off x="5513400" y="549360"/>
            <a:ext cx="3168720" cy="6048360"/>
          </a:xfrm>
          <a:custGeom>
            <a:avLst/>
            <a:gdLst>
              <a:gd name="textAreaLeft" fmla="*/ 931320 w 3168720"/>
              <a:gd name="textAreaRight" fmla="*/ 3169080 w 3168720"/>
              <a:gd name="textAreaTop" fmla="*/ 252000 h 6048360"/>
              <a:gd name="textAreaBottom" fmla="*/ 579636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9" name="Picture 18" descr="rede_2"/>
          <p:cNvPicPr/>
          <p:nvPr/>
        </p:nvPicPr>
        <p:blipFill>
          <a:blip r:embed="rId1"/>
          <a:stretch/>
        </p:blipFill>
        <p:spPr>
          <a:xfrm>
            <a:off x="3492360" y="115920"/>
            <a:ext cx="2103480" cy="868320"/>
          </a:xfrm>
          <a:prstGeom prst="rect">
            <a:avLst/>
          </a:prstGeom>
          <a:ln w="0">
            <a:noFill/>
          </a:ln>
        </p:spPr>
      </p:pic>
      <p:grpSp>
        <p:nvGrpSpPr>
          <p:cNvPr id="1360" name="Group 111"/>
          <p:cNvGrpSpPr/>
          <p:nvPr/>
        </p:nvGrpSpPr>
        <p:grpSpPr>
          <a:xfrm>
            <a:off x="1403280" y="2205000"/>
            <a:ext cx="7426080" cy="3440160"/>
            <a:chOff x="1403280" y="2205000"/>
            <a:chExt cx="7426080" cy="3440160"/>
          </a:xfrm>
        </p:grpSpPr>
        <p:sp>
          <p:nvSpPr>
            <p:cNvPr id="1361" name="Rectangle 109"/>
            <p:cNvSpPr/>
            <p:nvPr/>
          </p:nvSpPr>
          <p:spPr>
            <a:xfrm>
              <a:off x="3146040" y="4797360"/>
              <a:ext cx="4608720" cy="808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Rectangle 108"/>
            <p:cNvSpPr/>
            <p:nvPr/>
          </p:nvSpPr>
          <p:spPr>
            <a:xfrm>
              <a:off x="3133440" y="3860640"/>
              <a:ext cx="4608720" cy="808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Rectangle 107"/>
            <p:cNvSpPr/>
            <p:nvPr/>
          </p:nvSpPr>
          <p:spPr>
            <a:xfrm>
              <a:off x="3128760" y="3139920"/>
              <a:ext cx="4608360" cy="623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Rectangle 106"/>
            <p:cNvSpPr/>
            <p:nvPr/>
          </p:nvSpPr>
          <p:spPr>
            <a:xfrm>
              <a:off x="3133440" y="2208240"/>
              <a:ext cx="4608720" cy="807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65" name="Picture 76" descr="sig_suas_op2"/>
            <p:cNvPicPr/>
            <p:nvPr/>
          </p:nvPicPr>
          <p:blipFill>
            <a:blip r:embed="rId2">
              <a:lum bright="-8000"/>
            </a:blip>
            <a:stretch/>
          </p:blipFill>
          <p:spPr>
            <a:xfrm>
              <a:off x="1404720" y="3876840"/>
              <a:ext cx="165564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Picture 73" descr="SICNAS"/>
            <p:cNvPicPr/>
            <p:nvPr/>
          </p:nvPicPr>
          <p:blipFill>
            <a:blip r:embed="rId3">
              <a:lum bright="-8000"/>
            </a:blip>
            <a:stretch/>
          </p:blipFill>
          <p:spPr>
            <a:xfrm>
              <a:off x="1404720" y="4797360"/>
              <a:ext cx="1666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Text Box 51"/>
            <p:cNvSpPr/>
            <p:nvPr/>
          </p:nvSpPr>
          <p:spPr>
            <a:xfrm>
              <a:off x="3139920" y="4960800"/>
              <a:ext cx="5689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stema de processos e consulta CN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68" name="Picture 74" descr="cad_suas"/>
            <p:cNvPicPr/>
            <p:nvPr/>
          </p:nvPicPr>
          <p:blipFill>
            <a:blip r:embed="rId4">
              <a:lum bright="-8000"/>
            </a:blip>
            <a:stretch/>
          </p:blipFill>
          <p:spPr>
            <a:xfrm>
              <a:off x="1404720" y="3139920"/>
              <a:ext cx="164952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75" descr="web1"/>
            <p:cNvPicPr/>
            <p:nvPr/>
          </p:nvPicPr>
          <p:blipFill>
            <a:blip r:embed="rId5">
              <a:lum bright="-8000"/>
            </a:blip>
            <a:stretch/>
          </p:blipFill>
          <p:spPr>
            <a:xfrm>
              <a:off x="1403280" y="2211480"/>
              <a:ext cx="165708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0" name="Rectangle 91"/>
            <p:cNvSpPr/>
            <p:nvPr/>
          </p:nvSpPr>
          <p:spPr>
            <a:xfrm>
              <a:off x="3164040" y="2205000"/>
              <a:ext cx="462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o de Ação;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ório de Gestão / Demonstrativo;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ltas gerenciais(Contas correntes/Saldo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Rectangle 92"/>
            <p:cNvSpPr/>
            <p:nvPr/>
          </p:nvSpPr>
          <p:spPr>
            <a:xfrm>
              <a:off x="3165840" y="3178080"/>
              <a:ext cx="394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Cadastral do SUAS, com módulo 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pecífico de consulta pela sociedad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Rectangle 93"/>
            <p:cNvSpPr/>
            <p:nvPr/>
          </p:nvSpPr>
          <p:spPr>
            <a:xfrm>
              <a:off x="3156840" y="3843360"/>
              <a:ext cx="373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stema de Informações Gerenciais 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nicípios + Entidades + Execução </a:t>
              </a:r>
              <a:br>
                <a:rPr sz="1600"/>
              </a:b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ísica e Financeir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3" name="Group 94"/>
          <p:cNvGrpSpPr/>
          <p:nvPr/>
        </p:nvGrpSpPr>
        <p:grpSpPr>
          <a:xfrm>
            <a:off x="6227640" y="993600"/>
            <a:ext cx="834840" cy="766440"/>
            <a:chOff x="6227640" y="993600"/>
            <a:chExt cx="834840" cy="766440"/>
          </a:xfrm>
        </p:grpSpPr>
        <p:pic>
          <p:nvPicPr>
            <p:cNvPr id="1374" name="Picture 95" descr="minicipios"/>
            <p:cNvPicPr/>
            <p:nvPr/>
          </p:nvPicPr>
          <p:blipFill>
            <a:blip r:embed="rId6"/>
            <a:stretch/>
          </p:blipFill>
          <p:spPr>
            <a:xfrm>
              <a:off x="6227640" y="993600"/>
              <a:ext cx="556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Text Box 96"/>
            <p:cNvSpPr/>
            <p:nvPr/>
          </p:nvSpPr>
          <p:spPr>
            <a:xfrm>
              <a:off x="6240240" y="1582560"/>
              <a:ext cx="82224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 Rounded MT Bold"/>
                </a:rPr>
                <a:t>Municípi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6" name="Group 97"/>
          <p:cNvGrpSpPr/>
          <p:nvPr/>
        </p:nvGrpSpPr>
        <p:grpSpPr>
          <a:xfrm>
            <a:off x="5219640" y="923760"/>
            <a:ext cx="735120" cy="834840"/>
            <a:chOff x="5219640" y="923760"/>
            <a:chExt cx="735120" cy="834840"/>
          </a:xfrm>
        </p:grpSpPr>
        <p:pic>
          <p:nvPicPr>
            <p:cNvPr id="1377" name="Picture 98" descr="estados"/>
            <p:cNvPicPr/>
            <p:nvPr/>
          </p:nvPicPr>
          <p:blipFill>
            <a:blip r:embed="rId7"/>
            <a:stretch/>
          </p:blipFill>
          <p:spPr>
            <a:xfrm>
              <a:off x="5219640" y="923760"/>
              <a:ext cx="596880" cy="65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Text Box 99"/>
            <p:cNvSpPr/>
            <p:nvPr/>
          </p:nvSpPr>
          <p:spPr>
            <a:xfrm>
              <a:off x="5310720" y="1581120"/>
              <a:ext cx="64404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 Rounded MT Bold"/>
                </a:rPr>
                <a:t>Estad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9" name="Group 100"/>
          <p:cNvGrpSpPr/>
          <p:nvPr/>
        </p:nvGrpSpPr>
        <p:grpSpPr>
          <a:xfrm>
            <a:off x="4156200" y="966960"/>
            <a:ext cx="1063440" cy="718560"/>
            <a:chOff x="4156200" y="966960"/>
            <a:chExt cx="1063440" cy="718560"/>
          </a:xfrm>
        </p:grpSpPr>
        <p:pic>
          <p:nvPicPr>
            <p:cNvPr id="1380" name="Picture 101" descr="conselho"/>
            <p:cNvPicPr/>
            <p:nvPr/>
          </p:nvPicPr>
          <p:blipFill>
            <a:blip r:embed="rId8"/>
            <a:stretch/>
          </p:blipFill>
          <p:spPr>
            <a:xfrm>
              <a:off x="4433040" y="966960"/>
              <a:ext cx="5338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1" name="Text Box 102"/>
            <p:cNvSpPr/>
            <p:nvPr/>
          </p:nvSpPr>
          <p:spPr>
            <a:xfrm>
              <a:off x="4156200" y="1424520"/>
              <a:ext cx="106344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 Rounded MT Bold"/>
                </a:rPr>
                <a:t>Conselhos de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 Rounded MT Bold"/>
                </a:rPr>
                <a:t>Assistê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2" name="Group 103"/>
          <p:cNvGrpSpPr/>
          <p:nvPr/>
        </p:nvGrpSpPr>
        <p:grpSpPr>
          <a:xfrm>
            <a:off x="7020000" y="907920"/>
            <a:ext cx="947520" cy="837000"/>
            <a:chOff x="7020000" y="907920"/>
            <a:chExt cx="947520" cy="837000"/>
          </a:xfrm>
        </p:grpSpPr>
        <p:pic>
          <p:nvPicPr>
            <p:cNvPr id="1383" name="Picture 104" descr="cad_suas"/>
            <p:cNvPicPr/>
            <p:nvPr/>
          </p:nvPicPr>
          <p:blipFill>
            <a:blip r:embed="rId9"/>
            <a:srcRect l="0" t="0" r="56874" b="0"/>
            <a:stretch/>
          </p:blipFill>
          <p:spPr>
            <a:xfrm>
              <a:off x="7020000" y="907920"/>
              <a:ext cx="759600" cy="7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4" name="Text Box 105"/>
            <p:cNvSpPr/>
            <p:nvPr/>
          </p:nvSpPr>
          <p:spPr>
            <a:xfrm>
              <a:off x="7201440" y="1567440"/>
              <a:ext cx="76608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 Rounded MT Bold"/>
                </a:rPr>
                <a:t>Entida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410920" y="685800"/>
            <a:ext cx="62643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Verdana"/>
              </a:rPr>
              <a:t>Impactos do SU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-468360" y="1700280"/>
            <a:ext cx="74167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or racionalidade dos gastos em Assist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Transparência nos gastos em Assist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Ampliação da efetividade das ações de Assist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Melhoria na avaliação dos resultados da Assist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 Marca política: consolidação da política de Assistência Social como polític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Picture 3" descr=""/>
          <p:cNvPicPr/>
          <p:nvPr/>
        </p:nvPicPr>
        <p:blipFill>
          <a:blip r:embed="rId1"/>
          <a:stretch/>
        </p:blipFill>
        <p:spPr>
          <a:xfrm>
            <a:off x="6804000" y="242100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ahoma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NISTÉRIO DO DESENCVOLVIMENTO SOCIAL – M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ahoma"/>
              </a:rPr>
              <a:t>REFORMULAÇÃO DA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nice Mer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ahom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468360" y="3933720"/>
            <a:ext cx="835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Janice Meri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cente UNISUL - Florianóp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ssistente Social – FECAM e Presidente do COAS/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elheira do C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cial@fecam.org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48) 32218800 (48) 843292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79280" y="900000"/>
            <a:ext cx="8640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O QUE É O SUA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iberação da IV Conferência Nacional de Assistência Social para um novo modelo de gestão integrando os entes feder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SUAS é um sistema público não-contributivo, descentralizado que tem por função a gestão do conteúdo específico da Assistência Social no campo da proteção social brasilei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</a:rPr>
              <a:t>QUAL É O OBJETIV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lidar um Sistema Descentralizado e Particip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r e organizar as ações socioassistenciais num sistema, o   que  significa  planejar  a  política de Assistência Social de forma articulada entre os entes federados tendo os mesmos princípios e diretrizes como fundamento, mas respeitando as diversidade reg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663560" cy="1392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05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Verdana"/>
              </a:rPr>
              <a:t>ORGANIZAÇÃO DA REDE</a:t>
            </a:r>
            <a:br>
              <a:rPr sz="2000"/>
            </a:br>
            <a:r>
              <a:rPr b="1" lang="pt-BR" sz="2000" spc="-1" strike="noStrike">
                <a:solidFill>
                  <a:srgbClr val="008000"/>
                </a:solidFill>
                <a:latin typeface="Verdana"/>
              </a:rPr>
              <a:t> </a:t>
            </a:r>
            <a:br>
              <a:rPr sz="2000"/>
            </a:br>
            <a:r>
              <a:rPr b="1" lang="pt-BR" sz="2000" spc="-1" strike="noStrike">
                <a:solidFill>
                  <a:srgbClr val="008000"/>
                </a:solidFill>
                <a:latin typeface="Verdana"/>
              </a:rPr>
              <a:t>SOCIOASSIS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7520"/>
            <a:ext cx="82105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 algn="just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 algn="just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erviços socioassistenciais implicam na produção de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Arial"/>
              </a:rPr>
              <a:t>ações continuadas e por tempo indetermin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voltados à proteção social da população usuária da rede de assistência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663560" cy="1392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"/>
          <p:cNvSpPr/>
          <p:nvPr/>
        </p:nvSpPr>
        <p:spPr>
          <a:xfrm>
            <a:off x="1523880" y="5587920"/>
            <a:ext cx="700416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"/>
          <p:cNvSpPr/>
          <p:nvPr/>
        </p:nvSpPr>
        <p:spPr>
          <a:xfrm>
            <a:off x="1523880" y="3149640"/>
            <a:ext cx="714708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260280"/>
            <a:ext cx="9144000" cy="116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66720" y="1666800"/>
            <a:ext cx="446040" cy="4759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965240" y="2446200"/>
            <a:ext cx="108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7"/>
          <p:cNvSpPr/>
          <p:nvPr/>
        </p:nvSpPr>
        <p:spPr>
          <a:xfrm>
            <a:off x="2771640" y="4508640"/>
            <a:ext cx="3311640" cy="1095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Haettenschweiler"/>
              </a:rPr>
              <a:t>Prote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Haettenschweiler"/>
              </a:rPr>
              <a:t>Básica - P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8"/>
          <p:cNvSpPr/>
          <p:nvPr/>
        </p:nvSpPr>
        <p:spPr>
          <a:xfrm>
            <a:off x="2771640" y="3284640"/>
            <a:ext cx="324036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aettenschweiler"/>
              </a:rPr>
              <a:t>Prote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aettenschweiler"/>
              </a:rPr>
              <a:t>Especial – P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aettenschweiler"/>
              </a:rPr>
              <a:t>Média Complex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9"/>
          <p:cNvSpPr/>
          <p:nvPr/>
        </p:nvSpPr>
        <p:spPr>
          <a:xfrm>
            <a:off x="4572000" y="1844640"/>
            <a:ext cx="3456000" cy="1095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Haettenschweiler"/>
              </a:rPr>
              <a:t>Proteção Social Especial – P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Haettenschweiler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Haettenschweiler"/>
              </a:rPr>
              <a:t>Alta Complex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523880" y="4444920"/>
            <a:ext cx="28958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619280" y="2133720"/>
            <a:ext cx="242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Haettenschweiler"/>
              </a:rPr>
              <a:t>Ausência de Vínculos Familiares e Comunitá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480000" y="4140360"/>
            <a:ext cx="238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Haettenschweiler"/>
              </a:rPr>
              <a:t>Vínculos Familiares </a:t>
            </a:r>
            <a:br>
              <a:rPr sz="2000"/>
            </a:br>
            <a:r>
              <a:rPr b="0" lang="en-GB" sz="2000" spc="-1" strike="noStrike">
                <a:solidFill>
                  <a:srgbClr val="008000"/>
                </a:solidFill>
                <a:latin typeface="Haettenschweiler"/>
              </a:rPr>
              <a:t>e Comunitá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 rot="16200000">
            <a:off x="-1668960" y="29008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Haettenschweiler"/>
              </a:rPr>
              <a:t>Escala de risco e vulner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1908000" y="260280"/>
            <a:ext cx="69850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6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  <a:ea typeface="Arial Unicode MS"/>
              </a:rPr>
              <a:t>SERVIÇOS SOCIOASSISTENCIAI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  <a:ea typeface="Arial Unicode MS"/>
              </a:rPr>
              <a:t>PROTEÇÃO SOCIAL BÁSICA E ESPE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82105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Verdana"/>
              </a:rPr>
              <a:t>Proteção Social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97920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17520" indent="-317520" algn="just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teção Social Básica t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áter preventivo e processador de inclusão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 algn="just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 algn="just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8000"/>
                </a:solidFill>
                <a:uFillTx/>
                <a:latin typeface="Arial"/>
              </a:rPr>
              <a:t>Destinatário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gmentos da população que vivem em condições de vulnerabilidade social, tais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vação (ausência de renda, precária ou nulo acesso aos serviços públicos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ragilização dos vínculos afetivos (discriminação etária, étnicas, de gênero ou por deficiência...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 algn="just">
              <a:lnSpc>
                <a:spcPct val="12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8000"/>
                </a:solidFill>
                <a:uFillTx/>
                <a:latin typeface="Arial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rocessar a inclusão de grupos em situação de risco social nas políticas públicas, no mundo do trabalho e na vida comunitária e societária, além de prevenir as situações de risco social ou violação do dire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403"/>
          <p:cNvGrpSpPr/>
          <p:nvPr/>
        </p:nvGrpSpPr>
        <p:grpSpPr>
          <a:xfrm>
            <a:off x="2050560" y="3789000"/>
            <a:ext cx="5473800" cy="2647440"/>
            <a:chOff x="2050560" y="3789000"/>
            <a:chExt cx="5473800" cy="2647440"/>
          </a:xfrm>
        </p:grpSpPr>
        <p:sp>
          <p:nvSpPr>
            <p:cNvPr id="88" name="Rectangle 404"/>
            <p:cNvSpPr/>
            <p:nvPr/>
          </p:nvSpPr>
          <p:spPr>
            <a:xfrm>
              <a:off x="2314080" y="4578120"/>
              <a:ext cx="4801680" cy="1846440"/>
            </a:xfrm>
            <a:prstGeom prst="rect">
              <a:avLst/>
            </a:prstGeom>
            <a:solidFill>
              <a:srgbClr val="fdf2e7"/>
            </a:solidFill>
            <a:ln w="381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Group 405"/>
            <p:cNvGrpSpPr/>
            <p:nvPr/>
          </p:nvGrpSpPr>
          <p:grpSpPr>
            <a:xfrm>
              <a:off x="2350440" y="5543280"/>
              <a:ext cx="4690800" cy="893160"/>
              <a:chOff x="2350440" y="5543280"/>
              <a:chExt cx="4690800" cy="893160"/>
            </a:xfrm>
          </p:grpSpPr>
          <p:grpSp>
            <p:nvGrpSpPr>
              <p:cNvPr id="90" name="Group 406"/>
              <p:cNvGrpSpPr/>
              <p:nvPr/>
            </p:nvGrpSpPr>
            <p:grpSpPr>
              <a:xfrm>
                <a:off x="2350440" y="5695200"/>
                <a:ext cx="787320" cy="720360"/>
                <a:chOff x="2350440" y="5695200"/>
                <a:chExt cx="787320" cy="720360"/>
              </a:xfrm>
            </p:grpSpPr>
            <p:grpSp>
              <p:nvGrpSpPr>
                <p:cNvPr id="91" name="Group 407"/>
                <p:cNvGrpSpPr/>
                <p:nvPr/>
              </p:nvGrpSpPr>
              <p:grpSpPr>
                <a:xfrm>
                  <a:off x="2350440" y="5695200"/>
                  <a:ext cx="787320" cy="720360"/>
                  <a:chOff x="2350440" y="5695200"/>
                  <a:chExt cx="787320" cy="720360"/>
                </a:xfrm>
              </p:grpSpPr>
              <p:grpSp>
                <p:nvGrpSpPr>
                  <p:cNvPr id="92" name="Group 408"/>
                  <p:cNvGrpSpPr/>
                  <p:nvPr/>
                </p:nvGrpSpPr>
                <p:grpSpPr>
                  <a:xfrm>
                    <a:off x="2350440" y="5695200"/>
                    <a:ext cx="348120" cy="719280"/>
                    <a:chOff x="2350440" y="5695200"/>
                    <a:chExt cx="348120" cy="719280"/>
                  </a:xfrm>
                </p:grpSpPr>
                <p:sp>
                  <p:nvSpPr>
                    <p:cNvPr id="93" name="Oval 409"/>
                    <p:cNvSpPr/>
                    <p:nvPr/>
                  </p:nvSpPr>
                  <p:spPr>
                    <a:xfrm>
                      <a:off x="2421000" y="5734800"/>
                      <a:ext cx="191520" cy="181080"/>
                    </a:xfrm>
                    <a:prstGeom prst="ellipse">
                      <a:avLst/>
                    </a:prstGeom>
                    <a:solidFill>
                      <a:srgbClr val="fabf8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Line 410"/>
                    <p:cNvSpPr/>
                    <p:nvPr/>
                  </p:nvSpPr>
                  <p:spPr>
                    <a:xfrm>
                      <a:off x="2551320" y="6213960"/>
                      <a:ext cx="0" cy="135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Oval 411"/>
                    <p:cNvSpPr/>
                    <p:nvPr/>
                  </p:nvSpPr>
                  <p:spPr>
                    <a:xfrm rot="20313000">
                      <a:off x="2525040" y="6332760"/>
                      <a:ext cx="87120" cy="67320"/>
                    </a:xfrm>
                    <a:prstGeom prst="ellipse">
                      <a:avLst/>
                    </a:prstGeom>
                    <a:solidFill>
                      <a:srgbClr val="a5a5a5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Oval 412"/>
                    <p:cNvSpPr/>
                    <p:nvPr/>
                  </p:nvSpPr>
                  <p:spPr>
                    <a:xfrm>
                      <a:off x="2475360" y="5695200"/>
                      <a:ext cx="86760" cy="6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AutoShape 413"/>
                    <p:cNvSpPr/>
                    <p:nvPr/>
                  </p:nvSpPr>
                  <p:spPr>
                    <a:xfrm>
                      <a:off x="2350440" y="5915880"/>
                      <a:ext cx="348120" cy="306360"/>
                    </a:xfrm>
                    <a:prstGeom prst="triangle">
                      <a:avLst>
                        <a:gd name="adj" fmla="val 50000"/>
                      </a:avLst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Line 414"/>
                    <p:cNvSpPr/>
                    <p:nvPr/>
                  </p:nvSpPr>
                  <p:spPr>
                    <a:xfrm>
                      <a:off x="2460240" y="6215400"/>
                      <a:ext cx="0" cy="122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Oval 415"/>
                    <p:cNvSpPr/>
                    <p:nvPr/>
                  </p:nvSpPr>
                  <p:spPr>
                    <a:xfrm rot="20313000">
                      <a:off x="2399400" y="6333480"/>
                      <a:ext cx="86760" cy="67320"/>
                    </a:xfrm>
                    <a:prstGeom prst="ellipse">
                      <a:avLst/>
                    </a:prstGeom>
                    <a:solidFill>
                      <a:srgbClr val="7f7f7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AutoShape 416"/>
                    <p:cNvSpPr/>
                    <p:nvPr/>
                  </p:nvSpPr>
                  <p:spPr>
                    <a:xfrm rot="5609400">
                      <a:off x="2469960" y="5687640"/>
                      <a:ext cx="9936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7163" y="2283"/>
                            <a:pt x="12725" y="5080"/>
                            <a:pt x="12725" y="10800"/>
                          </a:cubicBezTo>
                          <a:cubicBezTo>
                            <a:pt x="12725" y="16520"/>
                            <a:pt x="17163" y="19317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" name="Group 417"/>
                  <p:cNvGrpSpPr/>
                  <p:nvPr/>
                </p:nvGrpSpPr>
                <p:grpSpPr>
                  <a:xfrm>
                    <a:off x="2673720" y="5705640"/>
                    <a:ext cx="245160" cy="709920"/>
                    <a:chOff x="2673720" y="5705640"/>
                    <a:chExt cx="245160" cy="709920"/>
                  </a:xfrm>
                </p:grpSpPr>
                <p:grpSp>
                  <p:nvGrpSpPr>
                    <p:cNvPr id="102" name="Group 418"/>
                    <p:cNvGrpSpPr/>
                    <p:nvPr/>
                  </p:nvGrpSpPr>
                  <p:grpSpPr>
                    <a:xfrm>
                      <a:off x="2673720" y="5895000"/>
                      <a:ext cx="245160" cy="458640"/>
                      <a:chOff x="2673720" y="5895000"/>
                      <a:chExt cx="245160" cy="458640"/>
                    </a:xfrm>
                  </p:grpSpPr>
                  <p:sp>
                    <p:nvSpPr>
                      <p:cNvPr id="103" name="Rectangle 419"/>
                      <p:cNvSpPr/>
                      <p:nvPr/>
                    </p:nvSpPr>
                    <p:spPr>
                      <a:xfrm>
                        <a:off x="2673720" y="5895000"/>
                        <a:ext cx="245160" cy="45864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Line 420"/>
                      <p:cNvSpPr/>
                      <p:nvPr/>
                    </p:nvSpPr>
                    <p:spPr>
                      <a:xfrm>
                        <a:off x="2673720" y="6077520"/>
                        <a:ext cx="24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Line 421"/>
                      <p:cNvSpPr/>
                      <p:nvPr/>
                    </p:nvSpPr>
                    <p:spPr>
                      <a:xfrm flipV="1">
                        <a:off x="2792520" y="6076800"/>
                        <a:ext cx="0" cy="272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" name="Oval 422"/>
                    <p:cNvSpPr/>
                    <p:nvPr/>
                  </p:nvSpPr>
                  <p:spPr>
                    <a:xfrm rot="20313000">
                      <a:off x="2823480" y="6330600"/>
                      <a:ext cx="79920" cy="72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7" name="Group 423"/>
                    <p:cNvGrpSpPr/>
                    <p:nvPr/>
                  </p:nvGrpSpPr>
                  <p:grpSpPr>
                    <a:xfrm>
                      <a:off x="2684520" y="5705640"/>
                      <a:ext cx="214560" cy="175320"/>
                      <a:chOff x="2684520" y="5705640"/>
                      <a:chExt cx="214560" cy="175320"/>
                    </a:xfrm>
                  </p:grpSpPr>
                  <p:sp>
                    <p:nvSpPr>
                      <p:cNvPr id="108" name="Oval 424"/>
                      <p:cNvSpPr/>
                      <p:nvPr/>
                    </p:nvSpPr>
                    <p:spPr>
                      <a:xfrm>
                        <a:off x="2684520" y="5705640"/>
                        <a:ext cx="214560" cy="175320"/>
                      </a:xfrm>
                      <a:prstGeom prst="ellipse">
                        <a:avLst/>
                      </a:prstGeom>
                      <a:solidFill>
                        <a:srgbClr val="c3864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Freeform 425"/>
                      <p:cNvSpPr/>
                      <p:nvPr/>
                    </p:nvSpPr>
                    <p:spPr>
                      <a:xfrm flipH="1">
                        <a:off x="2839680" y="5715000"/>
                        <a:ext cx="58680" cy="961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Freeform 426"/>
                      <p:cNvSpPr/>
                      <p:nvPr/>
                    </p:nvSpPr>
                    <p:spPr>
                      <a:xfrm>
                        <a:off x="2684520" y="5715000"/>
                        <a:ext cx="56880" cy="928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1" name="Oval 427"/>
                    <p:cNvSpPr/>
                    <p:nvPr/>
                  </p:nvSpPr>
                  <p:spPr>
                    <a:xfrm rot="20313000">
                      <a:off x="2688480" y="6329880"/>
                      <a:ext cx="80280" cy="72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" name="Group 428"/>
                  <p:cNvGrpSpPr/>
                  <p:nvPr/>
                </p:nvGrpSpPr>
                <p:grpSpPr>
                  <a:xfrm>
                    <a:off x="2890440" y="5855040"/>
                    <a:ext cx="247320" cy="551520"/>
                    <a:chOff x="2890440" y="5855040"/>
                    <a:chExt cx="247320" cy="551520"/>
                  </a:xfrm>
                </p:grpSpPr>
                <p:sp>
                  <p:nvSpPr>
                    <p:cNvPr id="113" name="AutoShape 429"/>
                    <p:cNvSpPr/>
                    <p:nvPr/>
                  </p:nvSpPr>
                  <p:spPr>
                    <a:xfrm>
                      <a:off x="2890440" y="5998320"/>
                      <a:ext cx="247320" cy="249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Oval 430"/>
                    <p:cNvSpPr/>
                    <p:nvPr/>
                  </p:nvSpPr>
                  <p:spPr>
                    <a:xfrm>
                      <a:off x="2938320" y="5855040"/>
                      <a:ext cx="154440" cy="13752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431"/>
                    <p:cNvSpPr/>
                    <p:nvPr/>
                  </p:nvSpPr>
                  <p:spPr>
                    <a:xfrm>
                      <a:off x="3045600" y="6246000"/>
                      <a:ext cx="0" cy="1101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432"/>
                    <p:cNvSpPr/>
                    <p:nvPr/>
                  </p:nvSpPr>
                  <p:spPr>
                    <a:xfrm>
                      <a:off x="2979720" y="6246000"/>
                      <a:ext cx="0" cy="1101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Oval 433"/>
                    <p:cNvSpPr/>
                    <p:nvPr/>
                  </p:nvSpPr>
                  <p:spPr>
                    <a:xfrm rot="20313000">
                      <a:off x="3023640" y="6341760"/>
                      <a:ext cx="61920" cy="54720"/>
                    </a:xfrm>
                    <a:prstGeom prst="ellipse">
                      <a:avLst/>
                    </a:prstGeom>
                    <a:solidFill>
                      <a:srgbClr val="3f315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Oval 434"/>
                    <p:cNvSpPr/>
                    <p:nvPr/>
                  </p:nvSpPr>
                  <p:spPr>
                    <a:xfrm rot="20313000">
                      <a:off x="2936520" y="6342480"/>
                      <a:ext cx="61920" cy="54720"/>
                    </a:xfrm>
                    <a:prstGeom prst="ellipse">
                      <a:avLst/>
                    </a:prstGeom>
                    <a:solidFill>
                      <a:srgbClr val="3f315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435"/>
                  <p:cNvGrpSpPr/>
                  <p:nvPr/>
                </p:nvGrpSpPr>
                <p:grpSpPr>
                  <a:xfrm>
                    <a:off x="2574720" y="5993280"/>
                    <a:ext cx="157320" cy="418680"/>
                    <a:chOff x="2574720" y="5993280"/>
                    <a:chExt cx="157320" cy="418680"/>
                  </a:xfrm>
                </p:grpSpPr>
                <p:sp>
                  <p:nvSpPr>
                    <p:cNvPr id="120" name="Rectangle 436"/>
                    <p:cNvSpPr/>
                    <p:nvPr/>
                  </p:nvSpPr>
                  <p:spPr>
                    <a:xfrm>
                      <a:off x="2575800" y="6099120"/>
                      <a:ext cx="156240" cy="267120"/>
                    </a:xfrm>
                    <a:prstGeom prst="rect">
                      <a:avLst/>
                    </a:prstGeom>
                    <a:solidFill>
                      <a:srgbClr val="c2d69b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437"/>
                    <p:cNvSpPr/>
                    <p:nvPr/>
                  </p:nvSpPr>
                  <p:spPr>
                    <a:xfrm>
                      <a:off x="2575800" y="6202440"/>
                      <a:ext cx="15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438"/>
                    <p:cNvSpPr/>
                    <p:nvPr/>
                  </p:nvSpPr>
                  <p:spPr>
                    <a:xfrm flipV="1">
                      <a:off x="2652480" y="6201720"/>
                      <a:ext cx="0" cy="16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Oval 439"/>
                    <p:cNvSpPr/>
                    <p:nvPr/>
                  </p:nvSpPr>
                  <p:spPr>
                    <a:xfrm rot="20313000">
                      <a:off x="2671200" y="6363720"/>
                      <a:ext cx="52200" cy="3996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Oval 440"/>
                    <p:cNvSpPr/>
                    <p:nvPr/>
                  </p:nvSpPr>
                  <p:spPr>
                    <a:xfrm rot="20313000">
                      <a:off x="2580120" y="6363720"/>
                      <a:ext cx="52200" cy="3996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Oval 441"/>
                    <p:cNvSpPr/>
                    <p:nvPr/>
                  </p:nvSpPr>
                  <p:spPr>
                    <a:xfrm>
                      <a:off x="2590200" y="5993280"/>
                      <a:ext cx="130320" cy="100800"/>
                    </a:xfrm>
                    <a:prstGeom prst="ellipse">
                      <a:avLst/>
                    </a:prstGeom>
                    <a:solidFill>
                      <a:srgbClr val="d5ab8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6" name="AutoShape 442"/>
                <p:cNvSpPr/>
                <p:nvPr/>
              </p:nvSpPr>
              <p:spPr>
                <a:xfrm rot="5851800">
                  <a:off x="2773080" y="5758200"/>
                  <a:ext cx="42840" cy="12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443"/>
              <p:cNvGrpSpPr/>
              <p:nvPr/>
            </p:nvGrpSpPr>
            <p:grpSpPr>
              <a:xfrm>
                <a:off x="3152880" y="5599800"/>
                <a:ext cx="716760" cy="816120"/>
                <a:chOff x="3152880" y="5599800"/>
                <a:chExt cx="716760" cy="816120"/>
              </a:xfrm>
            </p:grpSpPr>
            <p:grpSp>
              <p:nvGrpSpPr>
                <p:cNvPr id="128" name="Group 444"/>
                <p:cNvGrpSpPr/>
                <p:nvPr/>
              </p:nvGrpSpPr>
              <p:grpSpPr>
                <a:xfrm>
                  <a:off x="3152880" y="5961600"/>
                  <a:ext cx="167040" cy="445680"/>
                  <a:chOff x="3152880" y="5961600"/>
                  <a:chExt cx="167040" cy="445680"/>
                </a:xfrm>
              </p:grpSpPr>
              <p:grpSp>
                <p:nvGrpSpPr>
                  <p:cNvPr id="129" name="Group 445"/>
                  <p:cNvGrpSpPr/>
                  <p:nvPr/>
                </p:nvGrpSpPr>
                <p:grpSpPr>
                  <a:xfrm>
                    <a:off x="3152880" y="6077520"/>
                    <a:ext cx="167040" cy="205920"/>
                    <a:chOff x="3152880" y="6077520"/>
                    <a:chExt cx="167040" cy="205920"/>
                  </a:xfrm>
                </p:grpSpPr>
                <p:grpSp>
                  <p:nvGrpSpPr>
                    <p:cNvPr id="130" name="Group 446"/>
                    <p:cNvGrpSpPr/>
                    <p:nvPr/>
                  </p:nvGrpSpPr>
                  <p:grpSpPr>
                    <a:xfrm>
                      <a:off x="3152880" y="6080400"/>
                      <a:ext cx="161280" cy="199440"/>
                      <a:chOff x="3152880" y="6080400"/>
                      <a:chExt cx="161280" cy="199440"/>
                    </a:xfrm>
                  </p:grpSpPr>
                  <p:grpSp>
                    <p:nvGrpSpPr>
                      <p:cNvPr id="131" name="Group 447"/>
                      <p:cNvGrpSpPr/>
                      <p:nvPr/>
                    </p:nvGrpSpPr>
                    <p:grpSpPr>
                      <a:xfrm>
                        <a:off x="3158280" y="6080400"/>
                        <a:ext cx="155880" cy="199440"/>
                        <a:chOff x="3158280" y="6080400"/>
                        <a:chExt cx="155880" cy="199440"/>
                      </a:xfrm>
                    </p:grpSpPr>
                    <p:sp>
                      <p:nvSpPr>
                        <p:cNvPr id="132" name="Rectangle 448"/>
                        <p:cNvSpPr/>
                        <p:nvPr/>
                      </p:nvSpPr>
                      <p:spPr>
                        <a:xfrm>
                          <a:off x="3160080" y="6091920"/>
                          <a:ext cx="154080" cy="187920"/>
                        </a:xfrm>
                        <a:prstGeom prst="rect">
                          <a:avLst/>
                        </a:prstGeom>
                        <a:solidFill>
                          <a:srgbClr val="ff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3" name="Group 449"/>
                        <p:cNvGrpSpPr/>
                        <p:nvPr/>
                      </p:nvGrpSpPr>
                      <p:grpSpPr>
                        <a:xfrm>
                          <a:off x="3158280" y="6080400"/>
                          <a:ext cx="150480" cy="181800"/>
                          <a:chOff x="3158280" y="6080400"/>
                          <a:chExt cx="150480" cy="181800"/>
                        </a:xfrm>
                      </p:grpSpPr>
                      <p:grpSp>
                        <p:nvGrpSpPr>
                          <p:cNvPr id="134" name="Group 450"/>
                          <p:cNvGrpSpPr/>
                          <p:nvPr/>
                        </p:nvGrpSpPr>
                        <p:grpSpPr>
                          <a:xfrm>
                            <a:off x="3206520" y="6080400"/>
                            <a:ext cx="98640" cy="181800"/>
                            <a:chOff x="3206520" y="6080400"/>
                            <a:chExt cx="98640" cy="181800"/>
                          </a:xfrm>
                        </p:grpSpPr>
                        <p:sp>
                          <p:nvSpPr>
                            <p:cNvPr id="135" name="AutoShape 451"/>
                            <p:cNvSpPr/>
                            <p:nvPr/>
                          </p:nvSpPr>
                          <p:spPr>
                            <a:xfrm rot="2721600">
                              <a:off x="3233520" y="6090480"/>
                              <a:ext cx="56160" cy="65880"/>
                            </a:xfrm>
                            <a:custGeom>
                              <a:avLst/>
                              <a:gdLst>
                                <a:gd name="textAreaLeft" fmla="*/ 27000 w 56160"/>
                                <a:gd name="textAreaRight" fmla="*/ 29160 w 56160"/>
                                <a:gd name="textAreaTop" fmla="*/ 31680 h 65880"/>
                                <a:gd name="textAreaBottom" fmla="*/ 34200 h 65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1600">
                                  <a:moveTo>
                                    <a:pt x="0" y="10800"/>
                                  </a:moveTo>
                                  <a:lnTo>
                                    <a:pt x="10336" y="10336"/>
                                  </a:lnTo>
                                  <a:lnTo>
                                    <a:pt x="10800" y="0"/>
                                  </a:lnTo>
                                  <a:lnTo>
                                    <a:pt x="11264" y="10336"/>
                                  </a:lnTo>
                                  <a:lnTo>
                                    <a:pt x="21600" y="10800"/>
                                  </a:lnTo>
                                  <a:lnTo>
                                    <a:pt x="11264" y="11264"/>
                                  </a:lnTo>
                                  <a:lnTo>
                                    <a:pt x="10800" y="21600"/>
                                  </a:lnTo>
                                  <a:lnTo>
                                    <a:pt x="10336" y="11264"/>
                                  </a:lnTo>
                                  <a:lnTo>
                                    <a:pt x="0" y="108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66"/>
                            </a:solidFill>
                            <a:ln w="9360">
                              <a:solidFill>
                                <a:srgbClr val="00b05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 vert="eaVert" rot="10800000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6" name="AutoShape 452"/>
                            <p:cNvSpPr/>
                            <p:nvPr/>
                          </p:nvSpPr>
                          <p:spPr>
                            <a:xfrm rot="2721600">
                              <a:off x="3221280" y="6186240"/>
                              <a:ext cx="56160" cy="65520"/>
                            </a:xfrm>
                            <a:custGeom>
                              <a:avLst/>
                              <a:gdLst>
                                <a:gd name="textAreaLeft" fmla="*/ 27000 w 56160"/>
                                <a:gd name="textAreaRight" fmla="*/ 29160 w 56160"/>
                                <a:gd name="textAreaTop" fmla="*/ 31320 h 65520"/>
                                <a:gd name="textAreaBottom" fmla="*/ 34200 h 65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1600">
                                  <a:moveTo>
                                    <a:pt x="0" y="10800"/>
                                  </a:moveTo>
                                  <a:lnTo>
                                    <a:pt x="10358" y="10358"/>
                                  </a:lnTo>
                                  <a:lnTo>
                                    <a:pt x="10800" y="0"/>
                                  </a:lnTo>
                                  <a:lnTo>
                                    <a:pt x="11242" y="10358"/>
                                  </a:lnTo>
                                  <a:lnTo>
                                    <a:pt x="21600" y="10800"/>
                                  </a:lnTo>
                                  <a:lnTo>
                                    <a:pt x="11242" y="11242"/>
                                  </a:lnTo>
                                  <a:lnTo>
                                    <a:pt x="10800" y="21600"/>
                                  </a:lnTo>
                                  <a:lnTo>
                                    <a:pt x="10358" y="11242"/>
                                  </a:lnTo>
                                  <a:lnTo>
                                    <a:pt x="0" y="108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66"/>
                            </a:solidFill>
                            <a:ln w="9360">
                              <a:solidFill>
                                <a:srgbClr val="00b05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 vert="eaVert" rot="10800000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7" name="AutoShape 453"/>
                          <p:cNvSpPr/>
                          <p:nvPr/>
                        </p:nvSpPr>
                        <p:spPr>
                          <a:xfrm rot="5131800">
                            <a:off x="3210120" y="6128640"/>
                            <a:ext cx="56160" cy="65520"/>
                          </a:xfrm>
                          <a:custGeom>
                            <a:avLst/>
                            <a:gdLst>
                              <a:gd name="textAreaLeft" fmla="*/ 27000 w 56160"/>
                              <a:gd name="textAreaRight" fmla="*/ 29160 w 5616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" name="AutoShape 454"/>
                          <p:cNvSpPr/>
                          <p:nvPr/>
                        </p:nvSpPr>
                        <p:spPr>
                          <a:xfrm rot="5143800">
                            <a:off x="3164400" y="6165720"/>
                            <a:ext cx="56520" cy="65520"/>
                          </a:xfrm>
                          <a:custGeom>
                            <a:avLst/>
                            <a:gdLst>
                              <a:gd name="textAreaLeft" fmla="*/ 27000 w 56520"/>
                              <a:gd name="textAreaRight" fmla="*/ 29520 w 5652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" name="AutoShape 455"/>
                          <p:cNvSpPr/>
                          <p:nvPr/>
                        </p:nvSpPr>
                        <p:spPr>
                          <a:xfrm rot="5131800">
                            <a:off x="3245760" y="6185160"/>
                            <a:ext cx="56160" cy="65520"/>
                          </a:xfrm>
                          <a:custGeom>
                            <a:avLst/>
                            <a:gdLst>
                              <a:gd name="textAreaLeft" fmla="*/ 27000 w 56160"/>
                              <a:gd name="textAreaRight" fmla="*/ 29160 w 5616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0" name="AutoShape 456"/>
                      <p:cNvSpPr/>
                      <p:nvPr/>
                    </p:nvSpPr>
                    <p:spPr>
                      <a:xfrm rot="2721600">
                        <a:off x="3167640" y="6124320"/>
                        <a:ext cx="56160" cy="65520"/>
                      </a:xfrm>
                      <a:custGeom>
                        <a:avLst/>
                        <a:gdLst>
                          <a:gd name="textAreaLeft" fmla="*/ 27000 w 56160"/>
                          <a:gd name="textAreaRight" fmla="*/ 29160 w 56160"/>
                          <a:gd name="textAreaTop" fmla="*/ 31320 h 65520"/>
                          <a:gd name="textAreaBottom" fmla="*/ 3420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ff0066"/>
                      </a:solidFill>
                      <a:ln w="9360">
                        <a:solidFill>
                          <a:srgbClr val="00b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1" name="Group 457"/>
                    <p:cNvGrpSpPr/>
                    <p:nvPr/>
                  </p:nvGrpSpPr>
                  <p:grpSpPr>
                    <a:xfrm>
                      <a:off x="3155040" y="6077520"/>
                      <a:ext cx="164880" cy="205920"/>
                      <a:chOff x="3155040" y="6077520"/>
                      <a:chExt cx="164880" cy="205920"/>
                    </a:xfrm>
                  </p:grpSpPr>
                  <p:grpSp>
                    <p:nvGrpSpPr>
                      <p:cNvPr id="142" name="Group 458"/>
                      <p:cNvGrpSpPr/>
                      <p:nvPr/>
                    </p:nvGrpSpPr>
                    <p:grpSpPr>
                      <a:xfrm>
                        <a:off x="3155040" y="6077520"/>
                        <a:ext cx="160560" cy="205920"/>
                        <a:chOff x="3155040" y="6077520"/>
                        <a:chExt cx="160560" cy="205920"/>
                      </a:xfrm>
                    </p:grpSpPr>
                    <p:sp>
                      <p:nvSpPr>
                        <p:cNvPr id="143" name="AutoShape 459"/>
                        <p:cNvSpPr/>
                        <p:nvPr/>
                      </p:nvSpPr>
                      <p:spPr>
                        <a:xfrm rot="2971200">
                          <a:off x="3191760" y="6087240"/>
                          <a:ext cx="56520" cy="65520"/>
                        </a:xfrm>
                        <a:custGeom>
                          <a:avLst/>
                          <a:gdLst>
                            <a:gd name="textAreaLeft" fmla="*/ 27000 w 56520"/>
                            <a:gd name="textAreaRight" fmla="*/ 29520 w 5652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AutoShape 460"/>
                        <p:cNvSpPr/>
                        <p:nvPr/>
                      </p:nvSpPr>
                      <p:spPr>
                        <a:xfrm rot="2971200">
                          <a:off x="3171600" y="6176520"/>
                          <a:ext cx="56520" cy="65520"/>
                        </a:xfrm>
                        <a:custGeom>
                          <a:avLst/>
                          <a:gdLst>
                            <a:gd name="textAreaLeft" fmla="*/ 27000 w 56520"/>
                            <a:gd name="textAreaRight" fmla="*/ 29520 w 5652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AutoShape 461"/>
                        <p:cNvSpPr/>
                        <p:nvPr/>
                      </p:nvSpPr>
                      <p:spPr>
                        <a:xfrm rot="5382600">
                          <a:off x="3166200" y="608364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AutoShape 462"/>
                        <p:cNvSpPr/>
                        <p:nvPr/>
                      </p:nvSpPr>
                      <p:spPr>
                        <a:xfrm rot="5382600">
                          <a:off x="3159720" y="621540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AutoShape 463"/>
                        <p:cNvSpPr/>
                        <p:nvPr/>
                      </p:nvSpPr>
                      <p:spPr>
                        <a:xfrm rot="5382600">
                          <a:off x="3254400" y="622224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AutoShape 464"/>
                        <p:cNvSpPr/>
                        <p:nvPr/>
                      </p:nvSpPr>
                      <p:spPr>
                        <a:xfrm rot="5382600">
                          <a:off x="3218400" y="617940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9" name="AutoShape 465"/>
                      <p:cNvSpPr/>
                      <p:nvPr/>
                    </p:nvSpPr>
                    <p:spPr>
                      <a:xfrm rot="2721600">
                        <a:off x="3248640" y="6136920"/>
                        <a:ext cx="56160" cy="65520"/>
                      </a:xfrm>
                      <a:custGeom>
                        <a:avLst/>
                        <a:gdLst>
                          <a:gd name="textAreaLeft" fmla="*/ 27000 w 56160"/>
                          <a:gd name="textAreaRight" fmla="*/ 29160 w 56160"/>
                          <a:gd name="textAreaTop" fmla="*/ 31320 h 65520"/>
                          <a:gd name="textAreaBottom" fmla="*/ 3420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ff0066"/>
                      </a:solidFill>
                      <a:ln w="9360">
                        <a:solidFill>
                          <a:srgbClr val="00b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50" name="Oval 466"/>
                  <p:cNvSpPr/>
                  <p:nvPr/>
                </p:nvSpPr>
                <p:spPr>
                  <a:xfrm rot="20313000">
                    <a:off x="3251520" y="6359040"/>
                    <a:ext cx="51120" cy="40320"/>
                  </a:xfrm>
                  <a:prstGeom prst="ellipse">
                    <a:avLst/>
                  </a:prstGeom>
                  <a:solidFill>
                    <a:srgbClr val="76923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Oval 467"/>
                  <p:cNvSpPr/>
                  <p:nvPr/>
                </p:nvSpPr>
                <p:spPr>
                  <a:xfrm rot="20313000">
                    <a:off x="3165840" y="6358680"/>
                    <a:ext cx="51480" cy="40320"/>
                  </a:xfrm>
                  <a:prstGeom prst="ellipse">
                    <a:avLst/>
                  </a:prstGeom>
                  <a:solidFill>
                    <a:srgbClr val="76923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2" name="Group 468"/>
                  <p:cNvGrpSpPr/>
                  <p:nvPr/>
                </p:nvGrpSpPr>
                <p:grpSpPr>
                  <a:xfrm>
                    <a:off x="3161160" y="6283440"/>
                    <a:ext cx="153720" cy="75240"/>
                    <a:chOff x="3161160" y="6283440"/>
                    <a:chExt cx="153720" cy="75240"/>
                  </a:xfrm>
                </p:grpSpPr>
                <p:sp>
                  <p:nvSpPr>
                    <p:cNvPr id="153" name="Rectangle 469"/>
                    <p:cNvSpPr/>
                    <p:nvPr/>
                  </p:nvSpPr>
                  <p:spPr>
                    <a:xfrm>
                      <a:off x="3161160" y="6283440"/>
                      <a:ext cx="153720" cy="7416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154" name="AutoShape 470"/>
                    <p:cNvCxnSpPr/>
                    <p:nvPr/>
                  </p:nvCxnSpPr>
                  <p:spPr>
                    <a:xfrm>
                      <a:off x="3235680" y="6284520"/>
                      <a:ext cx="1080" cy="7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155" name="Group 471"/>
                  <p:cNvGrpSpPr/>
                  <p:nvPr/>
                </p:nvGrpSpPr>
                <p:grpSpPr>
                  <a:xfrm>
                    <a:off x="3164400" y="5961600"/>
                    <a:ext cx="138960" cy="128880"/>
                    <a:chOff x="3164400" y="5961600"/>
                    <a:chExt cx="138960" cy="128880"/>
                  </a:xfrm>
                </p:grpSpPr>
                <p:sp>
                  <p:nvSpPr>
                    <p:cNvPr id="156" name="Freeform 472"/>
                    <p:cNvSpPr/>
                    <p:nvPr/>
                  </p:nvSpPr>
                  <p:spPr>
                    <a:xfrm rot="16560600">
                      <a:off x="3174480" y="5984640"/>
                      <a:ext cx="36360" cy="20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7" name="Group 473"/>
                    <p:cNvGrpSpPr/>
                    <p:nvPr/>
                  </p:nvGrpSpPr>
                  <p:grpSpPr>
                    <a:xfrm>
                      <a:off x="3164400" y="5961600"/>
                      <a:ext cx="138960" cy="128880"/>
                      <a:chOff x="3164400" y="5961600"/>
                      <a:chExt cx="138960" cy="128880"/>
                    </a:xfrm>
                  </p:grpSpPr>
                  <p:sp>
                    <p:nvSpPr>
                      <p:cNvPr id="158" name="Oval 474"/>
                      <p:cNvSpPr/>
                      <p:nvPr/>
                    </p:nvSpPr>
                    <p:spPr>
                      <a:xfrm>
                        <a:off x="3168720" y="5987880"/>
                        <a:ext cx="128880" cy="102600"/>
                      </a:xfrm>
                      <a:prstGeom prst="ellipse">
                        <a:avLst/>
                      </a:prstGeom>
                      <a:solidFill>
                        <a:srgbClr val="54381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Freeform 475"/>
                      <p:cNvSpPr/>
                      <p:nvPr/>
                    </p:nvSpPr>
                    <p:spPr>
                      <a:xfrm rot="16560600">
                        <a:off x="3194280" y="5970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Freeform 476"/>
                      <p:cNvSpPr/>
                      <p:nvPr/>
                    </p:nvSpPr>
                    <p:spPr>
                      <a:xfrm rot="16560600">
                        <a:off x="3273120" y="59990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Freeform 477"/>
                      <p:cNvSpPr/>
                      <p:nvPr/>
                    </p:nvSpPr>
                    <p:spPr>
                      <a:xfrm rot="16560600">
                        <a:off x="3237840" y="5979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Freeform 478"/>
                      <p:cNvSpPr/>
                      <p:nvPr/>
                    </p:nvSpPr>
                    <p:spPr>
                      <a:xfrm rot="16560600">
                        <a:off x="3157920" y="59954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Freeform 479"/>
                      <p:cNvSpPr/>
                      <p:nvPr/>
                    </p:nvSpPr>
                    <p:spPr>
                      <a:xfrm rot="16560600">
                        <a:off x="3214800" y="5970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4" name="Freeform 480"/>
                    <p:cNvSpPr/>
                    <p:nvPr/>
                  </p:nvSpPr>
                  <p:spPr>
                    <a:xfrm rot="16560600">
                      <a:off x="3259800" y="5988240"/>
                      <a:ext cx="36360" cy="20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5" name="Group 481"/>
                <p:cNvGrpSpPr/>
                <p:nvPr/>
              </p:nvGrpSpPr>
              <p:grpSpPr>
                <a:xfrm>
                  <a:off x="3314880" y="5609520"/>
                  <a:ext cx="283320" cy="806040"/>
                  <a:chOff x="3314880" y="5609520"/>
                  <a:chExt cx="283320" cy="806040"/>
                </a:xfrm>
              </p:grpSpPr>
              <p:grpSp>
                <p:nvGrpSpPr>
                  <p:cNvPr id="166" name="Group 482"/>
                  <p:cNvGrpSpPr/>
                  <p:nvPr/>
                </p:nvGrpSpPr>
                <p:grpSpPr>
                  <a:xfrm>
                    <a:off x="3314880" y="5811480"/>
                    <a:ext cx="283320" cy="483480"/>
                    <a:chOff x="3314880" y="5811480"/>
                    <a:chExt cx="283320" cy="483480"/>
                  </a:xfrm>
                </p:grpSpPr>
                <p:grpSp>
                  <p:nvGrpSpPr>
                    <p:cNvPr id="167" name="Group 483"/>
                    <p:cNvGrpSpPr/>
                    <p:nvPr/>
                  </p:nvGrpSpPr>
                  <p:grpSpPr>
                    <a:xfrm>
                      <a:off x="3314880" y="5811480"/>
                      <a:ext cx="283320" cy="483480"/>
                      <a:chOff x="3314880" y="5811480"/>
                      <a:chExt cx="283320" cy="483480"/>
                    </a:xfrm>
                  </p:grpSpPr>
                  <p:grpSp>
                    <p:nvGrpSpPr>
                      <p:cNvPr id="168" name="Group 484"/>
                      <p:cNvGrpSpPr/>
                      <p:nvPr/>
                    </p:nvGrpSpPr>
                    <p:grpSpPr>
                      <a:xfrm>
                        <a:off x="3314880" y="5816880"/>
                        <a:ext cx="283320" cy="478080"/>
                        <a:chOff x="3314880" y="5816880"/>
                        <a:chExt cx="283320" cy="478080"/>
                      </a:xfrm>
                    </p:grpSpPr>
                    <p:grpSp>
                      <p:nvGrpSpPr>
                        <p:cNvPr id="169" name="Group 485"/>
                        <p:cNvGrpSpPr/>
                        <p:nvPr/>
                      </p:nvGrpSpPr>
                      <p:grpSpPr>
                        <a:xfrm>
                          <a:off x="3328200" y="5819760"/>
                          <a:ext cx="266400" cy="356040"/>
                          <a:chOff x="3328200" y="5819760"/>
                          <a:chExt cx="266400" cy="356040"/>
                        </a:xfrm>
                      </p:grpSpPr>
                      <p:sp>
                        <p:nvSpPr>
                          <p:cNvPr id="170" name="Rectangle 486"/>
                          <p:cNvSpPr/>
                          <p:nvPr/>
                        </p:nvSpPr>
                        <p:spPr>
                          <a:xfrm>
                            <a:off x="3340800" y="5835240"/>
                            <a:ext cx="234360" cy="325440"/>
                          </a:xfrm>
                          <a:prstGeom prst="rect">
                            <a:avLst/>
                          </a:prstGeom>
                          <a:solidFill>
                            <a:srgbClr val="ffff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" name="AutoShape 487"/>
                          <p:cNvSpPr/>
                          <p:nvPr/>
                        </p:nvSpPr>
                        <p:spPr>
                          <a:xfrm rot="2721600">
                            <a:off x="3369600" y="5839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b6dde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2" name="AutoShape 488"/>
                          <p:cNvSpPr/>
                          <p:nvPr/>
                        </p:nvSpPr>
                        <p:spPr>
                          <a:xfrm rot="2721600">
                            <a:off x="3349080" y="59968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d9959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" name="AutoShape 489"/>
                          <p:cNvSpPr/>
                          <p:nvPr/>
                        </p:nvSpPr>
                        <p:spPr>
                          <a:xfrm rot="2721600">
                            <a:off x="3476160" y="593460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00"/>
                          </a:solidFill>
                          <a:ln w="9360">
                            <a:solidFill>
                              <a:srgbClr val="ffc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AutoShape 490"/>
                          <p:cNvSpPr/>
                          <p:nvPr/>
                        </p:nvSpPr>
                        <p:spPr>
                          <a:xfrm rot="2721600">
                            <a:off x="3399840" y="60562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65f91"/>
                          </a:solidFill>
                          <a:ln w="9360">
                            <a:solidFill>
                              <a:srgbClr val="95b3d7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" name="Group 491"/>
                        <p:cNvGrpSpPr/>
                        <p:nvPr/>
                      </p:nvGrpSpPr>
                      <p:grpSpPr>
                        <a:xfrm>
                          <a:off x="3314880" y="5816880"/>
                          <a:ext cx="283320" cy="478080"/>
                          <a:chOff x="3314880" y="5816880"/>
                          <a:chExt cx="283320" cy="478080"/>
                        </a:xfrm>
                      </p:grpSpPr>
                      <p:sp>
                        <p:nvSpPr>
                          <p:cNvPr id="176" name="Rectangle 492"/>
                          <p:cNvSpPr/>
                          <p:nvPr/>
                        </p:nvSpPr>
                        <p:spPr>
                          <a:xfrm>
                            <a:off x="3340800" y="6166440"/>
                            <a:ext cx="234360" cy="128160"/>
                          </a:xfrm>
                          <a:prstGeom prst="rect">
                            <a:avLst/>
                          </a:prstGeom>
                          <a:blipFill rotWithShape="0">
                            <a:blip r:embed="rId4"/>
                            <a:srcRect/>
                            <a:tile tx="0" ty="0" sx="100000" sy="100000" algn="ctr"/>
                          </a:blip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cxnSp>
                        <p:nvCxnSpPr>
                          <p:cNvPr id="177" name="AutoShape 493"/>
                          <p:cNvCxnSpPr/>
                          <p:nvPr/>
                        </p:nvCxnSpPr>
                        <p:spPr>
                          <a:xfrm>
                            <a:off x="3453480" y="6166440"/>
                            <a:ext cx="1080" cy="128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sp>
                        <p:nvSpPr>
                          <p:cNvPr id="178" name="AutoShape 494"/>
                          <p:cNvSpPr/>
                          <p:nvPr/>
                        </p:nvSpPr>
                        <p:spPr>
                          <a:xfrm rot="2721600">
                            <a:off x="3347640" y="58366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9" name="AutoShape 495"/>
                          <p:cNvSpPr/>
                          <p:nvPr/>
                        </p:nvSpPr>
                        <p:spPr>
                          <a:xfrm rot="2721600">
                            <a:off x="3420000" y="589752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d9959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" name="AutoShape 496"/>
                          <p:cNvSpPr/>
                          <p:nvPr/>
                        </p:nvSpPr>
                        <p:spPr>
                          <a:xfrm rot="2721600">
                            <a:off x="3335760" y="6064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" name="AutoShape 497"/>
                          <p:cNvSpPr/>
                          <p:nvPr/>
                        </p:nvSpPr>
                        <p:spPr>
                          <a:xfrm rot="2721600">
                            <a:off x="3479760" y="6064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548dd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2" name="AutoShape 498"/>
                          <p:cNvSpPr/>
                          <p:nvPr/>
                        </p:nvSpPr>
                        <p:spPr>
                          <a:xfrm rot="2721600">
                            <a:off x="3351240" y="59612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b6dde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3" name="AutoShape 499"/>
                          <p:cNvSpPr/>
                          <p:nvPr/>
                        </p:nvSpPr>
                        <p:spPr>
                          <a:xfrm rot="2721600">
                            <a:off x="3474360" y="59954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AutoShape 500"/>
                          <p:cNvSpPr/>
                          <p:nvPr/>
                        </p:nvSpPr>
                        <p:spPr>
                          <a:xfrm rot="2721600">
                            <a:off x="3420000" y="59954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f7964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5" name="Group 501"/>
                      <p:cNvGrpSpPr/>
                      <p:nvPr/>
                    </p:nvGrpSpPr>
                    <p:grpSpPr>
                      <a:xfrm>
                        <a:off x="3430080" y="5811480"/>
                        <a:ext cx="158760" cy="304920"/>
                        <a:chOff x="3430080" y="5811480"/>
                        <a:chExt cx="158760" cy="304920"/>
                      </a:xfrm>
                    </p:grpSpPr>
                    <p:sp>
                      <p:nvSpPr>
                        <p:cNvPr id="186" name="AutoShape 502"/>
                        <p:cNvSpPr/>
                        <p:nvPr/>
                      </p:nvSpPr>
                      <p:spPr>
                        <a:xfrm rot="2721600">
                          <a:off x="3470400" y="5830920"/>
                          <a:ext cx="97200" cy="99720"/>
                        </a:xfrm>
                        <a:custGeom>
                          <a:avLst/>
                          <a:gdLst>
                            <a:gd name="textAreaLeft" fmla="*/ 46440 w 97200"/>
                            <a:gd name="textAreaRight" fmla="*/ 50760 w 97200"/>
                            <a:gd name="textAreaTop" fmla="*/ 47880 h 99720"/>
                            <a:gd name="textAreaBottom" fmla="*/ 51840 h 99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36" y="10336"/>
                              </a:lnTo>
                              <a:lnTo>
                                <a:pt x="10800" y="0"/>
                              </a:lnTo>
                              <a:lnTo>
                                <a:pt x="11264" y="10336"/>
                              </a:lnTo>
                              <a:lnTo>
                                <a:pt x="21600" y="10800"/>
                              </a:lnTo>
                              <a:lnTo>
                                <a:pt x="11264" y="11264"/>
                              </a:lnTo>
                              <a:lnTo>
                                <a:pt x="10800" y="21600"/>
                              </a:lnTo>
                              <a:lnTo>
                                <a:pt x="10336" y="11264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31849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AutoShape 503"/>
                        <p:cNvSpPr/>
                        <p:nvPr/>
                      </p:nvSpPr>
                      <p:spPr>
                        <a:xfrm rot="2721600">
                          <a:off x="3450960" y="5996520"/>
                          <a:ext cx="97200" cy="99720"/>
                        </a:xfrm>
                        <a:custGeom>
                          <a:avLst/>
                          <a:gdLst>
                            <a:gd name="textAreaLeft" fmla="*/ 46440 w 97200"/>
                            <a:gd name="textAreaRight" fmla="*/ 50760 w 97200"/>
                            <a:gd name="textAreaTop" fmla="*/ 47880 h 99720"/>
                            <a:gd name="textAreaBottom" fmla="*/ 51840 h 99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050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8" name="Group 504"/>
                    <p:cNvGrpSpPr/>
                    <p:nvPr/>
                  </p:nvGrpSpPr>
                  <p:grpSpPr>
                    <a:xfrm>
                      <a:off x="3320640" y="5814000"/>
                      <a:ext cx="266760" cy="370080"/>
                      <a:chOff x="3320640" y="5814000"/>
                      <a:chExt cx="266760" cy="370080"/>
                    </a:xfrm>
                  </p:grpSpPr>
                  <p:sp>
                    <p:nvSpPr>
                      <p:cNvPr id="189" name="AutoShape 505"/>
                      <p:cNvSpPr/>
                      <p:nvPr/>
                    </p:nvSpPr>
                    <p:spPr>
                      <a:xfrm rot="2721600">
                        <a:off x="3341520" y="590508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AutoShape 506"/>
                      <p:cNvSpPr/>
                      <p:nvPr/>
                    </p:nvSpPr>
                    <p:spPr>
                      <a:xfrm rot="2721600">
                        <a:off x="3413880" y="583380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94363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AutoShape 507"/>
                      <p:cNvSpPr/>
                      <p:nvPr/>
                    </p:nvSpPr>
                    <p:spPr>
                      <a:xfrm rot="2721600">
                        <a:off x="3468960" y="589464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AutoShape 508"/>
                      <p:cNvSpPr/>
                      <p:nvPr/>
                    </p:nvSpPr>
                    <p:spPr>
                      <a:xfrm rot="2721600">
                        <a:off x="3417480" y="5955120"/>
                        <a:ext cx="9756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800" y="10800"/>
                            </a:lnTo>
                            <a:lnTo>
                              <a:pt x="10800" y="0"/>
                            </a:lnTo>
                            <a:lnTo>
                              <a:pt x="10800" y="10800"/>
                            </a:lnTo>
                            <a:lnTo>
                              <a:pt x="21600" y="10800"/>
                            </a:lnTo>
                            <a:lnTo>
                              <a:pt x="10800" y="10800"/>
                            </a:lnTo>
                            <a:lnTo>
                              <a:pt x="10800" y="21600"/>
                            </a:lnTo>
                            <a:lnTo>
                              <a:pt x="10800" y="10800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94363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AutoShape 509"/>
                      <p:cNvSpPr/>
                      <p:nvPr/>
                    </p:nvSpPr>
                    <p:spPr>
                      <a:xfrm rot="2721600">
                        <a:off x="3435840" y="606456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d99594"/>
                      </a:solidFill>
                      <a:ln w="9360">
                        <a:solidFill>
                          <a:srgbClr val="d9959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4" name="Group 510"/>
                  <p:cNvGrpSpPr/>
                  <p:nvPr/>
                </p:nvGrpSpPr>
                <p:grpSpPr>
                  <a:xfrm>
                    <a:off x="3347640" y="5609520"/>
                    <a:ext cx="211680" cy="222840"/>
                    <a:chOff x="3347640" y="5609520"/>
                    <a:chExt cx="211680" cy="222840"/>
                  </a:xfrm>
                </p:grpSpPr>
                <p:sp>
                  <p:nvSpPr>
                    <p:cNvPr id="195" name="Freeform 511"/>
                    <p:cNvSpPr/>
                    <p:nvPr/>
                  </p:nvSpPr>
                  <p:spPr>
                    <a:xfrm rot="16560600">
                      <a:off x="3359880" y="5652000"/>
                      <a:ext cx="630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6" name="Group 512"/>
                    <p:cNvGrpSpPr/>
                    <p:nvPr/>
                  </p:nvGrpSpPr>
                  <p:grpSpPr>
                    <a:xfrm>
                      <a:off x="3347640" y="5609520"/>
                      <a:ext cx="211680" cy="222840"/>
                      <a:chOff x="3347640" y="5609520"/>
                      <a:chExt cx="211680" cy="222840"/>
                    </a:xfrm>
                  </p:grpSpPr>
                  <p:sp>
                    <p:nvSpPr>
                      <p:cNvPr id="197" name="Oval 513"/>
                      <p:cNvSpPr/>
                      <p:nvPr/>
                    </p:nvSpPr>
                    <p:spPr>
                      <a:xfrm>
                        <a:off x="3354480" y="5654880"/>
                        <a:ext cx="195480" cy="177480"/>
                      </a:xfrm>
                      <a:prstGeom prst="ellipse">
                        <a:avLst/>
                      </a:prstGeom>
                      <a:solidFill>
                        <a:srgbClr val="54381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Freeform 514"/>
                      <p:cNvSpPr/>
                      <p:nvPr/>
                    </p:nvSpPr>
                    <p:spPr>
                      <a:xfrm rot="16560600">
                        <a:off x="3389400" y="562680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Freeform 515"/>
                      <p:cNvSpPr/>
                      <p:nvPr/>
                    </p:nvSpPr>
                    <p:spPr>
                      <a:xfrm rot="16560600">
                        <a:off x="3508920" y="567684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Freeform 516"/>
                      <p:cNvSpPr/>
                      <p:nvPr/>
                    </p:nvSpPr>
                    <p:spPr>
                      <a:xfrm rot="16560600">
                        <a:off x="3455280" y="564228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Freeform 517"/>
                      <p:cNvSpPr/>
                      <p:nvPr/>
                    </p:nvSpPr>
                    <p:spPr>
                      <a:xfrm rot="16560600">
                        <a:off x="3334320" y="567036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Freeform 518"/>
                      <p:cNvSpPr/>
                      <p:nvPr/>
                    </p:nvSpPr>
                    <p:spPr>
                      <a:xfrm rot="16560600">
                        <a:off x="3420720" y="562680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3" name="Freeform 519"/>
                    <p:cNvSpPr/>
                    <p:nvPr/>
                  </p:nvSpPr>
                  <p:spPr>
                    <a:xfrm rot="16560600">
                      <a:off x="3488760" y="5657760"/>
                      <a:ext cx="630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4" name="Line 520"/>
                  <p:cNvSpPr/>
                  <p:nvPr/>
                </p:nvSpPr>
                <p:spPr>
                  <a:xfrm>
                    <a:off x="3387960" y="6294960"/>
                    <a:ext cx="4680" cy="608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Line 521"/>
                  <p:cNvSpPr/>
                  <p:nvPr/>
                </p:nvSpPr>
                <p:spPr>
                  <a:xfrm>
                    <a:off x="3519360" y="6294960"/>
                    <a:ext cx="4680" cy="608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Oval 522"/>
                  <p:cNvSpPr/>
                  <p:nvPr/>
                </p:nvSpPr>
                <p:spPr>
                  <a:xfrm rot="20313000">
                    <a:off x="3497040" y="6333120"/>
                    <a:ext cx="78120" cy="70560"/>
                  </a:xfrm>
                  <a:prstGeom prst="ellipse">
                    <a:avLst/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Oval 523"/>
                  <p:cNvSpPr/>
                  <p:nvPr/>
                </p:nvSpPr>
                <p:spPr>
                  <a:xfrm rot="20313000">
                    <a:off x="3344400" y="6333120"/>
                    <a:ext cx="77760" cy="70560"/>
                  </a:xfrm>
                  <a:prstGeom prst="ellipse">
                    <a:avLst/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Group 524"/>
                <p:cNvGrpSpPr/>
                <p:nvPr/>
              </p:nvGrpSpPr>
              <p:grpSpPr>
                <a:xfrm>
                  <a:off x="3583440" y="5599800"/>
                  <a:ext cx="286200" cy="816120"/>
                  <a:chOff x="3583440" y="5599800"/>
                  <a:chExt cx="286200" cy="816120"/>
                </a:xfrm>
              </p:grpSpPr>
              <p:grpSp>
                <p:nvGrpSpPr>
                  <p:cNvPr id="209" name="Group 525"/>
                  <p:cNvGrpSpPr/>
                  <p:nvPr/>
                </p:nvGrpSpPr>
                <p:grpSpPr>
                  <a:xfrm>
                    <a:off x="3583440" y="5902920"/>
                    <a:ext cx="286200" cy="513000"/>
                    <a:chOff x="3583440" y="5902920"/>
                    <a:chExt cx="286200" cy="513000"/>
                  </a:xfrm>
                </p:grpSpPr>
                <p:grpSp>
                  <p:nvGrpSpPr>
                    <p:cNvPr id="210" name="Group 526"/>
                    <p:cNvGrpSpPr/>
                    <p:nvPr/>
                  </p:nvGrpSpPr>
                  <p:grpSpPr>
                    <a:xfrm>
                      <a:off x="3583440" y="5902920"/>
                      <a:ext cx="286200" cy="426960"/>
                      <a:chOff x="3583440" y="5902920"/>
                      <a:chExt cx="286200" cy="426960"/>
                    </a:xfrm>
                  </p:grpSpPr>
                  <p:sp>
                    <p:nvSpPr>
                      <p:cNvPr id="211" name="AutoShape 527"/>
                      <p:cNvSpPr/>
                      <p:nvPr/>
                    </p:nvSpPr>
                    <p:spPr>
                      <a:xfrm>
                        <a:off x="3583440" y="5902920"/>
                        <a:ext cx="286200" cy="4269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2dbdb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AutoShape 528"/>
                      <p:cNvSpPr/>
                      <p:nvPr/>
                    </p:nvSpPr>
                    <p:spPr>
                      <a:xfrm>
                        <a:off x="3601800" y="62560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AutoShape 529"/>
                      <p:cNvSpPr/>
                      <p:nvPr/>
                    </p:nvSpPr>
                    <p:spPr>
                      <a:xfrm>
                        <a:off x="3682800" y="625320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92cddc"/>
                      </a:solidFill>
                      <a:ln w="9360">
                        <a:solidFill>
                          <a:srgbClr val="fabf8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AutoShape 530"/>
                      <p:cNvSpPr/>
                      <p:nvPr/>
                    </p:nvSpPr>
                    <p:spPr>
                      <a:xfrm>
                        <a:off x="3682800" y="619164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ff00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AutoShape 531"/>
                      <p:cNvSpPr/>
                      <p:nvPr/>
                    </p:nvSpPr>
                    <p:spPr>
                      <a:xfrm>
                        <a:off x="3642120" y="61102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AutoShape 532"/>
                      <p:cNvSpPr/>
                      <p:nvPr/>
                    </p:nvSpPr>
                    <p:spPr>
                      <a:xfrm>
                        <a:off x="3682800" y="603144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AutoShape 533"/>
                      <p:cNvSpPr/>
                      <p:nvPr/>
                    </p:nvSpPr>
                    <p:spPr>
                      <a:xfrm>
                        <a:off x="3763440" y="62560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5f497a"/>
                      </a:solidFill>
                      <a:ln w="9360">
                        <a:solidFill>
                          <a:srgbClr val="e36c0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AutoShape 534"/>
                      <p:cNvSpPr/>
                      <p:nvPr/>
                    </p:nvSpPr>
                    <p:spPr>
                      <a:xfrm>
                        <a:off x="3722760" y="610812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ff00"/>
                      </a:solidFill>
                      <a:ln w="9360">
                        <a:solidFill>
                          <a:srgbClr val="e36c0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AutoShape 535"/>
                      <p:cNvSpPr/>
                      <p:nvPr/>
                    </p:nvSpPr>
                    <p:spPr>
                      <a:xfrm>
                        <a:off x="3633120" y="619164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0066"/>
                      </a:solidFill>
                      <a:ln w="9360">
                        <a:solidFill>
                          <a:srgbClr val="76923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AutoShape 536"/>
                      <p:cNvSpPr/>
                      <p:nvPr/>
                    </p:nvSpPr>
                    <p:spPr>
                      <a:xfrm>
                        <a:off x="3700080" y="596736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daeef3"/>
                      </a:solidFill>
                      <a:ln w="9360">
                        <a:solidFill>
                          <a:srgbClr val="ff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AutoShape 537"/>
                      <p:cNvSpPr/>
                      <p:nvPr/>
                    </p:nvSpPr>
                    <p:spPr>
                      <a:xfrm>
                        <a:off x="3781080" y="619020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b2a1c7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AutoShape 538"/>
                      <p:cNvSpPr/>
                      <p:nvPr/>
                    </p:nvSpPr>
                    <p:spPr>
                      <a:xfrm>
                        <a:off x="3731400" y="619020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c000"/>
                      </a:solidFill>
                      <a:ln w="9360">
                        <a:solidFill>
                          <a:srgbClr val="ff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3" name="Oval 539"/>
                    <p:cNvSpPr/>
                    <p:nvPr/>
                  </p:nvSpPr>
                  <p:spPr>
                    <a:xfrm rot="20313000">
                      <a:off x="3625920" y="6335640"/>
                      <a:ext cx="78120" cy="68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d9959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Oval 540"/>
                    <p:cNvSpPr/>
                    <p:nvPr/>
                  </p:nvSpPr>
                  <p:spPr>
                    <a:xfrm rot="20313000">
                      <a:off x="3727440" y="6335640"/>
                      <a:ext cx="78120" cy="68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d9959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41"/>
                  <p:cNvGrpSpPr/>
                  <p:nvPr/>
                </p:nvGrpSpPr>
                <p:grpSpPr>
                  <a:xfrm>
                    <a:off x="3621960" y="5599800"/>
                    <a:ext cx="201600" cy="307080"/>
                    <a:chOff x="3621960" y="5599800"/>
                    <a:chExt cx="201600" cy="307080"/>
                  </a:xfrm>
                </p:grpSpPr>
                <p:sp>
                  <p:nvSpPr>
                    <p:cNvPr id="226" name="Freeform 542"/>
                    <p:cNvSpPr/>
                    <p:nvPr/>
                  </p:nvSpPr>
                  <p:spPr>
                    <a:xfrm rot="17845200">
                      <a:off x="3652200" y="5719320"/>
                      <a:ext cx="792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7" name="Group 543"/>
                    <p:cNvGrpSpPr/>
                    <p:nvPr/>
                  </p:nvGrpSpPr>
                  <p:grpSpPr>
                    <a:xfrm>
                      <a:off x="3621960" y="5599800"/>
                      <a:ext cx="201600" cy="307080"/>
                      <a:chOff x="3621960" y="5599800"/>
                      <a:chExt cx="201600" cy="307080"/>
                    </a:xfrm>
                  </p:grpSpPr>
                  <p:sp>
                    <p:nvSpPr>
                      <p:cNvPr id="228" name="Freeform 544"/>
                      <p:cNvSpPr/>
                      <p:nvPr/>
                    </p:nvSpPr>
                    <p:spPr>
                      <a:xfrm rot="3775200">
                        <a:off x="3731760" y="5728680"/>
                        <a:ext cx="792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9" name="Group 545"/>
                      <p:cNvGrpSpPr/>
                      <p:nvPr/>
                    </p:nvGrpSpPr>
                    <p:grpSpPr>
                      <a:xfrm>
                        <a:off x="3621960" y="5599800"/>
                        <a:ext cx="201600" cy="307080"/>
                        <a:chOff x="3621960" y="5599800"/>
                        <a:chExt cx="201600" cy="307080"/>
                      </a:xfrm>
                    </p:grpSpPr>
                    <p:sp>
                      <p:nvSpPr>
                        <p:cNvPr id="230" name="Freeform 546"/>
                        <p:cNvSpPr/>
                        <p:nvPr/>
                      </p:nvSpPr>
                      <p:spPr>
                        <a:xfrm rot="4948800">
                          <a:off x="3723120" y="5719320"/>
                          <a:ext cx="79200" cy="306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31" name="Group 547"/>
                        <p:cNvGrpSpPr/>
                        <p:nvPr/>
                      </p:nvGrpSpPr>
                      <p:grpSpPr>
                        <a:xfrm>
                          <a:off x="3621960" y="5599800"/>
                          <a:ext cx="201600" cy="307080"/>
                          <a:chOff x="3621960" y="5599800"/>
                          <a:chExt cx="201600" cy="307080"/>
                        </a:xfrm>
                      </p:grpSpPr>
                      <p:sp>
                        <p:nvSpPr>
                          <p:cNvPr id="232" name="Freeform 548"/>
                          <p:cNvSpPr/>
                          <p:nvPr/>
                        </p:nvSpPr>
                        <p:spPr>
                          <a:xfrm rot="16560600">
                            <a:off x="3648960" y="5719320"/>
                            <a:ext cx="79200" cy="3060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 vert="eaVer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3" name="Freeform 549"/>
                          <p:cNvSpPr/>
                          <p:nvPr/>
                        </p:nvSpPr>
                        <p:spPr>
                          <a:xfrm rot="16560600">
                            <a:off x="3702600" y="5728320"/>
                            <a:ext cx="79200" cy="3060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 vert="eaVer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34" name="Group 550"/>
                          <p:cNvGrpSpPr/>
                          <p:nvPr/>
                        </p:nvGrpSpPr>
                        <p:grpSpPr>
                          <a:xfrm>
                            <a:off x="3621960" y="5599800"/>
                            <a:ext cx="201600" cy="307080"/>
                            <a:chOff x="3621960" y="5599800"/>
                            <a:chExt cx="201600" cy="307080"/>
                          </a:xfrm>
                        </p:grpSpPr>
                        <p:grpSp>
                          <p:nvGrpSpPr>
                            <p:cNvPr id="235" name="Group 551"/>
                            <p:cNvGrpSpPr/>
                            <p:nvPr/>
                          </p:nvGrpSpPr>
                          <p:grpSpPr>
                            <a:xfrm>
                              <a:off x="3621960" y="5599800"/>
                              <a:ext cx="201600" cy="307080"/>
                              <a:chOff x="3621960" y="5599800"/>
                              <a:chExt cx="201600" cy="307080"/>
                            </a:xfrm>
                          </p:grpSpPr>
                          <p:sp>
                            <p:nvSpPr>
                              <p:cNvPr id="236" name="Freeform 552"/>
                              <p:cNvSpPr/>
                              <p:nvPr/>
                            </p:nvSpPr>
                            <p:spPr>
                              <a:xfrm rot="7135800">
                                <a:off x="3735720" y="5623200"/>
                                <a:ext cx="6876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" name="Oval 553"/>
                              <p:cNvSpPr/>
                              <p:nvPr/>
                            </p:nvSpPr>
                            <p:spPr>
                              <a:xfrm>
                                <a:off x="3627000" y="5735880"/>
                                <a:ext cx="195120" cy="171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54381c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" name="Freeform 554"/>
                              <p:cNvSpPr/>
                              <p:nvPr/>
                            </p:nvSpPr>
                            <p:spPr>
                              <a:xfrm rot="13772400">
                                <a:off x="3683160" y="5626800"/>
                                <a:ext cx="6876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" name="Freeform 555"/>
                              <p:cNvSpPr/>
                              <p:nvPr/>
                            </p:nvSpPr>
                            <p:spPr>
                              <a:xfrm rot="3763800">
                                <a:off x="3751920" y="5720760"/>
                                <a:ext cx="79200" cy="3060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840" bIns="-15840" anchor="t" vert="eaVert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0" name="Group 556"/>
                              <p:cNvGrpSpPr/>
                              <p:nvPr/>
                            </p:nvGrpSpPr>
                            <p:grpSpPr>
                              <a:xfrm>
                                <a:off x="3690000" y="5662080"/>
                                <a:ext cx="49320" cy="42120"/>
                                <a:chOff x="3690000" y="5662080"/>
                                <a:chExt cx="49320" cy="42120"/>
                              </a:xfrm>
                            </p:grpSpPr>
                            <p:sp>
                              <p:nvSpPr>
                                <p:cNvPr id="241" name="Oval 557"/>
                                <p:cNvSpPr/>
                                <p:nvPr/>
                              </p:nvSpPr>
                              <p:spPr>
                                <a:xfrm>
                                  <a:off x="3705840" y="567612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d99594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Oval 558"/>
                                <p:cNvSpPr/>
                                <p:nvPr/>
                              </p:nvSpPr>
                              <p:spPr>
                                <a:xfrm>
                                  <a:off x="3705840" y="56620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Oval 559"/>
                                <p:cNvSpPr/>
                                <p:nvPr/>
                              </p:nvSpPr>
                              <p:spPr>
                                <a:xfrm>
                                  <a:off x="3705840" y="569016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Oval 560"/>
                                <p:cNvSpPr/>
                                <p:nvPr/>
                              </p:nvSpPr>
                              <p:spPr>
                                <a:xfrm>
                                  <a:off x="3722040" y="566856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Oval 561"/>
                                <p:cNvSpPr/>
                                <p:nvPr/>
                              </p:nvSpPr>
                              <p:spPr>
                                <a:xfrm>
                                  <a:off x="3690000" y="56692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Oval 562"/>
                                <p:cNvSpPr/>
                                <p:nvPr/>
                              </p:nvSpPr>
                              <p:spPr>
                                <a:xfrm>
                                  <a:off x="3722040" y="568260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Oval 563"/>
                                <p:cNvSpPr/>
                                <p:nvPr/>
                              </p:nvSpPr>
                              <p:spPr>
                                <a:xfrm>
                                  <a:off x="3690000" y="56836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48" name="Freeform 564"/>
                              <p:cNvSpPr/>
                              <p:nvPr/>
                            </p:nvSpPr>
                            <p:spPr>
                              <a:xfrm rot="16459800">
                                <a:off x="3719880" y="5606280"/>
                                <a:ext cx="5472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Freeform 565"/>
                              <p:cNvSpPr/>
                              <p:nvPr/>
                            </p:nvSpPr>
                            <p:spPr>
                              <a:xfrm rot="15778200">
                                <a:off x="3693960" y="5709600"/>
                                <a:ext cx="4824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0" name="Freeform 566"/>
                              <p:cNvSpPr/>
                              <p:nvPr/>
                            </p:nvSpPr>
                            <p:spPr>
                              <a:xfrm rot="18016800">
                                <a:off x="3615480" y="5734080"/>
                                <a:ext cx="79200" cy="3060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840" bIns="-1584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51" name="Group 567"/>
                            <p:cNvGrpSpPr/>
                            <p:nvPr/>
                          </p:nvGrpSpPr>
                          <p:grpSpPr>
                            <a:xfrm>
                              <a:off x="3740760" y="5662080"/>
                              <a:ext cx="49320" cy="42120"/>
                              <a:chOff x="3740760" y="5662080"/>
                              <a:chExt cx="49320" cy="42120"/>
                            </a:xfrm>
                          </p:grpSpPr>
                          <p:sp>
                            <p:nvSpPr>
                              <p:cNvPr id="252" name="Oval 568"/>
                              <p:cNvSpPr/>
                              <p:nvPr/>
                            </p:nvSpPr>
                            <p:spPr>
                              <a:xfrm>
                                <a:off x="3756600" y="567612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d99594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3" name="Oval 569"/>
                              <p:cNvSpPr/>
                              <p:nvPr/>
                            </p:nvSpPr>
                            <p:spPr>
                              <a:xfrm>
                                <a:off x="3756600" y="56620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4" name="Oval 570"/>
                              <p:cNvSpPr/>
                              <p:nvPr/>
                            </p:nvSpPr>
                            <p:spPr>
                              <a:xfrm>
                                <a:off x="3756600" y="569016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5" name="Oval 571"/>
                              <p:cNvSpPr/>
                              <p:nvPr/>
                            </p:nvSpPr>
                            <p:spPr>
                              <a:xfrm>
                                <a:off x="3772800" y="566856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6" name="Oval 572"/>
                              <p:cNvSpPr/>
                              <p:nvPr/>
                            </p:nvSpPr>
                            <p:spPr>
                              <a:xfrm>
                                <a:off x="3740760" y="56692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7" name="Oval 573"/>
                              <p:cNvSpPr/>
                              <p:nvPr/>
                            </p:nvSpPr>
                            <p:spPr>
                              <a:xfrm>
                                <a:off x="3772800" y="568260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8" name="Oval 574"/>
                              <p:cNvSpPr/>
                              <p:nvPr/>
                            </p:nvSpPr>
                            <p:spPr>
                              <a:xfrm>
                                <a:off x="3740760" y="56836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grpSp>
            <p:nvGrpSpPr>
              <p:cNvPr id="259" name="Group 575"/>
              <p:cNvGrpSpPr/>
              <p:nvPr/>
            </p:nvGrpSpPr>
            <p:grpSpPr>
              <a:xfrm>
                <a:off x="5015520" y="5543280"/>
                <a:ext cx="607680" cy="875880"/>
                <a:chOff x="5015520" y="5543280"/>
                <a:chExt cx="607680" cy="875880"/>
              </a:xfrm>
            </p:grpSpPr>
            <p:grpSp>
              <p:nvGrpSpPr>
                <p:cNvPr id="260" name="Group 576"/>
                <p:cNvGrpSpPr/>
                <p:nvPr/>
              </p:nvGrpSpPr>
              <p:grpSpPr>
                <a:xfrm>
                  <a:off x="5363640" y="5543280"/>
                  <a:ext cx="259560" cy="875880"/>
                  <a:chOff x="5363640" y="5543280"/>
                  <a:chExt cx="259560" cy="875880"/>
                </a:xfrm>
              </p:grpSpPr>
              <p:grpSp>
                <p:nvGrpSpPr>
                  <p:cNvPr id="261" name="Group 577"/>
                  <p:cNvGrpSpPr/>
                  <p:nvPr/>
                </p:nvGrpSpPr>
                <p:grpSpPr>
                  <a:xfrm>
                    <a:off x="5363640" y="5543280"/>
                    <a:ext cx="259560" cy="875880"/>
                    <a:chOff x="5363640" y="5543280"/>
                    <a:chExt cx="259560" cy="875880"/>
                  </a:xfrm>
                </p:grpSpPr>
                <p:grpSp>
                  <p:nvGrpSpPr>
                    <p:cNvPr id="262" name="Group 578"/>
                    <p:cNvGrpSpPr/>
                    <p:nvPr/>
                  </p:nvGrpSpPr>
                  <p:grpSpPr>
                    <a:xfrm>
                      <a:off x="5363640" y="5543280"/>
                      <a:ext cx="259560" cy="875880"/>
                      <a:chOff x="5363640" y="5543280"/>
                      <a:chExt cx="259560" cy="875880"/>
                    </a:xfrm>
                  </p:grpSpPr>
                  <p:sp>
                    <p:nvSpPr>
                      <p:cNvPr id="263" name="Rectangle 579"/>
                      <p:cNvSpPr/>
                      <p:nvPr/>
                    </p:nvSpPr>
                    <p:spPr>
                      <a:xfrm>
                        <a:off x="5365440" y="5905800"/>
                        <a:ext cx="257760" cy="438120"/>
                      </a:xfrm>
                      <a:prstGeom prst="rect">
                        <a:avLst/>
                      </a:prstGeom>
                      <a:solidFill>
                        <a:srgbClr val="cc66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Oval 580"/>
                      <p:cNvSpPr/>
                      <p:nvPr/>
                    </p:nvSpPr>
                    <p:spPr>
                      <a:xfrm rot="20313000">
                        <a:off x="5523120" y="6339960"/>
                        <a:ext cx="8568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Oval 581"/>
                      <p:cNvSpPr/>
                      <p:nvPr/>
                    </p:nvSpPr>
                    <p:spPr>
                      <a:xfrm rot="20313000">
                        <a:off x="5372640" y="6339960"/>
                        <a:ext cx="8568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Oval 582"/>
                      <p:cNvSpPr/>
                      <p:nvPr/>
                    </p:nvSpPr>
                    <p:spPr>
                      <a:xfrm>
                        <a:off x="5389200" y="5731920"/>
                        <a:ext cx="214560" cy="165600"/>
                      </a:xfrm>
                      <a:prstGeom prst="ellipse">
                        <a:avLst/>
                      </a:prstGeom>
                      <a:solidFill>
                        <a:srgbClr val="cc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AutoShape 583"/>
                      <p:cNvSpPr/>
                      <p:nvPr/>
                    </p:nvSpPr>
                    <p:spPr>
                      <a:xfrm rot="10800000">
                        <a:off x="5365080" y="6080040"/>
                        <a:ext cx="257760" cy="1324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Line 584"/>
                      <p:cNvSpPr/>
                      <p:nvPr/>
                    </p:nvSpPr>
                    <p:spPr>
                      <a:xfrm>
                        <a:off x="5486760" y="6212520"/>
                        <a:ext cx="0" cy="132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Text Box 585"/>
                      <p:cNvSpPr/>
                      <p:nvPr/>
                    </p:nvSpPr>
                    <p:spPr>
                      <a:xfrm>
                        <a:off x="5379120" y="5543280"/>
                        <a:ext cx="189360" cy="209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0" name="Group 586"/>
                    <p:cNvGrpSpPr/>
                    <p:nvPr/>
                  </p:nvGrpSpPr>
                  <p:grpSpPr>
                    <a:xfrm>
                      <a:off x="5445720" y="5580000"/>
                      <a:ext cx="89280" cy="153720"/>
                      <a:chOff x="5445720" y="5580000"/>
                      <a:chExt cx="89280" cy="153720"/>
                    </a:xfrm>
                  </p:grpSpPr>
                  <p:grpSp>
                    <p:nvGrpSpPr>
                      <p:cNvPr id="271" name="Group 587"/>
                      <p:cNvGrpSpPr/>
                      <p:nvPr/>
                    </p:nvGrpSpPr>
                    <p:grpSpPr>
                      <a:xfrm>
                        <a:off x="5450760" y="5601240"/>
                        <a:ext cx="75240" cy="122400"/>
                        <a:chOff x="5450760" y="5601240"/>
                        <a:chExt cx="75240" cy="122400"/>
                      </a:xfrm>
                    </p:grpSpPr>
                    <p:grpSp>
                      <p:nvGrpSpPr>
                        <p:cNvPr id="272" name="Group 588"/>
                        <p:cNvGrpSpPr/>
                        <p:nvPr/>
                      </p:nvGrpSpPr>
                      <p:grpSpPr>
                        <a:xfrm>
                          <a:off x="5495400" y="5601600"/>
                          <a:ext cx="30600" cy="122040"/>
                          <a:chOff x="5495400" y="5601600"/>
                          <a:chExt cx="30600" cy="122040"/>
                        </a:xfrm>
                      </p:grpSpPr>
                      <p:cxnSp>
                        <p:nvCxnSpPr>
                          <p:cNvPr id="273" name="AutoShape 589"/>
                          <p:cNvCxnSpPr/>
                          <p:nvPr/>
                        </p:nvCxnSpPr>
                        <p:spPr>
                          <a:xfrm flipV="1">
                            <a:off x="5495400" y="5601600"/>
                            <a:ext cx="1080" cy="12240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74" name="AutoShape 590"/>
                          <p:cNvCxnSpPr/>
                          <p:nvPr/>
                        </p:nvCxnSpPr>
                        <p:spPr>
                          <a:xfrm flipV="1">
                            <a:off x="5495760" y="5652360"/>
                            <a:ext cx="30600" cy="597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75" name="AutoShape 591"/>
                          <p:cNvCxnSpPr/>
                          <p:nvPr/>
                        </p:nvCxnSpPr>
                        <p:spPr>
                          <a:xfrm flipV="1">
                            <a:off x="5495400" y="5627160"/>
                            <a:ext cx="24120" cy="561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76" name="AutoShape 592"/>
                          <p:cNvCxnSpPr/>
                          <p:nvPr/>
                        </p:nvCxnSpPr>
                        <p:spPr>
                          <a:xfrm flipV="1">
                            <a:off x="5495760" y="5608800"/>
                            <a:ext cx="17280" cy="4392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</p:grpSp>
                    <p:grpSp>
                      <p:nvGrpSpPr>
                        <p:cNvPr id="277" name="Group 593"/>
                        <p:cNvGrpSpPr/>
                        <p:nvPr/>
                      </p:nvGrpSpPr>
                      <p:grpSpPr>
                        <a:xfrm>
                          <a:off x="5450760" y="5601240"/>
                          <a:ext cx="39600" cy="122040"/>
                          <a:chOff x="5450760" y="5601240"/>
                          <a:chExt cx="39600" cy="122040"/>
                        </a:xfrm>
                      </p:grpSpPr>
                      <p:cxnSp>
                        <p:nvCxnSpPr>
                          <p:cNvPr id="278" name="AutoShape 594"/>
                          <p:cNvCxnSpPr/>
                          <p:nvPr/>
                        </p:nvCxnSpPr>
                        <p:spPr>
                          <a:xfrm flipH="1" flipV="1">
                            <a:off x="5489640" y="5601240"/>
                            <a:ext cx="1080" cy="12240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79" name="AutoShape 595"/>
                          <p:cNvCxnSpPr/>
                          <p:nvPr/>
                        </p:nvCxnSpPr>
                        <p:spPr>
                          <a:xfrm flipH="1" flipV="1">
                            <a:off x="5450760" y="5652000"/>
                            <a:ext cx="39600" cy="597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80" name="AutoShape 596"/>
                          <p:cNvCxnSpPr/>
                          <p:nvPr/>
                        </p:nvCxnSpPr>
                        <p:spPr>
                          <a:xfrm flipH="1" flipV="1">
                            <a:off x="5459760" y="5626800"/>
                            <a:ext cx="30600" cy="561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281" name="AutoShape 597"/>
                          <p:cNvCxnSpPr/>
                          <p:nvPr/>
                        </p:nvCxnSpPr>
                        <p:spPr>
                          <a:xfrm flipH="1" flipV="1">
                            <a:off x="5468760" y="5608440"/>
                            <a:ext cx="21960" cy="4392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</p:grpSp>
                  </p:grpSp>
                  <p:grpSp>
                    <p:nvGrpSpPr>
                      <p:cNvPr id="282" name="Group 598"/>
                      <p:cNvGrpSpPr/>
                      <p:nvPr/>
                    </p:nvGrpSpPr>
                    <p:grpSpPr>
                      <a:xfrm>
                        <a:off x="5445720" y="5580000"/>
                        <a:ext cx="89280" cy="153720"/>
                        <a:chOff x="5445720" y="5580000"/>
                        <a:chExt cx="89280" cy="153720"/>
                      </a:xfrm>
                    </p:grpSpPr>
                    <p:sp>
                      <p:nvSpPr>
                        <p:cNvPr id="283" name="AutoShape 599"/>
                        <p:cNvSpPr/>
                        <p:nvPr/>
                      </p:nvSpPr>
                      <p:spPr>
                        <a:xfrm>
                          <a:off x="5445720" y="5582520"/>
                          <a:ext cx="49320" cy="15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1473" y="241"/>
                                <a:pt x="1346" y="5080"/>
                                <a:pt x="1346" y="10800"/>
                              </a:cubicBezTo>
                              <a:cubicBezTo>
                                <a:pt x="1346" y="16520"/>
                                <a:pt x="11473" y="21359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e36c0a"/>
                        </a:solidFill>
                        <a:ln w="9360">
                          <a:solidFill>
                            <a:srgbClr val="548dd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AutoShape 600"/>
                        <p:cNvSpPr/>
                        <p:nvPr/>
                      </p:nvSpPr>
                      <p:spPr>
                        <a:xfrm rot="10625400">
                          <a:off x="5487480" y="5580720"/>
                          <a:ext cx="43560" cy="15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1594" y="285"/>
                                <a:pt x="1588" y="5080"/>
                                <a:pt x="1588" y="10800"/>
                              </a:cubicBezTo>
                              <a:cubicBezTo>
                                <a:pt x="1588" y="16520"/>
                                <a:pt x="11594" y="21315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e36c0a"/>
                        </a:solidFill>
                        <a:ln w="9360">
                          <a:solidFill>
                            <a:srgbClr val="548dd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cxnSp>
                <p:nvCxnSpPr>
                  <p:cNvPr id="285" name="AutoShape 601"/>
                  <p:cNvCxnSpPr/>
                  <p:nvPr/>
                </p:nvCxnSpPr>
                <p:spPr>
                  <a:xfrm>
                    <a:off x="5404320" y="5778720"/>
                    <a:ext cx="182520" cy="3600"/>
                  </a:xfrm>
                  <a:prstGeom prst="straightConnector1">
                    <a:avLst/>
                  </a:prstGeom>
                  <a:ln w="38160">
                    <a:solidFill>
                      <a:srgbClr val="548dd4"/>
                    </a:solidFill>
                    <a:miter/>
                  </a:ln>
                </p:spPr>
              </p:cxnSp>
            </p:grpSp>
            <p:grpSp>
              <p:nvGrpSpPr>
                <p:cNvPr id="286" name="Group 602"/>
                <p:cNvGrpSpPr/>
                <p:nvPr/>
              </p:nvGrpSpPr>
              <p:grpSpPr>
                <a:xfrm>
                  <a:off x="5307480" y="5880960"/>
                  <a:ext cx="231840" cy="528120"/>
                  <a:chOff x="5307480" y="5880960"/>
                  <a:chExt cx="231840" cy="528120"/>
                </a:xfrm>
              </p:grpSpPr>
              <p:grpSp>
                <p:nvGrpSpPr>
                  <p:cNvPr id="287" name="Group 603"/>
                  <p:cNvGrpSpPr/>
                  <p:nvPr/>
                </p:nvGrpSpPr>
                <p:grpSpPr>
                  <a:xfrm>
                    <a:off x="5307480" y="5880960"/>
                    <a:ext cx="231840" cy="528120"/>
                    <a:chOff x="5307480" y="5880960"/>
                    <a:chExt cx="231840" cy="528120"/>
                  </a:xfrm>
                </p:grpSpPr>
                <p:grpSp>
                  <p:nvGrpSpPr>
                    <p:cNvPr id="288" name="Group 604"/>
                    <p:cNvGrpSpPr/>
                    <p:nvPr/>
                  </p:nvGrpSpPr>
                  <p:grpSpPr>
                    <a:xfrm>
                      <a:off x="5307480" y="5880960"/>
                      <a:ext cx="231840" cy="528120"/>
                      <a:chOff x="5307480" y="5880960"/>
                      <a:chExt cx="231840" cy="528120"/>
                    </a:xfrm>
                  </p:grpSpPr>
                  <p:sp>
                    <p:nvSpPr>
                      <p:cNvPr id="289" name="Oval 605"/>
                      <p:cNvSpPr/>
                      <p:nvPr/>
                    </p:nvSpPr>
                    <p:spPr>
                      <a:xfrm>
                        <a:off x="5347080" y="6002640"/>
                        <a:ext cx="147600" cy="105120"/>
                      </a:xfrm>
                      <a:prstGeom prst="ellipse">
                        <a:avLst/>
                      </a:prstGeom>
                      <a:solidFill>
                        <a:srgbClr val="cc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AutoShape 606"/>
                      <p:cNvSpPr/>
                      <p:nvPr/>
                    </p:nvSpPr>
                    <p:spPr>
                      <a:xfrm>
                        <a:off x="5307480" y="6107760"/>
                        <a:ext cx="231840" cy="1879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AutoShape 607"/>
                      <p:cNvSpPr/>
                      <p:nvPr/>
                    </p:nvSpPr>
                    <p:spPr>
                      <a:xfrm rot="5400000">
                        <a:off x="5391360" y="5955480"/>
                        <a:ext cx="50760" cy="13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Line 608"/>
                      <p:cNvSpPr/>
                      <p:nvPr/>
                    </p:nvSpPr>
                    <p:spPr>
                      <a:xfrm>
                        <a:off x="5468760" y="6296040"/>
                        <a:ext cx="0" cy="831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Line 609"/>
                      <p:cNvSpPr/>
                      <p:nvPr/>
                    </p:nvSpPr>
                    <p:spPr>
                      <a:xfrm>
                        <a:off x="5382000" y="6296040"/>
                        <a:ext cx="0" cy="6984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4" name="Group 610"/>
                      <p:cNvGrpSpPr/>
                      <p:nvPr/>
                    </p:nvGrpSpPr>
                    <p:grpSpPr>
                      <a:xfrm>
                        <a:off x="5342040" y="6022800"/>
                        <a:ext cx="39960" cy="122400"/>
                        <a:chOff x="5342040" y="6022800"/>
                        <a:chExt cx="39960" cy="122400"/>
                      </a:xfrm>
                    </p:grpSpPr>
                    <p:sp>
                      <p:nvSpPr>
                        <p:cNvPr id="295" name="Oval 611"/>
                        <p:cNvSpPr/>
                        <p:nvPr/>
                      </p:nvSpPr>
                      <p:spPr>
                        <a:xfrm>
                          <a:off x="5342040" y="602280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6" name="Oval 612"/>
                        <p:cNvSpPr/>
                        <p:nvPr/>
                      </p:nvSpPr>
                      <p:spPr>
                        <a:xfrm>
                          <a:off x="5344920" y="605412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7" name="Oval 613"/>
                        <p:cNvSpPr/>
                        <p:nvPr/>
                      </p:nvSpPr>
                      <p:spPr>
                        <a:xfrm>
                          <a:off x="5347800" y="608544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" name="Oval 614"/>
                        <p:cNvSpPr/>
                        <p:nvPr/>
                      </p:nvSpPr>
                      <p:spPr>
                        <a:xfrm>
                          <a:off x="5350680" y="611676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615"/>
                      <p:cNvGrpSpPr/>
                      <p:nvPr/>
                    </p:nvGrpSpPr>
                    <p:grpSpPr>
                      <a:xfrm>
                        <a:off x="5463000" y="6022800"/>
                        <a:ext cx="39960" cy="122400"/>
                        <a:chOff x="5463000" y="6022800"/>
                        <a:chExt cx="39960" cy="122400"/>
                      </a:xfrm>
                    </p:grpSpPr>
                    <p:sp>
                      <p:nvSpPr>
                        <p:cNvPr id="300" name="Oval 616"/>
                        <p:cNvSpPr/>
                        <p:nvPr/>
                      </p:nvSpPr>
                      <p:spPr>
                        <a:xfrm>
                          <a:off x="5463000" y="602280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Oval 617"/>
                        <p:cNvSpPr/>
                        <p:nvPr/>
                      </p:nvSpPr>
                      <p:spPr>
                        <a:xfrm>
                          <a:off x="5465880" y="605412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Oval 618"/>
                        <p:cNvSpPr/>
                        <p:nvPr/>
                      </p:nvSpPr>
                      <p:spPr>
                        <a:xfrm>
                          <a:off x="5468760" y="608544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Oval 619"/>
                        <p:cNvSpPr/>
                        <p:nvPr/>
                      </p:nvSpPr>
                      <p:spPr>
                        <a:xfrm>
                          <a:off x="5471640" y="611676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4" name="Text Box 620"/>
                      <p:cNvSpPr/>
                      <p:nvPr/>
                    </p:nvSpPr>
                    <p:spPr>
                      <a:xfrm>
                        <a:off x="5337000" y="5880960"/>
                        <a:ext cx="171000" cy="131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Oval 621"/>
                      <p:cNvSpPr/>
                      <p:nvPr/>
                    </p:nvSpPr>
                    <p:spPr>
                      <a:xfrm rot="20313000">
                        <a:off x="5356080" y="6358680"/>
                        <a:ext cx="57960" cy="41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Oval 622"/>
                      <p:cNvSpPr/>
                      <p:nvPr/>
                    </p:nvSpPr>
                    <p:spPr>
                      <a:xfrm rot="20313000">
                        <a:off x="5445000" y="6358680"/>
                        <a:ext cx="57960" cy="41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" name="Line 623"/>
                    <p:cNvSpPr/>
                    <p:nvPr/>
                  </p:nvSpPr>
                  <p:spPr>
                    <a:xfrm>
                      <a:off x="5373360" y="6029640"/>
                      <a:ext cx="860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624"/>
                  <p:cNvGrpSpPr/>
                  <p:nvPr/>
                </p:nvGrpSpPr>
                <p:grpSpPr>
                  <a:xfrm>
                    <a:off x="5385960" y="5928120"/>
                    <a:ext cx="64080" cy="77400"/>
                    <a:chOff x="5385960" y="5928120"/>
                    <a:chExt cx="64080" cy="77400"/>
                  </a:xfrm>
                </p:grpSpPr>
                <p:grpSp>
                  <p:nvGrpSpPr>
                    <p:cNvPr id="309" name="Group 625"/>
                    <p:cNvGrpSpPr/>
                    <p:nvPr/>
                  </p:nvGrpSpPr>
                  <p:grpSpPr>
                    <a:xfrm>
                      <a:off x="5389560" y="5939280"/>
                      <a:ext cx="55080" cy="61560"/>
                      <a:chOff x="5389560" y="5939280"/>
                      <a:chExt cx="55080" cy="61560"/>
                    </a:xfrm>
                  </p:grpSpPr>
                  <p:grpSp>
                    <p:nvGrpSpPr>
                      <p:cNvPr id="310" name="Group 626"/>
                      <p:cNvGrpSpPr/>
                      <p:nvPr/>
                    </p:nvGrpSpPr>
                    <p:grpSpPr>
                      <a:xfrm>
                        <a:off x="5422320" y="5939280"/>
                        <a:ext cx="22320" cy="61560"/>
                        <a:chOff x="5422320" y="5939280"/>
                        <a:chExt cx="22320" cy="61560"/>
                      </a:xfrm>
                    </p:grpSpPr>
                    <p:cxnSp>
                      <p:nvCxnSpPr>
                        <p:cNvPr id="311" name="AutoShape 627"/>
                        <p:cNvCxnSpPr/>
                        <p:nvPr/>
                      </p:nvCxnSpPr>
                      <p:spPr>
                        <a:xfrm flipV="1">
                          <a:off x="5422320" y="5939280"/>
                          <a:ext cx="1080" cy="61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2" name="AutoShape 628"/>
                        <p:cNvCxnSpPr/>
                        <p:nvPr/>
                      </p:nvCxnSpPr>
                      <p:spPr>
                        <a:xfrm flipV="1">
                          <a:off x="5422320" y="5964840"/>
                          <a:ext cx="22680" cy="302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3" name="AutoShape 629"/>
                        <p:cNvCxnSpPr/>
                        <p:nvPr/>
                      </p:nvCxnSpPr>
                      <p:spPr>
                        <a:xfrm flipV="1">
                          <a:off x="5422320" y="5951880"/>
                          <a:ext cx="17640" cy="28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4" name="AutoShape 630"/>
                        <p:cNvCxnSpPr/>
                        <p:nvPr/>
                      </p:nvCxnSpPr>
                      <p:spPr>
                        <a:xfrm flipV="1">
                          <a:off x="5422680" y="5942520"/>
                          <a:ext cx="12960" cy="22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315" name="Group 631"/>
                      <p:cNvGrpSpPr/>
                      <p:nvPr/>
                    </p:nvGrpSpPr>
                    <p:grpSpPr>
                      <a:xfrm>
                        <a:off x="5389560" y="5939280"/>
                        <a:ext cx="28800" cy="61560"/>
                        <a:chOff x="5389560" y="5939280"/>
                        <a:chExt cx="28800" cy="61560"/>
                      </a:xfrm>
                    </p:grpSpPr>
                    <p:cxnSp>
                      <p:nvCxnSpPr>
                        <p:cNvPr id="316" name="AutoShape 632"/>
                        <p:cNvCxnSpPr/>
                        <p:nvPr/>
                      </p:nvCxnSpPr>
                      <p:spPr>
                        <a:xfrm flipH="1" flipV="1">
                          <a:off x="5417640" y="5939280"/>
                          <a:ext cx="1080" cy="61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7" name="AutoShape 633"/>
                        <p:cNvCxnSpPr/>
                        <p:nvPr/>
                      </p:nvCxnSpPr>
                      <p:spPr>
                        <a:xfrm flipH="1" flipV="1">
                          <a:off x="5389560" y="5964840"/>
                          <a:ext cx="29160" cy="302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8" name="AutoShape 634"/>
                        <p:cNvCxnSpPr/>
                        <p:nvPr/>
                      </p:nvCxnSpPr>
                      <p:spPr>
                        <a:xfrm flipH="1" flipV="1">
                          <a:off x="5396040" y="5951880"/>
                          <a:ext cx="22680" cy="28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19" name="AutoShape 635"/>
                        <p:cNvCxnSpPr/>
                        <p:nvPr/>
                      </p:nvCxnSpPr>
                      <p:spPr>
                        <a:xfrm flipH="1" flipV="1">
                          <a:off x="5402880" y="5942520"/>
                          <a:ext cx="15840" cy="22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320" name="Group 636"/>
                    <p:cNvGrpSpPr/>
                    <p:nvPr/>
                  </p:nvGrpSpPr>
                  <p:grpSpPr>
                    <a:xfrm>
                      <a:off x="5385960" y="5928120"/>
                      <a:ext cx="64080" cy="77400"/>
                      <a:chOff x="5385960" y="5928120"/>
                      <a:chExt cx="64080" cy="77400"/>
                    </a:xfrm>
                  </p:grpSpPr>
                  <p:sp>
                    <p:nvSpPr>
                      <p:cNvPr id="321" name="AutoShape 637"/>
                      <p:cNvSpPr/>
                      <p:nvPr/>
                    </p:nvSpPr>
                    <p:spPr>
                      <a:xfrm>
                        <a:off x="5385960" y="5929920"/>
                        <a:ext cx="3564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473" y="241"/>
                              <a:pt x="1346" y="5080"/>
                              <a:pt x="1346" y="10800"/>
                            </a:cubicBezTo>
                            <a:cubicBezTo>
                              <a:pt x="1346" y="16520"/>
                              <a:pt x="11473" y="2135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AutoShape 638"/>
                      <p:cNvSpPr/>
                      <p:nvPr/>
                    </p:nvSpPr>
                    <p:spPr>
                      <a:xfrm rot="10625400">
                        <a:off x="5416200" y="5928840"/>
                        <a:ext cx="31680" cy="7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594" y="285"/>
                              <a:pt x="1588" y="5080"/>
                              <a:pt x="1588" y="10800"/>
                            </a:cubicBezTo>
                            <a:cubicBezTo>
                              <a:pt x="1588" y="16520"/>
                              <a:pt x="11594" y="21315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3" name="Group 639"/>
                <p:cNvGrpSpPr/>
                <p:nvPr/>
              </p:nvGrpSpPr>
              <p:grpSpPr>
                <a:xfrm>
                  <a:off x="5015520" y="5605200"/>
                  <a:ext cx="343440" cy="811440"/>
                  <a:chOff x="5015520" y="5605200"/>
                  <a:chExt cx="343440" cy="811440"/>
                </a:xfrm>
              </p:grpSpPr>
              <p:sp>
                <p:nvSpPr>
                  <p:cNvPr id="324" name="Oval 640"/>
                  <p:cNvSpPr/>
                  <p:nvPr/>
                </p:nvSpPr>
                <p:spPr>
                  <a:xfrm>
                    <a:off x="5074200" y="5769000"/>
                    <a:ext cx="218520" cy="168120"/>
                  </a:xfrm>
                  <a:prstGeom prst="ellipse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" name="Group 641"/>
                  <p:cNvGrpSpPr/>
                  <p:nvPr/>
                </p:nvGrpSpPr>
                <p:grpSpPr>
                  <a:xfrm>
                    <a:off x="5137200" y="5605200"/>
                    <a:ext cx="89280" cy="153720"/>
                    <a:chOff x="5137200" y="5605200"/>
                    <a:chExt cx="89280" cy="153720"/>
                  </a:xfrm>
                </p:grpSpPr>
                <p:grpSp>
                  <p:nvGrpSpPr>
                    <p:cNvPr id="326" name="Group 642"/>
                    <p:cNvGrpSpPr/>
                    <p:nvPr/>
                  </p:nvGrpSpPr>
                  <p:grpSpPr>
                    <a:xfrm>
                      <a:off x="5142240" y="5626440"/>
                      <a:ext cx="75240" cy="122400"/>
                      <a:chOff x="5142240" y="5626440"/>
                      <a:chExt cx="75240" cy="122400"/>
                    </a:xfrm>
                  </p:grpSpPr>
                  <p:grpSp>
                    <p:nvGrpSpPr>
                      <p:cNvPr id="327" name="Group 643"/>
                      <p:cNvGrpSpPr/>
                      <p:nvPr/>
                    </p:nvGrpSpPr>
                    <p:grpSpPr>
                      <a:xfrm>
                        <a:off x="5186880" y="5626800"/>
                        <a:ext cx="30600" cy="122040"/>
                        <a:chOff x="5186880" y="5626800"/>
                        <a:chExt cx="30600" cy="122040"/>
                      </a:xfrm>
                    </p:grpSpPr>
                    <p:cxnSp>
                      <p:nvCxnSpPr>
                        <p:cNvPr id="328" name="AutoShape 644"/>
                        <p:cNvCxnSpPr/>
                        <p:nvPr/>
                      </p:nvCxnSpPr>
                      <p:spPr>
                        <a:xfrm flipV="1">
                          <a:off x="5186880" y="5626800"/>
                          <a:ext cx="1080" cy="1224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29" name="AutoShape 645"/>
                        <p:cNvCxnSpPr/>
                        <p:nvPr/>
                      </p:nvCxnSpPr>
                      <p:spPr>
                        <a:xfrm flipV="1">
                          <a:off x="5187240" y="5677560"/>
                          <a:ext cx="30600" cy="597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30" name="AutoShape 646"/>
                        <p:cNvCxnSpPr/>
                        <p:nvPr/>
                      </p:nvCxnSpPr>
                      <p:spPr>
                        <a:xfrm flipV="1">
                          <a:off x="5186880" y="5652360"/>
                          <a:ext cx="24120" cy="561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31" name="AutoShape 647"/>
                        <p:cNvCxnSpPr/>
                        <p:nvPr/>
                      </p:nvCxnSpPr>
                      <p:spPr>
                        <a:xfrm flipV="1">
                          <a:off x="5187240" y="5634000"/>
                          <a:ext cx="17280" cy="43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332" name="Group 648"/>
                      <p:cNvGrpSpPr/>
                      <p:nvPr/>
                    </p:nvGrpSpPr>
                    <p:grpSpPr>
                      <a:xfrm>
                        <a:off x="5142240" y="5626440"/>
                        <a:ext cx="39600" cy="122040"/>
                        <a:chOff x="5142240" y="5626440"/>
                        <a:chExt cx="39600" cy="122040"/>
                      </a:xfrm>
                    </p:grpSpPr>
                    <p:cxnSp>
                      <p:nvCxnSpPr>
                        <p:cNvPr id="333" name="AutoShape 649"/>
                        <p:cNvCxnSpPr/>
                        <p:nvPr/>
                      </p:nvCxnSpPr>
                      <p:spPr>
                        <a:xfrm flipH="1" flipV="1">
                          <a:off x="5181120" y="5626440"/>
                          <a:ext cx="1080" cy="1224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34" name="AutoShape 650"/>
                        <p:cNvCxnSpPr/>
                        <p:nvPr/>
                      </p:nvCxnSpPr>
                      <p:spPr>
                        <a:xfrm flipH="1" flipV="1">
                          <a:off x="5142240" y="5677200"/>
                          <a:ext cx="39600" cy="597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35" name="AutoShape 651"/>
                        <p:cNvCxnSpPr/>
                        <p:nvPr/>
                      </p:nvCxnSpPr>
                      <p:spPr>
                        <a:xfrm flipH="1" flipV="1">
                          <a:off x="5151240" y="5652000"/>
                          <a:ext cx="30600" cy="561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336" name="AutoShape 652"/>
                        <p:cNvCxnSpPr/>
                        <p:nvPr/>
                      </p:nvCxnSpPr>
                      <p:spPr>
                        <a:xfrm flipH="1" flipV="1">
                          <a:off x="5160240" y="5633640"/>
                          <a:ext cx="21960" cy="43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337" name="Group 653"/>
                    <p:cNvGrpSpPr/>
                    <p:nvPr/>
                  </p:nvGrpSpPr>
                  <p:grpSpPr>
                    <a:xfrm>
                      <a:off x="5137200" y="5605200"/>
                      <a:ext cx="89280" cy="153720"/>
                      <a:chOff x="5137200" y="5605200"/>
                      <a:chExt cx="89280" cy="153720"/>
                    </a:xfrm>
                  </p:grpSpPr>
                  <p:sp>
                    <p:nvSpPr>
                      <p:cNvPr id="338" name="AutoShape 654"/>
                      <p:cNvSpPr/>
                      <p:nvPr/>
                    </p:nvSpPr>
                    <p:spPr>
                      <a:xfrm>
                        <a:off x="5137200" y="5607720"/>
                        <a:ext cx="49320" cy="15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473" y="241"/>
                              <a:pt x="1346" y="5080"/>
                              <a:pt x="1346" y="10800"/>
                            </a:cubicBezTo>
                            <a:cubicBezTo>
                              <a:pt x="1346" y="16520"/>
                              <a:pt x="11473" y="2135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AutoShape 655"/>
                      <p:cNvSpPr/>
                      <p:nvPr/>
                    </p:nvSpPr>
                    <p:spPr>
                      <a:xfrm rot="10625400">
                        <a:off x="5178960" y="5605920"/>
                        <a:ext cx="4356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594" y="285"/>
                              <a:pt x="1588" y="5080"/>
                              <a:pt x="1588" y="10800"/>
                            </a:cubicBezTo>
                            <a:cubicBezTo>
                              <a:pt x="1588" y="16520"/>
                              <a:pt x="11594" y="21315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0" name="AutoShape 656"/>
                  <p:cNvSpPr/>
                  <p:nvPr/>
                </p:nvSpPr>
                <p:spPr>
                  <a:xfrm>
                    <a:off x="5015520" y="5937120"/>
                    <a:ext cx="343440" cy="2998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657"/>
                  <p:cNvSpPr/>
                  <p:nvPr/>
                </p:nvSpPr>
                <p:spPr>
                  <a:xfrm>
                    <a:off x="5254560" y="6237000"/>
                    <a:ext cx="0" cy="1324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Line 658"/>
                  <p:cNvSpPr/>
                  <p:nvPr/>
                </p:nvSpPr>
                <p:spPr>
                  <a:xfrm>
                    <a:off x="5126040" y="6237000"/>
                    <a:ext cx="0" cy="1116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" name="Group 659"/>
                  <p:cNvGrpSpPr/>
                  <p:nvPr/>
                </p:nvGrpSpPr>
                <p:grpSpPr>
                  <a:xfrm>
                    <a:off x="5074200" y="5757840"/>
                    <a:ext cx="226440" cy="292320"/>
                    <a:chOff x="5074200" y="5757840"/>
                    <a:chExt cx="226440" cy="292320"/>
                  </a:xfrm>
                </p:grpSpPr>
                <p:cxnSp>
                  <p:nvCxnSpPr>
                    <p:cNvPr id="344" name="AutoShape 660"/>
                    <p:cNvCxnSpPr/>
                    <p:nvPr/>
                  </p:nvCxnSpPr>
                  <p:spPr>
                    <a:xfrm>
                      <a:off x="5090400" y="5814000"/>
                      <a:ext cx="182520" cy="3600"/>
                    </a:xfrm>
                    <a:prstGeom prst="straightConnector1">
                      <a:avLst/>
                    </a:prstGeom>
                    <a:ln w="38160">
                      <a:solidFill>
                        <a:srgbClr val="548dd4"/>
                      </a:solidFill>
                      <a:miter/>
                    </a:ln>
                  </p:spPr>
                </p:cxnSp>
                <p:grpSp>
                  <p:nvGrpSpPr>
                    <p:cNvPr id="345" name="Group 661"/>
                    <p:cNvGrpSpPr/>
                    <p:nvPr/>
                  </p:nvGrpSpPr>
                  <p:grpSpPr>
                    <a:xfrm>
                      <a:off x="5266080" y="5807520"/>
                      <a:ext cx="34560" cy="240120"/>
                      <a:chOff x="5266080" y="5807520"/>
                      <a:chExt cx="34560" cy="240120"/>
                    </a:xfrm>
                  </p:grpSpPr>
                  <p:sp>
                    <p:nvSpPr>
                      <p:cNvPr id="346" name="Oval 662"/>
                      <p:cNvSpPr/>
                      <p:nvPr/>
                    </p:nvSpPr>
                    <p:spPr>
                      <a:xfrm>
                        <a:off x="5266080" y="580752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Oval 663"/>
                      <p:cNvSpPr/>
                      <p:nvPr/>
                    </p:nvSpPr>
                    <p:spPr>
                      <a:xfrm>
                        <a:off x="5268240" y="586872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Oval 664"/>
                      <p:cNvSpPr/>
                      <p:nvPr/>
                    </p:nvSpPr>
                    <p:spPr>
                      <a:xfrm>
                        <a:off x="5271120" y="593028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Oval 665"/>
                      <p:cNvSpPr/>
                      <p:nvPr/>
                    </p:nvSpPr>
                    <p:spPr>
                      <a:xfrm>
                        <a:off x="5273640" y="599148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0" name="AutoShape 666"/>
                    <p:cNvSpPr/>
                    <p:nvPr/>
                  </p:nvSpPr>
                  <p:spPr>
                    <a:xfrm rot="5400000">
                      <a:off x="5137200" y="5701320"/>
                      <a:ext cx="81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1" name="Group 667"/>
                    <p:cNvGrpSpPr/>
                    <p:nvPr/>
                  </p:nvGrpSpPr>
                  <p:grpSpPr>
                    <a:xfrm>
                      <a:off x="5074200" y="5810040"/>
                      <a:ext cx="34560" cy="240120"/>
                      <a:chOff x="5074200" y="5810040"/>
                      <a:chExt cx="34560" cy="240120"/>
                    </a:xfrm>
                  </p:grpSpPr>
                  <p:sp>
                    <p:nvSpPr>
                      <p:cNvPr id="352" name="Oval 668"/>
                      <p:cNvSpPr/>
                      <p:nvPr/>
                    </p:nvSpPr>
                    <p:spPr>
                      <a:xfrm>
                        <a:off x="5074200" y="581004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Oval 669"/>
                      <p:cNvSpPr/>
                      <p:nvPr/>
                    </p:nvSpPr>
                    <p:spPr>
                      <a:xfrm>
                        <a:off x="5076360" y="587124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Oval 670"/>
                      <p:cNvSpPr/>
                      <p:nvPr/>
                    </p:nvSpPr>
                    <p:spPr>
                      <a:xfrm>
                        <a:off x="5079240" y="593280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Oval 671"/>
                      <p:cNvSpPr/>
                      <p:nvPr/>
                    </p:nvSpPr>
                    <p:spPr>
                      <a:xfrm>
                        <a:off x="5081760" y="599400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56" name="Oval 672"/>
                  <p:cNvSpPr/>
                  <p:nvPr/>
                </p:nvSpPr>
                <p:spPr>
                  <a:xfrm rot="20313000">
                    <a:off x="5087520" y="6337440"/>
                    <a:ext cx="856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Oval 673"/>
                  <p:cNvSpPr/>
                  <p:nvPr/>
                </p:nvSpPr>
                <p:spPr>
                  <a:xfrm rot="20313000">
                    <a:off x="5218920" y="6337440"/>
                    <a:ext cx="856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" name="Group 674"/>
              <p:cNvGrpSpPr/>
              <p:nvPr/>
            </p:nvGrpSpPr>
            <p:grpSpPr>
              <a:xfrm>
                <a:off x="5676840" y="5716800"/>
                <a:ext cx="818640" cy="719640"/>
                <a:chOff x="5676840" y="5716800"/>
                <a:chExt cx="818640" cy="719640"/>
              </a:xfrm>
            </p:grpSpPr>
            <p:grpSp>
              <p:nvGrpSpPr>
                <p:cNvPr id="359" name="Group 675"/>
                <p:cNvGrpSpPr/>
                <p:nvPr/>
              </p:nvGrpSpPr>
              <p:grpSpPr>
                <a:xfrm>
                  <a:off x="6246360" y="5870880"/>
                  <a:ext cx="189720" cy="548280"/>
                  <a:chOff x="6246360" y="5870880"/>
                  <a:chExt cx="189720" cy="548280"/>
                </a:xfrm>
              </p:grpSpPr>
              <p:sp>
                <p:nvSpPr>
                  <p:cNvPr id="360" name="Rectangle 676"/>
                  <p:cNvSpPr/>
                  <p:nvPr/>
                </p:nvSpPr>
                <p:spPr>
                  <a:xfrm>
                    <a:off x="6248880" y="6009840"/>
                    <a:ext cx="187200" cy="350280"/>
                  </a:xfrm>
                  <a:prstGeom prst="rect">
                    <a:avLst/>
                  </a:prstGeom>
                  <a:solidFill>
                    <a:srgbClr val="76923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Line 677"/>
                  <p:cNvSpPr/>
                  <p:nvPr/>
                </p:nvSpPr>
                <p:spPr>
                  <a:xfrm>
                    <a:off x="6248880" y="6145200"/>
                    <a:ext cx="18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Line 678"/>
                  <p:cNvSpPr/>
                  <p:nvPr/>
                </p:nvSpPr>
                <p:spPr>
                  <a:xfrm flipV="1">
                    <a:off x="6340680" y="6144480"/>
                    <a:ext cx="0" cy="21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Oval 679"/>
                  <p:cNvSpPr/>
                  <p:nvPr/>
                </p:nvSpPr>
                <p:spPr>
                  <a:xfrm rot="20313000">
                    <a:off x="6363000" y="635688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Oval 680"/>
                  <p:cNvSpPr/>
                  <p:nvPr/>
                </p:nvSpPr>
                <p:spPr>
                  <a:xfrm rot="20313000">
                    <a:off x="6253560" y="635688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Oval 681"/>
                  <p:cNvSpPr/>
                  <p:nvPr/>
                </p:nvSpPr>
                <p:spPr>
                  <a:xfrm>
                    <a:off x="6266160" y="5870880"/>
                    <a:ext cx="155880" cy="1324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Group 682"/>
                <p:cNvGrpSpPr/>
                <p:nvPr/>
              </p:nvGrpSpPr>
              <p:grpSpPr>
                <a:xfrm>
                  <a:off x="6042240" y="5716800"/>
                  <a:ext cx="237600" cy="708120"/>
                  <a:chOff x="6042240" y="5716800"/>
                  <a:chExt cx="237600" cy="708120"/>
                </a:xfrm>
              </p:grpSpPr>
              <p:sp>
                <p:nvSpPr>
                  <p:cNvPr id="367" name="Rectangle 683"/>
                  <p:cNvSpPr/>
                  <p:nvPr/>
                </p:nvSpPr>
                <p:spPr>
                  <a:xfrm>
                    <a:off x="6045480" y="5896080"/>
                    <a:ext cx="234360" cy="452880"/>
                  </a:xfrm>
                  <a:prstGeom prst="rect">
                    <a:avLst/>
                  </a:prstGeom>
                  <a:solidFill>
                    <a:srgbClr val="c2d69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Line 684"/>
                  <p:cNvSpPr/>
                  <p:nvPr/>
                </p:nvSpPr>
                <p:spPr>
                  <a:xfrm>
                    <a:off x="6045480" y="6071400"/>
                    <a:ext cx="234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Line 685"/>
                  <p:cNvSpPr/>
                  <p:nvPr/>
                </p:nvSpPr>
                <p:spPr>
                  <a:xfrm flipV="1">
                    <a:off x="6160320" y="6070680"/>
                    <a:ext cx="0" cy="27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Oval 686"/>
                  <p:cNvSpPr/>
                  <p:nvPr/>
                </p:nvSpPr>
                <p:spPr>
                  <a:xfrm rot="20313000">
                    <a:off x="6188760" y="6344640"/>
                    <a:ext cx="78120" cy="680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Oval 687"/>
                  <p:cNvSpPr/>
                  <p:nvPr/>
                </p:nvSpPr>
                <p:spPr>
                  <a:xfrm rot="20313000">
                    <a:off x="6051960" y="6344640"/>
                    <a:ext cx="78120" cy="680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Oval 688"/>
                  <p:cNvSpPr/>
                  <p:nvPr/>
                </p:nvSpPr>
                <p:spPr>
                  <a:xfrm>
                    <a:off x="6067080" y="5716800"/>
                    <a:ext cx="195480" cy="171000"/>
                  </a:xfrm>
                  <a:prstGeom prst="ellipse">
                    <a:avLst/>
                  </a:prstGeom>
                  <a:solidFill>
                    <a:srgbClr val="b0540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Group 689"/>
                <p:cNvGrpSpPr/>
                <p:nvPr/>
              </p:nvGrpSpPr>
              <p:grpSpPr>
                <a:xfrm>
                  <a:off x="5676840" y="5750280"/>
                  <a:ext cx="312480" cy="686160"/>
                  <a:chOff x="5676840" y="5750280"/>
                  <a:chExt cx="312480" cy="686160"/>
                </a:xfrm>
              </p:grpSpPr>
              <p:sp>
                <p:nvSpPr>
                  <p:cNvPr id="374" name="AutoShape 690"/>
                  <p:cNvSpPr/>
                  <p:nvPr/>
                </p:nvSpPr>
                <p:spPr>
                  <a:xfrm>
                    <a:off x="5676840" y="5928120"/>
                    <a:ext cx="312480" cy="309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Oval 691"/>
                  <p:cNvSpPr/>
                  <p:nvPr/>
                </p:nvSpPr>
                <p:spPr>
                  <a:xfrm>
                    <a:off x="5737680" y="5750280"/>
                    <a:ext cx="195120" cy="171000"/>
                  </a:xfrm>
                  <a:prstGeom prst="ellipse">
                    <a:avLst/>
                  </a:prstGeom>
                  <a:solidFill>
                    <a:srgbClr val="593b1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Line 692"/>
                  <p:cNvSpPr/>
                  <p:nvPr/>
                </p:nvSpPr>
                <p:spPr>
                  <a:xfrm>
                    <a:off x="5873040" y="623664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Line 693"/>
                  <p:cNvSpPr/>
                  <p:nvPr/>
                </p:nvSpPr>
                <p:spPr>
                  <a:xfrm>
                    <a:off x="5789520" y="623664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Oval 694"/>
                  <p:cNvSpPr/>
                  <p:nvPr/>
                </p:nvSpPr>
                <p:spPr>
                  <a:xfrm rot="20313000">
                    <a:off x="5845680" y="6355440"/>
                    <a:ext cx="7812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Oval 695"/>
                  <p:cNvSpPr/>
                  <p:nvPr/>
                </p:nvSpPr>
                <p:spPr>
                  <a:xfrm rot="20313000">
                    <a:off x="5735520" y="6356160"/>
                    <a:ext cx="7812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Group 696"/>
                <p:cNvGrpSpPr/>
                <p:nvPr/>
              </p:nvGrpSpPr>
              <p:grpSpPr>
                <a:xfrm>
                  <a:off x="6361560" y="6046560"/>
                  <a:ext cx="133920" cy="322560"/>
                  <a:chOff x="6361560" y="6046560"/>
                  <a:chExt cx="133920" cy="322560"/>
                </a:xfrm>
              </p:grpSpPr>
              <p:cxnSp>
                <p:nvCxnSpPr>
                  <p:cNvPr id="381" name="AutoShape 697"/>
                  <p:cNvCxnSpPr/>
                  <p:nvPr/>
                </p:nvCxnSpPr>
                <p:spPr>
                  <a:xfrm>
                    <a:off x="6454080" y="6046920"/>
                    <a:ext cx="41760" cy="322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82" name="AutoShape 698"/>
                  <p:cNvCxnSpPr/>
                  <p:nvPr/>
                </p:nvCxnSpPr>
                <p:spPr>
                  <a:xfrm>
                    <a:off x="6361560" y="6064560"/>
                    <a:ext cx="133560" cy="28512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83" name="AutoShape 699"/>
                  <p:cNvCxnSpPr/>
                  <p:nvPr/>
                </p:nvCxnSpPr>
                <p:spPr>
                  <a:xfrm flipV="1">
                    <a:off x="6361560" y="6046560"/>
                    <a:ext cx="93240" cy="1224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384" name="Group 700"/>
                <p:cNvGrpSpPr/>
                <p:nvPr/>
              </p:nvGrpSpPr>
              <p:grpSpPr>
                <a:xfrm>
                  <a:off x="5696280" y="5955840"/>
                  <a:ext cx="117000" cy="210240"/>
                  <a:chOff x="5696280" y="5955840"/>
                  <a:chExt cx="117000" cy="210240"/>
                </a:xfrm>
              </p:grpSpPr>
              <p:sp>
                <p:nvSpPr>
                  <p:cNvPr id="385" name="AutoShape 701"/>
                  <p:cNvSpPr/>
                  <p:nvPr/>
                </p:nvSpPr>
                <p:spPr>
                  <a:xfrm>
                    <a:off x="5696280" y="601020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e5b8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702"/>
                  <p:cNvSpPr/>
                  <p:nvPr/>
                </p:nvSpPr>
                <p:spPr>
                  <a:xfrm>
                    <a:off x="5718960" y="5955840"/>
                    <a:ext cx="73080" cy="52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Line 703"/>
                  <p:cNvSpPr/>
                  <p:nvPr/>
                </p:nvSpPr>
                <p:spPr>
                  <a:xfrm>
                    <a:off x="5769720" y="610416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Line 704"/>
                  <p:cNvSpPr/>
                  <p:nvPr/>
                </p:nvSpPr>
                <p:spPr>
                  <a:xfrm>
                    <a:off x="5738400" y="610416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Oval 705"/>
                  <p:cNvSpPr/>
                  <p:nvPr/>
                </p:nvSpPr>
                <p:spPr>
                  <a:xfrm rot="20313000">
                    <a:off x="5759640" y="614052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Oval 706"/>
                  <p:cNvSpPr/>
                  <p:nvPr/>
                </p:nvSpPr>
                <p:spPr>
                  <a:xfrm rot="20313000">
                    <a:off x="5718240" y="614088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Group 707"/>
                <p:cNvGrpSpPr/>
                <p:nvPr/>
              </p:nvGrpSpPr>
              <p:grpSpPr>
                <a:xfrm>
                  <a:off x="5898240" y="5995080"/>
                  <a:ext cx="156960" cy="419040"/>
                  <a:chOff x="5898240" y="5995080"/>
                  <a:chExt cx="156960" cy="419040"/>
                </a:xfrm>
              </p:grpSpPr>
              <p:sp>
                <p:nvSpPr>
                  <p:cNvPr id="392" name="Oval 708"/>
                  <p:cNvSpPr/>
                  <p:nvPr/>
                </p:nvSpPr>
                <p:spPr>
                  <a:xfrm rot="20313000">
                    <a:off x="5994720" y="6365520"/>
                    <a:ext cx="51840" cy="40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Oval 709"/>
                  <p:cNvSpPr/>
                  <p:nvPr/>
                </p:nvSpPr>
                <p:spPr>
                  <a:xfrm rot="20313000">
                    <a:off x="5903640" y="6365520"/>
                    <a:ext cx="51840" cy="40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Oval 710"/>
                  <p:cNvSpPr/>
                  <p:nvPr/>
                </p:nvSpPr>
                <p:spPr>
                  <a:xfrm>
                    <a:off x="5913360" y="5995080"/>
                    <a:ext cx="129960" cy="101160"/>
                  </a:xfrm>
                  <a:prstGeom prst="ellipse">
                    <a:avLst/>
                  </a:prstGeom>
                  <a:solidFill>
                    <a:srgbClr val="593b1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Rectangle 711"/>
                  <p:cNvSpPr/>
                  <p:nvPr/>
                </p:nvSpPr>
                <p:spPr>
                  <a:xfrm>
                    <a:off x="5899320" y="6101280"/>
                    <a:ext cx="155880" cy="267120"/>
                  </a:xfrm>
                  <a:prstGeom prst="rect">
                    <a:avLst/>
                  </a:prstGeom>
                  <a:solidFill>
                    <a:srgbClr val="d8d8d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96" name="AutoShape 712"/>
                  <p:cNvCxnSpPr/>
                  <p:nvPr/>
                </p:nvCxnSpPr>
                <p:spPr>
                  <a:xfrm>
                    <a:off x="5913000" y="6242400"/>
                    <a:ext cx="127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97" name="AutoShape 713"/>
                  <p:cNvCxnSpPr/>
                  <p:nvPr/>
                </p:nvCxnSpPr>
                <p:spPr>
                  <a:xfrm>
                    <a:off x="5969880" y="6242400"/>
                    <a:ext cx="1080" cy="123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398" name="Group 714"/>
              <p:cNvGrpSpPr/>
              <p:nvPr/>
            </p:nvGrpSpPr>
            <p:grpSpPr>
              <a:xfrm>
                <a:off x="4554720" y="5707800"/>
                <a:ext cx="455400" cy="719280"/>
                <a:chOff x="4554720" y="5707800"/>
                <a:chExt cx="455400" cy="719280"/>
              </a:xfrm>
            </p:grpSpPr>
            <p:grpSp>
              <p:nvGrpSpPr>
                <p:cNvPr id="399" name="Group 715"/>
                <p:cNvGrpSpPr/>
                <p:nvPr/>
              </p:nvGrpSpPr>
              <p:grpSpPr>
                <a:xfrm>
                  <a:off x="4554720" y="5707800"/>
                  <a:ext cx="348120" cy="719280"/>
                  <a:chOff x="4554720" y="5707800"/>
                  <a:chExt cx="348120" cy="719280"/>
                </a:xfrm>
              </p:grpSpPr>
              <p:sp>
                <p:nvSpPr>
                  <p:cNvPr id="400" name="Oval 716"/>
                  <p:cNvSpPr/>
                  <p:nvPr/>
                </p:nvSpPr>
                <p:spPr>
                  <a:xfrm>
                    <a:off x="4625280" y="5747400"/>
                    <a:ext cx="191520" cy="181080"/>
                  </a:xfrm>
                  <a:prstGeom prst="ellipse">
                    <a:avLst/>
                  </a:prstGeom>
                  <a:solidFill>
                    <a:srgbClr val="fabf8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Line 717"/>
                  <p:cNvSpPr/>
                  <p:nvPr/>
                </p:nvSpPr>
                <p:spPr>
                  <a:xfrm>
                    <a:off x="4755600" y="6226560"/>
                    <a:ext cx="0" cy="135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Oval 718"/>
                  <p:cNvSpPr/>
                  <p:nvPr/>
                </p:nvSpPr>
                <p:spPr>
                  <a:xfrm rot="20313000">
                    <a:off x="4729320" y="6345360"/>
                    <a:ext cx="87120" cy="67320"/>
                  </a:xfrm>
                  <a:prstGeom prst="ellipse">
                    <a:avLst/>
                  </a:prstGeom>
                  <a:solidFill>
                    <a:srgbClr val="a5a5a5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Oval 719"/>
                  <p:cNvSpPr/>
                  <p:nvPr/>
                </p:nvSpPr>
                <p:spPr>
                  <a:xfrm>
                    <a:off x="4679640" y="5707800"/>
                    <a:ext cx="86760" cy="6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AutoShape 720"/>
                  <p:cNvSpPr/>
                  <p:nvPr/>
                </p:nvSpPr>
                <p:spPr>
                  <a:xfrm>
                    <a:off x="4554720" y="5928480"/>
                    <a:ext cx="348120" cy="30636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Line 721"/>
                  <p:cNvSpPr/>
                  <p:nvPr/>
                </p:nvSpPr>
                <p:spPr>
                  <a:xfrm>
                    <a:off x="4664520" y="6228000"/>
                    <a:ext cx="0" cy="122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Oval 722"/>
                  <p:cNvSpPr/>
                  <p:nvPr/>
                </p:nvSpPr>
                <p:spPr>
                  <a:xfrm rot="20313000">
                    <a:off x="4603680" y="6346080"/>
                    <a:ext cx="86760" cy="673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AutoShape 723"/>
                  <p:cNvSpPr/>
                  <p:nvPr/>
                </p:nvSpPr>
                <p:spPr>
                  <a:xfrm rot="5609400">
                    <a:off x="4673880" y="5700960"/>
                    <a:ext cx="9936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163" y="2283"/>
                          <a:pt x="12725" y="5080"/>
                          <a:pt x="12725" y="10800"/>
                        </a:cubicBezTo>
                        <a:cubicBezTo>
                          <a:pt x="12725" y="16520"/>
                          <a:pt x="17163" y="193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Group 724"/>
                <p:cNvGrpSpPr/>
                <p:nvPr/>
              </p:nvGrpSpPr>
              <p:grpSpPr>
                <a:xfrm>
                  <a:off x="4575240" y="5956560"/>
                  <a:ext cx="117000" cy="210240"/>
                  <a:chOff x="4575240" y="5956560"/>
                  <a:chExt cx="117000" cy="210240"/>
                </a:xfrm>
              </p:grpSpPr>
              <p:sp>
                <p:nvSpPr>
                  <p:cNvPr id="409" name="AutoShape 725"/>
                  <p:cNvSpPr/>
                  <p:nvPr/>
                </p:nvSpPr>
                <p:spPr>
                  <a:xfrm>
                    <a:off x="4575240" y="601092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Oval 726"/>
                  <p:cNvSpPr/>
                  <p:nvPr/>
                </p:nvSpPr>
                <p:spPr>
                  <a:xfrm>
                    <a:off x="4597920" y="5956560"/>
                    <a:ext cx="73080" cy="52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Line 727"/>
                  <p:cNvSpPr/>
                  <p:nvPr/>
                </p:nvSpPr>
                <p:spPr>
                  <a:xfrm>
                    <a:off x="4648680" y="6104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Line 728"/>
                  <p:cNvSpPr/>
                  <p:nvPr/>
                </p:nvSpPr>
                <p:spPr>
                  <a:xfrm>
                    <a:off x="4617360" y="6104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Oval 729"/>
                  <p:cNvSpPr/>
                  <p:nvPr/>
                </p:nvSpPr>
                <p:spPr>
                  <a:xfrm rot="20313000">
                    <a:off x="4638600" y="614124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Oval 730"/>
                  <p:cNvSpPr/>
                  <p:nvPr/>
                </p:nvSpPr>
                <p:spPr>
                  <a:xfrm rot="20313000">
                    <a:off x="4597200" y="614160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Group 731"/>
                <p:cNvGrpSpPr/>
                <p:nvPr/>
              </p:nvGrpSpPr>
              <p:grpSpPr>
                <a:xfrm>
                  <a:off x="4775760" y="5984280"/>
                  <a:ext cx="234360" cy="420480"/>
                  <a:chOff x="4775760" y="5984280"/>
                  <a:chExt cx="234360" cy="420480"/>
                </a:xfrm>
              </p:grpSpPr>
              <p:sp>
                <p:nvSpPr>
                  <p:cNvPr id="416" name="AutoShape 732"/>
                  <p:cNvSpPr/>
                  <p:nvPr/>
                </p:nvSpPr>
                <p:spPr>
                  <a:xfrm>
                    <a:off x="4775760" y="609264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f497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Oval 733"/>
                  <p:cNvSpPr/>
                  <p:nvPr/>
                </p:nvSpPr>
                <p:spPr>
                  <a:xfrm>
                    <a:off x="4821120" y="5984280"/>
                    <a:ext cx="146520" cy="1044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Line 734"/>
                  <p:cNvSpPr/>
                  <p:nvPr/>
                </p:nvSpPr>
                <p:spPr>
                  <a:xfrm>
                    <a:off x="4923000" y="6280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Line 735"/>
                  <p:cNvSpPr/>
                  <p:nvPr/>
                </p:nvSpPr>
                <p:spPr>
                  <a:xfrm>
                    <a:off x="4860360" y="6280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Oval 736"/>
                  <p:cNvSpPr/>
                  <p:nvPr/>
                </p:nvSpPr>
                <p:spPr>
                  <a:xfrm rot="20313000">
                    <a:off x="4902480" y="6353640"/>
                    <a:ext cx="58680" cy="41400"/>
                  </a:xfrm>
                  <a:prstGeom prst="ellipse">
                    <a:avLst/>
                  </a:prstGeom>
                  <a:solidFill>
                    <a:srgbClr val="d9959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Oval 737"/>
                  <p:cNvSpPr/>
                  <p:nvPr/>
                </p:nvSpPr>
                <p:spPr>
                  <a:xfrm rot="20313000">
                    <a:off x="4819680" y="6354000"/>
                    <a:ext cx="58680" cy="41400"/>
                  </a:xfrm>
                  <a:prstGeom prst="ellipse">
                    <a:avLst/>
                  </a:prstGeom>
                  <a:solidFill>
                    <a:srgbClr val="d9959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Group 738"/>
              <p:cNvGrpSpPr/>
              <p:nvPr/>
            </p:nvGrpSpPr>
            <p:grpSpPr>
              <a:xfrm>
                <a:off x="6509520" y="5702040"/>
                <a:ext cx="531720" cy="719280"/>
                <a:chOff x="6509520" y="5702040"/>
                <a:chExt cx="531720" cy="719280"/>
              </a:xfrm>
            </p:grpSpPr>
            <p:grpSp>
              <p:nvGrpSpPr>
                <p:cNvPr id="423" name="Group 739"/>
                <p:cNvGrpSpPr/>
                <p:nvPr/>
              </p:nvGrpSpPr>
              <p:grpSpPr>
                <a:xfrm>
                  <a:off x="6803640" y="5703480"/>
                  <a:ext cx="237600" cy="708480"/>
                  <a:chOff x="6803640" y="5703480"/>
                  <a:chExt cx="237600" cy="708480"/>
                </a:xfrm>
              </p:grpSpPr>
              <p:grpSp>
                <p:nvGrpSpPr>
                  <p:cNvPr id="424" name="Group 740"/>
                  <p:cNvGrpSpPr/>
                  <p:nvPr/>
                </p:nvGrpSpPr>
                <p:grpSpPr>
                  <a:xfrm>
                    <a:off x="6803640" y="5703480"/>
                    <a:ext cx="237600" cy="708480"/>
                    <a:chOff x="6803640" y="5703480"/>
                    <a:chExt cx="237600" cy="708480"/>
                  </a:xfrm>
                </p:grpSpPr>
                <p:sp>
                  <p:nvSpPr>
                    <p:cNvPr id="425" name="Rectangle 741"/>
                    <p:cNvSpPr/>
                    <p:nvPr/>
                  </p:nvSpPr>
                  <p:spPr>
                    <a:xfrm>
                      <a:off x="6806880" y="5883120"/>
                      <a:ext cx="234360" cy="452880"/>
                    </a:xfrm>
                    <a:prstGeom prst="rect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Line 742"/>
                    <p:cNvSpPr/>
                    <p:nvPr/>
                  </p:nvSpPr>
                  <p:spPr>
                    <a:xfrm>
                      <a:off x="6806880" y="6058080"/>
                      <a:ext cx="234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Line 743"/>
                    <p:cNvSpPr/>
                    <p:nvPr/>
                  </p:nvSpPr>
                  <p:spPr>
                    <a:xfrm flipV="1">
                      <a:off x="6921720" y="6057360"/>
                      <a:ext cx="0" cy="273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Oval 744"/>
                    <p:cNvSpPr/>
                    <p:nvPr/>
                  </p:nvSpPr>
                  <p:spPr>
                    <a:xfrm rot="20313000">
                      <a:off x="6950160" y="6331680"/>
                      <a:ext cx="78120" cy="68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Oval 745"/>
                    <p:cNvSpPr/>
                    <p:nvPr/>
                  </p:nvSpPr>
                  <p:spPr>
                    <a:xfrm rot="20313000">
                      <a:off x="6813360" y="6331680"/>
                      <a:ext cx="78120" cy="68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Oval 746"/>
                    <p:cNvSpPr/>
                    <p:nvPr/>
                  </p:nvSpPr>
                  <p:spPr>
                    <a:xfrm>
                      <a:off x="6828480" y="5703480"/>
                      <a:ext cx="195480" cy="171000"/>
                    </a:xfrm>
                    <a:prstGeom prst="ellipse">
                      <a:avLst/>
                    </a:prstGeom>
                    <a:solidFill>
                      <a:srgbClr val="492f1b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1" name="AutoShape 747"/>
                  <p:cNvSpPr/>
                  <p:nvPr/>
                </p:nvSpPr>
                <p:spPr>
                  <a:xfrm rot="5851800">
                    <a:off x="6905160" y="5758200"/>
                    <a:ext cx="428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Group 748"/>
                <p:cNvGrpSpPr/>
                <p:nvPr/>
              </p:nvGrpSpPr>
              <p:grpSpPr>
                <a:xfrm>
                  <a:off x="6509520" y="5702040"/>
                  <a:ext cx="348120" cy="719280"/>
                  <a:chOff x="6509520" y="5702040"/>
                  <a:chExt cx="348120" cy="719280"/>
                </a:xfrm>
              </p:grpSpPr>
              <p:sp>
                <p:nvSpPr>
                  <p:cNvPr id="433" name="Oval 749"/>
                  <p:cNvSpPr/>
                  <p:nvPr/>
                </p:nvSpPr>
                <p:spPr>
                  <a:xfrm>
                    <a:off x="6580080" y="5741640"/>
                    <a:ext cx="191520" cy="181080"/>
                  </a:xfrm>
                  <a:prstGeom prst="ellipse">
                    <a:avLst/>
                  </a:prstGeom>
                  <a:solidFill>
                    <a:srgbClr val="fabf8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Line 750"/>
                  <p:cNvSpPr/>
                  <p:nvPr/>
                </p:nvSpPr>
                <p:spPr>
                  <a:xfrm>
                    <a:off x="6710400" y="6220800"/>
                    <a:ext cx="0" cy="135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Oval 751"/>
                  <p:cNvSpPr/>
                  <p:nvPr/>
                </p:nvSpPr>
                <p:spPr>
                  <a:xfrm rot="20313000">
                    <a:off x="6684120" y="6339600"/>
                    <a:ext cx="87120" cy="67320"/>
                  </a:xfrm>
                  <a:prstGeom prst="ellipse">
                    <a:avLst/>
                  </a:prstGeom>
                  <a:solidFill>
                    <a:srgbClr val="a5a5a5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Oval 752"/>
                  <p:cNvSpPr/>
                  <p:nvPr/>
                </p:nvSpPr>
                <p:spPr>
                  <a:xfrm>
                    <a:off x="6634440" y="5702040"/>
                    <a:ext cx="86760" cy="6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AutoShape 753"/>
                  <p:cNvSpPr/>
                  <p:nvPr/>
                </p:nvSpPr>
                <p:spPr>
                  <a:xfrm>
                    <a:off x="6509520" y="5922720"/>
                    <a:ext cx="348120" cy="30636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Line 754"/>
                  <p:cNvSpPr/>
                  <p:nvPr/>
                </p:nvSpPr>
                <p:spPr>
                  <a:xfrm>
                    <a:off x="6619320" y="6222240"/>
                    <a:ext cx="0" cy="122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Oval 755"/>
                  <p:cNvSpPr/>
                  <p:nvPr/>
                </p:nvSpPr>
                <p:spPr>
                  <a:xfrm rot="20313000">
                    <a:off x="6558480" y="6340320"/>
                    <a:ext cx="86760" cy="673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AutoShape 756"/>
                  <p:cNvSpPr/>
                  <p:nvPr/>
                </p:nvSpPr>
                <p:spPr>
                  <a:xfrm rot="5609400">
                    <a:off x="6629040" y="5694480"/>
                    <a:ext cx="99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163" y="2283"/>
                          <a:pt x="12725" y="5080"/>
                          <a:pt x="12725" y="10800"/>
                        </a:cubicBezTo>
                        <a:cubicBezTo>
                          <a:pt x="12725" y="16520"/>
                          <a:pt x="17163" y="193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Group 757"/>
              <p:cNvGrpSpPr/>
              <p:nvPr/>
            </p:nvGrpSpPr>
            <p:grpSpPr>
              <a:xfrm>
                <a:off x="3900240" y="5733000"/>
                <a:ext cx="624600" cy="689760"/>
                <a:chOff x="3900240" y="5733000"/>
                <a:chExt cx="624600" cy="689760"/>
              </a:xfrm>
            </p:grpSpPr>
            <p:grpSp>
              <p:nvGrpSpPr>
                <p:cNvPr id="442" name="Group 758"/>
                <p:cNvGrpSpPr/>
                <p:nvPr/>
              </p:nvGrpSpPr>
              <p:grpSpPr>
                <a:xfrm>
                  <a:off x="3900240" y="5862240"/>
                  <a:ext cx="190080" cy="548280"/>
                  <a:chOff x="3900240" y="5862240"/>
                  <a:chExt cx="190080" cy="548280"/>
                </a:xfrm>
              </p:grpSpPr>
              <p:sp>
                <p:nvSpPr>
                  <p:cNvPr id="443" name="Rectangle 759"/>
                  <p:cNvSpPr/>
                  <p:nvPr/>
                </p:nvSpPr>
                <p:spPr>
                  <a:xfrm>
                    <a:off x="3902760" y="6001200"/>
                    <a:ext cx="187560" cy="350280"/>
                  </a:xfrm>
                  <a:prstGeom prst="rect">
                    <a:avLst/>
                  </a:prstGeom>
                  <a:solidFill>
                    <a:srgbClr val="31849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Line 760"/>
                  <p:cNvSpPr/>
                  <p:nvPr/>
                </p:nvSpPr>
                <p:spPr>
                  <a:xfrm>
                    <a:off x="3902760" y="6136560"/>
                    <a:ext cx="18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Line 761"/>
                  <p:cNvSpPr/>
                  <p:nvPr/>
                </p:nvSpPr>
                <p:spPr>
                  <a:xfrm flipV="1">
                    <a:off x="3994920" y="6135840"/>
                    <a:ext cx="0" cy="21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Oval 762"/>
                  <p:cNvSpPr/>
                  <p:nvPr/>
                </p:nvSpPr>
                <p:spPr>
                  <a:xfrm rot="20313000">
                    <a:off x="4016880" y="634824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Oval 763"/>
                  <p:cNvSpPr/>
                  <p:nvPr/>
                </p:nvSpPr>
                <p:spPr>
                  <a:xfrm rot="20313000">
                    <a:off x="3907440" y="634824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Oval 764"/>
                  <p:cNvSpPr/>
                  <p:nvPr/>
                </p:nvSpPr>
                <p:spPr>
                  <a:xfrm>
                    <a:off x="3920040" y="5862240"/>
                    <a:ext cx="156240" cy="13248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Group 765"/>
                <p:cNvGrpSpPr/>
                <p:nvPr/>
              </p:nvGrpSpPr>
              <p:grpSpPr>
                <a:xfrm>
                  <a:off x="4063680" y="5733000"/>
                  <a:ext cx="312480" cy="686160"/>
                  <a:chOff x="4063680" y="5733000"/>
                  <a:chExt cx="312480" cy="686160"/>
                </a:xfrm>
              </p:grpSpPr>
              <p:sp>
                <p:nvSpPr>
                  <p:cNvPr id="450" name="AutoShape 766"/>
                  <p:cNvSpPr/>
                  <p:nvPr/>
                </p:nvSpPr>
                <p:spPr>
                  <a:xfrm>
                    <a:off x="4063680" y="5910840"/>
                    <a:ext cx="312480" cy="309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2a1c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Oval 767"/>
                  <p:cNvSpPr/>
                  <p:nvPr/>
                </p:nvSpPr>
                <p:spPr>
                  <a:xfrm>
                    <a:off x="4124520" y="5733000"/>
                    <a:ext cx="195120" cy="17100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768"/>
                  <p:cNvSpPr/>
                  <p:nvPr/>
                </p:nvSpPr>
                <p:spPr>
                  <a:xfrm>
                    <a:off x="4259880" y="621936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Line 769"/>
                  <p:cNvSpPr/>
                  <p:nvPr/>
                </p:nvSpPr>
                <p:spPr>
                  <a:xfrm>
                    <a:off x="4176360" y="621936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Oval 770"/>
                  <p:cNvSpPr/>
                  <p:nvPr/>
                </p:nvSpPr>
                <p:spPr>
                  <a:xfrm rot="20313000">
                    <a:off x="4232520" y="6338160"/>
                    <a:ext cx="78120" cy="68040"/>
                  </a:xfrm>
                  <a:prstGeom prst="ellipse">
                    <a:avLst/>
                  </a:prstGeom>
                  <a:solidFill>
                    <a:srgbClr val="3f315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Oval 771"/>
                  <p:cNvSpPr/>
                  <p:nvPr/>
                </p:nvSpPr>
                <p:spPr>
                  <a:xfrm rot="20313000">
                    <a:off x="4122360" y="6338880"/>
                    <a:ext cx="78120" cy="68040"/>
                  </a:xfrm>
                  <a:prstGeom prst="ellipse">
                    <a:avLst/>
                  </a:prstGeom>
                  <a:solidFill>
                    <a:srgbClr val="3f315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772"/>
                <p:cNvGrpSpPr/>
                <p:nvPr/>
              </p:nvGrpSpPr>
              <p:grpSpPr>
                <a:xfrm>
                  <a:off x="3990600" y="6002280"/>
                  <a:ext cx="234360" cy="420480"/>
                  <a:chOff x="3990600" y="6002280"/>
                  <a:chExt cx="234360" cy="420480"/>
                </a:xfrm>
              </p:grpSpPr>
              <p:sp>
                <p:nvSpPr>
                  <p:cNvPr id="457" name="AutoShape 773"/>
                  <p:cNvSpPr/>
                  <p:nvPr/>
                </p:nvSpPr>
                <p:spPr>
                  <a:xfrm>
                    <a:off x="3990600" y="611064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Oval 774"/>
                  <p:cNvSpPr/>
                  <p:nvPr/>
                </p:nvSpPr>
                <p:spPr>
                  <a:xfrm>
                    <a:off x="4035960" y="6002280"/>
                    <a:ext cx="146520" cy="104400"/>
                  </a:xfrm>
                  <a:prstGeom prst="ellipse">
                    <a:avLst/>
                  </a:prstGeom>
                  <a:solidFill>
                    <a:srgbClr val="cd9b6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775"/>
                  <p:cNvSpPr/>
                  <p:nvPr/>
                </p:nvSpPr>
                <p:spPr>
                  <a:xfrm>
                    <a:off x="4137840" y="6298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776"/>
                  <p:cNvSpPr/>
                  <p:nvPr/>
                </p:nvSpPr>
                <p:spPr>
                  <a:xfrm>
                    <a:off x="4075200" y="6298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Oval 777"/>
                  <p:cNvSpPr/>
                  <p:nvPr/>
                </p:nvSpPr>
                <p:spPr>
                  <a:xfrm rot="20313000">
                    <a:off x="4117320" y="6371640"/>
                    <a:ext cx="58680" cy="41400"/>
                  </a:xfrm>
                  <a:prstGeom prst="ellipse">
                    <a:avLst/>
                  </a:prstGeom>
                  <a:solidFill>
                    <a:srgbClr val="8064a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Oval 778"/>
                  <p:cNvSpPr/>
                  <p:nvPr/>
                </p:nvSpPr>
                <p:spPr>
                  <a:xfrm rot="20313000">
                    <a:off x="4034520" y="6372000"/>
                    <a:ext cx="58680" cy="41400"/>
                  </a:xfrm>
                  <a:prstGeom prst="ellipse">
                    <a:avLst/>
                  </a:prstGeom>
                  <a:solidFill>
                    <a:srgbClr val="8064a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Group 779"/>
                <p:cNvGrpSpPr/>
                <p:nvPr/>
              </p:nvGrpSpPr>
              <p:grpSpPr>
                <a:xfrm>
                  <a:off x="4290480" y="5992200"/>
                  <a:ext cx="234360" cy="420480"/>
                  <a:chOff x="4290480" y="5992200"/>
                  <a:chExt cx="234360" cy="420480"/>
                </a:xfrm>
              </p:grpSpPr>
              <p:sp>
                <p:nvSpPr>
                  <p:cNvPr id="464" name="AutoShape 780"/>
                  <p:cNvSpPr/>
                  <p:nvPr/>
                </p:nvSpPr>
                <p:spPr>
                  <a:xfrm>
                    <a:off x="4290480" y="610056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363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Oval 781"/>
                  <p:cNvSpPr/>
                  <p:nvPr/>
                </p:nvSpPr>
                <p:spPr>
                  <a:xfrm>
                    <a:off x="4335840" y="5992200"/>
                    <a:ext cx="146520" cy="104400"/>
                  </a:xfrm>
                  <a:prstGeom prst="ellipse">
                    <a:avLst/>
                  </a:prstGeom>
                  <a:solidFill>
                    <a:srgbClr val="cd9b6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Line 782"/>
                  <p:cNvSpPr/>
                  <p:nvPr/>
                </p:nvSpPr>
                <p:spPr>
                  <a:xfrm>
                    <a:off x="4437720" y="628884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783"/>
                  <p:cNvSpPr/>
                  <p:nvPr/>
                </p:nvSpPr>
                <p:spPr>
                  <a:xfrm>
                    <a:off x="4375080" y="628884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Oval 784"/>
                  <p:cNvSpPr/>
                  <p:nvPr/>
                </p:nvSpPr>
                <p:spPr>
                  <a:xfrm rot="20313000">
                    <a:off x="4417200" y="6361560"/>
                    <a:ext cx="58680" cy="41400"/>
                  </a:xfrm>
                  <a:prstGeom prst="ellipse">
                    <a:avLst/>
                  </a:prstGeom>
                  <a:solidFill>
                    <a:srgbClr val="f2dbd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Oval 785"/>
                  <p:cNvSpPr/>
                  <p:nvPr/>
                </p:nvSpPr>
                <p:spPr>
                  <a:xfrm rot="20313000">
                    <a:off x="4334400" y="6361920"/>
                    <a:ext cx="58680" cy="41400"/>
                  </a:xfrm>
                  <a:prstGeom prst="ellipse">
                    <a:avLst/>
                  </a:prstGeom>
                  <a:solidFill>
                    <a:srgbClr val="f2dbd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Group 786"/>
                <p:cNvGrpSpPr/>
                <p:nvPr/>
              </p:nvGrpSpPr>
              <p:grpSpPr>
                <a:xfrm>
                  <a:off x="4218120" y="5911560"/>
                  <a:ext cx="117000" cy="210240"/>
                  <a:chOff x="4218120" y="5911560"/>
                  <a:chExt cx="117000" cy="210240"/>
                </a:xfrm>
              </p:grpSpPr>
              <p:sp>
                <p:nvSpPr>
                  <p:cNvPr id="471" name="AutoShape 787"/>
                  <p:cNvSpPr/>
                  <p:nvPr/>
                </p:nvSpPr>
                <p:spPr>
                  <a:xfrm>
                    <a:off x="4218120" y="596592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Oval 788"/>
                  <p:cNvSpPr/>
                  <p:nvPr/>
                </p:nvSpPr>
                <p:spPr>
                  <a:xfrm>
                    <a:off x="4240800" y="5911560"/>
                    <a:ext cx="73080" cy="5220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Line 789"/>
                  <p:cNvSpPr/>
                  <p:nvPr/>
                </p:nvSpPr>
                <p:spPr>
                  <a:xfrm>
                    <a:off x="4291560" y="6059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Line 790"/>
                  <p:cNvSpPr/>
                  <p:nvPr/>
                </p:nvSpPr>
                <p:spPr>
                  <a:xfrm>
                    <a:off x="4260240" y="6059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791"/>
                  <p:cNvSpPr/>
                  <p:nvPr/>
                </p:nvSpPr>
                <p:spPr>
                  <a:xfrm rot="20313000">
                    <a:off x="4281480" y="609624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792"/>
                  <p:cNvSpPr/>
                  <p:nvPr/>
                </p:nvSpPr>
                <p:spPr>
                  <a:xfrm rot="20313000">
                    <a:off x="4240080" y="609660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7" name="AutoShape 793"/>
            <p:cNvSpPr/>
            <p:nvPr/>
          </p:nvSpPr>
          <p:spPr>
            <a:xfrm rot="10800000">
              <a:off x="2050560" y="3789000"/>
              <a:ext cx="5473800" cy="77436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57240">
              <a:solidFill>
                <a:srgbClr val="94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Group 794"/>
            <p:cNvGrpSpPr/>
            <p:nvPr/>
          </p:nvGrpSpPr>
          <p:grpSpPr>
            <a:xfrm>
              <a:off x="2931840" y="4645800"/>
              <a:ext cx="3586320" cy="871560"/>
              <a:chOff x="2931840" y="4645800"/>
              <a:chExt cx="3586320" cy="871560"/>
            </a:xfrm>
          </p:grpSpPr>
          <p:grpSp>
            <p:nvGrpSpPr>
              <p:cNvPr id="479" name="Group 795"/>
              <p:cNvGrpSpPr/>
              <p:nvPr/>
            </p:nvGrpSpPr>
            <p:grpSpPr>
              <a:xfrm>
                <a:off x="2931840" y="4645800"/>
                <a:ext cx="3586320" cy="811800"/>
                <a:chOff x="2931840" y="4645800"/>
                <a:chExt cx="3586320" cy="811800"/>
              </a:xfrm>
            </p:grpSpPr>
            <p:sp>
              <p:nvSpPr>
                <p:cNvPr id="480" name="Rectangle 796"/>
                <p:cNvSpPr/>
                <p:nvPr/>
              </p:nvSpPr>
              <p:spPr>
                <a:xfrm>
                  <a:off x="2931840" y="4645800"/>
                  <a:ext cx="3586320" cy="8118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6ca6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797"/>
                <p:cNvSpPr/>
                <p:nvPr/>
              </p:nvSpPr>
              <p:spPr>
                <a:xfrm>
                  <a:off x="4280760" y="4645800"/>
                  <a:ext cx="1311120" cy="63720"/>
                </a:xfrm>
                <a:prstGeom prst="rect">
                  <a:avLst/>
                </a:prstGeom>
                <a:solidFill>
                  <a:srgbClr val="f8d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Text Box 798"/>
              <p:cNvSpPr/>
              <p:nvPr/>
            </p:nvSpPr>
            <p:spPr>
              <a:xfrm>
                <a:off x="2991960" y="4717800"/>
                <a:ext cx="34419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CR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entro de Referência de Assistência Soci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Text Box 799"/>
              <p:cNvSpPr/>
              <p:nvPr/>
            </p:nvSpPr>
            <p:spPr>
              <a:xfrm>
                <a:off x="3009960" y="514728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Text Box 800"/>
              <p:cNvSpPr/>
              <p:nvPr/>
            </p:nvSpPr>
            <p:spPr>
              <a:xfrm>
                <a:off x="4251960" y="5185440"/>
                <a:ext cx="163656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600" spc="-1" strike="noStrike">
                    <a:solidFill>
                      <a:srgbClr val="000000"/>
                    </a:solidFill>
                    <a:latin typeface="Book Antiqua"/>
                  </a:rPr>
                  <a:t>Ministério do Desenvolvimento                            Social e Combate à Fom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Text Box 801"/>
              <p:cNvSpPr/>
              <p:nvPr/>
            </p:nvSpPr>
            <p:spPr>
              <a:xfrm>
                <a:off x="5479920" y="5194080"/>
                <a:ext cx="9450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3579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Verdana"/>
                <a:ea typeface="Arial"/>
              </a:rPr>
              <a:t>Serviços de Proteção Social 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8000"/>
                </a:solidFill>
                <a:latin typeface="Verdana"/>
                <a:ea typeface="Arial"/>
              </a:rPr>
              <a:t>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21052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s serviços de proteção social básica serão executados de forma direta n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entros de Referência da Assistência Soci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- CR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 em outras unidades básicas e públicas de assistência social, bem como de forma indireta nas entidades e organizações de assistência social da área de abrangência dos C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Imagem 1" descr="http://www.mds.gov.br/brasil.gif"/>
          <p:cNvPicPr/>
          <p:nvPr/>
        </p:nvPicPr>
        <p:blipFill>
          <a:blip r:embed="rId12"/>
          <a:stretch/>
        </p:blipFill>
        <p:spPr>
          <a:xfrm>
            <a:off x="5867280" y="5246640"/>
            <a:ext cx="571680" cy="1461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03" descr="fome_zero-copia"/>
          <p:cNvPicPr/>
          <p:nvPr/>
        </p:nvPicPr>
        <p:blipFill>
          <a:blip r:embed="rId13"/>
          <a:srcRect l="2117" t="14244" r="2117" b="23869"/>
          <a:stretch/>
        </p:blipFill>
        <p:spPr>
          <a:xfrm>
            <a:off x="2987640" y="5157720"/>
            <a:ext cx="357120" cy="23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68360" y="260280"/>
            <a:ext cx="662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Verdana"/>
              </a:rPr>
              <a:t>A Proteção Social Básica inclui a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8000"/>
                </a:solidFill>
                <a:latin typeface="Verdana"/>
              </a:rPr>
              <a:t> ofert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 de Atenção Integral à Família –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I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clusão produti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projetos de enfrentamento à pobre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vivência para Ido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viços para crianças de 0 a 6 a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visem o fortalecimento dos vínculos familiares, o direito de brincar, ações de socialização e de sensibilização para a defesa dos direitos das crian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viços sócio-educativos para crianças, adolescentes e jovens  de 6 a 24 a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visando sua proteção, socialização e o fortalecimento dos vínculos familiares e comunit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just">
              <a:lnSpc>
                <a:spcPct val="110000"/>
              </a:lnSpc>
              <a:spcBef>
                <a:spcPts val="799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formação e de educação para o trabal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voltados para jovens e adulto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Verdana"/>
              </a:rPr>
              <a:t>Proteção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 Social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 algn="just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tina-se a proteger às famílias e indivíduos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  <a:ea typeface="Arial"/>
              </a:rPr>
              <a:t>cujos direitos tenham sido viol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, ou, que já tenha ocorrido rompimento dos laços familiares e comunitá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 algn="just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Proteção Social Especial tem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  <a:ea typeface="Arial"/>
              </a:rPr>
              <a:t>caráter reparador de danos, mas igualmente reabilitador de possibilidades com vistas a reinserção soci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 Por isso, exigem atenção mais personalizada e processos protetivos de longa du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 algn="just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 algn="just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Destinatários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indivíduos que se encontram em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ituação de alta vulnerabilidade pessoal e soci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decorrentes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corrência de aband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ítimas de maus tratos físicos e/ou psíqu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buso e exploração sex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suários de dro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dolescentes em conflito com a 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radores de ru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4"/>
          <a:stretch/>
        </p:blipFill>
        <p:spPr>
          <a:xfrm>
            <a:off x="7093080" y="4508640"/>
            <a:ext cx="1663560" cy="1392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403"/>
          <p:cNvGrpSpPr/>
          <p:nvPr/>
        </p:nvGrpSpPr>
        <p:grpSpPr>
          <a:xfrm>
            <a:off x="2050560" y="3789000"/>
            <a:ext cx="5473800" cy="2647440"/>
            <a:chOff x="2050560" y="3789000"/>
            <a:chExt cx="5473800" cy="2647440"/>
          </a:xfrm>
        </p:grpSpPr>
        <p:sp>
          <p:nvSpPr>
            <p:cNvPr id="496" name="Rectangle 404"/>
            <p:cNvSpPr/>
            <p:nvPr/>
          </p:nvSpPr>
          <p:spPr>
            <a:xfrm>
              <a:off x="2314080" y="4578120"/>
              <a:ext cx="4801680" cy="1846440"/>
            </a:xfrm>
            <a:prstGeom prst="rect">
              <a:avLst/>
            </a:prstGeom>
            <a:solidFill>
              <a:srgbClr val="fdf2e7"/>
            </a:solidFill>
            <a:ln w="381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7" name="Group 405"/>
            <p:cNvGrpSpPr/>
            <p:nvPr/>
          </p:nvGrpSpPr>
          <p:grpSpPr>
            <a:xfrm>
              <a:off x="2350440" y="5543280"/>
              <a:ext cx="4690800" cy="893160"/>
              <a:chOff x="2350440" y="5543280"/>
              <a:chExt cx="4690800" cy="893160"/>
            </a:xfrm>
          </p:grpSpPr>
          <p:grpSp>
            <p:nvGrpSpPr>
              <p:cNvPr id="498" name="Group 406"/>
              <p:cNvGrpSpPr/>
              <p:nvPr/>
            </p:nvGrpSpPr>
            <p:grpSpPr>
              <a:xfrm>
                <a:off x="2350440" y="5695200"/>
                <a:ext cx="787320" cy="720360"/>
                <a:chOff x="2350440" y="5695200"/>
                <a:chExt cx="787320" cy="720360"/>
              </a:xfrm>
            </p:grpSpPr>
            <p:grpSp>
              <p:nvGrpSpPr>
                <p:cNvPr id="499" name="Group 407"/>
                <p:cNvGrpSpPr/>
                <p:nvPr/>
              </p:nvGrpSpPr>
              <p:grpSpPr>
                <a:xfrm>
                  <a:off x="2350440" y="5695200"/>
                  <a:ext cx="787320" cy="720360"/>
                  <a:chOff x="2350440" y="5695200"/>
                  <a:chExt cx="787320" cy="720360"/>
                </a:xfrm>
              </p:grpSpPr>
              <p:grpSp>
                <p:nvGrpSpPr>
                  <p:cNvPr id="500" name="Group 408"/>
                  <p:cNvGrpSpPr/>
                  <p:nvPr/>
                </p:nvGrpSpPr>
                <p:grpSpPr>
                  <a:xfrm>
                    <a:off x="2350440" y="5695200"/>
                    <a:ext cx="348120" cy="719280"/>
                    <a:chOff x="2350440" y="5695200"/>
                    <a:chExt cx="348120" cy="719280"/>
                  </a:xfrm>
                </p:grpSpPr>
                <p:sp>
                  <p:nvSpPr>
                    <p:cNvPr id="501" name="Oval 409"/>
                    <p:cNvSpPr/>
                    <p:nvPr/>
                  </p:nvSpPr>
                  <p:spPr>
                    <a:xfrm>
                      <a:off x="2421000" y="5734800"/>
                      <a:ext cx="191520" cy="181080"/>
                    </a:xfrm>
                    <a:prstGeom prst="ellipse">
                      <a:avLst/>
                    </a:prstGeom>
                    <a:solidFill>
                      <a:srgbClr val="fabf8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410"/>
                    <p:cNvSpPr/>
                    <p:nvPr/>
                  </p:nvSpPr>
                  <p:spPr>
                    <a:xfrm>
                      <a:off x="2551320" y="6213960"/>
                      <a:ext cx="0" cy="135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Oval 411"/>
                    <p:cNvSpPr/>
                    <p:nvPr/>
                  </p:nvSpPr>
                  <p:spPr>
                    <a:xfrm rot="20313000">
                      <a:off x="2525040" y="6332760"/>
                      <a:ext cx="87120" cy="67320"/>
                    </a:xfrm>
                    <a:prstGeom prst="ellipse">
                      <a:avLst/>
                    </a:prstGeom>
                    <a:solidFill>
                      <a:srgbClr val="a5a5a5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Oval 412"/>
                    <p:cNvSpPr/>
                    <p:nvPr/>
                  </p:nvSpPr>
                  <p:spPr>
                    <a:xfrm>
                      <a:off x="2475360" y="5695200"/>
                      <a:ext cx="86760" cy="6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AutoShape 413"/>
                    <p:cNvSpPr/>
                    <p:nvPr/>
                  </p:nvSpPr>
                  <p:spPr>
                    <a:xfrm>
                      <a:off x="2350440" y="5915880"/>
                      <a:ext cx="348120" cy="306360"/>
                    </a:xfrm>
                    <a:prstGeom prst="triangle">
                      <a:avLst>
                        <a:gd name="adj" fmla="val 50000"/>
                      </a:avLst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Line 414"/>
                    <p:cNvSpPr/>
                    <p:nvPr/>
                  </p:nvSpPr>
                  <p:spPr>
                    <a:xfrm>
                      <a:off x="2460240" y="6215400"/>
                      <a:ext cx="0" cy="122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Oval 415"/>
                    <p:cNvSpPr/>
                    <p:nvPr/>
                  </p:nvSpPr>
                  <p:spPr>
                    <a:xfrm rot="20313000">
                      <a:off x="2399400" y="6333480"/>
                      <a:ext cx="86760" cy="67320"/>
                    </a:xfrm>
                    <a:prstGeom prst="ellipse">
                      <a:avLst/>
                    </a:prstGeom>
                    <a:solidFill>
                      <a:srgbClr val="7f7f7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AutoShape 416"/>
                    <p:cNvSpPr/>
                    <p:nvPr/>
                  </p:nvSpPr>
                  <p:spPr>
                    <a:xfrm rot="5609400">
                      <a:off x="2469960" y="5687640"/>
                      <a:ext cx="9936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7163" y="2283"/>
                            <a:pt x="12725" y="5080"/>
                            <a:pt x="12725" y="10800"/>
                          </a:cubicBezTo>
                          <a:cubicBezTo>
                            <a:pt x="12725" y="16520"/>
                            <a:pt x="17163" y="19317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Group 417"/>
                  <p:cNvGrpSpPr/>
                  <p:nvPr/>
                </p:nvGrpSpPr>
                <p:grpSpPr>
                  <a:xfrm>
                    <a:off x="2673720" y="5705640"/>
                    <a:ext cx="245160" cy="709920"/>
                    <a:chOff x="2673720" y="5705640"/>
                    <a:chExt cx="245160" cy="709920"/>
                  </a:xfrm>
                </p:grpSpPr>
                <p:grpSp>
                  <p:nvGrpSpPr>
                    <p:cNvPr id="510" name="Group 418"/>
                    <p:cNvGrpSpPr/>
                    <p:nvPr/>
                  </p:nvGrpSpPr>
                  <p:grpSpPr>
                    <a:xfrm>
                      <a:off x="2673720" y="5895000"/>
                      <a:ext cx="245160" cy="458640"/>
                      <a:chOff x="2673720" y="5895000"/>
                      <a:chExt cx="245160" cy="458640"/>
                    </a:xfrm>
                  </p:grpSpPr>
                  <p:sp>
                    <p:nvSpPr>
                      <p:cNvPr id="511" name="Rectangle 419"/>
                      <p:cNvSpPr/>
                      <p:nvPr/>
                    </p:nvSpPr>
                    <p:spPr>
                      <a:xfrm>
                        <a:off x="2673720" y="5895000"/>
                        <a:ext cx="245160" cy="45864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2" name="Line 420"/>
                      <p:cNvSpPr/>
                      <p:nvPr/>
                    </p:nvSpPr>
                    <p:spPr>
                      <a:xfrm>
                        <a:off x="2673720" y="6077520"/>
                        <a:ext cx="24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Line 421"/>
                      <p:cNvSpPr/>
                      <p:nvPr/>
                    </p:nvSpPr>
                    <p:spPr>
                      <a:xfrm flipV="1">
                        <a:off x="2792520" y="6076800"/>
                        <a:ext cx="0" cy="272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4" name="Oval 422"/>
                    <p:cNvSpPr/>
                    <p:nvPr/>
                  </p:nvSpPr>
                  <p:spPr>
                    <a:xfrm rot="20313000">
                      <a:off x="2823480" y="6330600"/>
                      <a:ext cx="79920" cy="72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5" name="Group 423"/>
                    <p:cNvGrpSpPr/>
                    <p:nvPr/>
                  </p:nvGrpSpPr>
                  <p:grpSpPr>
                    <a:xfrm>
                      <a:off x="2684520" y="5705640"/>
                      <a:ext cx="214560" cy="175320"/>
                      <a:chOff x="2684520" y="5705640"/>
                      <a:chExt cx="214560" cy="175320"/>
                    </a:xfrm>
                  </p:grpSpPr>
                  <p:sp>
                    <p:nvSpPr>
                      <p:cNvPr id="516" name="Oval 424"/>
                      <p:cNvSpPr/>
                      <p:nvPr/>
                    </p:nvSpPr>
                    <p:spPr>
                      <a:xfrm>
                        <a:off x="2684520" y="5705640"/>
                        <a:ext cx="214560" cy="175320"/>
                      </a:xfrm>
                      <a:prstGeom prst="ellipse">
                        <a:avLst/>
                      </a:prstGeom>
                      <a:solidFill>
                        <a:srgbClr val="c3864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Freeform 425"/>
                      <p:cNvSpPr/>
                      <p:nvPr/>
                    </p:nvSpPr>
                    <p:spPr>
                      <a:xfrm flipH="1">
                        <a:off x="2839680" y="5715000"/>
                        <a:ext cx="58680" cy="961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8" name="Freeform 426"/>
                      <p:cNvSpPr/>
                      <p:nvPr/>
                    </p:nvSpPr>
                    <p:spPr>
                      <a:xfrm>
                        <a:off x="2684520" y="5715000"/>
                        <a:ext cx="56880" cy="928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9" name="Oval 427"/>
                    <p:cNvSpPr/>
                    <p:nvPr/>
                  </p:nvSpPr>
                  <p:spPr>
                    <a:xfrm rot="20313000">
                      <a:off x="2688480" y="6329880"/>
                      <a:ext cx="80280" cy="72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Group 428"/>
                  <p:cNvGrpSpPr/>
                  <p:nvPr/>
                </p:nvGrpSpPr>
                <p:grpSpPr>
                  <a:xfrm>
                    <a:off x="2890440" y="5855040"/>
                    <a:ext cx="247320" cy="551520"/>
                    <a:chOff x="2890440" y="5855040"/>
                    <a:chExt cx="247320" cy="551520"/>
                  </a:xfrm>
                </p:grpSpPr>
                <p:sp>
                  <p:nvSpPr>
                    <p:cNvPr id="521" name="AutoShape 429"/>
                    <p:cNvSpPr/>
                    <p:nvPr/>
                  </p:nvSpPr>
                  <p:spPr>
                    <a:xfrm>
                      <a:off x="2890440" y="5998320"/>
                      <a:ext cx="247320" cy="249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Oval 430"/>
                    <p:cNvSpPr/>
                    <p:nvPr/>
                  </p:nvSpPr>
                  <p:spPr>
                    <a:xfrm>
                      <a:off x="2938320" y="5855040"/>
                      <a:ext cx="154440" cy="13752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Line 431"/>
                    <p:cNvSpPr/>
                    <p:nvPr/>
                  </p:nvSpPr>
                  <p:spPr>
                    <a:xfrm>
                      <a:off x="3045600" y="6246000"/>
                      <a:ext cx="0" cy="1101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Line 432"/>
                    <p:cNvSpPr/>
                    <p:nvPr/>
                  </p:nvSpPr>
                  <p:spPr>
                    <a:xfrm>
                      <a:off x="2979720" y="6246000"/>
                      <a:ext cx="0" cy="1101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Oval 433"/>
                    <p:cNvSpPr/>
                    <p:nvPr/>
                  </p:nvSpPr>
                  <p:spPr>
                    <a:xfrm rot="20313000">
                      <a:off x="3023640" y="6341760"/>
                      <a:ext cx="61920" cy="54720"/>
                    </a:xfrm>
                    <a:prstGeom prst="ellipse">
                      <a:avLst/>
                    </a:prstGeom>
                    <a:solidFill>
                      <a:srgbClr val="3f315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Oval 434"/>
                    <p:cNvSpPr/>
                    <p:nvPr/>
                  </p:nvSpPr>
                  <p:spPr>
                    <a:xfrm rot="20313000">
                      <a:off x="2936520" y="6342480"/>
                      <a:ext cx="61920" cy="54720"/>
                    </a:xfrm>
                    <a:prstGeom prst="ellipse">
                      <a:avLst/>
                    </a:prstGeom>
                    <a:solidFill>
                      <a:srgbClr val="3f315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7" name="Group 435"/>
                  <p:cNvGrpSpPr/>
                  <p:nvPr/>
                </p:nvGrpSpPr>
                <p:grpSpPr>
                  <a:xfrm>
                    <a:off x="2574720" y="5993280"/>
                    <a:ext cx="157320" cy="418680"/>
                    <a:chOff x="2574720" y="5993280"/>
                    <a:chExt cx="157320" cy="418680"/>
                  </a:xfrm>
                </p:grpSpPr>
                <p:sp>
                  <p:nvSpPr>
                    <p:cNvPr id="528" name="Rectangle 436"/>
                    <p:cNvSpPr/>
                    <p:nvPr/>
                  </p:nvSpPr>
                  <p:spPr>
                    <a:xfrm>
                      <a:off x="2575800" y="6099120"/>
                      <a:ext cx="156240" cy="267120"/>
                    </a:xfrm>
                    <a:prstGeom prst="rect">
                      <a:avLst/>
                    </a:prstGeom>
                    <a:solidFill>
                      <a:srgbClr val="c2d69b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Line 437"/>
                    <p:cNvSpPr/>
                    <p:nvPr/>
                  </p:nvSpPr>
                  <p:spPr>
                    <a:xfrm>
                      <a:off x="2575800" y="6202440"/>
                      <a:ext cx="15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Line 438"/>
                    <p:cNvSpPr/>
                    <p:nvPr/>
                  </p:nvSpPr>
                  <p:spPr>
                    <a:xfrm flipV="1">
                      <a:off x="2652480" y="6201720"/>
                      <a:ext cx="0" cy="16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Oval 439"/>
                    <p:cNvSpPr/>
                    <p:nvPr/>
                  </p:nvSpPr>
                  <p:spPr>
                    <a:xfrm rot="20313000">
                      <a:off x="2671200" y="6363720"/>
                      <a:ext cx="52200" cy="3996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Oval 440"/>
                    <p:cNvSpPr/>
                    <p:nvPr/>
                  </p:nvSpPr>
                  <p:spPr>
                    <a:xfrm rot="20313000">
                      <a:off x="2580120" y="6363720"/>
                      <a:ext cx="52200" cy="3996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Oval 441"/>
                    <p:cNvSpPr/>
                    <p:nvPr/>
                  </p:nvSpPr>
                  <p:spPr>
                    <a:xfrm>
                      <a:off x="2590200" y="5993280"/>
                      <a:ext cx="130320" cy="100800"/>
                    </a:xfrm>
                    <a:prstGeom prst="ellipse">
                      <a:avLst/>
                    </a:prstGeom>
                    <a:solidFill>
                      <a:srgbClr val="d5ab8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34" name="AutoShape 442"/>
                <p:cNvSpPr/>
                <p:nvPr/>
              </p:nvSpPr>
              <p:spPr>
                <a:xfrm rot="5851800">
                  <a:off x="2773080" y="5758200"/>
                  <a:ext cx="42840" cy="12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43"/>
              <p:cNvGrpSpPr/>
              <p:nvPr/>
            </p:nvGrpSpPr>
            <p:grpSpPr>
              <a:xfrm>
                <a:off x="3152880" y="5599800"/>
                <a:ext cx="716760" cy="816120"/>
                <a:chOff x="3152880" y="5599800"/>
                <a:chExt cx="716760" cy="816120"/>
              </a:xfrm>
            </p:grpSpPr>
            <p:grpSp>
              <p:nvGrpSpPr>
                <p:cNvPr id="536" name="Group 444"/>
                <p:cNvGrpSpPr/>
                <p:nvPr/>
              </p:nvGrpSpPr>
              <p:grpSpPr>
                <a:xfrm>
                  <a:off x="3152880" y="5961600"/>
                  <a:ext cx="167040" cy="445680"/>
                  <a:chOff x="3152880" y="5961600"/>
                  <a:chExt cx="167040" cy="445680"/>
                </a:xfrm>
              </p:grpSpPr>
              <p:grpSp>
                <p:nvGrpSpPr>
                  <p:cNvPr id="537" name="Group 445"/>
                  <p:cNvGrpSpPr/>
                  <p:nvPr/>
                </p:nvGrpSpPr>
                <p:grpSpPr>
                  <a:xfrm>
                    <a:off x="3152880" y="6077520"/>
                    <a:ext cx="167040" cy="205920"/>
                    <a:chOff x="3152880" y="6077520"/>
                    <a:chExt cx="167040" cy="205920"/>
                  </a:xfrm>
                </p:grpSpPr>
                <p:grpSp>
                  <p:nvGrpSpPr>
                    <p:cNvPr id="538" name="Group 446"/>
                    <p:cNvGrpSpPr/>
                    <p:nvPr/>
                  </p:nvGrpSpPr>
                  <p:grpSpPr>
                    <a:xfrm>
                      <a:off x="3152880" y="6080400"/>
                      <a:ext cx="161280" cy="199440"/>
                      <a:chOff x="3152880" y="6080400"/>
                      <a:chExt cx="161280" cy="199440"/>
                    </a:xfrm>
                  </p:grpSpPr>
                  <p:grpSp>
                    <p:nvGrpSpPr>
                      <p:cNvPr id="539" name="Group 447"/>
                      <p:cNvGrpSpPr/>
                      <p:nvPr/>
                    </p:nvGrpSpPr>
                    <p:grpSpPr>
                      <a:xfrm>
                        <a:off x="3158280" y="6080400"/>
                        <a:ext cx="155880" cy="199440"/>
                        <a:chOff x="3158280" y="6080400"/>
                        <a:chExt cx="155880" cy="199440"/>
                      </a:xfrm>
                    </p:grpSpPr>
                    <p:sp>
                      <p:nvSpPr>
                        <p:cNvPr id="540" name="Rectangle 448"/>
                        <p:cNvSpPr/>
                        <p:nvPr/>
                      </p:nvSpPr>
                      <p:spPr>
                        <a:xfrm>
                          <a:off x="3160080" y="6091920"/>
                          <a:ext cx="154080" cy="187920"/>
                        </a:xfrm>
                        <a:prstGeom prst="rect">
                          <a:avLst/>
                        </a:prstGeom>
                        <a:solidFill>
                          <a:srgbClr val="ff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1" name="Group 449"/>
                        <p:cNvGrpSpPr/>
                        <p:nvPr/>
                      </p:nvGrpSpPr>
                      <p:grpSpPr>
                        <a:xfrm>
                          <a:off x="3158280" y="6080400"/>
                          <a:ext cx="150480" cy="181800"/>
                          <a:chOff x="3158280" y="6080400"/>
                          <a:chExt cx="150480" cy="181800"/>
                        </a:xfrm>
                      </p:grpSpPr>
                      <p:grpSp>
                        <p:nvGrpSpPr>
                          <p:cNvPr id="542" name="Group 450"/>
                          <p:cNvGrpSpPr/>
                          <p:nvPr/>
                        </p:nvGrpSpPr>
                        <p:grpSpPr>
                          <a:xfrm>
                            <a:off x="3206520" y="6080400"/>
                            <a:ext cx="98640" cy="181800"/>
                            <a:chOff x="3206520" y="6080400"/>
                            <a:chExt cx="98640" cy="181800"/>
                          </a:xfrm>
                        </p:grpSpPr>
                        <p:sp>
                          <p:nvSpPr>
                            <p:cNvPr id="543" name="AutoShape 451"/>
                            <p:cNvSpPr/>
                            <p:nvPr/>
                          </p:nvSpPr>
                          <p:spPr>
                            <a:xfrm rot="2721600">
                              <a:off x="3233520" y="6090480"/>
                              <a:ext cx="56160" cy="65880"/>
                            </a:xfrm>
                            <a:custGeom>
                              <a:avLst/>
                              <a:gdLst>
                                <a:gd name="textAreaLeft" fmla="*/ 27000 w 56160"/>
                                <a:gd name="textAreaRight" fmla="*/ 29160 w 56160"/>
                                <a:gd name="textAreaTop" fmla="*/ 31680 h 65880"/>
                                <a:gd name="textAreaBottom" fmla="*/ 34200 h 65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1600">
                                  <a:moveTo>
                                    <a:pt x="0" y="10800"/>
                                  </a:moveTo>
                                  <a:lnTo>
                                    <a:pt x="10336" y="10336"/>
                                  </a:lnTo>
                                  <a:lnTo>
                                    <a:pt x="10800" y="0"/>
                                  </a:lnTo>
                                  <a:lnTo>
                                    <a:pt x="11264" y="10336"/>
                                  </a:lnTo>
                                  <a:lnTo>
                                    <a:pt x="21600" y="10800"/>
                                  </a:lnTo>
                                  <a:lnTo>
                                    <a:pt x="11264" y="11264"/>
                                  </a:lnTo>
                                  <a:lnTo>
                                    <a:pt x="10800" y="21600"/>
                                  </a:lnTo>
                                  <a:lnTo>
                                    <a:pt x="10336" y="11264"/>
                                  </a:lnTo>
                                  <a:lnTo>
                                    <a:pt x="0" y="108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66"/>
                            </a:solidFill>
                            <a:ln w="9360">
                              <a:solidFill>
                                <a:srgbClr val="00b05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 vert="eaVert" rot="10800000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4" name="AutoShape 452"/>
                            <p:cNvSpPr/>
                            <p:nvPr/>
                          </p:nvSpPr>
                          <p:spPr>
                            <a:xfrm rot="2721600">
                              <a:off x="3221280" y="6186240"/>
                              <a:ext cx="56160" cy="65520"/>
                            </a:xfrm>
                            <a:custGeom>
                              <a:avLst/>
                              <a:gdLst>
                                <a:gd name="textAreaLeft" fmla="*/ 27000 w 56160"/>
                                <a:gd name="textAreaRight" fmla="*/ 29160 w 56160"/>
                                <a:gd name="textAreaTop" fmla="*/ 31320 h 65520"/>
                                <a:gd name="textAreaBottom" fmla="*/ 34200 h 65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1600">
                                  <a:moveTo>
                                    <a:pt x="0" y="10800"/>
                                  </a:moveTo>
                                  <a:lnTo>
                                    <a:pt x="10358" y="10358"/>
                                  </a:lnTo>
                                  <a:lnTo>
                                    <a:pt x="10800" y="0"/>
                                  </a:lnTo>
                                  <a:lnTo>
                                    <a:pt x="11242" y="10358"/>
                                  </a:lnTo>
                                  <a:lnTo>
                                    <a:pt x="21600" y="10800"/>
                                  </a:lnTo>
                                  <a:lnTo>
                                    <a:pt x="11242" y="11242"/>
                                  </a:lnTo>
                                  <a:lnTo>
                                    <a:pt x="10800" y="21600"/>
                                  </a:lnTo>
                                  <a:lnTo>
                                    <a:pt x="10358" y="11242"/>
                                  </a:lnTo>
                                  <a:lnTo>
                                    <a:pt x="0" y="1080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66"/>
                            </a:solidFill>
                            <a:ln w="9360">
                              <a:solidFill>
                                <a:srgbClr val="00b05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 vert="eaVert" rot="10800000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5" name="AutoShape 453"/>
                          <p:cNvSpPr/>
                          <p:nvPr/>
                        </p:nvSpPr>
                        <p:spPr>
                          <a:xfrm rot="5131800">
                            <a:off x="3210120" y="6128640"/>
                            <a:ext cx="56160" cy="65520"/>
                          </a:xfrm>
                          <a:custGeom>
                            <a:avLst/>
                            <a:gdLst>
                              <a:gd name="textAreaLeft" fmla="*/ 27000 w 56160"/>
                              <a:gd name="textAreaRight" fmla="*/ 29160 w 5616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6" name="AutoShape 454"/>
                          <p:cNvSpPr/>
                          <p:nvPr/>
                        </p:nvSpPr>
                        <p:spPr>
                          <a:xfrm rot="5143800">
                            <a:off x="3164400" y="6165720"/>
                            <a:ext cx="56520" cy="65520"/>
                          </a:xfrm>
                          <a:custGeom>
                            <a:avLst/>
                            <a:gdLst>
                              <a:gd name="textAreaLeft" fmla="*/ 27000 w 56520"/>
                              <a:gd name="textAreaRight" fmla="*/ 29520 w 5652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" name="AutoShape 455"/>
                          <p:cNvSpPr/>
                          <p:nvPr/>
                        </p:nvSpPr>
                        <p:spPr>
                          <a:xfrm rot="5131800">
                            <a:off x="3245760" y="6185160"/>
                            <a:ext cx="56160" cy="65520"/>
                          </a:xfrm>
                          <a:custGeom>
                            <a:avLst/>
                            <a:gdLst>
                              <a:gd name="textAreaLeft" fmla="*/ 27000 w 56160"/>
                              <a:gd name="textAreaRight" fmla="*/ 29160 w 56160"/>
                              <a:gd name="textAreaTop" fmla="*/ 31320 h 65520"/>
                              <a:gd name="textAreaBottom" fmla="*/ 34200 h 655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66"/>
                          </a:solidFill>
                          <a:ln w="9360">
                            <a:solidFill>
                              <a:srgbClr val="00b05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48" name="AutoShape 456"/>
                      <p:cNvSpPr/>
                      <p:nvPr/>
                    </p:nvSpPr>
                    <p:spPr>
                      <a:xfrm rot="2721600">
                        <a:off x="3167640" y="6124320"/>
                        <a:ext cx="56160" cy="65520"/>
                      </a:xfrm>
                      <a:custGeom>
                        <a:avLst/>
                        <a:gdLst>
                          <a:gd name="textAreaLeft" fmla="*/ 27000 w 56160"/>
                          <a:gd name="textAreaRight" fmla="*/ 29160 w 56160"/>
                          <a:gd name="textAreaTop" fmla="*/ 31320 h 65520"/>
                          <a:gd name="textAreaBottom" fmla="*/ 3420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ff0066"/>
                      </a:solidFill>
                      <a:ln w="9360">
                        <a:solidFill>
                          <a:srgbClr val="00b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9" name="Group 457"/>
                    <p:cNvGrpSpPr/>
                    <p:nvPr/>
                  </p:nvGrpSpPr>
                  <p:grpSpPr>
                    <a:xfrm>
                      <a:off x="3155040" y="6077520"/>
                      <a:ext cx="164880" cy="205920"/>
                      <a:chOff x="3155040" y="6077520"/>
                      <a:chExt cx="164880" cy="205920"/>
                    </a:xfrm>
                  </p:grpSpPr>
                  <p:grpSp>
                    <p:nvGrpSpPr>
                      <p:cNvPr id="550" name="Group 458"/>
                      <p:cNvGrpSpPr/>
                      <p:nvPr/>
                    </p:nvGrpSpPr>
                    <p:grpSpPr>
                      <a:xfrm>
                        <a:off x="3155040" y="6077520"/>
                        <a:ext cx="160560" cy="205920"/>
                        <a:chOff x="3155040" y="6077520"/>
                        <a:chExt cx="160560" cy="205920"/>
                      </a:xfrm>
                    </p:grpSpPr>
                    <p:sp>
                      <p:nvSpPr>
                        <p:cNvPr id="551" name="AutoShape 459"/>
                        <p:cNvSpPr/>
                        <p:nvPr/>
                      </p:nvSpPr>
                      <p:spPr>
                        <a:xfrm rot="2971200">
                          <a:off x="3191760" y="6087240"/>
                          <a:ext cx="56520" cy="65520"/>
                        </a:xfrm>
                        <a:custGeom>
                          <a:avLst/>
                          <a:gdLst>
                            <a:gd name="textAreaLeft" fmla="*/ 27000 w 56520"/>
                            <a:gd name="textAreaRight" fmla="*/ 29520 w 5652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AutoShape 460"/>
                        <p:cNvSpPr/>
                        <p:nvPr/>
                      </p:nvSpPr>
                      <p:spPr>
                        <a:xfrm rot="2971200">
                          <a:off x="3171600" y="6176520"/>
                          <a:ext cx="56520" cy="65520"/>
                        </a:xfrm>
                        <a:custGeom>
                          <a:avLst/>
                          <a:gdLst>
                            <a:gd name="textAreaLeft" fmla="*/ 27000 w 56520"/>
                            <a:gd name="textAreaRight" fmla="*/ 29520 w 5652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AutoShape 461"/>
                        <p:cNvSpPr/>
                        <p:nvPr/>
                      </p:nvSpPr>
                      <p:spPr>
                        <a:xfrm rot="5382600">
                          <a:off x="3166200" y="608364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AutoShape 462"/>
                        <p:cNvSpPr/>
                        <p:nvPr/>
                      </p:nvSpPr>
                      <p:spPr>
                        <a:xfrm rot="5382600">
                          <a:off x="3159720" y="621540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" name="AutoShape 463"/>
                        <p:cNvSpPr/>
                        <p:nvPr/>
                      </p:nvSpPr>
                      <p:spPr>
                        <a:xfrm rot="5382600">
                          <a:off x="3254400" y="622224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AutoShape 464"/>
                        <p:cNvSpPr/>
                        <p:nvPr/>
                      </p:nvSpPr>
                      <p:spPr>
                        <a:xfrm rot="5382600">
                          <a:off x="3218400" y="6179400"/>
                          <a:ext cx="56160" cy="65520"/>
                        </a:xfrm>
                        <a:custGeom>
                          <a:avLst/>
                          <a:gdLst>
                            <a:gd name="textAreaLeft" fmla="*/ 27000 w 56160"/>
                            <a:gd name="textAreaRight" fmla="*/ 29160 w 56160"/>
                            <a:gd name="textAreaTop" fmla="*/ 31320 h 65520"/>
                            <a:gd name="textAreaBottom" fmla="*/ 34200 h 65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66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57" name="AutoShape 465"/>
                      <p:cNvSpPr/>
                      <p:nvPr/>
                    </p:nvSpPr>
                    <p:spPr>
                      <a:xfrm rot="2721600">
                        <a:off x="3248640" y="6136920"/>
                        <a:ext cx="56160" cy="65520"/>
                      </a:xfrm>
                      <a:custGeom>
                        <a:avLst/>
                        <a:gdLst>
                          <a:gd name="textAreaLeft" fmla="*/ 27000 w 56160"/>
                          <a:gd name="textAreaRight" fmla="*/ 29160 w 56160"/>
                          <a:gd name="textAreaTop" fmla="*/ 31320 h 65520"/>
                          <a:gd name="textAreaBottom" fmla="*/ 34200 h 65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ff0066"/>
                      </a:solidFill>
                      <a:ln w="9360">
                        <a:solidFill>
                          <a:srgbClr val="00b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8" name="Oval 466"/>
                  <p:cNvSpPr/>
                  <p:nvPr/>
                </p:nvSpPr>
                <p:spPr>
                  <a:xfrm rot="20313000">
                    <a:off x="3251520" y="6359040"/>
                    <a:ext cx="51120" cy="40320"/>
                  </a:xfrm>
                  <a:prstGeom prst="ellipse">
                    <a:avLst/>
                  </a:prstGeom>
                  <a:solidFill>
                    <a:srgbClr val="76923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Oval 467"/>
                  <p:cNvSpPr/>
                  <p:nvPr/>
                </p:nvSpPr>
                <p:spPr>
                  <a:xfrm rot="20313000">
                    <a:off x="3165840" y="6358680"/>
                    <a:ext cx="51480" cy="40320"/>
                  </a:xfrm>
                  <a:prstGeom prst="ellipse">
                    <a:avLst/>
                  </a:prstGeom>
                  <a:solidFill>
                    <a:srgbClr val="76923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0" name="Group 468"/>
                  <p:cNvGrpSpPr/>
                  <p:nvPr/>
                </p:nvGrpSpPr>
                <p:grpSpPr>
                  <a:xfrm>
                    <a:off x="3161160" y="6283440"/>
                    <a:ext cx="153720" cy="75240"/>
                    <a:chOff x="3161160" y="6283440"/>
                    <a:chExt cx="153720" cy="75240"/>
                  </a:xfrm>
                </p:grpSpPr>
                <p:sp>
                  <p:nvSpPr>
                    <p:cNvPr id="561" name="Rectangle 469"/>
                    <p:cNvSpPr/>
                    <p:nvPr/>
                  </p:nvSpPr>
                  <p:spPr>
                    <a:xfrm>
                      <a:off x="3161160" y="6283440"/>
                      <a:ext cx="153720" cy="7416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562" name="AutoShape 470"/>
                    <p:cNvCxnSpPr/>
                    <p:nvPr/>
                  </p:nvCxnSpPr>
                  <p:spPr>
                    <a:xfrm>
                      <a:off x="3235680" y="6284520"/>
                      <a:ext cx="1080" cy="745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63" name="Group 471"/>
                  <p:cNvGrpSpPr/>
                  <p:nvPr/>
                </p:nvGrpSpPr>
                <p:grpSpPr>
                  <a:xfrm>
                    <a:off x="3164400" y="5961600"/>
                    <a:ext cx="138960" cy="128880"/>
                    <a:chOff x="3164400" y="5961600"/>
                    <a:chExt cx="138960" cy="128880"/>
                  </a:xfrm>
                </p:grpSpPr>
                <p:sp>
                  <p:nvSpPr>
                    <p:cNvPr id="564" name="Freeform 472"/>
                    <p:cNvSpPr/>
                    <p:nvPr/>
                  </p:nvSpPr>
                  <p:spPr>
                    <a:xfrm rot="16560600">
                      <a:off x="3174480" y="5984640"/>
                      <a:ext cx="36360" cy="20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65" name="Group 473"/>
                    <p:cNvGrpSpPr/>
                    <p:nvPr/>
                  </p:nvGrpSpPr>
                  <p:grpSpPr>
                    <a:xfrm>
                      <a:off x="3164400" y="5961600"/>
                      <a:ext cx="138960" cy="128880"/>
                      <a:chOff x="3164400" y="5961600"/>
                      <a:chExt cx="138960" cy="128880"/>
                    </a:xfrm>
                  </p:grpSpPr>
                  <p:sp>
                    <p:nvSpPr>
                      <p:cNvPr id="566" name="Oval 474"/>
                      <p:cNvSpPr/>
                      <p:nvPr/>
                    </p:nvSpPr>
                    <p:spPr>
                      <a:xfrm>
                        <a:off x="3168720" y="5987880"/>
                        <a:ext cx="128880" cy="102600"/>
                      </a:xfrm>
                      <a:prstGeom prst="ellipse">
                        <a:avLst/>
                      </a:prstGeom>
                      <a:solidFill>
                        <a:srgbClr val="54381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7" name="Freeform 475"/>
                      <p:cNvSpPr/>
                      <p:nvPr/>
                    </p:nvSpPr>
                    <p:spPr>
                      <a:xfrm rot="16560600">
                        <a:off x="3194280" y="5970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" name="Freeform 476"/>
                      <p:cNvSpPr/>
                      <p:nvPr/>
                    </p:nvSpPr>
                    <p:spPr>
                      <a:xfrm rot="16560600">
                        <a:off x="3273120" y="59990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" name="Freeform 477"/>
                      <p:cNvSpPr/>
                      <p:nvPr/>
                    </p:nvSpPr>
                    <p:spPr>
                      <a:xfrm rot="16560600">
                        <a:off x="3237840" y="5979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Freeform 478"/>
                      <p:cNvSpPr/>
                      <p:nvPr/>
                    </p:nvSpPr>
                    <p:spPr>
                      <a:xfrm rot="16560600">
                        <a:off x="3157920" y="59954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Freeform 479"/>
                      <p:cNvSpPr/>
                      <p:nvPr/>
                    </p:nvSpPr>
                    <p:spPr>
                      <a:xfrm rot="16560600">
                        <a:off x="3214800" y="5970240"/>
                        <a:ext cx="36360" cy="201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2" name="Freeform 480"/>
                    <p:cNvSpPr/>
                    <p:nvPr/>
                  </p:nvSpPr>
                  <p:spPr>
                    <a:xfrm rot="16560600">
                      <a:off x="3259800" y="5988240"/>
                      <a:ext cx="36360" cy="20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3" name="Group 481"/>
                <p:cNvGrpSpPr/>
                <p:nvPr/>
              </p:nvGrpSpPr>
              <p:grpSpPr>
                <a:xfrm>
                  <a:off x="3314880" y="5609520"/>
                  <a:ext cx="283320" cy="806040"/>
                  <a:chOff x="3314880" y="5609520"/>
                  <a:chExt cx="283320" cy="806040"/>
                </a:xfrm>
              </p:grpSpPr>
              <p:grpSp>
                <p:nvGrpSpPr>
                  <p:cNvPr id="574" name="Group 482"/>
                  <p:cNvGrpSpPr/>
                  <p:nvPr/>
                </p:nvGrpSpPr>
                <p:grpSpPr>
                  <a:xfrm>
                    <a:off x="3314880" y="5811480"/>
                    <a:ext cx="283320" cy="483480"/>
                    <a:chOff x="3314880" y="5811480"/>
                    <a:chExt cx="283320" cy="483480"/>
                  </a:xfrm>
                </p:grpSpPr>
                <p:grpSp>
                  <p:nvGrpSpPr>
                    <p:cNvPr id="575" name="Group 483"/>
                    <p:cNvGrpSpPr/>
                    <p:nvPr/>
                  </p:nvGrpSpPr>
                  <p:grpSpPr>
                    <a:xfrm>
                      <a:off x="3314880" y="5811480"/>
                      <a:ext cx="283320" cy="483480"/>
                      <a:chOff x="3314880" y="5811480"/>
                      <a:chExt cx="283320" cy="483480"/>
                    </a:xfrm>
                  </p:grpSpPr>
                  <p:grpSp>
                    <p:nvGrpSpPr>
                      <p:cNvPr id="576" name="Group 484"/>
                      <p:cNvGrpSpPr/>
                      <p:nvPr/>
                    </p:nvGrpSpPr>
                    <p:grpSpPr>
                      <a:xfrm>
                        <a:off x="3314880" y="5816880"/>
                        <a:ext cx="283320" cy="478080"/>
                        <a:chOff x="3314880" y="5816880"/>
                        <a:chExt cx="283320" cy="478080"/>
                      </a:xfrm>
                    </p:grpSpPr>
                    <p:grpSp>
                      <p:nvGrpSpPr>
                        <p:cNvPr id="577" name="Group 485"/>
                        <p:cNvGrpSpPr/>
                        <p:nvPr/>
                      </p:nvGrpSpPr>
                      <p:grpSpPr>
                        <a:xfrm>
                          <a:off x="3328200" y="5819760"/>
                          <a:ext cx="266400" cy="356040"/>
                          <a:chOff x="3328200" y="5819760"/>
                          <a:chExt cx="266400" cy="356040"/>
                        </a:xfrm>
                      </p:grpSpPr>
                      <p:sp>
                        <p:nvSpPr>
                          <p:cNvPr id="578" name="Rectangle 486"/>
                          <p:cNvSpPr/>
                          <p:nvPr/>
                        </p:nvSpPr>
                        <p:spPr>
                          <a:xfrm>
                            <a:off x="3340800" y="5835240"/>
                            <a:ext cx="234360" cy="325440"/>
                          </a:xfrm>
                          <a:prstGeom prst="rect">
                            <a:avLst/>
                          </a:prstGeom>
                          <a:solidFill>
                            <a:srgbClr val="ffff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9" name="AutoShape 487"/>
                          <p:cNvSpPr/>
                          <p:nvPr/>
                        </p:nvSpPr>
                        <p:spPr>
                          <a:xfrm rot="2721600">
                            <a:off x="3369600" y="5839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b6dde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0" name="AutoShape 488"/>
                          <p:cNvSpPr/>
                          <p:nvPr/>
                        </p:nvSpPr>
                        <p:spPr>
                          <a:xfrm rot="2721600">
                            <a:off x="3349080" y="59968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d9959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1" name="AutoShape 489"/>
                          <p:cNvSpPr/>
                          <p:nvPr/>
                        </p:nvSpPr>
                        <p:spPr>
                          <a:xfrm rot="2721600">
                            <a:off x="3476160" y="593460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00"/>
                          </a:solidFill>
                          <a:ln w="9360">
                            <a:solidFill>
                              <a:srgbClr val="ffc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2" name="AutoShape 490"/>
                          <p:cNvSpPr/>
                          <p:nvPr/>
                        </p:nvSpPr>
                        <p:spPr>
                          <a:xfrm rot="2721600">
                            <a:off x="3399840" y="60562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65f91"/>
                          </a:solidFill>
                          <a:ln w="9360">
                            <a:solidFill>
                              <a:srgbClr val="95b3d7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3" name="Group 491"/>
                        <p:cNvGrpSpPr/>
                        <p:nvPr/>
                      </p:nvGrpSpPr>
                      <p:grpSpPr>
                        <a:xfrm>
                          <a:off x="3314880" y="5816880"/>
                          <a:ext cx="283320" cy="478080"/>
                          <a:chOff x="3314880" y="5816880"/>
                          <a:chExt cx="283320" cy="478080"/>
                        </a:xfrm>
                      </p:grpSpPr>
                      <p:sp>
                        <p:nvSpPr>
                          <p:cNvPr id="584" name="Rectangle 492"/>
                          <p:cNvSpPr/>
                          <p:nvPr/>
                        </p:nvSpPr>
                        <p:spPr>
                          <a:xfrm>
                            <a:off x="3340800" y="6166440"/>
                            <a:ext cx="234360" cy="128160"/>
                          </a:xfrm>
                          <a:prstGeom prst="rect">
                            <a:avLst/>
                          </a:prstGeom>
                          <a:blipFill rotWithShape="0">
                            <a:blip r:embed="rId4"/>
                            <a:srcRect/>
                            <a:tile tx="0" ty="0" sx="100000" sy="100000" algn="ctr"/>
                          </a:blip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cxnSp>
                        <p:nvCxnSpPr>
                          <p:cNvPr id="585" name="AutoShape 493"/>
                          <p:cNvCxnSpPr/>
                          <p:nvPr/>
                        </p:nvCxnSpPr>
                        <p:spPr>
                          <a:xfrm>
                            <a:off x="3453480" y="6166440"/>
                            <a:ext cx="1080" cy="128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sp>
                        <p:nvSpPr>
                          <p:cNvPr id="586" name="AutoShape 494"/>
                          <p:cNvSpPr/>
                          <p:nvPr/>
                        </p:nvSpPr>
                        <p:spPr>
                          <a:xfrm rot="2721600">
                            <a:off x="3347640" y="583668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7" name="AutoShape 495"/>
                          <p:cNvSpPr/>
                          <p:nvPr/>
                        </p:nvSpPr>
                        <p:spPr>
                          <a:xfrm rot="2721600">
                            <a:off x="3420000" y="589752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d9959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8" name="AutoShape 496"/>
                          <p:cNvSpPr/>
                          <p:nvPr/>
                        </p:nvSpPr>
                        <p:spPr>
                          <a:xfrm rot="2721600">
                            <a:off x="3335760" y="6064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" name="AutoShape 497"/>
                          <p:cNvSpPr/>
                          <p:nvPr/>
                        </p:nvSpPr>
                        <p:spPr>
                          <a:xfrm rot="2721600">
                            <a:off x="3479760" y="606456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548dd4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0" name="AutoShape 498"/>
                          <p:cNvSpPr/>
                          <p:nvPr/>
                        </p:nvSpPr>
                        <p:spPr>
                          <a:xfrm rot="2721600">
                            <a:off x="3351240" y="59612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b6dde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1" name="AutoShape 499"/>
                          <p:cNvSpPr/>
                          <p:nvPr/>
                        </p:nvSpPr>
                        <p:spPr>
                          <a:xfrm rot="2721600">
                            <a:off x="3474360" y="59954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2" name="AutoShape 500"/>
                          <p:cNvSpPr/>
                          <p:nvPr/>
                        </p:nvSpPr>
                        <p:spPr>
                          <a:xfrm rot="2721600">
                            <a:off x="3420000" y="5995440"/>
                            <a:ext cx="97560" cy="99720"/>
                          </a:xfrm>
                          <a:custGeom>
                            <a:avLst/>
                            <a:gdLst>
                              <a:gd name="textAreaLeft" fmla="*/ 46800 w 97560"/>
                              <a:gd name="textAreaRight" fmla="*/ 50760 w 97560"/>
                              <a:gd name="textAreaTop" fmla="*/ 47880 h 99720"/>
                              <a:gd name="textAreaBottom" fmla="*/ 51840 h 9972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21600">
                                <a:moveTo>
                                  <a:pt x="0" y="10800"/>
                                </a:moveTo>
                                <a:lnTo>
                                  <a:pt x="10358" y="10358"/>
                                </a:lnTo>
                                <a:lnTo>
                                  <a:pt x="10800" y="0"/>
                                </a:lnTo>
                                <a:lnTo>
                                  <a:pt x="11242" y="10358"/>
                                </a:lnTo>
                                <a:lnTo>
                                  <a:pt x="21600" y="10800"/>
                                </a:lnTo>
                                <a:lnTo>
                                  <a:pt x="11242" y="11242"/>
                                </a:lnTo>
                                <a:lnTo>
                                  <a:pt x="10800" y="21600"/>
                                </a:lnTo>
                                <a:lnTo>
                                  <a:pt x="10358" y="11242"/>
                                </a:lnTo>
                                <a:lnTo>
                                  <a:pt x="0" y="1080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2cddc"/>
                          </a:solidFill>
                          <a:ln w="9360">
                            <a:solidFill>
                              <a:srgbClr val="f7964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 vert="eaVert" rot="10800000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93" name="Group 501"/>
                      <p:cNvGrpSpPr/>
                      <p:nvPr/>
                    </p:nvGrpSpPr>
                    <p:grpSpPr>
                      <a:xfrm>
                        <a:off x="3430080" y="5811480"/>
                        <a:ext cx="158760" cy="304920"/>
                        <a:chOff x="3430080" y="5811480"/>
                        <a:chExt cx="158760" cy="304920"/>
                      </a:xfrm>
                    </p:grpSpPr>
                    <p:sp>
                      <p:nvSpPr>
                        <p:cNvPr id="594" name="AutoShape 502"/>
                        <p:cNvSpPr/>
                        <p:nvPr/>
                      </p:nvSpPr>
                      <p:spPr>
                        <a:xfrm rot="2721600">
                          <a:off x="3470400" y="5830920"/>
                          <a:ext cx="97200" cy="99720"/>
                        </a:xfrm>
                        <a:custGeom>
                          <a:avLst/>
                          <a:gdLst>
                            <a:gd name="textAreaLeft" fmla="*/ 46440 w 97200"/>
                            <a:gd name="textAreaRight" fmla="*/ 50760 w 97200"/>
                            <a:gd name="textAreaTop" fmla="*/ 47880 h 99720"/>
                            <a:gd name="textAreaBottom" fmla="*/ 51840 h 99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36" y="10336"/>
                              </a:lnTo>
                              <a:lnTo>
                                <a:pt x="10800" y="0"/>
                              </a:lnTo>
                              <a:lnTo>
                                <a:pt x="11264" y="10336"/>
                              </a:lnTo>
                              <a:lnTo>
                                <a:pt x="21600" y="10800"/>
                              </a:lnTo>
                              <a:lnTo>
                                <a:pt x="11264" y="11264"/>
                              </a:lnTo>
                              <a:lnTo>
                                <a:pt x="10800" y="21600"/>
                              </a:lnTo>
                              <a:lnTo>
                                <a:pt x="10336" y="11264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2cddc"/>
                        </a:solidFill>
                        <a:ln w="9360">
                          <a:solidFill>
                            <a:srgbClr val="31849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AutoShape 503"/>
                        <p:cNvSpPr/>
                        <p:nvPr/>
                      </p:nvSpPr>
                      <p:spPr>
                        <a:xfrm rot="2721600">
                          <a:off x="3450960" y="5996520"/>
                          <a:ext cx="97200" cy="99720"/>
                        </a:xfrm>
                        <a:custGeom>
                          <a:avLst/>
                          <a:gdLst>
                            <a:gd name="textAreaLeft" fmla="*/ 46440 w 97200"/>
                            <a:gd name="textAreaRight" fmla="*/ 50760 w 97200"/>
                            <a:gd name="textAreaTop" fmla="*/ 47880 h 99720"/>
                            <a:gd name="textAreaBottom" fmla="*/ 51840 h 99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10800"/>
                              </a:moveTo>
                              <a:lnTo>
                                <a:pt x="10358" y="10358"/>
                              </a:lnTo>
                              <a:lnTo>
                                <a:pt x="10800" y="0"/>
                              </a:lnTo>
                              <a:lnTo>
                                <a:pt x="11242" y="10358"/>
                              </a:lnTo>
                              <a:lnTo>
                                <a:pt x="21600" y="10800"/>
                              </a:lnTo>
                              <a:lnTo>
                                <a:pt x="11242" y="11242"/>
                              </a:lnTo>
                              <a:lnTo>
                                <a:pt x="10800" y="21600"/>
                              </a:lnTo>
                              <a:lnTo>
                                <a:pt x="10358" y="11242"/>
                              </a:lnTo>
                              <a:lnTo>
                                <a:pt x="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050"/>
                        </a:solidFill>
                        <a:ln w="93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840" bIns="-42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6" name="Group 504"/>
                    <p:cNvGrpSpPr/>
                    <p:nvPr/>
                  </p:nvGrpSpPr>
                  <p:grpSpPr>
                    <a:xfrm>
                      <a:off x="3320640" y="5814000"/>
                      <a:ext cx="266760" cy="370080"/>
                      <a:chOff x="3320640" y="5814000"/>
                      <a:chExt cx="266760" cy="370080"/>
                    </a:xfrm>
                  </p:grpSpPr>
                  <p:sp>
                    <p:nvSpPr>
                      <p:cNvPr id="597" name="AutoShape 505"/>
                      <p:cNvSpPr/>
                      <p:nvPr/>
                    </p:nvSpPr>
                    <p:spPr>
                      <a:xfrm rot="2721600">
                        <a:off x="3341520" y="590508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" name="AutoShape 506"/>
                      <p:cNvSpPr/>
                      <p:nvPr/>
                    </p:nvSpPr>
                    <p:spPr>
                      <a:xfrm rot="2721600">
                        <a:off x="3413880" y="583380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94363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AutoShape 507"/>
                      <p:cNvSpPr/>
                      <p:nvPr/>
                    </p:nvSpPr>
                    <p:spPr>
                      <a:xfrm rot="2721600">
                        <a:off x="3468960" y="589464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508"/>
                      <p:cNvSpPr/>
                      <p:nvPr/>
                    </p:nvSpPr>
                    <p:spPr>
                      <a:xfrm rot="2721600">
                        <a:off x="3417480" y="5955120"/>
                        <a:ext cx="9756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800" y="10800"/>
                            </a:lnTo>
                            <a:lnTo>
                              <a:pt x="10800" y="0"/>
                            </a:lnTo>
                            <a:lnTo>
                              <a:pt x="10800" y="10800"/>
                            </a:lnTo>
                            <a:lnTo>
                              <a:pt x="21600" y="10800"/>
                            </a:lnTo>
                            <a:lnTo>
                              <a:pt x="10800" y="10800"/>
                            </a:lnTo>
                            <a:lnTo>
                              <a:pt x="10800" y="21600"/>
                            </a:lnTo>
                            <a:lnTo>
                              <a:pt x="10800" y="10800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92cddc"/>
                      </a:solidFill>
                      <a:ln w="9360">
                        <a:solidFill>
                          <a:srgbClr val="94363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1" name="AutoShape 509"/>
                      <p:cNvSpPr/>
                      <p:nvPr/>
                    </p:nvSpPr>
                    <p:spPr>
                      <a:xfrm rot="2721600">
                        <a:off x="3435840" y="6064560"/>
                        <a:ext cx="97560" cy="99720"/>
                      </a:xfrm>
                      <a:custGeom>
                        <a:avLst/>
                        <a:gdLst>
                          <a:gd name="textAreaLeft" fmla="*/ 46800 w 97560"/>
                          <a:gd name="textAreaRight" fmla="*/ 50760 w 97560"/>
                          <a:gd name="textAreaTop" fmla="*/ 47880 h 99720"/>
                          <a:gd name="textAreaBottom" fmla="*/ 51840 h 9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10358" y="10358"/>
                            </a:lnTo>
                            <a:lnTo>
                              <a:pt x="10800" y="0"/>
                            </a:lnTo>
                            <a:lnTo>
                              <a:pt x="11242" y="10358"/>
                            </a:lnTo>
                            <a:lnTo>
                              <a:pt x="21600" y="10800"/>
                            </a:lnTo>
                            <a:lnTo>
                              <a:pt x="11242" y="11242"/>
                            </a:lnTo>
                            <a:lnTo>
                              <a:pt x="10800" y="21600"/>
                            </a:lnTo>
                            <a:lnTo>
                              <a:pt x="10358" y="11242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d99594"/>
                      </a:solidFill>
                      <a:ln w="9360">
                        <a:solidFill>
                          <a:srgbClr val="d9959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02" name="Group 510"/>
                  <p:cNvGrpSpPr/>
                  <p:nvPr/>
                </p:nvGrpSpPr>
                <p:grpSpPr>
                  <a:xfrm>
                    <a:off x="3347640" y="5609520"/>
                    <a:ext cx="211680" cy="222840"/>
                    <a:chOff x="3347640" y="5609520"/>
                    <a:chExt cx="211680" cy="222840"/>
                  </a:xfrm>
                </p:grpSpPr>
                <p:sp>
                  <p:nvSpPr>
                    <p:cNvPr id="603" name="Freeform 511"/>
                    <p:cNvSpPr/>
                    <p:nvPr/>
                  </p:nvSpPr>
                  <p:spPr>
                    <a:xfrm rot="16560600">
                      <a:off x="3359880" y="5652000"/>
                      <a:ext cx="630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4" name="Group 512"/>
                    <p:cNvGrpSpPr/>
                    <p:nvPr/>
                  </p:nvGrpSpPr>
                  <p:grpSpPr>
                    <a:xfrm>
                      <a:off x="3347640" y="5609520"/>
                      <a:ext cx="211680" cy="222840"/>
                      <a:chOff x="3347640" y="5609520"/>
                      <a:chExt cx="211680" cy="222840"/>
                    </a:xfrm>
                  </p:grpSpPr>
                  <p:sp>
                    <p:nvSpPr>
                      <p:cNvPr id="605" name="Oval 513"/>
                      <p:cNvSpPr/>
                      <p:nvPr/>
                    </p:nvSpPr>
                    <p:spPr>
                      <a:xfrm>
                        <a:off x="3354480" y="5654880"/>
                        <a:ext cx="195480" cy="177480"/>
                      </a:xfrm>
                      <a:prstGeom prst="ellipse">
                        <a:avLst/>
                      </a:prstGeom>
                      <a:solidFill>
                        <a:srgbClr val="54381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6" name="Freeform 514"/>
                      <p:cNvSpPr/>
                      <p:nvPr/>
                    </p:nvSpPr>
                    <p:spPr>
                      <a:xfrm rot="16560600">
                        <a:off x="3389400" y="562680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7" name="Freeform 515"/>
                      <p:cNvSpPr/>
                      <p:nvPr/>
                    </p:nvSpPr>
                    <p:spPr>
                      <a:xfrm rot="16560600">
                        <a:off x="3508920" y="567684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8" name="Freeform 516"/>
                      <p:cNvSpPr/>
                      <p:nvPr/>
                    </p:nvSpPr>
                    <p:spPr>
                      <a:xfrm rot="16560600">
                        <a:off x="3455280" y="564228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9" name="Freeform 517"/>
                      <p:cNvSpPr/>
                      <p:nvPr/>
                    </p:nvSpPr>
                    <p:spPr>
                      <a:xfrm rot="16560600">
                        <a:off x="3334320" y="567036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0" name="Freeform 518"/>
                      <p:cNvSpPr/>
                      <p:nvPr/>
                    </p:nvSpPr>
                    <p:spPr>
                      <a:xfrm rot="16560600">
                        <a:off x="3420720" y="5626800"/>
                        <a:ext cx="630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11" name="Freeform 519"/>
                    <p:cNvSpPr/>
                    <p:nvPr/>
                  </p:nvSpPr>
                  <p:spPr>
                    <a:xfrm rot="16560600">
                      <a:off x="3488760" y="5657760"/>
                      <a:ext cx="630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Line 520"/>
                  <p:cNvSpPr/>
                  <p:nvPr/>
                </p:nvSpPr>
                <p:spPr>
                  <a:xfrm>
                    <a:off x="3387960" y="6294960"/>
                    <a:ext cx="4680" cy="608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Line 521"/>
                  <p:cNvSpPr/>
                  <p:nvPr/>
                </p:nvSpPr>
                <p:spPr>
                  <a:xfrm>
                    <a:off x="3519360" y="6294960"/>
                    <a:ext cx="4680" cy="608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Oval 522"/>
                  <p:cNvSpPr/>
                  <p:nvPr/>
                </p:nvSpPr>
                <p:spPr>
                  <a:xfrm rot="20313000">
                    <a:off x="3497040" y="6333120"/>
                    <a:ext cx="78120" cy="70560"/>
                  </a:xfrm>
                  <a:prstGeom prst="ellipse">
                    <a:avLst/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Oval 523"/>
                  <p:cNvSpPr/>
                  <p:nvPr/>
                </p:nvSpPr>
                <p:spPr>
                  <a:xfrm rot="20313000">
                    <a:off x="3344400" y="6333120"/>
                    <a:ext cx="77760" cy="70560"/>
                  </a:xfrm>
                  <a:prstGeom prst="ellipse">
                    <a:avLst/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Group 524"/>
                <p:cNvGrpSpPr/>
                <p:nvPr/>
              </p:nvGrpSpPr>
              <p:grpSpPr>
                <a:xfrm>
                  <a:off x="3583440" y="5599800"/>
                  <a:ext cx="286200" cy="816120"/>
                  <a:chOff x="3583440" y="5599800"/>
                  <a:chExt cx="286200" cy="816120"/>
                </a:xfrm>
              </p:grpSpPr>
              <p:grpSp>
                <p:nvGrpSpPr>
                  <p:cNvPr id="617" name="Group 525"/>
                  <p:cNvGrpSpPr/>
                  <p:nvPr/>
                </p:nvGrpSpPr>
                <p:grpSpPr>
                  <a:xfrm>
                    <a:off x="3583440" y="5902920"/>
                    <a:ext cx="286200" cy="513000"/>
                    <a:chOff x="3583440" y="5902920"/>
                    <a:chExt cx="286200" cy="513000"/>
                  </a:xfrm>
                </p:grpSpPr>
                <p:grpSp>
                  <p:nvGrpSpPr>
                    <p:cNvPr id="618" name="Group 526"/>
                    <p:cNvGrpSpPr/>
                    <p:nvPr/>
                  </p:nvGrpSpPr>
                  <p:grpSpPr>
                    <a:xfrm>
                      <a:off x="3583440" y="5902920"/>
                      <a:ext cx="286200" cy="426960"/>
                      <a:chOff x="3583440" y="5902920"/>
                      <a:chExt cx="286200" cy="426960"/>
                    </a:xfrm>
                  </p:grpSpPr>
                  <p:sp>
                    <p:nvSpPr>
                      <p:cNvPr id="619" name="AutoShape 527"/>
                      <p:cNvSpPr/>
                      <p:nvPr/>
                    </p:nvSpPr>
                    <p:spPr>
                      <a:xfrm>
                        <a:off x="3583440" y="5902920"/>
                        <a:ext cx="286200" cy="4269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2dbdb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0" name="AutoShape 528"/>
                      <p:cNvSpPr/>
                      <p:nvPr/>
                    </p:nvSpPr>
                    <p:spPr>
                      <a:xfrm>
                        <a:off x="3601800" y="62560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1" name="AutoShape 529"/>
                      <p:cNvSpPr/>
                      <p:nvPr/>
                    </p:nvSpPr>
                    <p:spPr>
                      <a:xfrm>
                        <a:off x="3682800" y="625320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92cddc"/>
                      </a:solidFill>
                      <a:ln w="9360">
                        <a:solidFill>
                          <a:srgbClr val="fabf8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" name="AutoShape 530"/>
                      <p:cNvSpPr/>
                      <p:nvPr/>
                    </p:nvSpPr>
                    <p:spPr>
                      <a:xfrm>
                        <a:off x="3682800" y="619164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ff00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AutoShape 531"/>
                      <p:cNvSpPr/>
                      <p:nvPr/>
                    </p:nvSpPr>
                    <p:spPr>
                      <a:xfrm>
                        <a:off x="3642120" y="61102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4" name="AutoShape 532"/>
                      <p:cNvSpPr/>
                      <p:nvPr/>
                    </p:nvSpPr>
                    <p:spPr>
                      <a:xfrm>
                        <a:off x="3682800" y="603144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e5b8b7"/>
                      </a:soli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" name="AutoShape 533"/>
                      <p:cNvSpPr/>
                      <p:nvPr/>
                    </p:nvSpPr>
                    <p:spPr>
                      <a:xfrm>
                        <a:off x="3763440" y="625608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5f497a"/>
                      </a:solidFill>
                      <a:ln w="9360">
                        <a:solidFill>
                          <a:srgbClr val="e36c0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6" name="AutoShape 534"/>
                      <p:cNvSpPr/>
                      <p:nvPr/>
                    </p:nvSpPr>
                    <p:spPr>
                      <a:xfrm>
                        <a:off x="3722760" y="6108120"/>
                        <a:ext cx="80640" cy="7380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ff00"/>
                      </a:solidFill>
                      <a:ln w="9360">
                        <a:solidFill>
                          <a:srgbClr val="e36c0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7" name="AutoShape 535"/>
                      <p:cNvSpPr/>
                      <p:nvPr/>
                    </p:nvSpPr>
                    <p:spPr>
                      <a:xfrm>
                        <a:off x="3633120" y="619164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0066"/>
                      </a:solidFill>
                      <a:ln w="9360">
                        <a:solidFill>
                          <a:srgbClr val="76923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8" name="AutoShape 536"/>
                      <p:cNvSpPr/>
                      <p:nvPr/>
                    </p:nvSpPr>
                    <p:spPr>
                      <a:xfrm>
                        <a:off x="3700080" y="596736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daeef3"/>
                      </a:solidFill>
                      <a:ln w="9360">
                        <a:solidFill>
                          <a:srgbClr val="ff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9" name="AutoShape 537"/>
                      <p:cNvSpPr/>
                      <p:nvPr/>
                    </p:nvSpPr>
                    <p:spPr>
                      <a:xfrm>
                        <a:off x="3781080" y="619020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b2a1c7"/>
                      </a:solidFill>
                      <a:ln w="9360">
                        <a:solidFill>
                          <a:srgbClr val="5f497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0" name="AutoShape 538"/>
                      <p:cNvSpPr/>
                      <p:nvPr/>
                    </p:nvSpPr>
                    <p:spPr>
                      <a:xfrm>
                        <a:off x="3731400" y="6190200"/>
                        <a:ext cx="49680" cy="50760"/>
                      </a:xfrm>
                      <a:prstGeom prst="sun">
                        <a:avLst>
                          <a:gd name="adj" fmla="val 25000"/>
                        </a:avLst>
                      </a:prstGeom>
                      <a:solidFill>
                        <a:srgbClr val="ffc000"/>
                      </a:solidFill>
                      <a:ln w="9360">
                        <a:solidFill>
                          <a:srgbClr val="ff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31" name="Oval 539"/>
                    <p:cNvSpPr/>
                    <p:nvPr/>
                  </p:nvSpPr>
                  <p:spPr>
                    <a:xfrm rot="20313000">
                      <a:off x="3625920" y="6335640"/>
                      <a:ext cx="78120" cy="68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d9959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Oval 540"/>
                    <p:cNvSpPr/>
                    <p:nvPr/>
                  </p:nvSpPr>
                  <p:spPr>
                    <a:xfrm rot="20313000">
                      <a:off x="3727440" y="6335640"/>
                      <a:ext cx="78120" cy="68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d9959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" name="Group 541"/>
                  <p:cNvGrpSpPr/>
                  <p:nvPr/>
                </p:nvGrpSpPr>
                <p:grpSpPr>
                  <a:xfrm>
                    <a:off x="3621960" y="5599800"/>
                    <a:ext cx="201600" cy="307080"/>
                    <a:chOff x="3621960" y="5599800"/>
                    <a:chExt cx="201600" cy="307080"/>
                  </a:xfrm>
                </p:grpSpPr>
                <p:sp>
                  <p:nvSpPr>
                    <p:cNvPr id="634" name="Freeform 542"/>
                    <p:cNvSpPr/>
                    <p:nvPr/>
                  </p:nvSpPr>
                  <p:spPr>
                    <a:xfrm rot="17845200">
                      <a:off x="3652200" y="5719320"/>
                      <a:ext cx="79200" cy="3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5" name="Group 543"/>
                    <p:cNvGrpSpPr/>
                    <p:nvPr/>
                  </p:nvGrpSpPr>
                  <p:grpSpPr>
                    <a:xfrm>
                      <a:off x="3621960" y="5599800"/>
                      <a:ext cx="201600" cy="307080"/>
                      <a:chOff x="3621960" y="5599800"/>
                      <a:chExt cx="201600" cy="307080"/>
                    </a:xfrm>
                  </p:grpSpPr>
                  <p:sp>
                    <p:nvSpPr>
                      <p:cNvPr id="636" name="Freeform 544"/>
                      <p:cNvSpPr/>
                      <p:nvPr/>
                    </p:nvSpPr>
                    <p:spPr>
                      <a:xfrm rot="3775200">
                        <a:off x="3731760" y="5728680"/>
                        <a:ext cx="79200" cy="30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37" name="Group 545"/>
                      <p:cNvGrpSpPr/>
                      <p:nvPr/>
                    </p:nvGrpSpPr>
                    <p:grpSpPr>
                      <a:xfrm>
                        <a:off x="3621960" y="5599800"/>
                        <a:ext cx="201600" cy="307080"/>
                        <a:chOff x="3621960" y="5599800"/>
                        <a:chExt cx="201600" cy="307080"/>
                      </a:xfrm>
                    </p:grpSpPr>
                    <p:sp>
                      <p:nvSpPr>
                        <p:cNvPr id="638" name="Freeform 546"/>
                        <p:cNvSpPr/>
                        <p:nvPr/>
                      </p:nvSpPr>
                      <p:spPr>
                        <a:xfrm rot="4948800">
                          <a:off x="3723120" y="5719320"/>
                          <a:ext cx="79200" cy="3060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 vert="eaVer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39" name="Group 547"/>
                        <p:cNvGrpSpPr/>
                        <p:nvPr/>
                      </p:nvGrpSpPr>
                      <p:grpSpPr>
                        <a:xfrm>
                          <a:off x="3621960" y="5599800"/>
                          <a:ext cx="201600" cy="307080"/>
                          <a:chOff x="3621960" y="5599800"/>
                          <a:chExt cx="201600" cy="307080"/>
                        </a:xfrm>
                      </p:grpSpPr>
                      <p:sp>
                        <p:nvSpPr>
                          <p:cNvPr id="640" name="Freeform 548"/>
                          <p:cNvSpPr/>
                          <p:nvPr/>
                        </p:nvSpPr>
                        <p:spPr>
                          <a:xfrm rot="16560600">
                            <a:off x="3648960" y="5719320"/>
                            <a:ext cx="79200" cy="3060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 vert="eaVer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1" name="Freeform 549"/>
                          <p:cNvSpPr/>
                          <p:nvPr/>
                        </p:nvSpPr>
                        <p:spPr>
                          <a:xfrm rot="16560600">
                            <a:off x="3702600" y="5728320"/>
                            <a:ext cx="79200" cy="3060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 vert="eaVer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42" name="Group 550"/>
                          <p:cNvGrpSpPr/>
                          <p:nvPr/>
                        </p:nvGrpSpPr>
                        <p:grpSpPr>
                          <a:xfrm>
                            <a:off x="3621960" y="5599800"/>
                            <a:ext cx="201600" cy="307080"/>
                            <a:chOff x="3621960" y="5599800"/>
                            <a:chExt cx="201600" cy="307080"/>
                          </a:xfrm>
                        </p:grpSpPr>
                        <p:grpSp>
                          <p:nvGrpSpPr>
                            <p:cNvPr id="643" name="Group 551"/>
                            <p:cNvGrpSpPr/>
                            <p:nvPr/>
                          </p:nvGrpSpPr>
                          <p:grpSpPr>
                            <a:xfrm>
                              <a:off x="3621960" y="5599800"/>
                              <a:ext cx="201600" cy="307080"/>
                              <a:chOff x="3621960" y="5599800"/>
                              <a:chExt cx="201600" cy="307080"/>
                            </a:xfrm>
                          </p:grpSpPr>
                          <p:sp>
                            <p:nvSpPr>
                              <p:cNvPr id="644" name="Freeform 552"/>
                              <p:cNvSpPr/>
                              <p:nvPr/>
                            </p:nvSpPr>
                            <p:spPr>
                              <a:xfrm rot="7135800">
                                <a:off x="3735720" y="5623200"/>
                                <a:ext cx="6876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5" name="Oval 553"/>
                              <p:cNvSpPr/>
                              <p:nvPr/>
                            </p:nvSpPr>
                            <p:spPr>
                              <a:xfrm>
                                <a:off x="3627000" y="5735880"/>
                                <a:ext cx="195120" cy="171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54381c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6" name="Freeform 554"/>
                              <p:cNvSpPr/>
                              <p:nvPr/>
                            </p:nvSpPr>
                            <p:spPr>
                              <a:xfrm rot="13772400">
                                <a:off x="3683160" y="5626800"/>
                                <a:ext cx="6876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" name="Freeform 555"/>
                              <p:cNvSpPr/>
                              <p:nvPr/>
                            </p:nvSpPr>
                            <p:spPr>
                              <a:xfrm rot="3763800">
                                <a:off x="3751920" y="5720760"/>
                                <a:ext cx="79200" cy="3060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840" bIns="-15840" anchor="t" vert="eaVert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48" name="Group 556"/>
                              <p:cNvGrpSpPr/>
                              <p:nvPr/>
                            </p:nvGrpSpPr>
                            <p:grpSpPr>
                              <a:xfrm>
                                <a:off x="3690000" y="5662080"/>
                                <a:ext cx="49320" cy="42120"/>
                                <a:chOff x="3690000" y="5662080"/>
                                <a:chExt cx="49320" cy="42120"/>
                              </a:xfrm>
                            </p:grpSpPr>
                            <p:sp>
                              <p:nvSpPr>
                                <p:cNvPr id="649" name="Oval 557"/>
                                <p:cNvSpPr/>
                                <p:nvPr/>
                              </p:nvSpPr>
                              <p:spPr>
                                <a:xfrm>
                                  <a:off x="3705840" y="567612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d99594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0" name="Oval 558"/>
                                <p:cNvSpPr/>
                                <p:nvPr/>
                              </p:nvSpPr>
                              <p:spPr>
                                <a:xfrm>
                                  <a:off x="3705840" y="56620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1" name="Oval 559"/>
                                <p:cNvSpPr/>
                                <p:nvPr/>
                              </p:nvSpPr>
                              <p:spPr>
                                <a:xfrm>
                                  <a:off x="3705840" y="569016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2" name="Oval 560"/>
                                <p:cNvSpPr/>
                                <p:nvPr/>
                              </p:nvSpPr>
                              <p:spPr>
                                <a:xfrm>
                                  <a:off x="3722040" y="566856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3" name="Oval 561"/>
                                <p:cNvSpPr/>
                                <p:nvPr/>
                              </p:nvSpPr>
                              <p:spPr>
                                <a:xfrm>
                                  <a:off x="3690000" y="56692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4" name="Oval 562"/>
                                <p:cNvSpPr/>
                                <p:nvPr/>
                              </p:nvSpPr>
                              <p:spPr>
                                <a:xfrm>
                                  <a:off x="3722040" y="568260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5" name="Oval 563"/>
                                <p:cNvSpPr/>
                                <p:nvPr/>
                              </p:nvSpPr>
                              <p:spPr>
                                <a:xfrm>
                                  <a:off x="3690000" y="5683680"/>
                                  <a:ext cx="17280" cy="140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0000"/>
                                </a:solidFill>
                                <a:ln w="9360">
                                  <a:solidFill>
                                    <a:srgbClr val="fff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360" bIns="-3636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56" name="Freeform 564"/>
                              <p:cNvSpPr/>
                              <p:nvPr/>
                            </p:nvSpPr>
                            <p:spPr>
                              <a:xfrm rot="16459800">
                                <a:off x="3719880" y="5606280"/>
                                <a:ext cx="5472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" name="Freeform 565"/>
                              <p:cNvSpPr/>
                              <p:nvPr/>
                            </p:nvSpPr>
                            <p:spPr>
                              <a:xfrm rot="15778200">
                                <a:off x="3693960" y="5709600"/>
                                <a:ext cx="48240" cy="4464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Freeform 566"/>
                              <p:cNvSpPr/>
                              <p:nvPr/>
                            </p:nvSpPr>
                            <p:spPr>
                              <a:xfrm rot="18016800">
                                <a:off x="3615480" y="5734080"/>
                                <a:ext cx="79200" cy="30600"/>
                              </a:xfrm>
                              <a:prstGeom prst="pi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840" bIns="-15840" anchor="t" vert="eaVer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9" name="Group 567"/>
                            <p:cNvGrpSpPr/>
                            <p:nvPr/>
                          </p:nvGrpSpPr>
                          <p:grpSpPr>
                            <a:xfrm>
                              <a:off x="3740760" y="5662080"/>
                              <a:ext cx="49320" cy="42120"/>
                              <a:chOff x="3740760" y="5662080"/>
                              <a:chExt cx="49320" cy="42120"/>
                            </a:xfrm>
                          </p:grpSpPr>
                          <p:sp>
                            <p:nvSpPr>
                              <p:cNvPr id="660" name="Oval 568"/>
                              <p:cNvSpPr/>
                              <p:nvPr/>
                            </p:nvSpPr>
                            <p:spPr>
                              <a:xfrm>
                                <a:off x="3756600" y="567612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d99594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" name="Oval 569"/>
                              <p:cNvSpPr/>
                              <p:nvPr/>
                            </p:nvSpPr>
                            <p:spPr>
                              <a:xfrm>
                                <a:off x="3756600" y="56620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" name="Oval 570"/>
                              <p:cNvSpPr/>
                              <p:nvPr/>
                            </p:nvSpPr>
                            <p:spPr>
                              <a:xfrm>
                                <a:off x="3756600" y="569016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" name="Oval 571"/>
                              <p:cNvSpPr/>
                              <p:nvPr/>
                            </p:nvSpPr>
                            <p:spPr>
                              <a:xfrm>
                                <a:off x="3772800" y="566856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4" name="Oval 572"/>
                              <p:cNvSpPr/>
                              <p:nvPr/>
                            </p:nvSpPr>
                            <p:spPr>
                              <a:xfrm>
                                <a:off x="3740760" y="56692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Oval 573"/>
                              <p:cNvSpPr/>
                              <p:nvPr/>
                            </p:nvSpPr>
                            <p:spPr>
                              <a:xfrm>
                                <a:off x="3772800" y="568260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6" name="Oval 574"/>
                              <p:cNvSpPr/>
                              <p:nvPr/>
                            </p:nvSpPr>
                            <p:spPr>
                              <a:xfrm>
                                <a:off x="3740760" y="5683680"/>
                                <a:ext cx="17280" cy="14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fff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360" bIns="-3636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grpSp>
            <p:nvGrpSpPr>
              <p:cNvPr id="667" name="Group 575"/>
              <p:cNvGrpSpPr/>
              <p:nvPr/>
            </p:nvGrpSpPr>
            <p:grpSpPr>
              <a:xfrm>
                <a:off x="5015520" y="5543280"/>
                <a:ext cx="607680" cy="875880"/>
                <a:chOff x="5015520" y="5543280"/>
                <a:chExt cx="607680" cy="875880"/>
              </a:xfrm>
            </p:grpSpPr>
            <p:grpSp>
              <p:nvGrpSpPr>
                <p:cNvPr id="668" name="Group 576"/>
                <p:cNvGrpSpPr/>
                <p:nvPr/>
              </p:nvGrpSpPr>
              <p:grpSpPr>
                <a:xfrm>
                  <a:off x="5363640" y="5543280"/>
                  <a:ext cx="259560" cy="875880"/>
                  <a:chOff x="5363640" y="5543280"/>
                  <a:chExt cx="259560" cy="875880"/>
                </a:xfrm>
              </p:grpSpPr>
              <p:grpSp>
                <p:nvGrpSpPr>
                  <p:cNvPr id="669" name="Group 577"/>
                  <p:cNvGrpSpPr/>
                  <p:nvPr/>
                </p:nvGrpSpPr>
                <p:grpSpPr>
                  <a:xfrm>
                    <a:off x="5363640" y="5543280"/>
                    <a:ext cx="259560" cy="875880"/>
                    <a:chOff x="5363640" y="5543280"/>
                    <a:chExt cx="259560" cy="875880"/>
                  </a:xfrm>
                </p:grpSpPr>
                <p:grpSp>
                  <p:nvGrpSpPr>
                    <p:cNvPr id="670" name="Group 578"/>
                    <p:cNvGrpSpPr/>
                    <p:nvPr/>
                  </p:nvGrpSpPr>
                  <p:grpSpPr>
                    <a:xfrm>
                      <a:off x="5363640" y="5543280"/>
                      <a:ext cx="259560" cy="875880"/>
                      <a:chOff x="5363640" y="5543280"/>
                      <a:chExt cx="259560" cy="875880"/>
                    </a:xfrm>
                  </p:grpSpPr>
                  <p:sp>
                    <p:nvSpPr>
                      <p:cNvPr id="671" name="Rectangle 579"/>
                      <p:cNvSpPr/>
                      <p:nvPr/>
                    </p:nvSpPr>
                    <p:spPr>
                      <a:xfrm>
                        <a:off x="5365440" y="5905800"/>
                        <a:ext cx="257760" cy="438120"/>
                      </a:xfrm>
                      <a:prstGeom prst="rect">
                        <a:avLst/>
                      </a:prstGeom>
                      <a:solidFill>
                        <a:srgbClr val="cc66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2" name="Oval 580"/>
                      <p:cNvSpPr/>
                      <p:nvPr/>
                    </p:nvSpPr>
                    <p:spPr>
                      <a:xfrm rot="20313000">
                        <a:off x="5523120" y="6339960"/>
                        <a:ext cx="8568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3" name="Oval 581"/>
                      <p:cNvSpPr/>
                      <p:nvPr/>
                    </p:nvSpPr>
                    <p:spPr>
                      <a:xfrm rot="20313000">
                        <a:off x="5372640" y="6339960"/>
                        <a:ext cx="8568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" name="Oval 582"/>
                      <p:cNvSpPr/>
                      <p:nvPr/>
                    </p:nvSpPr>
                    <p:spPr>
                      <a:xfrm>
                        <a:off x="5389200" y="5731920"/>
                        <a:ext cx="214560" cy="165600"/>
                      </a:xfrm>
                      <a:prstGeom prst="ellipse">
                        <a:avLst/>
                      </a:prstGeom>
                      <a:solidFill>
                        <a:srgbClr val="cc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AutoShape 583"/>
                      <p:cNvSpPr/>
                      <p:nvPr/>
                    </p:nvSpPr>
                    <p:spPr>
                      <a:xfrm rot="10800000">
                        <a:off x="5365080" y="6080040"/>
                        <a:ext cx="257760" cy="13248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6" name="Line 584"/>
                      <p:cNvSpPr/>
                      <p:nvPr/>
                    </p:nvSpPr>
                    <p:spPr>
                      <a:xfrm>
                        <a:off x="5486760" y="6212520"/>
                        <a:ext cx="0" cy="132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7" name="Text Box 585"/>
                      <p:cNvSpPr/>
                      <p:nvPr/>
                    </p:nvSpPr>
                    <p:spPr>
                      <a:xfrm>
                        <a:off x="5379120" y="5543280"/>
                        <a:ext cx="189360" cy="209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8" name="Group 586"/>
                    <p:cNvGrpSpPr/>
                    <p:nvPr/>
                  </p:nvGrpSpPr>
                  <p:grpSpPr>
                    <a:xfrm>
                      <a:off x="5445720" y="5580000"/>
                      <a:ext cx="89280" cy="153720"/>
                      <a:chOff x="5445720" y="5580000"/>
                      <a:chExt cx="89280" cy="153720"/>
                    </a:xfrm>
                  </p:grpSpPr>
                  <p:grpSp>
                    <p:nvGrpSpPr>
                      <p:cNvPr id="679" name="Group 587"/>
                      <p:cNvGrpSpPr/>
                      <p:nvPr/>
                    </p:nvGrpSpPr>
                    <p:grpSpPr>
                      <a:xfrm>
                        <a:off x="5450760" y="5601240"/>
                        <a:ext cx="75240" cy="122400"/>
                        <a:chOff x="5450760" y="5601240"/>
                        <a:chExt cx="75240" cy="122400"/>
                      </a:xfrm>
                    </p:grpSpPr>
                    <p:grpSp>
                      <p:nvGrpSpPr>
                        <p:cNvPr id="680" name="Group 588"/>
                        <p:cNvGrpSpPr/>
                        <p:nvPr/>
                      </p:nvGrpSpPr>
                      <p:grpSpPr>
                        <a:xfrm>
                          <a:off x="5495400" y="5601600"/>
                          <a:ext cx="30600" cy="122040"/>
                          <a:chOff x="5495400" y="5601600"/>
                          <a:chExt cx="30600" cy="122040"/>
                        </a:xfrm>
                      </p:grpSpPr>
                      <p:cxnSp>
                        <p:nvCxnSpPr>
                          <p:cNvPr id="681" name="AutoShape 589"/>
                          <p:cNvCxnSpPr/>
                          <p:nvPr/>
                        </p:nvCxnSpPr>
                        <p:spPr>
                          <a:xfrm flipV="1">
                            <a:off x="5495400" y="5601600"/>
                            <a:ext cx="1080" cy="12240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2" name="AutoShape 590"/>
                          <p:cNvCxnSpPr/>
                          <p:nvPr/>
                        </p:nvCxnSpPr>
                        <p:spPr>
                          <a:xfrm flipV="1">
                            <a:off x="5495760" y="5652360"/>
                            <a:ext cx="30600" cy="597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3" name="AutoShape 591"/>
                          <p:cNvCxnSpPr/>
                          <p:nvPr/>
                        </p:nvCxnSpPr>
                        <p:spPr>
                          <a:xfrm flipV="1">
                            <a:off x="5495400" y="5627160"/>
                            <a:ext cx="24120" cy="561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4" name="AutoShape 592"/>
                          <p:cNvCxnSpPr/>
                          <p:nvPr/>
                        </p:nvCxnSpPr>
                        <p:spPr>
                          <a:xfrm flipV="1">
                            <a:off x="5495760" y="5608800"/>
                            <a:ext cx="17280" cy="4392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</p:grpSp>
                    <p:grpSp>
                      <p:nvGrpSpPr>
                        <p:cNvPr id="685" name="Group 593"/>
                        <p:cNvGrpSpPr/>
                        <p:nvPr/>
                      </p:nvGrpSpPr>
                      <p:grpSpPr>
                        <a:xfrm>
                          <a:off x="5450760" y="5601240"/>
                          <a:ext cx="39600" cy="122040"/>
                          <a:chOff x="5450760" y="5601240"/>
                          <a:chExt cx="39600" cy="122040"/>
                        </a:xfrm>
                      </p:grpSpPr>
                      <p:cxnSp>
                        <p:nvCxnSpPr>
                          <p:cNvPr id="686" name="AutoShape 594"/>
                          <p:cNvCxnSpPr/>
                          <p:nvPr/>
                        </p:nvCxnSpPr>
                        <p:spPr>
                          <a:xfrm flipH="1" flipV="1">
                            <a:off x="5489640" y="5601240"/>
                            <a:ext cx="1080" cy="12240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7" name="AutoShape 595"/>
                          <p:cNvCxnSpPr/>
                          <p:nvPr/>
                        </p:nvCxnSpPr>
                        <p:spPr>
                          <a:xfrm flipH="1" flipV="1">
                            <a:off x="5450760" y="5652000"/>
                            <a:ext cx="39600" cy="597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8" name="AutoShape 596"/>
                          <p:cNvCxnSpPr/>
                          <p:nvPr/>
                        </p:nvCxnSpPr>
                        <p:spPr>
                          <a:xfrm flipH="1" flipV="1">
                            <a:off x="5459760" y="5626800"/>
                            <a:ext cx="30600" cy="5616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689" name="AutoShape 597"/>
                          <p:cNvCxnSpPr/>
                          <p:nvPr/>
                        </p:nvCxnSpPr>
                        <p:spPr>
                          <a:xfrm flipH="1" flipV="1">
                            <a:off x="5468760" y="5608440"/>
                            <a:ext cx="21960" cy="43920"/>
                          </a:xfrm>
                          <a:prstGeom prst="straightConnector1">
                            <a:avLst/>
                          </a:prstGeom>
                          <a:ln w="12600">
                            <a:solidFill>
                              <a:srgbClr val="548dd4"/>
                            </a:solidFill>
                            <a:miter/>
                          </a:ln>
                        </p:spPr>
                      </p:cxnSp>
                    </p:grpSp>
                  </p:grpSp>
                  <p:grpSp>
                    <p:nvGrpSpPr>
                      <p:cNvPr id="690" name="Group 598"/>
                      <p:cNvGrpSpPr/>
                      <p:nvPr/>
                    </p:nvGrpSpPr>
                    <p:grpSpPr>
                      <a:xfrm>
                        <a:off x="5445720" y="5580000"/>
                        <a:ext cx="89280" cy="153720"/>
                        <a:chOff x="5445720" y="5580000"/>
                        <a:chExt cx="89280" cy="153720"/>
                      </a:xfrm>
                    </p:grpSpPr>
                    <p:sp>
                      <p:nvSpPr>
                        <p:cNvPr id="691" name="AutoShape 599"/>
                        <p:cNvSpPr/>
                        <p:nvPr/>
                      </p:nvSpPr>
                      <p:spPr>
                        <a:xfrm>
                          <a:off x="5445720" y="5582520"/>
                          <a:ext cx="49320" cy="150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1473" y="241"/>
                                <a:pt x="1346" y="5080"/>
                                <a:pt x="1346" y="10800"/>
                              </a:cubicBezTo>
                              <a:cubicBezTo>
                                <a:pt x="1346" y="16520"/>
                                <a:pt x="11473" y="21359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e36c0a"/>
                        </a:solidFill>
                        <a:ln w="9360">
                          <a:solidFill>
                            <a:srgbClr val="548dd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AutoShape 600"/>
                        <p:cNvSpPr/>
                        <p:nvPr/>
                      </p:nvSpPr>
                      <p:spPr>
                        <a:xfrm rot="10625400">
                          <a:off x="5487480" y="5580720"/>
                          <a:ext cx="43560" cy="15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1594" y="285"/>
                                <a:pt x="1588" y="5080"/>
                                <a:pt x="1588" y="10800"/>
                              </a:cubicBezTo>
                              <a:cubicBezTo>
                                <a:pt x="1588" y="16520"/>
                                <a:pt x="11594" y="21315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e36c0a"/>
                        </a:solidFill>
                        <a:ln w="9360">
                          <a:solidFill>
                            <a:srgbClr val="548dd4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cxnSp>
                <p:nvCxnSpPr>
                  <p:cNvPr id="693" name="AutoShape 601"/>
                  <p:cNvCxnSpPr/>
                  <p:nvPr/>
                </p:nvCxnSpPr>
                <p:spPr>
                  <a:xfrm>
                    <a:off x="5404320" y="5778720"/>
                    <a:ext cx="182520" cy="3600"/>
                  </a:xfrm>
                  <a:prstGeom prst="straightConnector1">
                    <a:avLst/>
                  </a:prstGeom>
                  <a:ln w="38160">
                    <a:solidFill>
                      <a:srgbClr val="548dd4"/>
                    </a:solidFill>
                    <a:miter/>
                  </a:ln>
                </p:spPr>
              </p:cxnSp>
            </p:grpSp>
            <p:grpSp>
              <p:nvGrpSpPr>
                <p:cNvPr id="694" name="Group 602"/>
                <p:cNvGrpSpPr/>
                <p:nvPr/>
              </p:nvGrpSpPr>
              <p:grpSpPr>
                <a:xfrm>
                  <a:off x="5307480" y="5880960"/>
                  <a:ext cx="231840" cy="528120"/>
                  <a:chOff x="5307480" y="5880960"/>
                  <a:chExt cx="231840" cy="528120"/>
                </a:xfrm>
              </p:grpSpPr>
              <p:grpSp>
                <p:nvGrpSpPr>
                  <p:cNvPr id="695" name="Group 603"/>
                  <p:cNvGrpSpPr/>
                  <p:nvPr/>
                </p:nvGrpSpPr>
                <p:grpSpPr>
                  <a:xfrm>
                    <a:off x="5307480" y="5880960"/>
                    <a:ext cx="231840" cy="528120"/>
                    <a:chOff x="5307480" y="5880960"/>
                    <a:chExt cx="231840" cy="528120"/>
                  </a:xfrm>
                </p:grpSpPr>
                <p:grpSp>
                  <p:nvGrpSpPr>
                    <p:cNvPr id="696" name="Group 604"/>
                    <p:cNvGrpSpPr/>
                    <p:nvPr/>
                  </p:nvGrpSpPr>
                  <p:grpSpPr>
                    <a:xfrm>
                      <a:off x="5307480" y="5880960"/>
                      <a:ext cx="231840" cy="528120"/>
                      <a:chOff x="5307480" y="5880960"/>
                      <a:chExt cx="231840" cy="528120"/>
                    </a:xfrm>
                  </p:grpSpPr>
                  <p:sp>
                    <p:nvSpPr>
                      <p:cNvPr id="697" name="Oval 605"/>
                      <p:cNvSpPr/>
                      <p:nvPr/>
                    </p:nvSpPr>
                    <p:spPr>
                      <a:xfrm>
                        <a:off x="5347080" y="6002640"/>
                        <a:ext cx="147600" cy="105120"/>
                      </a:xfrm>
                      <a:prstGeom prst="ellipse">
                        <a:avLst/>
                      </a:prstGeom>
                      <a:solidFill>
                        <a:srgbClr val="cc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AutoShape 606"/>
                      <p:cNvSpPr/>
                      <p:nvPr/>
                    </p:nvSpPr>
                    <p:spPr>
                      <a:xfrm>
                        <a:off x="5307480" y="6107760"/>
                        <a:ext cx="231840" cy="1879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AutoShape 607"/>
                      <p:cNvSpPr/>
                      <p:nvPr/>
                    </p:nvSpPr>
                    <p:spPr>
                      <a:xfrm rot="5400000">
                        <a:off x="5391360" y="5955480"/>
                        <a:ext cx="50760" cy="13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Line 608"/>
                      <p:cNvSpPr/>
                      <p:nvPr/>
                    </p:nvSpPr>
                    <p:spPr>
                      <a:xfrm>
                        <a:off x="5468760" y="6296040"/>
                        <a:ext cx="0" cy="831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Line 609"/>
                      <p:cNvSpPr/>
                      <p:nvPr/>
                    </p:nvSpPr>
                    <p:spPr>
                      <a:xfrm>
                        <a:off x="5382000" y="6296040"/>
                        <a:ext cx="0" cy="6984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>
                          <a:lnSpc>
                            <a:spcPct val="55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2" name="Group 610"/>
                      <p:cNvGrpSpPr/>
                      <p:nvPr/>
                    </p:nvGrpSpPr>
                    <p:grpSpPr>
                      <a:xfrm>
                        <a:off x="5342040" y="6022800"/>
                        <a:ext cx="39960" cy="122400"/>
                        <a:chOff x="5342040" y="6022800"/>
                        <a:chExt cx="39960" cy="122400"/>
                      </a:xfrm>
                    </p:grpSpPr>
                    <p:sp>
                      <p:nvSpPr>
                        <p:cNvPr id="703" name="Oval 611"/>
                        <p:cNvSpPr/>
                        <p:nvPr/>
                      </p:nvSpPr>
                      <p:spPr>
                        <a:xfrm>
                          <a:off x="5342040" y="602280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Oval 612"/>
                        <p:cNvSpPr/>
                        <p:nvPr/>
                      </p:nvSpPr>
                      <p:spPr>
                        <a:xfrm>
                          <a:off x="5344920" y="605412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Oval 613"/>
                        <p:cNvSpPr/>
                        <p:nvPr/>
                      </p:nvSpPr>
                      <p:spPr>
                        <a:xfrm>
                          <a:off x="5347800" y="608544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Oval 614"/>
                        <p:cNvSpPr/>
                        <p:nvPr/>
                      </p:nvSpPr>
                      <p:spPr>
                        <a:xfrm>
                          <a:off x="5350680" y="611676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7" name="Group 615"/>
                      <p:cNvGrpSpPr/>
                      <p:nvPr/>
                    </p:nvGrpSpPr>
                    <p:grpSpPr>
                      <a:xfrm>
                        <a:off x="5463000" y="6022800"/>
                        <a:ext cx="39960" cy="122400"/>
                        <a:chOff x="5463000" y="6022800"/>
                        <a:chExt cx="39960" cy="122400"/>
                      </a:xfrm>
                    </p:grpSpPr>
                    <p:sp>
                      <p:nvSpPr>
                        <p:cNvPr id="708" name="Oval 616"/>
                        <p:cNvSpPr/>
                        <p:nvPr/>
                      </p:nvSpPr>
                      <p:spPr>
                        <a:xfrm>
                          <a:off x="5463000" y="602280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Oval 617"/>
                        <p:cNvSpPr/>
                        <p:nvPr/>
                      </p:nvSpPr>
                      <p:spPr>
                        <a:xfrm>
                          <a:off x="5465880" y="605412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Oval 618"/>
                        <p:cNvSpPr/>
                        <p:nvPr/>
                      </p:nvSpPr>
                      <p:spPr>
                        <a:xfrm>
                          <a:off x="5468760" y="608544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1" name="Oval 619"/>
                        <p:cNvSpPr/>
                        <p:nvPr/>
                      </p:nvSpPr>
                      <p:spPr>
                        <a:xfrm>
                          <a:off x="5471640" y="6116760"/>
                          <a:ext cx="31320" cy="28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2" name="Text Box 620"/>
                      <p:cNvSpPr/>
                      <p:nvPr/>
                    </p:nvSpPr>
                    <p:spPr>
                      <a:xfrm>
                        <a:off x="5337000" y="5880960"/>
                        <a:ext cx="171000" cy="131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Oval 621"/>
                      <p:cNvSpPr/>
                      <p:nvPr/>
                    </p:nvSpPr>
                    <p:spPr>
                      <a:xfrm rot="20313000">
                        <a:off x="5356080" y="6358680"/>
                        <a:ext cx="57960" cy="41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Oval 622"/>
                      <p:cNvSpPr/>
                      <p:nvPr/>
                    </p:nvSpPr>
                    <p:spPr>
                      <a:xfrm rot="20313000">
                        <a:off x="5445000" y="6358680"/>
                        <a:ext cx="57960" cy="41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5" name="Line 623"/>
                    <p:cNvSpPr/>
                    <p:nvPr/>
                  </p:nvSpPr>
                  <p:spPr>
                    <a:xfrm>
                      <a:off x="5373360" y="6029640"/>
                      <a:ext cx="860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Group 624"/>
                  <p:cNvGrpSpPr/>
                  <p:nvPr/>
                </p:nvGrpSpPr>
                <p:grpSpPr>
                  <a:xfrm>
                    <a:off x="5385960" y="5928120"/>
                    <a:ext cx="64080" cy="77400"/>
                    <a:chOff x="5385960" y="5928120"/>
                    <a:chExt cx="64080" cy="77400"/>
                  </a:xfrm>
                </p:grpSpPr>
                <p:grpSp>
                  <p:nvGrpSpPr>
                    <p:cNvPr id="717" name="Group 625"/>
                    <p:cNvGrpSpPr/>
                    <p:nvPr/>
                  </p:nvGrpSpPr>
                  <p:grpSpPr>
                    <a:xfrm>
                      <a:off x="5389560" y="5939280"/>
                      <a:ext cx="55080" cy="61560"/>
                      <a:chOff x="5389560" y="5939280"/>
                      <a:chExt cx="55080" cy="61560"/>
                    </a:xfrm>
                  </p:grpSpPr>
                  <p:grpSp>
                    <p:nvGrpSpPr>
                      <p:cNvPr id="718" name="Group 626"/>
                      <p:cNvGrpSpPr/>
                      <p:nvPr/>
                    </p:nvGrpSpPr>
                    <p:grpSpPr>
                      <a:xfrm>
                        <a:off x="5422320" y="5939280"/>
                        <a:ext cx="22320" cy="61560"/>
                        <a:chOff x="5422320" y="5939280"/>
                        <a:chExt cx="22320" cy="61560"/>
                      </a:xfrm>
                    </p:grpSpPr>
                    <p:cxnSp>
                      <p:nvCxnSpPr>
                        <p:cNvPr id="719" name="AutoShape 627"/>
                        <p:cNvCxnSpPr/>
                        <p:nvPr/>
                      </p:nvCxnSpPr>
                      <p:spPr>
                        <a:xfrm flipV="1">
                          <a:off x="5422320" y="5939280"/>
                          <a:ext cx="1080" cy="61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0" name="AutoShape 628"/>
                        <p:cNvCxnSpPr/>
                        <p:nvPr/>
                      </p:nvCxnSpPr>
                      <p:spPr>
                        <a:xfrm flipV="1">
                          <a:off x="5422320" y="5964840"/>
                          <a:ext cx="22680" cy="302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1" name="AutoShape 629"/>
                        <p:cNvCxnSpPr/>
                        <p:nvPr/>
                      </p:nvCxnSpPr>
                      <p:spPr>
                        <a:xfrm flipV="1">
                          <a:off x="5422320" y="5951880"/>
                          <a:ext cx="17640" cy="28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2" name="AutoShape 630"/>
                        <p:cNvCxnSpPr/>
                        <p:nvPr/>
                      </p:nvCxnSpPr>
                      <p:spPr>
                        <a:xfrm flipV="1">
                          <a:off x="5422680" y="5942520"/>
                          <a:ext cx="12960" cy="22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723" name="Group 631"/>
                      <p:cNvGrpSpPr/>
                      <p:nvPr/>
                    </p:nvGrpSpPr>
                    <p:grpSpPr>
                      <a:xfrm>
                        <a:off x="5389560" y="5939280"/>
                        <a:ext cx="28800" cy="61560"/>
                        <a:chOff x="5389560" y="5939280"/>
                        <a:chExt cx="28800" cy="61560"/>
                      </a:xfrm>
                    </p:grpSpPr>
                    <p:cxnSp>
                      <p:nvCxnSpPr>
                        <p:cNvPr id="724" name="AutoShape 632"/>
                        <p:cNvCxnSpPr/>
                        <p:nvPr/>
                      </p:nvCxnSpPr>
                      <p:spPr>
                        <a:xfrm flipH="1" flipV="1">
                          <a:off x="5417640" y="5939280"/>
                          <a:ext cx="1080" cy="61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5" name="AutoShape 633"/>
                        <p:cNvCxnSpPr/>
                        <p:nvPr/>
                      </p:nvCxnSpPr>
                      <p:spPr>
                        <a:xfrm flipH="1" flipV="1">
                          <a:off x="5389560" y="5964840"/>
                          <a:ext cx="29160" cy="302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6" name="AutoShape 634"/>
                        <p:cNvCxnSpPr/>
                        <p:nvPr/>
                      </p:nvCxnSpPr>
                      <p:spPr>
                        <a:xfrm flipH="1" flipV="1">
                          <a:off x="5396040" y="5951880"/>
                          <a:ext cx="22680" cy="2844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27" name="AutoShape 635"/>
                        <p:cNvCxnSpPr/>
                        <p:nvPr/>
                      </p:nvCxnSpPr>
                      <p:spPr>
                        <a:xfrm flipH="1" flipV="1">
                          <a:off x="5402880" y="5942520"/>
                          <a:ext cx="15840" cy="2268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728" name="Group 636"/>
                    <p:cNvGrpSpPr/>
                    <p:nvPr/>
                  </p:nvGrpSpPr>
                  <p:grpSpPr>
                    <a:xfrm>
                      <a:off x="5385960" y="5928120"/>
                      <a:ext cx="64080" cy="77400"/>
                      <a:chOff x="5385960" y="5928120"/>
                      <a:chExt cx="64080" cy="77400"/>
                    </a:xfrm>
                  </p:grpSpPr>
                  <p:sp>
                    <p:nvSpPr>
                      <p:cNvPr id="729" name="AutoShape 637"/>
                      <p:cNvSpPr/>
                      <p:nvPr/>
                    </p:nvSpPr>
                    <p:spPr>
                      <a:xfrm>
                        <a:off x="5385960" y="5929920"/>
                        <a:ext cx="3564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473" y="241"/>
                              <a:pt x="1346" y="5080"/>
                              <a:pt x="1346" y="10800"/>
                            </a:cubicBezTo>
                            <a:cubicBezTo>
                              <a:pt x="1346" y="16520"/>
                              <a:pt x="11473" y="2135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0" name="AutoShape 638"/>
                      <p:cNvSpPr/>
                      <p:nvPr/>
                    </p:nvSpPr>
                    <p:spPr>
                      <a:xfrm rot="10625400">
                        <a:off x="5416200" y="5928840"/>
                        <a:ext cx="31680" cy="7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594" y="285"/>
                              <a:pt x="1588" y="5080"/>
                              <a:pt x="1588" y="10800"/>
                            </a:cubicBezTo>
                            <a:cubicBezTo>
                              <a:pt x="1588" y="16520"/>
                              <a:pt x="11594" y="21315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1" name="Group 639"/>
                <p:cNvGrpSpPr/>
                <p:nvPr/>
              </p:nvGrpSpPr>
              <p:grpSpPr>
                <a:xfrm>
                  <a:off x="5015520" y="5605200"/>
                  <a:ext cx="343440" cy="811440"/>
                  <a:chOff x="5015520" y="5605200"/>
                  <a:chExt cx="343440" cy="811440"/>
                </a:xfrm>
              </p:grpSpPr>
              <p:sp>
                <p:nvSpPr>
                  <p:cNvPr id="732" name="Oval 640"/>
                  <p:cNvSpPr/>
                  <p:nvPr/>
                </p:nvSpPr>
                <p:spPr>
                  <a:xfrm>
                    <a:off x="5074200" y="5769000"/>
                    <a:ext cx="218520" cy="168120"/>
                  </a:xfrm>
                  <a:prstGeom prst="ellipse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3" name="Group 641"/>
                  <p:cNvGrpSpPr/>
                  <p:nvPr/>
                </p:nvGrpSpPr>
                <p:grpSpPr>
                  <a:xfrm>
                    <a:off x="5137200" y="5605200"/>
                    <a:ext cx="89280" cy="153720"/>
                    <a:chOff x="5137200" y="5605200"/>
                    <a:chExt cx="89280" cy="153720"/>
                  </a:xfrm>
                </p:grpSpPr>
                <p:grpSp>
                  <p:nvGrpSpPr>
                    <p:cNvPr id="734" name="Group 642"/>
                    <p:cNvGrpSpPr/>
                    <p:nvPr/>
                  </p:nvGrpSpPr>
                  <p:grpSpPr>
                    <a:xfrm>
                      <a:off x="5142240" y="5626440"/>
                      <a:ext cx="75240" cy="122400"/>
                      <a:chOff x="5142240" y="5626440"/>
                      <a:chExt cx="75240" cy="122400"/>
                    </a:xfrm>
                  </p:grpSpPr>
                  <p:grpSp>
                    <p:nvGrpSpPr>
                      <p:cNvPr id="735" name="Group 643"/>
                      <p:cNvGrpSpPr/>
                      <p:nvPr/>
                    </p:nvGrpSpPr>
                    <p:grpSpPr>
                      <a:xfrm>
                        <a:off x="5186880" y="5626800"/>
                        <a:ext cx="30600" cy="122040"/>
                        <a:chOff x="5186880" y="5626800"/>
                        <a:chExt cx="30600" cy="122040"/>
                      </a:xfrm>
                    </p:grpSpPr>
                    <p:cxnSp>
                      <p:nvCxnSpPr>
                        <p:cNvPr id="736" name="AutoShape 644"/>
                        <p:cNvCxnSpPr/>
                        <p:nvPr/>
                      </p:nvCxnSpPr>
                      <p:spPr>
                        <a:xfrm flipV="1">
                          <a:off x="5186880" y="5626800"/>
                          <a:ext cx="1080" cy="1224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37" name="AutoShape 645"/>
                        <p:cNvCxnSpPr/>
                        <p:nvPr/>
                      </p:nvCxnSpPr>
                      <p:spPr>
                        <a:xfrm flipV="1">
                          <a:off x="5187240" y="5677560"/>
                          <a:ext cx="30600" cy="597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38" name="AutoShape 646"/>
                        <p:cNvCxnSpPr/>
                        <p:nvPr/>
                      </p:nvCxnSpPr>
                      <p:spPr>
                        <a:xfrm flipV="1">
                          <a:off x="5186880" y="5652360"/>
                          <a:ext cx="24120" cy="561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39" name="AutoShape 647"/>
                        <p:cNvCxnSpPr/>
                        <p:nvPr/>
                      </p:nvCxnSpPr>
                      <p:spPr>
                        <a:xfrm flipV="1">
                          <a:off x="5187240" y="5634000"/>
                          <a:ext cx="17280" cy="43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740" name="Group 648"/>
                      <p:cNvGrpSpPr/>
                      <p:nvPr/>
                    </p:nvGrpSpPr>
                    <p:grpSpPr>
                      <a:xfrm>
                        <a:off x="5142240" y="5626440"/>
                        <a:ext cx="39600" cy="122040"/>
                        <a:chOff x="5142240" y="5626440"/>
                        <a:chExt cx="39600" cy="122040"/>
                      </a:xfrm>
                    </p:grpSpPr>
                    <p:cxnSp>
                      <p:nvCxnSpPr>
                        <p:cNvPr id="741" name="AutoShape 649"/>
                        <p:cNvCxnSpPr/>
                        <p:nvPr/>
                      </p:nvCxnSpPr>
                      <p:spPr>
                        <a:xfrm flipH="1" flipV="1">
                          <a:off x="5181120" y="5626440"/>
                          <a:ext cx="1080" cy="12240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42" name="AutoShape 650"/>
                        <p:cNvCxnSpPr/>
                        <p:nvPr/>
                      </p:nvCxnSpPr>
                      <p:spPr>
                        <a:xfrm flipH="1" flipV="1">
                          <a:off x="5142240" y="5677200"/>
                          <a:ext cx="39600" cy="597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43" name="AutoShape 651"/>
                        <p:cNvCxnSpPr/>
                        <p:nvPr/>
                      </p:nvCxnSpPr>
                      <p:spPr>
                        <a:xfrm flipH="1" flipV="1">
                          <a:off x="5151240" y="5652000"/>
                          <a:ext cx="30600" cy="5616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  <p:cxnSp>
                      <p:nvCxnSpPr>
                        <p:cNvPr id="744" name="AutoShape 652"/>
                        <p:cNvCxnSpPr/>
                        <p:nvPr/>
                      </p:nvCxnSpPr>
                      <p:spPr>
                        <a:xfrm flipH="1" flipV="1">
                          <a:off x="5160240" y="5633640"/>
                          <a:ext cx="21960" cy="43920"/>
                        </a:xfrm>
                        <a:prstGeom prst="straightConnector1">
                          <a:avLst/>
                        </a:prstGeom>
                        <a:ln w="12600">
                          <a:solidFill>
                            <a:srgbClr val="548dd4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745" name="Group 653"/>
                    <p:cNvGrpSpPr/>
                    <p:nvPr/>
                  </p:nvGrpSpPr>
                  <p:grpSpPr>
                    <a:xfrm>
                      <a:off x="5137200" y="5605200"/>
                      <a:ext cx="89280" cy="153720"/>
                      <a:chOff x="5137200" y="5605200"/>
                      <a:chExt cx="89280" cy="153720"/>
                    </a:xfrm>
                  </p:grpSpPr>
                  <p:sp>
                    <p:nvSpPr>
                      <p:cNvPr id="746" name="AutoShape 654"/>
                      <p:cNvSpPr/>
                      <p:nvPr/>
                    </p:nvSpPr>
                    <p:spPr>
                      <a:xfrm>
                        <a:off x="5137200" y="5607720"/>
                        <a:ext cx="49320" cy="15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473" y="241"/>
                              <a:pt x="1346" y="5080"/>
                              <a:pt x="1346" y="10800"/>
                            </a:cubicBezTo>
                            <a:cubicBezTo>
                              <a:pt x="1346" y="16520"/>
                              <a:pt x="11473" y="21359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AutoShape 655"/>
                      <p:cNvSpPr/>
                      <p:nvPr/>
                    </p:nvSpPr>
                    <p:spPr>
                      <a:xfrm rot="10625400">
                        <a:off x="5178960" y="5605920"/>
                        <a:ext cx="4356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1594" y="285"/>
                              <a:pt x="1588" y="5080"/>
                              <a:pt x="1588" y="10800"/>
                            </a:cubicBezTo>
                            <a:cubicBezTo>
                              <a:pt x="1588" y="16520"/>
                              <a:pt x="11594" y="21315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e36c0a"/>
                      </a:solidFill>
                      <a:ln w="9360">
                        <a:solidFill>
                          <a:srgbClr val="548dd4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48" name="AutoShape 656"/>
                  <p:cNvSpPr/>
                  <p:nvPr/>
                </p:nvSpPr>
                <p:spPr>
                  <a:xfrm>
                    <a:off x="5015520" y="5937120"/>
                    <a:ext cx="343440" cy="2998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Line 657"/>
                  <p:cNvSpPr/>
                  <p:nvPr/>
                </p:nvSpPr>
                <p:spPr>
                  <a:xfrm>
                    <a:off x="5254560" y="6237000"/>
                    <a:ext cx="0" cy="1324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Line 658"/>
                  <p:cNvSpPr/>
                  <p:nvPr/>
                </p:nvSpPr>
                <p:spPr>
                  <a:xfrm>
                    <a:off x="5126040" y="6237000"/>
                    <a:ext cx="0" cy="1116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1" name="Group 659"/>
                  <p:cNvGrpSpPr/>
                  <p:nvPr/>
                </p:nvGrpSpPr>
                <p:grpSpPr>
                  <a:xfrm>
                    <a:off x="5074200" y="5757840"/>
                    <a:ext cx="226440" cy="292320"/>
                    <a:chOff x="5074200" y="5757840"/>
                    <a:chExt cx="226440" cy="292320"/>
                  </a:xfrm>
                </p:grpSpPr>
                <p:cxnSp>
                  <p:nvCxnSpPr>
                    <p:cNvPr id="752" name="AutoShape 660"/>
                    <p:cNvCxnSpPr/>
                    <p:nvPr/>
                  </p:nvCxnSpPr>
                  <p:spPr>
                    <a:xfrm>
                      <a:off x="5090400" y="5814000"/>
                      <a:ext cx="182520" cy="3600"/>
                    </a:xfrm>
                    <a:prstGeom prst="straightConnector1">
                      <a:avLst/>
                    </a:prstGeom>
                    <a:ln w="38160">
                      <a:solidFill>
                        <a:srgbClr val="548dd4"/>
                      </a:solidFill>
                      <a:miter/>
                    </a:ln>
                  </p:spPr>
                </p:cxnSp>
                <p:grpSp>
                  <p:nvGrpSpPr>
                    <p:cNvPr id="753" name="Group 661"/>
                    <p:cNvGrpSpPr/>
                    <p:nvPr/>
                  </p:nvGrpSpPr>
                  <p:grpSpPr>
                    <a:xfrm>
                      <a:off x="5266080" y="5807520"/>
                      <a:ext cx="34560" cy="240120"/>
                      <a:chOff x="5266080" y="5807520"/>
                      <a:chExt cx="34560" cy="240120"/>
                    </a:xfrm>
                  </p:grpSpPr>
                  <p:sp>
                    <p:nvSpPr>
                      <p:cNvPr id="754" name="Oval 662"/>
                      <p:cNvSpPr/>
                      <p:nvPr/>
                    </p:nvSpPr>
                    <p:spPr>
                      <a:xfrm>
                        <a:off x="5266080" y="580752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Oval 663"/>
                      <p:cNvSpPr/>
                      <p:nvPr/>
                    </p:nvSpPr>
                    <p:spPr>
                      <a:xfrm>
                        <a:off x="5268240" y="586872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Oval 664"/>
                      <p:cNvSpPr/>
                      <p:nvPr/>
                    </p:nvSpPr>
                    <p:spPr>
                      <a:xfrm>
                        <a:off x="5271120" y="593028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7" name="Oval 665"/>
                      <p:cNvSpPr/>
                      <p:nvPr/>
                    </p:nvSpPr>
                    <p:spPr>
                      <a:xfrm>
                        <a:off x="5273640" y="599148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8" name="AutoShape 666"/>
                    <p:cNvSpPr/>
                    <p:nvPr/>
                  </p:nvSpPr>
                  <p:spPr>
                    <a:xfrm rot="5400000">
                      <a:off x="5137200" y="5701320"/>
                      <a:ext cx="81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59" name="Group 667"/>
                    <p:cNvGrpSpPr/>
                    <p:nvPr/>
                  </p:nvGrpSpPr>
                  <p:grpSpPr>
                    <a:xfrm>
                      <a:off x="5074200" y="5810040"/>
                      <a:ext cx="34560" cy="240120"/>
                      <a:chOff x="5074200" y="5810040"/>
                      <a:chExt cx="34560" cy="240120"/>
                    </a:xfrm>
                  </p:grpSpPr>
                  <p:sp>
                    <p:nvSpPr>
                      <p:cNvPr id="760" name="Oval 668"/>
                      <p:cNvSpPr/>
                      <p:nvPr/>
                    </p:nvSpPr>
                    <p:spPr>
                      <a:xfrm>
                        <a:off x="5074200" y="581004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" name="Oval 669"/>
                      <p:cNvSpPr/>
                      <p:nvPr/>
                    </p:nvSpPr>
                    <p:spPr>
                      <a:xfrm>
                        <a:off x="5076360" y="587124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" name="Oval 670"/>
                      <p:cNvSpPr/>
                      <p:nvPr/>
                    </p:nvSpPr>
                    <p:spPr>
                      <a:xfrm>
                        <a:off x="5079240" y="593280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" name="Oval 671"/>
                      <p:cNvSpPr/>
                      <p:nvPr/>
                    </p:nvSpPr>
                    <p:spPr>
                      <a:xfrm>
                        <a:off x="5081760" y="5994000"/>
                        <a:ext cx="27000" cy="561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64" name="Oval 672"/>
                  <p:cNvSpPr/>
                  <p:nvPr/>
                </p:nvSpPr>
                <p:spPr>
                  <a:xfrm rot="20313000">
                    <a:off x="5087520" y="6337440"/>
                    <a:ext cx="856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Oval 673"/>
                  <p:cNvSpPr/>
                  <p:nvPr/>
                </p:nvSpPr>
                <p:spPr>
                  <a:xfrm rot="20313000">
                    <a:off x="5218920" y="6337440"/>
                    <a:ext cx="856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6" name="Group 674"/>
              <p:cNvGrpSpPr/>
              <p:nvPr/>
            </p:nvGrpSpPr>
            <p:grpSpPr>
              <a:xfrm>
                <a:off x="5676840" y="5716800"/>
                <a:ext cx="818640" cy="719640"/>
                <a:chOff x="5676840" y="5716800"/>
                <a:chExt cx="818640" cy="719640"/>
              </a:xfrm>
            </p:grpSpPr>
            <p:grpSp>
              <p:nvGrpSpPr>
                <p:cNvPr id="767" name="Group 675"/>
                <p:cNvGrpSpPr/>
                <p:nvPr/>
              </p:nvGrpSpPr>
              <p:grpSpPr>
                <a:xfrm>
                  <a:off x="6246360" y="5870880"/>
                  <a:ext cx="189720" cy="548280"/>
                  <a:chOff x="6246360" y="5870880"/>
                  <a:chExt cx="189720" cy="548280"/>
                </a:xfrm>
              </p:grpSpPr>
              <p:sp>
                <p:nvSpPr>
                  <p:cNvPr id="768" name="Rectangle 676"/>
                  <p:cNvSpPr/>
                  <p:nvPr/>
                </p:nvSpPr>
                <p:spPr>
                  <a:xfrm>
                    <a:off x="6248880" y="6009840"/>
                    <a:ext cx="187200" cy="350280"/>
                  </a:xfrm>
                  <a:prstGeom prst="rect">
                    <a:avLst/>
                  </a:prstGeom>
                  <a:solidFill>
                    <a:srgbClr val="76923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Line 677"/>
                  <p:cNvSpPr/>
                  <p:nvPr/>
                </p:nvSpPr>
                <p:spPr>
                  <a:xfrm>
                    <a:off x="6248880" y="6145200"/>
                    <a:ext cx="18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678"/>
                  <p:cNvSpPr/>
                  <p:nvPr/>
                </p:nvSpPr>
                <p:spPr>
                  <a:xfrm flipV="1">
                    <a:off x="6340680" y="6144480"/>
                    <a:ext cx="0" cy="21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Oval 679"/>
                  <p:cNvSpPr/>
                  <p:nvPr/>
                </p:nvSpPr>
                <p:spPr>
                  <a:xfrm rot="20313000">
                    <a:off x="6363000" y="635688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Oval 680"/>
                  <p:cNvSpPr/>
                  <p:nvPr/>
                </p:nvSpPr>
                <p:spPr>
                  <a:xfrm rot="20313000">
                    <a:off x="6253560" y="635688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Oval 681"/>
                  <p:cNvSpPr/>
                  <p:nvPr/>
                </p:nvSpPr>
                <p:spPr>
                  <a:xfrm>
                    <a:off x="6266160" y="5870880"/>
                    <a:ext cx="155880" cy="1324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4" name="Group 682"/>
                <p:cNvGrpSpPr/>
                <p:nvPr/>
              </p:nvGrpSpPr>
              <p:grpSpPr>
                <a:xfrm>
                  <a:off x="6042240" y="5716800"/>
                  <a:ext cx="237600" cy="708120"/>
                  <a:chOff x="6042240" y="5716800"/>
                  <a:chExt cx="237600" cy="708120"/>
                </a:xfrm>
              </p:grpSpPr>
              <p:sp>
                <p:nvSpPr>
                  <p:cNvPr id="775" name="Rectangle 683"/>
                  <p:cNvSpPr/>
                  <p:nvPr/>
                </p:nvSpPr>
                <p:spPr>
                  <a:xfrm>
                    <a:off x="6045480" y="5896080"/>
                    <a:ext cx="234360" cy="452880"/>
                  </a:xfrm>
                  <a:prstGeom prst="rect">
                    <a:avLst/>
                  </a:prstGeom>
                  <a:solidFill>
                    <a:srgbClr val="c2d69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Line 684"/>
                  <p:cNvSpPr/>
                  <p:nvPr/>
                </p:nvSpPr>
                <p:spPr>
                  <a:xfrm>
                    <a:off x="6045480" y="6071400"/>
                    <a:ext cx="234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Line 685"/>
                  <p:cNvSpPr/>
                  <p:nvPr/>
                </p:nvSpPr>
                <p:spPr>
                  <a:xfrm flipV="1">
                    <a:off x="6160320" y="6070680"/>
                    <a:ext cx="0" cy="27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Oval 686"/>
                  <p:cNvSpPr/>
                  <p:nvPr/>
                </p:nvSpPr>
                <p:spPr>
                  <a:xfrm rot="20313000">
                    <a:off x="6188760" y="6344640"/>
                    <a:ext cx="78120" cy="680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Oval 687"/>
                  <p:cNvSpPr/>
                  <p:nvPr/>
                </p:nvSpPr>
                <p:spPr>
                  <a:xfrm rot="20313000">
                    <a:off x="6051960" y="6344640"/>
                    <a:ext cx="78120" cy="6804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Oval 688"/>
                  <p:cNvSpPr/>
                  <p:nvPr/>
                </p:nvSpPr>
                <p:spPr>
                  <a:xfrm>
                    <a:off x="6067080" y="5716800"/>
                    <a:ext cx="195480" cy="171000"/>
                  </a:xfrm>
                  <a:prstGeom prst="ellipse">
                    <a:avLst/>
                  </a:prstGeom>
                  <a:solidFill>
                    <a:srgbClr val="b0540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Group 689"/>
                <p:cNvGrpSpPr/>
                <p:nvPr/>
              </p:nvGrpSpPr>
              <p:grpSpPr>
                <a:xfrm>
                  <a:off x="5676840" y="5750280"/>
                  <a:ext cx="312480" cy="686160"/>
                  <a:chOff x="5676840" y="5750280"/>
                  <a:chExt cx="312480" cy="686160"/>
                </a:xfrm>
              </p:grpSpPr>
              <p:sp>
                <p:nvSpPr>
                  <p:cNvPr id="782" name="AutoShape 690"/>
                  <p:cNvSpPr/>
                  <p:nvPr/>
                </p:nvSpPr>
                <p:spPr>
                  <a:xfrm>
                    <a:off x="5676840" y="5928120"/>
                    <a:ext cx="312480" cy="309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Oval 691"/>
                  <p:cNvSpPr/>
                  <p:nvPr/>
                </p:nvSpPr>
                <p:spPr>
                  <a:xfrm>
                    <a:off x="5737680" y="5750280"/>
                    <a:ext cx="195120" cy="171000"/>
                  </a:xfrm>
                  <a:prstGeom prst="ellipse">
                    <a:avLst/>
                  </a:prstGeom>
                  <a:solidFill>
                    <a:srgbClr val="593b1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Line 692"/>
                  <p:cNvSpPr/>
                  <p:nvPr/>
                </p:nvSpPr>
                <p:spPr>
                  <a:xfrm>
                    <a:off x="5873040" y="623664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Line 693"/>
                  <p:cNvSpPr/>
                  <p:nvPr/>
                </p:nvSpPr>
                <p:spPr>
                  <a:xfrm>
                    <a:off x="5789520" y="623664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Oval 694"/>
                  <p:cNvSpPr/>
                  <p:nvPr/>
                </p:nvSpPr>
                <p:spPr>
                  <a:xfrm rot="20313000">
                    <a:off x="5845680" y="6355440"/>
                    <a:ext cx="7812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Oval 695"/>
                  <p:cNvSpPr/>
                  <p:nvPr/>
                </p:nvSpPr>
                <p:spPr>
                  <a:xfrm rot="20313000">
                    <a:off x="5735520" y="6356160"/>
                    <a:ext cx="78120" cy="68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8" name="Group 696"/>
                <p:cNvGrpSpPr/>
                <p:nvPr/>
              </p:nvGrpSpPr>
              <p:grpSpPr>
                <a:xfrm>
                  <a:off x="6361560" y="6046560"/>
                  <a:ext cx="133920" cy="322560"/>
                  <a:chOff x="6361560" y="6046560"/>
                  <a:chExt cx="133920" cy="322560"/>
                </a:xfrm>
              </p:grpSpPr>
              <p:cxnSp>
                <p:nvCxnSpPr>
                  <p:cNvPr id="789" name="AutoShape 697"/>
                  <p:cNvCxnSpPr/>
                  <p:nvPr/>
                </p:nvCxnSpPr>
                <p:spPr>
                  <a:xfrm>
                    <a:off x="6454080" y="6046920"/>
                    <a:ext cx="41760" cy="322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790" name="AutoShape 698"/>
                  <p:cNvCxnSpPr/>
                  <p:nvPr/>
                </p:nvCxnSpPr>
                <p:spPr>
                  <a:xfrm>
                    <a:off x="6361560" y="6064560"/>
                    <a:ext cx="133560" cy="28512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791" name="AutoShape 699"/>
                  <p:cNvCxnSpPr/>
                  <p:nvPr/>
                </p:nvCxnSpPr>
                <p:spPr>
                  <a:xfrm flipV="1">
                    <a:off x="6361560" y="6046560"/>
                    <a:ext cx="93240" cy="1224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792" name="Group 700"/>
                <p:cNvGrpSpPr/>
                <p:nvPr/>
              </p:nvGrpSpPr>
              <p:grpSpPr>
                <a:xfrm>
                  <a:off x="5696280" y="5955840"/>
                  <a:ext cx="117000" cy="210240"/>
                  <a:chOff x="5696280" y="5955840"/>
                  <a:chExt cx="117000" cy="210240"/>
                </a:xfrm>
              </p:grpSpPr>
              <p:sp>
                <p:nvSpPr>
                  <p:cNvPr id="793" name="AutoShape 701"/>
                  <p:cNvSpPr/>
                  <p:nvPr/>
                </p:nvSpPr>
                <p:spPr>
                  <a:xfrm>
                    <a:off x="5696280" y="601020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e5b8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Oval 702"/>
                  <p:cNvSpPr/>
                  <p:nvPr/>
                </p:nvSpPr>
                <p:spPr>
                  <a:xfrm>
                    <a:off x="5718960" y="5955840"/>
                    <a:ext cx="73080" cy="52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Line 703"/>
                  <p:cNvSpPr/>
                  <p:nvPr/>
                </p:nvSpPr>
                <p:spPr>
                  <a:xfrm>
                    <a:off x="5769720" y="610416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Line 704"/>
                  <p:cNvSpPr/>
                  <p:nvPr/>
                </p:nvSpPr>
                <p:spPr>
                  <a:xfrm>
                    <a:off x="5738400" y="610416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Oval 705"/>
                  <p:cNvSpPr/>
                  <p:nvPr/>
                </p:nvSpPr>
                <p:spPr>
                  <a:xfrm rot="20313000">
                    <a:off x="5759640" y="614052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Oval 706"/>
                  <p:cNvSpPr/>
                  <p:nvPr/>
                </p:nvSpPr>
                <p:spPr>
                  <a:xfrm rot="20313000">
                    <a:off x="5718240" y="614088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Group 707"/>
                <p:cNvGrpSpPr/>
                <p:nvPr/>
              </p:nvGrpSpPr>
              <p:grpSpPr>
                <a:xfrm>
                  <a:off x="5898240" y="5995080"/>
                  <a:ext cx="156960" cy="419040"/>
                  <a:chOff x="5898240" y="5995080"/>
                  <a:chExt cx="156960" cy="419040"/>
                </a:xfrm>
              </p:grpSpPr>
              <p:sp>
                <p:nvSpPr>
                  <p:cNvPr id="800" name="Oval 708"/>
                  <p:cNvSpPr/>
                  <p:nvPr/>
                </p:nvSpPr>
                <p:spPr>
                  <a:xfrm rot="20313000">
                    <a:off x="5994720" y="6365520"/>
                    <a:ext cx="51840" cy="40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Oval 709"/>
                  <p:cNvSpPr/>
                  <p:nvPr/>
                </p:nvSpPr>
                <p:spPr>
                  <a:xfrm rot="20313000">
                    <a:off x="5903640" y="6365520"/>
                    <a:ext cx="51840" cy="40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Oval 710"/>
                  <p:cNvSpPr/>
                  <p:nvPr/>
                </p:nvSpPr>
                <p:spPr>
                  <a:xfrm>
                    <a:off x="5913360" y="5995080"/>
                    <a:ext cx="129960" cy="101160"/>
                  </a:xfrm>
                  <a:prstGeom prst="ellipse">
                    <a:avLst/>
                  </a:prstGeom>
                  <a:solidFill>
                    <a:srgbClr val="593b1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Rectangle 711"/>
                  <p:cNvSpPr/>
                  <p:nvPr/>
                </p:nvSpPr>
                <p:spPr>
                  <a:xfrm>
                    <a:off x="5899320" y="6101280"/>
                    <a:ext cx="155880" cy="267120"/>
                  </a:xfrm>
                  <a:prstGeom prst="rect">
                    <a:avLst/>
                  </a:prstGeom>
                  <a:solidFill>
                    <a:srgbClr val="d8d8d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804" name="AutoShape 712"/>
                  <p:cNvCxnSpPr/>
                  <p:nvPr/>
                </p:nvCxnSpPr>
                <p:spPr>
                  <a:xfrm>
                    <a:off x="5913000" y="6242400"/>
                    <a:ext cx="127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805" name="AutoShape 713"/>
                  <p:cNvCxnSpPr/>
                  <p:nvPr/>
                </p:nvCxnSpPr>
                <p:spPr>
                  <a:xfrm>
                    <a:off x="5969880" y="6242400"/>
                    <a:ext cx="1080" cy="1234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806" name="Group 714"/>
              <p:cNvGrpSpPr/>
              <p:nvPr/>
            </p:nvGrpSpPr>
            <p:grpSpPr>
              <a:xfrm>
                <a:off x="4554720" y="5707800"/>
                <a:ext cx="455400" cy="719280"/>
                <a:chOff x="4554720" y="5707800"/>
                <a:chExt cx="455400" cy="719280"/>
              </a:xfrm>
            </p:grpSpPr>
            <p:grpSp>
              <p:nvGrpSpPr>
                <p:cNvPr id="807" name="Group 715"/>
                <p:cNvGrpSpPr/>
                <p:nvPr/>
              </p:nvGrpSpPr>
              <p:grpSpPr>
                <a:xfrm>
                  <a:off x="4554720" y="5707800"/>
                  <a:ext cx="348120" cy="719280"/>
                  <a:chOff x="4554720" y="5707800"/>
                  <a:chExt cx="348120" cy="719280"/>
                </a:xfrm>
              </p:grpSpPr>
              <p:sp>
                <p:nvSpPr>
                  <p:cNvPr id="808" name="Oval 716"/>
                  <p:cNvSpPr/>
                  <p:nvPr/>
                </p:nvSpPr>
                <p:spPr>
                  <a:xfrm>
                    <a:off x="4625280" y="5747400"/>
                    <a:ext cx="191520" cy="181080"/>
                  </a:xfrm>
                  <a:prstGeom prst="ellipse">
                    <a:avLst/>
                  </a:prstGeom>
                  <a:solidFill>
                    <a:srgbClr val="fabf8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Line 717"/>
                  <p:cNvSpPr/>
                  <p:nvPr/>
                </p:nvSpPr>
                <p:spPr>
                  <a:xfrm>
                    <a:off x="4755600" y="6226560"/>
                    <a:ext cx="0" cy="135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Oval 718"/>
                  <p:cNvSpPr/>
                  <p:nvPr/>
                </p:nvSpPr>
                <p:spPr>
                  <a:xfrm rot="20313000">
                    <a:off x="4729320" y="6345360"/>
                    <a:ext cx="87120" cy="67320"/>
                  </a:xfrm>
                  <a:prstGeom prst="ellipse">
                    <a:avLst/>
                  </a:prstGeom>
                  <a:solidFill>
                    <a:srgbClr val="a5a5a5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Oval 719"/>
                  <p:cNvSpPr/>
                  <p:nvPr/>
                </p:nvSpPr>
                <p:spPr>
                  <a:xfrm>
                    <a:off x="4679640" y="5707800"/>
                    <a:ext cx="86760" cy="6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AutoShape 720"/>
                  <p:cNvSpPr/>
                  <p:nvPr/>
                </p:nvSpPr>
                <p:spPr>
                  <a:xfrm>
                    <a:off x="4554720" y="5928480"/>
                    <a:ext cx="348120" cy="30636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Line 721"/>
                  <p:cNvSpPr/>
                  <p:nvPr/>
                </p:nvSpPr>
                <p:spPr>
                  <a:xfrm>
                    <a:off x="4664520" y="6228000"/>
                    <a:ext cx="0" cy="122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Oval 722"/>
                  <p:cNvSpPr/>
                  <p:nvPr/>
                </p:nvSpPr>
                <p:spPr>
                  <a:xfrm rot="20313000">
                    <a:off x="4603680" y="6346080"/>
                    <a:ext cx="86760" cy="673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AutoShape 723"/>
                  <p:cNvSpPr/>
                  <p:nvPr/>
                </p:nvSpPr>
                <p:spPr>
                  <a:xfrm rot="5609400">
                    <a:off x="4673880" y="5700960"/>
                    <a:ext cx="9936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163" y="2283"/>
                          <a:pt x="12725" y="5080"/>
                          <a:pt x="12725" y="10800"/>
                        </a:cubicBezTo>
                        <a:cubicBezTo>
                          <a:pt x="12725" y="16520"/>
                          <a:pt x="17163" y="193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6" name="Group 724"/>
                <p:cNvGrpSpPr/>
                <p:nvPr/>
              </p:nvGrpSpPr>
              <p:grpSpPr>
                <a:xfrm>
                  <a:off x="4575240" y="5956560"/>
                  <a:ext cx="117000" cy="210240"/>
                  <a:chOff x="4575240" y="5956560"/>
                  <a:chExt cx="117000" cy="210240"/>
                </a:xfrm>
              </p:grpSpPr>
              <p:sp>
                <p:nvSpPr>
                  <p:cNvPr id="817" name="AutoShape 725"/>
                  <p:cNvSpPr/>
                  <p:nvPr/>
                </p:nvSpPr>
                <p:spPr>
                  <a:xfrm>
                    <a:off x="4575240" y="601092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Oval 726"/>
                  <p:cNvSpPr/>
                  <p:nvPr/>
                </p:nvSpPr>
                <p:spPr>
                  <a:xfrm>
                    <a:off x="4597920" y="5956560"/>
                    <a:ext cx="73080" cy="52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Line 727"/>
                  <p:cNvSpPr/>
                  <p:nvPr/>
                </p:nvSpPr>
                <p:spPr>
                  <a:xfrm>
                    <a:off x="4648680" y="6104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Line 728"/>
                  <p:cNvSpPr/>
                  <p:nvPr/>
                </p:nvSpPr>
                <p:spPr>
                  <a:xfrm>
                    <a:off x="4617360" y="6104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Oval 729"/>
                  <p:cNvSpPr/>
                  <p:nvPr/>
                </p:nvSpPr>
                <p:spPr>
                  <a:xfrm rot="20313000">
                    <a:off x="4638600" y="614124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Oval 730"/>
                  <p:cNvSpPr/>
                  <p:nvPr/>
                </p:nvSpPr>
                <p:spPr>
                  <a:xfrm rot="20313000">
                    <a:off x="4597200" y="614160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3" name="Group 731"/>
                <p:cNvGrpSpPr/>
                <p:nvPr/>
              </p:nvGrpSpPr>
              <p:grpSpPr>
                <a:xfrm>
                  <a:off x="4775760" y="5984280"/>
                  <a:ext cx="234360" cy="420480"/>
                  <a:chOff x="4775760" y="5984280"/>
                  <a:chExt cx="234360" cy="420480"/>
                </a:xfrm>
              </p:grpSpPr>
              <p:sp>
                <p:nvSpPr>
                  <p:cNvPr id="824" name="AutoShape 732"/>
                  <p:cNvSpPr/>
                  <p:nvPr/>
                </p:nvSpPr>
                <p:spPr>
                  <a:xfrm>
                    <a:off x="4775760" y="609264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f497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Oval 733"/>
                  <p:cNvSpPr/>
                  <p:nvPr/>
                </p:nvSpPr>
                <p:spPr>
                  <a:xfrm>
                    <a:off x="4821120" y="5984280"/>
                    <a:ext cx="146520" cy="1044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Line 734"/>
                  <p:cNvSpPr/>
                  <p:nvPr/>
                </p:nvSpPr>
                <p:spPr>
                  <a:xfrm>
                    <a:off x="4923000" y="6280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Line 735"/>
                  <p:cNvSpPr/>
                  <p:nvPr/>
                </p:nvSpPr>
                <p:spPr>
                  <a:xfrm>
                    <a:off x="4860360" y="6280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Oval 736"/>
                  <p:cNvSpPr/>
                  <p:nvPr/>
                </p:nvSpPr>
                <p:spPr>
                  <a:xfrm rot="20313000">
                    <a:off x="4902480" y="6353640"/>
                    <a:ext cx="58680" cy="41400"/>
                  </a:xfrm>
                  <a:prstGeom prst="ellipse">
                    <a:avLst/>
                  </a:prstGeom>
                  <a:solidFill>
                    <a:srgbClr val="d9959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Oval 737"/>
                  <p:cNvSpPr/>
                  <p:nvPr/>
                </p:nvSpPr>
                <p:spPr>
                  <a:xfrm rot="20313000">
                    <a:off x="4819680" y="6354000"/>
                    <a:ext cx="58680" cy="41400"/>
                  </a:xfrm>
                  <a:prstGeom prst="ellipse">
                    <a:avLst/>
                  </a:prstGeom>
                  <a:solidFill>
                    <a:srgbClr val="d9959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0" name="Group 738"/>
              <p:cNvGrpSpPr/>
              <p:nvPr/>
            </p:nvGrpSpPr>
            <p:grpSpPr>
              <a:xfrm>
                <a:off x="6509520" y="5702040"/>
                <a:ext cx="531720" cy="719280"/>
                <a:chOff x="6509520" y="5702040"/>
                <a:chExt cx="531720" cy="719280"/>
              </a:xfrm>
            </p:grpSpPr>
            <p:grpSp>
              <p:nvGrpSpPr>
                <p:cNvPr id="831" name="Group 739"/>
                <p:cNvGrpSpPr/>
                <p:nvPr/>
              </p:nvGrpSpPr>
              <p:grpSpPr>
                <a:xfrm>
                  <a:off x="6803640" y="5703480"/>
                  <a:ext cx="237600" cy="708480"/>
                  <a:chOff x="6803640" y="5703480"/>
                  <a:chExt cx="237600" cy="708480"/>
                </a:xfrm>
              </p:grpSpPr>
              <p:grpSp>
                <p:nvGrpSpPr>
                  <p:cNvPr id="832" name="Group 740"/>
                  <p:cNvGrpSpPr/>
                  <p:nvPr/>
                </p:nvGrpSpPr>
                <p:grpSpPr>
                  <a:xfrm>
                    <a:off x="6803640" y="5703480"/>
                    <a:ext cx="237600" cy="708480"/>
                    <a:chOff x="6803640" y="5703480"/>
                    <a:chExt cx="237600" cy="708480"/>
                  </a:xfrm>
                </p:grpSpPr>
                <p:sp>
                  <p:nvSpPr>
                    <p:cNvPr id="833" name="Rectangle 741"/>
                    <p:cNvSpPr/>
                    <p:nvPr/>
                  </p:nvSpPr>
                  <p:spPr>
                    <a:xfrm>
                      <a:off x="6806880" y="5883120"/>
                      <a:ext cx="234360" cy="452880"/>
                    </a:xfrm>
                    <a:prstGeom prst="rect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Line 742"/>
                    <p:cNvSpPr/>
                    <p:nvPr/>
                  </p:nvSpPr>
                  <p:spPr>
                    <a:xfrm>
                      <a:off x="6806880" y="6058080"/>
                      <a:ext cx="234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Line 743"/>
                    <p:cNvSpPr/>
                    <p:nvPr/>
                  </p:nvSpPr>
                  <p:spPr>
                    <a:xfrm flipV="1">
                      <a:off x="6921720" y="6057360"/>
                      <a:ext cx="0" cy="273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Oval 744"/>
                    <p:cNvSpPr/>
                    <p:nvPr/>
                  </p:nvSpPr>
                  <p:spPr>
                    <a:xfrm rot="20313000">
                      <a:off x="6950160" y="6331680"/>
                      <a:ext cx="78120" cy="68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Oval 745"/>
                    <p:cNvSpPr/>
                    <p:nvPr/>
                  </p:nvSpPr>
                  <p:spPr>
                    <a:xfrm rot="20313000">
                      <a:off x="6813360" y="6331680"/>
                      <a:ext cx="78120" cy="68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Oval 746"/>
                    <p:cNvSpPr/>
                    <p:nvPr/>
                  </p:nvSpPr>
                  <p:spPr>
                    <a:xfrm>
                      <a:off x="6828480" y="5703480"/>
                      <a:ext cx="195480" cy="171000"/>
                    </a:xfrm>
                    <a:prstGeom prst="ellipse">
                      <a:avLst/>
                    </a:prstGeom>
                    <a:solidFill>
                      <a:srgbClr val="492f1b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9" name="AutoShape 747"/>
                  <p:cNvSpPr/>
                  <p:nvPr/>
                </p:nvSpPr>
                <p:spPr>
                  <a:xfrm rot="5851800">
                    <a:off x="6905160" y="5758200"/>
                    <a:ext cx="428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0" name="Group 748"/>
                <p:cNvGrpSpPr/>
                <p:nvPr/>
              </p:nvGrpSpPr>
              <p:grpSpPr>
                <a:xfrm>
                  <a:off x="6509520" y="5702040"/>
                  <a:ext cx="348120" cy="719280"/>
                  <a:chOff x="6509520" y="5702040"/>
                  <a:chExt cx="348120" cy="719280"/>
                </a:xfrm>
              </p:grpSpPr>
              <p:sp>
                <p:nvSpPr>
                  <p:cNvPr id="841" name="Oval 749"/>
                  <p:cNvSpPr/>
                  <p:nvPr/>
                </p:nvSpPr>
                <p:spPr>
                  <a:xfrm>
                    <a:off x="6580080" y="5741640"/>
                    <a:ext cx="191520" cy="181080"/>
                  </a:xfrm>
                  <a:prstGeom prst="ellipse">
                    <a:avLst/>
                  </a:prstGeom>
                  <a:solidFill>
                    <a:srgbClr val="fabf8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Line 750"/>
                  <p:cNvSpPr/>
                  <p:nvPr/>
                </p:nvSpPr>
                <p:spPr>
                  <a:xfrm>
                    <a:off x="6710400" y="6220800"/>
                    <a:ext cx="0" cy="135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Oval 751"/>
                  <p:cNvSpPr/>
                  <p:nvPr/>
                </p:nvSpPr>
                <p:spPr>
                  <a:xfrm rot="20313000">
                    <a:off x="6684120" y="6339600"/>
                    <a:ext cx="87120" cy="67320"/>
                  </a:xfrm>
                  <a:prstGeom prst="ellipse">
                    <a:avLst/>
                  </a:prstGeom>
                  <a:solidFill>
                    <a:srgbClr val="a5a5a5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Oval 752"/>
                  <p:cNvSpPr/>
                  <p:nvPr/>
                </p:nvSpPr>
                <p:spPr>
                  <a:xfrm>
                    <a:off x="6634440" y="5702040"/>
                    <a:ext cx="86760" cy="6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AutoShape 753"/>
                  <p:cNvSpPr/>
                  <p:nvPr/>
                </p:nvSpPr>
                <p:spPr>
                  <a:xfrm>
                    <a:off x="6509520" y="5922720"/>
                    <a:ext cx="348120" cy="30636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Line 754"/>
                  <p:cNvSpPr/>
                  <p:nvPr/>
                </p:nvSpPr>
                <p:spPr>
                  <a:xfrm>
                    <a:off x="6619320" y="6222240"/>
                    <a:ext cx="0" cy="122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Oval 755"/>
                  <p:cNvSpPr/>
                  <p:nvPr/>
                </p:nvSpPr>
                <p:spPr>
                  <a:xfrm rot="20313000">
                    <a:off x="6558480" y="6340320"/>
                    <a:ext cx="86760" cy="673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AutoShape 756"/>
                  <p:cNvSpPr/>
                  <p:nvPr/>
                </p:nvSpPr>
                <p:spPr>
                  <a:xfrm rot="5609400">
                    <a:off x="6629040" y="5694480"/>
                    <a:ext cx="99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7163" y="2283"/>
                          <a:pt x="12725" y="5080"/>
                          <a:pt x="12725" y="10800"/>
                        </a:cubicBezTo>
                        <a:cubicBezTo>
                          <a:pt x="12725" y="16520"/>
                          <a:pt x="17163" y="193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9" name="Group 757"/>
              <p:cNvGrpSpPr/>
              <p:nvPr/>
            </p:nvGrpSpPr>
            <p:grpSpPr>
              <a:xfrm>
                <a:off x="3900240" y="5733000"/>
                <a:ext cx="624600" cy="689760"/>
                <a:chOff x="3900240" y="5733000"/>
                <a:chExt cx="624600" cy="689760"/>
              </a:xfrm>
            </p:grpSpPr>
            <p:grpSp>
              <p:nvGrpSpPr>
                <p:cNvPr id="850" name="Group 758"/>
                <p:cNvGrpSpPr/>
                <p:nvPr/>
              </p:nvGrpSpPr>
              <p:grpSpPr>
                <a:xfrm>
                  <a:off x="3900240" y="5862240"/>
                  <a:ext cx="190080" cy="548280"/>
                  <a:chOff x="3900240" y="5862240"/>
                  <a:chExt cx="190080" cy="548280"/>
                </a:xfrm>
              </p:grpSpPr>
              <p:sp>
                <p:nvSpPr>
                  <p:cNvPr id="851" name="Rectangle 759"/>
                  <p:cNvSpPr/>
                  <p:nvPr/>
                </p:nvSpPr>
                <p:spPr>
                  <a:xfrm>
                    <a:off x="3902760" y="6001200"/>
                    <a:ext cx="187560" cy="350280"/>
                  </a:xfrm>
                  <a:prstGeom prst="rect">
                    <a:avLst/>
                  </a:prstGeom>
                  <a:solidFill>
                    <a:srgbClr val="31849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Line 760"/>
                  <p:cNvSpPr/>
                  <p:nvPr/>
                </p:nvSpPr>
                <p:spPr>
                  <a:xfrm>
                    <a:off x="3902760" y="6136560"/>
                    <a:ext cx="18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Line 761"/>
                  <p:cNvSpPr/>
                  <p:nvPr/>
                </p:nvSpPr>
                <p:spPr>
                  <a:xfrm flipV="1">
                    <a:off x="3994920" y="6135840"/>
                    <a:ext cx="0" cy="21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Oval 762"/>
                  <p:cNvSpPr/>
                  <p:nvPr/>
                </p:nvSpPr>
                <p:spPr>
                  <a:xfrm rot="20313000">
                    <a:off x="4016880" y="634824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Oval 763"/>
                  <p:cNvSpPr/>
                  <p:nvPr/>
                </p:nvSpPr>
                <p:spPr>
                  <a:xfrm rot="20313000">
                    <a:off x="3907440" y="6348240"/>
                    <a:ext cx="62280" cy="52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Oval 764"/>
                  <p:cNvSpPr/>
                  <p:nvPr/>
                </p:nvSpPr>
                <p:spPr>
                  <a:xfrm>
                    <a:off x="3920040" y="5862240"/>
                    <a:ext cx="156240" cy="13248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7" name="Group 765"/>
                <p:cNvGrpSpPr/>
                <p:nvPr/>
              </p:nvGrpSpPr>
              <p:grpSpPr>
                <a:xfrm>
                  <a:off x="4063680" y="5733000"/>
                  <a:ext cx="312480" cy="686160"/>
                  <a:chOff x="4063680" y="5733000"/>
                  <a:chExt cx="312480" cy="686160"/>
                </a:xfrm>
              </p:grpSpPr>
              <p:sp>
                <p:nvSpPr>
                  <p:cNvPr id="858" name="AutoShape 766"/>
                  <p:cNvSpPr/>
                  <p:nvPr/>
                </p:nvSpPr>
                <p:spPr>
                  <a:xfrm>
                    <a:off x="4063680" y="5910840"/>
                    <a:ext cx="312480" cy="309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2a1c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Oval 767"/>
                  <p:cNvSpPr/>
                  <p:nvPr/>
                </p:nvSpPr>
                <p:spPr>
                  <a:xfrm>
                    <a:off x="4124520" y="5733000"/>
                    <a:ext cx="195120" cy="17100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Line 768"/>
                  <p:cNvSpPr/>
                  <p:nvPr/>
                </p:nvSpPr>
                <p:spPr>
                  <a:xfrm>
                    <a:off x="4259880" y="621936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Line 769"/>
                  <p:cNvSpPr/>
                  <p:nvPr/>
                </p:nvSpPr>
                <p:spPr>
                  <a:xfrm>
                    <a:off x="4176360" y="6219360"/>
                    <a:ext cx="0" cy="136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Oval 770"/>
                  <p:cNvSpPr/>
                  <p:nvPr/>
                </p:nvSpPr>
                <p:spPr>
                  <a:xfrm rot="20313000">
                    <a:off x="4232520" y="6338160"/>
                    <a:ext cx="78120" cy="68040"/>
                  </a:xfrm>
                  <a:prstGeom prst="ellipse">
                    <a:avLst/>
                  </a:prstGeom>
                  <a:solidFill>
                    <a:srgbClr val="3f315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Oval 771"/>
                  <p:cNvSpPr/>
                  <p:nvPr/>
                </p:nvSpPr>
                <p:spPr>
                  <a:xfrm rot="20313000">
                    <a:off x="4122360" y="6338880"/>
                    <a:ext cx="78120" cy="68040"/>
                  </a:xfrm>
                  <a:prstGeom prst="ellipse">
                    <a:avLst/>
                  </a:prstGeom>
                  <a:solidFill>
                    <a:srgbClr val="3f315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4" name="Group 772"/>
                <p:cNvGrpSpPr/>
                <p:nvPr/>
              </p:nvGrpSpPr>
              <p:grpSpPr>
                <a:xfrm>
                  <a:off x="3990600" y="6002280"/>
                  <a:ext cx="234360" cy="420480"/>
                  <a:chOff x="3990600" y="6002280"/>
                  <a:chExt cx="234360" cy="420480"/>
                </a:xfrm>
              </p:grpSpPr>
              <p:sp>
                <p:nvSpPr>
                  <p:cNvPr id="865" name="AutoShape 773"/>
                  <p:cNvSpPr/>
                  <p:nvPr/>
                </p:nvSpPr>
                <p:spPr>
                  <a:xfrm>
                    <a:off x="3990600" y="611064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e36c0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Oval 774"/>
                  <p:cNvSpPr/>
                  <p:nvPr/>
                </p:nvSpPr>
                <p:spPr>
                  <a:xfrm>
                    <a:off x="4035960" y="6002280"/>
                    <a:ext cx="146520" cy="104400"/>
                  </a:xfrm>
                  <a:prstGeom prst="ellipse">
                    <a:avLst/>
                  </a:prstGeom>
                  <a:solidFill>
                    <a:srgbClr val="cd9b6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Line 775"/>
                  <p:cNvSpPr/>
                  <p:nvPr/>
                </p:nvSpPr>
                <p:spPr>
                  <a:xfrm>
                    <a:off x="4137840" y="6298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Line 776"/>
                  <p:cNvSpPr/>
                  <p:nvPr/>
                </p:nvSpPr>
                <p:spPr>
                  <a:xfrm>
                    <a:off x="4075200" y="629892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Oval 777"/>
                  <p:cNvSpPr/>
                  <p:nvPr/>
                </p:nvSpPr>
                <p:spPr>
                  <a:xfrm rot="20313000">
                    <a:off x="4117320" y="6371640"/>
                    <a:ext cx="58680" cy="41400"/>
                  </a:xfrm>
                  <a:prstGeom prst="ellipse">
                    <a:avLst/>
                  </a:prstGeom>
                  <a:solidFill>
                    <a:srgbClr val="8064a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Oval 778"/>
                  <p:cNvSpPr/>
                  <p:nvPr/>
                </p:nvSpPr>
                <p:spPr>
                  <a:xfrm rot="20313000">
                    <a:off x="4034520" y="6372000"/>
                    <a:ext cx="58680" cy="41400"/>
                  </a:xfrm>
                  <a:prstGeom prst="ellipse">
                    <a:avLst/>
                  </a:prstGeom>
                  <a:solidFill>
                    <a:srgbClr val="8064a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Group 779"/>
                <p:cNvGrpSpPr/>
                <p:nvPr/>
              </p:nvGrpSpPr>
              <p:grpSpPr>
                <a:xfrm>
                  <a:off x="4290480" y="5992200"/>
                  <a:ext cx="234360" cy="420480"/>
                  <a:chOff x="4290480" y="5992200"/>
                  <a:chExt cx="234360" cy="420480"/>
                </a:xfrm>
              </p:grpSpPr>
              <p:sp>
                <p:nvSpPr>
                  <p:cNvPr id="872" name="AutoShape 780"/>
                  <p:cNvSpPr/>
                  <p:nvPr/>
                </p:nvSpPr>
                <p:spPr>
                  <a:xfrm>
                    <a:off x="4290480" y="6100560"/>
                    <a:ext cx="234360" cy="189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363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Oval 781"/>
                  <p:cNvSpPr/>
                  <p:nvPr/>
                </p:nvSpPr>
                <p:spPr>
                  <a:xfrm>
                    <a:off x="4335840" y="5992200"/>
                    <a:ext cx="146520" cy="104400"/>
                  </a:xfrm>
                  <a:prstGeom prst="ellipse">
                    <a:avLst/>
                  </a:prstGeom>
                  <a:solidFill>
                    <a:srgbClr val="cd9b6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Line 782"/>
                  <p:cNvSpPr/>
                  <p:nvPr/>
                </p:nvSpPr>
                <p:spPr>
                  <a:xfrm>
                    <a:off x="4437720" y="628884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Line 783"/>
                  <p:cNvSpPr/>
                  <p:nvPr/>
                </p:nvSpPr>
                <p:spPr>
                  <a:xfrm>
                    <a:off x="4375080" y="6288840"/>
                    <a:ext cx="0" cy="83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Oval 784"/>
                  <p:cNvSpPr/>
                  <p:nvPr/>
                </p:nvSpPr>
                <p:spPr>
                  <a:xfrm rot="20313000">
                    <a:off x="4417200" y="6361560"/>
                    <a:ext cx="58680" cy="41400"/>
                  </a:xfrm>
                  <a:prstGeom prst="ellipse">
                    <a:avLst/>
                  </a:prstGeom>
                  <a:solidFill>
                    <a:srgbClr val="f2dbd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Oval 785"/>
                  <p:cNvSpPr/>
                  <p:nvPr/>
                </p:nvSpPr>
                <p:spPr>
                  <a:xfrm rot="20313000">
                    <a:off x="4334400" y="6361920"/>
                    <a:ext cx="58680" cy="41400"/>
                  </a:xfrm>
                  <a:prstGeom prst="ellipse">
                    <a:avLst/>
                  </a:prstGeom>
                  <a:solidFill>
                    <a:srgbClr val="f2dbd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8" name="Group 786"/>
                <p:cNvGrpSpPr/>
                <p:nvPr/>
              </p:nvGrpSpPr>
              <p:grpSpPr>
                <a:xfrm>
                  <a:off x="4218120" y="5911560"/>
                  <a:ext cx="117000" cy="210240"/>
                  <a:chOff x="4218120" y="5911560"/>
                  <a:chExt cx="117000" cy="210240"/>
                </a:xfrm>
              </p:grpSpPr>
              <p:sp>
                <p:nvSpPr>
                  <p:cNvPr id="879" name="AutoShape 787"/>
                  <p:cNvSpPr/>
                  <p:nvPr/>
                </p:nvSpPr>
                <p:spPr>
                  <a:xfrm>
                    <a:off x="4218120" y="5965920"/>
                    <a:ext cx="117000" cy="94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Oval 788"/>
                  <p:cNvSpPr/>
                  <p:nvPr/>
                </p:nvSpPr>
                <p:spPr>
                  <a:xfrm>
                    <a:off x="4240800" y="5911560"/>
                    <a:ext cx="73080" cy="52200"/>
                  </a:xfrm>
                  <a:prstGeom prst="ellipse">
                    <a:avLst/>
                  </a:prstGeom>
                  <a:solidFill>
                    <a:srgbClr val="fbd4b4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Line 789"/>
                  <p:cNvSpPr/>
                  <p:nvPr/>
                </p:nvSpPr>
                <p:spPr>
                  <a:xfrm>
                    <a:off x="4291560" y="6059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Line 790"/>
                  <p:cNvSpPr/>
                  <p:nvPr/>
                </p:nvSpPr>
                <p:spPr>
                  <a:xfrm>
                    <a:off x="4260240" y="6059880"/>
                    <a:ext cx="0" cy="41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5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Oval 791"/>
                  <p:cNvSpPr/>
                  <p:nvPr/>
                </p:nvSpPr>
                <p:spPr>
                  <a:xfrm rot="20313000">
                    <a:off x="4281480" y="609624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Oval 792"/>
                  <p:cNvSpPr/>
                  <p:nvPr/>
                </p:nvSpPr>
                <p:spPr>
                  <a:xfrm rot="20313000">
                    <a:off x="4240080" y="6096600"/>
                    <a:ext cx="2916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85" name="AutoShape 793"/>
            <p:cNvSpPr/>
            <p:nvPr/>
          </p:nvSpPr>
          <p:spPr>
            <a:xfrm rot="10800000">
              <a:off x="2050560" y="3789000"/>
              <a:ext cx="5473800" cy="77436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57240">
              <a:solidFill>
                <a:srgbClr val="94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6" name="Group 794"/>
            <p:cNvGrpSpPr/>
            <p:nvPr/>
          </p:nvGrpSpPr>
          <p:grpSpPr>
            <a:xfrm>
              <a:off x="2931840" y="4645800"/>
              <a:ext cx="3586320" cy="871560"/>
              <a:chOff x="2931840" y="4645800"/>
              <a:chExt cx="3586320" cy="871560"/>
            </a:xfrm>
          </p:grpSpPr>
          <p:grpSp>
            <p:nvGrpSpPr>
              <p:cNvPr id="887" name="Group 795"/>
              <p:cNvGrpSpPr/>
              <p:nvPr/>
            </p:nvGrpSpPr>
            <p:grpSpPr>
              <a:xfrm>
                <a:off x="2931840" y="4645800"/>
                <a:ext cx="3586320" cy="811800"/>
                <a:chOff x="2931840" y="4645800"/>
                <a:chExt cx="3586320" cy="811800"/>
              </a:xfrm>
            </p:grpSpPr>
            <p:sp>
              <p:nvSpPr>
                <p:cNvPr id="888" name="Rectangle 796"/>
                <p:cNvSpPr/>
                <p:nvPr/>
              </p:nvSpPr>
              <p:spPr>
                <a:xfrm>
                  <a:off x="2931840" y="4645800"/>
                  <a:ext cx="3586320" cy="8118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6ca6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797"/>
                <p:cNvSpPr/>
                <p:nvPr/>
              </p:nvSpPr>
              <p:spPr>
                <a:xfrm>
                  <a:off x="4280760" y="4645800"/>
                  <a:ext cx="1311120" cy="63720"/>
                </a:xfrm>
                <a:prstGeom prst="rect">
                  <a:avLst/>
                </a:prstGeom>
                <a:solidFill>
                  <a:srgbClr val="f8d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Text Box 798"/>
              <p:cNvSpPr/>
              <p:nvPr/>
            </p:nvSpPr>
            <p:spPr>
              <a:xfrm>
                <a:off x="2991960" y="4717800"/>
                <a:ext cx="34419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CRE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entro de Referência Especializado de Assistência Soci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Text Box 799"/>
              <p:cNvSpPr/>
              <p:nvPr/>
            </p:nvSpPr>
            <p:spPr>
              <a:xfrm>
                <a:off x="3009960" y="514728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Text Box 800"/>
              <p:cNvSpPr/>
              <p:nvPr/>
            </p:nvSpPr>
            <p:spPr>
              <a:xfrm>
                <a:off x="4251960" y="5185440"/>
                <a:ext cx="163656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600" spc="-1" strike="noStrike">
                    <a:solidFill>
                      <a:srgbClr val="000000"/>
                    </a:solidFill>
                    <a:latin typeface="Book Antiqua"/>
                  </a:rPr>
                  <a:t>Ministério do Desenvolvimento                            Social e Combate à Fom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Text Box 801"/>
              <p:cNvSpPr/>
              <p:nvPr/>
            </p:nvSpPr>
            <p:spPr>
              <a:xfrm>
                <a:off x="5479920" y="5194080"/>
                <a:ext cx="94500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3579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Verdana"/>
                <a:ea typeface="Arial"/>
              </a:rPr>
              <a:t>Serviços de Proteção E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21052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erviços de proteção social especial - média complexidade - serão executados de forma direta n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entros de Referência Especializados da Assistência Social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Imagem 1" descr="http://www.mds.gov.br/brasil.gif"/>
          <p:cNvPicPr/>
          <p:nvPr/>
        </p:nvPicPr>
        <p:blipFill>
          <a:blip r:embed="rId12"/>
          <a:stretch/>
        </p:blipFill>
        <p:spPr>
          <a:xfrm>
            <a:off x="5867280" y="5246640"/>
            <a:ext cx="571680" cy="1461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03" descr="fome_zero-copia"/>
          <p:cNvPicPr/>
          <p:nvPr/>
        </p:nvPicPr>
        <p:blipFill>
          <a:blip r:embed="rId13"/>
          <a:srcRect l="2117" t="14244" r="2117" b="23869"/>
          <a:stretch/>
        </p:blipFill>
        <p:spPr>
          <a:xfrm>
            <a:off x="2987640" y="5157720"/>
            <a:ext cx="357120" cy="23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gner Antonio Alves Gomes</dc:creator>
  <dc:description/>
  <dc:language>en-US</dc:language>
  <cp:lastModifiedBy>Egem</cp:lastModifiedBy>
  <dcterms:modified xsi:type="dcterms:W3CDTF">2009-09-21T12:55:16Z</dcterms:modified>
  <cp:revision>129</cp:revision>
  <dc:subject/>
  <dc:title>Slide 1</dc:title>
</cp:coreProperties>
</file>