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072563" cy="6335713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36200" y="745920"/>
            <a:ext cx="53341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313B3F-6387-4DA2-896A-020AD651AE0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AC97210-86B2-4864-93D4-BB4E7D0590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ED3FFED-D9E1-4910-89AA-CAB7F4D3DE8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A1E84FD-E023-42BE-A048-3A75B629B7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6C7A82A-1701-43E3-A448-538C1BDB2C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DD1D2D-B67E-4A02-A16B-7C9CD2F39C7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2C68AA-B155-4435-BA74-264F88ACBFB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36560" y="746280"/>
            <a:ext cx="5334120" cy="37256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Com a aprovação da PNAS/2004 e da NOB-SUAS/2005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a Assistência Social se insere num novo patamar como Política de Estado  na busca da implementação de um sistema público – 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UAS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,  que consolida um modo de gestão compartilhada, o co-financiamento, a cooperação técnica entre os três entes federativos, que hierarquiza as ações, uniformiza conceitos no sentido da classificação dos serviços específicos de assistência social e estabelece o lugar próprio da rede socioassistenci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Número de Slide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95E653-5921-4E0A-9DC2-F64FA7ACA56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8164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" y="3402000"/>
            <a:ext cx="8164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360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3716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14080" y="148248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74560" y="148248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600" y="340200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14080" y="340200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74560" y="340200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3600" y="1482480"/>
            <a:ext cx="816444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816444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3600" y="252720"/>
            <a:ext cx="816444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360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36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7160" y="340200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252720"/>
            <a:ext cx="8164440" cy="10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482480"/>
            <a:ext cx="398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600" y="3402000"/>
            <a:ext cx="8164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SLIDE SNAS"/>
          <p:cNvPicPr/>
          <p:nvPr/>
        </p:nvPicPr>
        <p:blipFill>
          <a:blip r:embed="rId2"/>
          <a:stretch/>
        </p:blipFill>
        <p:spPr>
          <a:xfrm>
            <a:off x="0" y="0"/>
            <a:ext cx="9072720" cy="633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72000" y="1944360"/>
            <a:ext cx="5184720" cy="13539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200" spc="-1" strike="noStrike">
                <a:solidFill>
                  <a:srgbClr val="b83208"/>
                </a:solidFill>
                <a:latin typeface="Tahoma"/>
              </a:rPr>
              <a:t>PISO BÁSICO DE TRANSIÇÃO </a:t>
            </a:r>
            <a:br>
              <a:rPr sz="3200"/>
            </a:br>
            <a:r>
              <a:rPr b="1" lang="en-US" sz="3200" spc="-1" strike="noStrike">
                <a:solidFill>
                  <a:srgbClr val="b83208"/>
                </a:solidFill>
                <a:latin typeface="Tahoma"/>
              </a:rPr>
              <a:t> PTB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ice Merig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stente Social FECAM/UNIS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al@fecam.org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8" descr=""/>
          <p:cNvPicPr/>
          <p:nvPr/>
        </p:nvPicPr>
        <p:blipFill>
          <a:blip r:embed="rId1"/>
          <a:stretch/>
        </p:blipFill>
        <p:spPr>
          <a:xfrm>
            <a:off x="431640" y="3816360"/>
            <a:ext cx="1214640" cy="139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936720" y="2232000"/>
            <a:ext cx="2143080" cy="125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"/>
          <p:cNvPicPr/>
          <p:nvPr/>
        </p:nvPicPr>
        <p:blipFill>
          <a:blip r:embed="rId3"/>
          <a:stretch/>
        </p:blipFill>
        <p:spPr>
          <a:xfrm>
            <a:off x="2232000" y="4032360"/>
            <a:ext cx="1057320" cy="109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520" y="1571400"/>
            <a:ext cx="819288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pt-BR" sz="3100" spc="-1" strike="noStrike">
                <a:solidFill>
                  <a:srgbClr val="b80c08"/>
                </a:solidFill>
                <a:latin typeface="Tahoma"/>
                <a:ea typeface="Tahoma"/>
              </a:rPr>
              <a:t>PROCESSO DE TRANSIÇÃO</a:t>
            </a:r>
            <a:br>
              <a:rPr sz="3100"/>
            </a:br>
            <a:br>
              <a:rPr sz="3100"/>
            </a:b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Educaçã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assume o atendimento que era prestado pela Assistência Social as creches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Conselho Municipal de Assistência Social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aprova a alteração da modalidade de atendimento (de creche para ações socioassistenciais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03640" y="3456000"/>
            <a:ext cx="482760" cy="46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1584000"/>
            <a:ext cx="770436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pt-BR" sz="3100" spc="-1" strike="noStrike">
                <a:solidFill>
                  <a:srgbClr val="b80c08"/>
                </a:solidFill>
                <a:latin typeface="Tahoma"/>
                <a:ea typeface="Tahoma"/>
              </a:rPr>
              <a:t>O RECURSO </a:t>
            </a:r>
            <a:br>
              <a:rPr sz="3100"/>
            </a:br>
            <a:br>
              <a:rPr sz="31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Deve ser destinado ao desenvolvimento de </a:t>
            </a: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ações socioeducativa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de apoio à família e suas crianças, adolescentes e/ou grupos de convivência de idoso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pt-BR" sz="2400" spc="-1" strike="noStrike" u="sng">
                <a:solidFill>
                  <a:srgbClr val="b80c08"/>
                </a:solidFill>
                <a:uFillTx/>
                <a:latin typeface="Tahoma"/>
                <a:ea typeface="Tahoma"/>
              </a:rPr>
              <a:t>não</a:t>
            </a: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 mais financiar a manutenção de creches</a:t>
            </a:r>
            <a:br>
              <a:rPr sz="2400"/>
            </a:b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e pré-esco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76720" y="4032360"/>
            <a:ext cx="482760" cy="46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"/>
          <p:cNvPicPr/>
          <p:nvPr/>
        </p:nvPicPr>
        <p:blipFill>
          <a:blip r:embed="rId1"/>
          <a:stretch/>
        </p:blipFill>
        <p:spPr>
          <a:xfrm>
            <a:off x="7704000" y="1873080"/>
            <a:ext cx="1057320" cy="109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6360" y="2304720"/>
            <a:ext cx="7559640" cy="3516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O co-financiamento federal é destinado ao </a:t>
            </a: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custei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dos serviços e ações socioassistenciais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As ações e serviços devem ser oferecidos nos CRAS ou em áreas de maior vulnerabilidade socia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280" y="1728720"/>
            <a:ext cx="8137800" cy="409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Utilizar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ara aquisição de materiais de consumo: para desenvolver oficinas e ações, contratar pessoal para ministrar as oficinas (portaria 448/2002 – alimentos, materiais esportivos, para festividades e homenagens, expediente, cama,mesa e banho, uniformes, para audio,vídeo e fotos, para utilização em gráfica...)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b80c08"/>
                </a:solidFill>
                <a:latin typeface="Tahoma"/>
                <a:ea typeface="Tahoma"/>
              </a:rPr>
              <a:t>Não utilizar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para adquirir equipamentos e material perman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1224000"/>
            <a:ext cx="8209080" cy="459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b80c08"/>
                </a:solidFill>
                <a:latin typeface="Tahoma"/>
                <a:ea typeface="Tahoma"/>
              </a:rPr>
              <a:t>Saldo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quando o município executou o serviço com PTB e ainda assim, sobrou dinheiro na cont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 município pode reprogramar esse recurso para ser utilizado em ações de proteção social básica; desde que aprovado pelo CMA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 o recurso não foi utilizado em nenhum serviço, ou seja, se ficou parado na conta, o município deverá prestar contas ao Fundo Nacional 9para reprogramar ou devolver o recurso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160" y="1571400"/>
            <a:ext cx="8070840" cy="4236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pt-BR" sz="3100" spc="-1" strike="noStrike">
                <a:solidFill>
                  <a:srgbClr val="067811"/>
                </a:solidFill>
                <a:latin typeface="Tahoma"/>
                <a:ea typeface="Tahoma"/>
              </a:rPr>
              <a:t>AÇÕES E SERVIÇOS DE PROTEÇÃO BÁSICA:</a:t>
            </a:r>
            <a:br>
              <a:rPr sz="3100"/>
            </a:br>
            <a:br>
              <a:rPr sz="31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Grupos de convivência e sociabilidade para crianças, famílias e idosos;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Atividades lúdicas para crianças de 0 a 6 anos (priorizar de 0 a 3 anos),  integrantes de famílias vulnerabilizadas pela pobreza e/ou situação de risco pessoal e/ou social, dentre estas crianças com deficiência.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4:03:02Z</dcterms:created>
  <dc:creator>daniel.tavares</dc:creator>
  <dc:description/>
  <dc:language>en-US</dc:language>
  <cp:lastModifiedBy>Egem</cp:lastModifiedBy>
  <dcterms:modified xsi:type="dcterms:W3CDTF">2009-09-23T17:56:18Z</dcterms:modified>
  <cp:revision>335</cp:revision>
  <dc:subject/>
  <dc:title>Slide 1</dc:title>
</cp:coreProperties>
</file>