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072563" cy="6335713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736200" y="745920"/>
            <a:ext cx="53341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AF74A46-9BF9-42A1-894F-F8338328C6A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1061986-B503-4F29-BB98-DF169F0003B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É a partir da Constituição Federal de 1988, caracterizada principalmente pela descentralização e participação popular, que a sociedade, por meio de organizações representativas, passou a exercer o papel de participante e controladora das ações do Es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Neste sentido, ao empoderar o cidadão de ferramentas que o permita participar dos negócio públicos rompe com a idéia do espaço público como sendo algo privativo do Estado e implementa a idéia do espaço público como um espaço compartilhado com a socied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E, é a partir da CF 1988  que a assistência social passa a compor o tripé da seguridade social brasileira, inscreve-se como direito social e humano e incorpora objetivos como a universalidade e o caráter democrático. Assim, por meio desse reconhecimento legal, a assistência social passa a compor o sistema de seguridade social não contribu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A0416F2-4307-4C10-8530-DA360BA296D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6A79B2-54AB-472E-9B72-6090FB10DDD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1C6CD73-485D-4448-8630-D76585303BB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032E6E8-A410-4C1D-80C7-C134B4D0385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É a partir da Constituição Federal de 1988, caracterizada principalmente pela descentralização e participação popular, que a sociedade, por meio de organizações representativas, passou a exercer o papel de participante e controladora das ações do Es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Neste sentido, ao empoderar o cidadão de ferramentas que o permita participar dos negócio públicos rompe com a idéia do espaço público como sendo algo privativo do Estado e implementa a idéia do espaço público como um espaço compartilhado com a socied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E, é a partir da CF 1988  que a assistência social passa a compor o tripé da seguridade social brasileira, inscreve-se como direito social e humano e incorpora objetivos como a universalidade e o caráter democrático. Assim, por meio desse reconhecimento legal, a assistência social passa a compor o sistema de seguridade social não contribu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8689AD1-8EE0-490B-894C-A71D3F12796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É a partir da Constituição Federal de 1988, caracterizada principalmente pela descentralização e participação popular, que a sociedade, por meio de organizações representativas, passou a exercer o papel de participante e controladora das ações do Es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Neste sentido, ao empoderar o cidadão de ferramentas que o permita participar dos negócio públicos rompe com a idéia do espaço público como sendo algo privativo do Estado e implementa a idéia do espaço público como um espaço compartilhado com a socied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E, é a partir da CF 1988  que a assistência social passa a compor o tripé da seguridade social brasileira, inscreve-se como direito social e humano e incorpora objetivos como a universalidade e o caráter democrático. Assim, por meio desse reconhecimento legal, a assistência social passa a compor o sistema de seguridade social não contribu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844F8E1-C686-490E-89C5-2E60FE2A435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É a partir da Constituição Federal de 1988, caracterizada principalmente pela descentralização e participação popular, que a sociedade, por meio de organizações representativas, passou a exercer o papel de participante e controladora das ações do Es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Neste sentido, ao empoderar o cidadão de ferramentas que o permita participar dos negócio públicos rompe com a idéia do espaço público como sendo algo privativo do Estado e implementa a idéia do espaço público como um espaço compartilhado com a socied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E, é a partir da CF 1988  que a assistência social passa a compor o tripé da seguridade social brasileira, inscreve-se como direito social e humano e incorpora objetivos como a universalidade e o caráter democrático. Assim, por meio desse reconhecimento legal, a assistência social passa a compor o sistema de seguridade social não contribu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69A20A2-02F0-4B89-96C5-6DB0EC2F29B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É a partir da Constituição Federal de 1988, caracterizada principalmente pela descentralização e participação popular, que a sociedade, por meio de organizações representativas, passou a exercer o papel de participante e controladora das ações do Es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Neste sentido, ao empoderar o cidadão de ferramentas que o permita participar dos negócio públicos rompe com a idéia do espaço público como sendo algo privativo do Estado e implementa a idéia do espaço público como um espaço compartilhado com a socied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E, é a partir da CF 1988  que a assistência social passa a compor o tripé da seguridade social brasileira, inscreve-se como direito social e humano e incorpora objetivos como a universalidade e o caráter democrático. Assim, por meio desse reconhecimento legal, a assistência social passa a compor o sistema de seguridade social não contribu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93E649B-C8F0-4380-94F6-0B847E6131B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É a partir da Constituição Federal de 1988, caracterizada principalmente pela descentralização e participação popular, que a sociedade, por meio de organizações representativas, passou a exercer o papel de participante e controladora das ações do Es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Neste sentido, ao empoderar o cidadão de ferramentas que o permita participar dos negócio públicos rompe com a idéia do espaço público como sendo algo privativo do Estado e implementa a idéia do espaço público como um espaço compartilhado com a socied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E, é a partir da CF 1988  que a assistência social passa a compor o tripé da seguridade social brasileira, inscreve-se como direito social e humano e incorpora objetivos como a universalidade e o caráter democrático. Assim, por meio desse reconhecimento legal, a assistência social passa a compor o sistema de seguridade social não contribu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1946397-ACFD-4CCE-8E00-B905AF89275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É a partir da Constituição Federal de 1988, caracterizada principalmente pela descentralização e participação popular, que a sociedade, por meio de organizações representativas, passou a exercer o papel de participante e controladora das ações do Es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Neste sentido, ao empoderar o cidadão de ferramentas que o permita participar dos negócio públicos rompe com a idéia do espaço público como sendo algo privativo do Estado e implementa a idéia do espaço público como um espaço compartilhado com a socied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E, é a partir da CF 1988  que a assistência social passa a compor o tripé da seguridade social brasileira, inscreve-se como direito social e humano e incorpora objetivos como a universalidade e o caráter democrático. Assim, por meio desse reconhecimento legal, a assistência social passa a compor o sistema de seguridade social não contribu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A508CC9-BEFF-4989-8282-523A6A002EB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0BC63C0-4BFA-4197-B8D9-5440A410421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lvl="1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Verdana"/>
              </a:rPr>
              <a:t>Com a PNAS e o SUAS o papel dos conselhos é fortalecido uma vez que essa passa a operar como política de direitos, o que  exige mais do conselho so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  <a:ea typeface="Arial Unicode MS"/>
              </a:rPr>
              <a:t>Para o Sistema Único da Assistência Social, os espaços privilegiados, onde se efetivará a participação da sociedade são os conselhos e as conferências de assistência social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OS CONSELHOS DE ASSISTÊNCIA SOCIAL SÃO CRIADOS POR LEI (FEDERAL, MUNICIPAL OU ESTADUAL), QUE DEFIN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- O número de conselheiros ( composição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- O período do mandato dos Conselheiros (eleição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- Suas competências (conforme preconiza a LOAS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A estrutura do conselho (se terá Secretaria Executiva, Comissões Temática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 CONFERÊNCIA DE ASSISTÊNCIA SOCIAL</a:t>
            </a:r>
            <a:r>
              <a:rPr b="0" lang="pt-BR" sz="800" spc="-1" strike="noStrike">
                <a:solidFill>
                  <a:srgbClr val="000000"/>
                </a:solidFill>
                <a:latin typeface="Tahoma"/>
              </a:rPr>
              <a:t>  Instância máxima de deliberação da </a:t>
            </a: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Tahoma"/>
              </a:rPr>
              <a:t>Política de Assistência Social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1338CAB-1023-4637-9386-26E1849B53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lvl="1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Verdana"/>
              </a:rPr>
              <a:t>Com a PNAS e o SUAS o papel dos conselhos é fortalecido uma vez que essa passa a operar como política de direitos, o que  exige mais do conselho so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  <a:ea typeface="Arial Unicode MS"/>
              </a:rPr>
              <a:t>Para o Sistema Único da Assistência Social, os espaços privilegiados, onde se efetivará a participação da sociedade são os conselhos e as conferências de assistência social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OS CONSELHOS DE ASSISTÊNCIA SOCIAL SÃO CRIADOS POR LEI (FEDERAL, MUNICIPAL OU ESTADUAL), QUE DEFIN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- O número de conselheiros ( composição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- O período do mandato dos Conselheiros (eleição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- Suas competências (conforme preconiza a LOAS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A estrutura do conselho (se terá Secretaria Executiva, Comissões Temática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 CONFERÊNCIA DE ASSISTÊNCIA SOCIAL</a:t>
            </a:r>
            <a:r>
              <a:rPr b="0" lang="pt-BR" sz="800" spc="-1" strike="noStrike">
                <a:solidFill>
                  <a:srgbClr val="000000"/>
                </a:solidFill>
                <a:latin typeface="Tahoma"/>
              </a:rPr>
              <a:t>  Instância máxima de deliberação da </a:t>
            </a: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Tahoma"/>
              </a:rPr>
              <a:t>Política de Assistência Social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F8C9552-D612-4726-B1EC-F4C2A35A562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784D65A-CE42-4536-9950-72C783EE4A2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1E97AB-86F6-42D1-9F0A-26C97CD8163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2CCB856-C510-4855-AD9E-E8A19254F2D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9EABA7-E968-457F-A0BB-7C4C5439E97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74D871A-E58E-478F-9B22-A9760E792B0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36A54E8-8168-4E29-A3B1-2DC4A7F582D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B089CC0-3398-4A45-8288-67206462E97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É a partir da Constituição Federal de 1988, caracterizada principalmente pela descentralização e participação popular, que a sociedade, por meio de organizações representativas, passou a exercer o papel de participante e controladora das ações do Es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Neste sentido, ao empoderar o cidadão de ferramentas que o permita participar dos negócio públicos rompe com a idéia do espaço público como sendo algo privativo do Estado e implementa a idéia do espaço público como um espaço compartilhado com a socied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E, é a partir da CF 1988  que a assistência social passa a compor o tripé da seguridade social brasileira, inscreve-se como direito social e humano e incorpora objetivos como a universalidade e o caráter democrático. Assim, por meio desse reconhecimento legal, a assistência social passa a compor o sistema de seguridade social não contribu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5AD08F0-BEE5-4D8C-9DAE-5C68919A27A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É a partir da Constituição Federal de 1988, caracterizada principalmente pela descentralização e participação popular, que a sociedade, por meio de organizações representativas, passou a exercer o papel de participante e controladora das ações do Es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Neste sentido, ao empoderar o cidadão de ferramentas que o permita participar dos negócio públicos rompe com a idéia do espaço público como sendo algo privativo do Estado e implementa a idéia do espaço público como um espaço compartilhado com a socied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E, é a partir da CF 1988  que a assistência social passa a compor o tripé da seguridade social brasileira, inscreve-se como direito social e humano e incorpora objetivos como a universalidade e o caráter democrático. Assim, por meio desse reconhecimento legal, a assistência social passa a compor o sistema de seguridade social não contributiv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9442AC3-D1D0-40E8-B067-E8B5E41BD12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8164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3600" y="3402000"/>
            <a:ext cx="8164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3600" y="340200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7160" y="340200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4080" y="148248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4560" y="148248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600" y="340200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4080" y="340200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4560" y="340200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3600" y="1482480"/>
            <a:ext cx="816444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816444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3600" y="252720"/>
            <a:ext cx="816444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3600" y="340200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7160" y="340200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3600" y="3402000"/>
            <a:ext cx="8164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SLIDE SNAS"/>
          <p:cNvPicPr/>
          <p:nvPr/>
        </p:nvPicPr>
        <p:blipFill>
          <a:blip r:embed="rId2"/>
          <a:stretch/>
        </p:blipFill>
        <p:spPr>
          <a:xfrm>
            <a:off x="0" y="0"/>
            <a:ext cx="9072720" cy="6337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3600" y="1482480"/>
            <a:ext cx="816444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06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06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06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tângulo 1"/>
          <p:cNvSpPr/>
          <p:nvPr/>
        </p:nvSpPr>
        <p:spPr>
          <a:xfrm>
            <a:off x="679320" y="2171880"/>
            <a:ext cx="751212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i="1" lang="en-GB" sz="3100" spc="-1" strike="noStrike">
                <a:solidFill>
                  <a:srgbClr val="067811"/>
                </a:solidFill>
                <a:latin typeface="Tahoma"/>
                <a:ea typeface="Times New Roman"/>
              </a:rPr>
              <a:t>QUESTÕES INICIAIS PARA A DISCUSSÃO DA POLÍTICA DE ASSISTÊNCIA SOCIAL E DO SU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Janice Meri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Docente UNIS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Assistente Social – FEC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social@fecam.org.b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0760" y="1571760"/>
            <a:ext cx="875196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3100" spc="-1" strike="noStrike">
                <a:solidFill>
                  <a:srgbClr val="067811"/>
                </a:solidFill>
                <a:latin typeface="Tahoma"/>
                <a:ea typeface="Times New Roman"/>
              </a:rPr>
              <a:t>LEI ORGÂNICA DA ASSISTÊNCIA SOCIAL – LOAS 199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É uma Lei Federal que garante a Assistência Social no Paí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Obriga o Poder Público a prestar atendimento à família, ao jovem, à infância, ao idoso, aos desempregados, aos dependentes químicos, as pessoas com deficência, aos que não têm como garantir sua sobrivivê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ce um novo desenho institucional: descentralização, planos, fundos, conselhos, controle socia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900" spc="-1" strike="noStrike">
                <a:solidFill>
                  <a:srgbClr val="055f0e"/>
                </a:solidFill>
                <a:latin typeface="Arial"/>
                <a:ea typeface="Times New Roman"/>
              </a:rPr>
              <a:t>Se destina a quem dela precis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166240" cy="6570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100" spc="-1" strike="noStrike">
                <a:solidFill>
                  <a:srgbClr val="b83208"/>
                </a:solidFill>
                <a:latin typeface="Tahoma"/>
              </a:rPr>
              <a:t>ASSISTÊNCIA SOC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3960" y="2303640"/>
            <a:ext cx="4006800" cy="3357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 fontScale="97000"/>
          </a:bodyPr>
          <a:p>
            <a:pPr marL="320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 u="sng">
                <a:solidFill>
                  <a:srgbClr val="067811"/>
                </a:solidFill>
                <a:uFillTx/>
                <a:latin typeface="Arial"/>
              </a:rPr>
              <a:t>ANTES DA LO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atica meramente assistenciali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as restritos e esporád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via sempre concessões de fav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 acesso a um direito era apenas através de doaçõ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 atendimento era de interesse particul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 pessoas atendidas eram devedoras de favor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1600" y="2171880"/>
            <a:ext cx="4006800" cy="3489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 u="sng">
                <a:solidFill>
                  <a:srgbClr val="067811"/>
                </a:solidFill>
                <a:uFillTx/>
                <a:latin typeface="Arial"/>
              </a:rPr>
              <a:t>DEPOIS DA LO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sistência Social como política públ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s programas são contínu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 cidadão têm acesso aos bens e serviç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ito assegurado por lei, que o cidadão pode reclamar e exig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s programas são públ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nsforma e dá autonomia para os usuários, respeitando-os como cidadãos que agem, pensam e participa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2103120"/>
            <a:ext cx="2930400" cy="266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100" spc="-1" strike="noStrike">
                <a:solidFill>
                  <a:srgbClr val="b83208"/>
                </a:solidFill>
                <a:latin typeface="Tahoma"/>
              </a:rPr>
              <a:t>OBJETIVOS DA LOA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37120" y="2436840"/>
            <a:ext cx="3645000" cy="931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b83208"/>
                </a:solidFill>
                <a:latin typeface="Arial"/>
              </a:rPr>
              <a:t>PRO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 família, a infância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 adolescência e a velh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51160" y="4100400"/>
            <a:ext cx="3645000" cy="1263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b83208"/>
                </a:solidFill>
                <a:latin typeface="Arial"/>
              </a:rPr>
              <a:t>VIABILIZ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 integração ao mercad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abalh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 a inclusão produ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8" descr=""/>
          <p:cNvPicPr/>
          <p:nvPr/>
        </p:nvPicPr>
        <p:blipFill>
          <a:blip r:embed="rId1"/>
          <a:stretch/>
        </p:blipFill>
        <p:spPr>
          <a:xfrm>
            <a:off x="4035600" y="2103480"/>
            <a:ext cx="1214280" cy="1398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178000" y="3967200"/>
            <a:ext cx="1357200" cy="163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22600" y="1903320"/>
            <a:ext cx="3498840" cy="725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100" spc="-1" strike="noStrike">
                <a:solidFill>
                  <a:srgbClr val="b83208"/>
                </a:solidFill>
                <a:latin typeface="Tahoma"/>
              </a:rPr>
              <a:t>OBJETIVOS DA LOA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9120" y="1971720"/>
            <a:ext cx="3645000" cy="931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b83208"/>
                </a:solidFill>
                <a:latin typeface="Arial"/>
              </a:rPr>
              <a:t>GARANTI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m salário mínimo pa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ssoas com deficiência e ido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78600" y="3368520"/>
            <a:ext cx="3644640" cy="865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b83208"/>
                </a:solidFill>
                <a:latin typeface="Arial"/>
              </a:rPr>
              <a:t>AMPAR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crianças e jov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9160" y="4765680"/>
            <a:ext cx="3645000" cy="998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b83208"/>
                </a:solidFill>
                <a:latin typeface="Arial"/>
              </a:rPr>
              <a:t>HABILIT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pessoas com deficiênci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o meio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1"/>
          <a:stretch/>
        </p:blipFill>
        <p:spPr>
          <a:xfrm>
            <a:off x="3535200" y="1770120"/>
            <a:ext cx="1057320" cy="109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3108240" y="3301920"/>
            <a:ext cx="2143080" cy="1254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20760" y="1571760"/>
            <a:ext cx="807228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1994 a 200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* Foram extintas a Legião da Boa Vontade – LBA e a Fundação Brasileira para a Infância e Adolescência, que operavam numa lógica anterior a </a:t>
            </a:r>
            <a:r>
              <a:rPr b="1" lang="en-GB" sz="2300" spc="-1" strike="noStrike">
                <a:solidFill>
                  <a:srgbClr val="055f0e"/>
                </a:solidFill>
                <a:latin typeface="Arial"/>
                <a:ea typeface="Times New Roman"/>
              </a:rPr>
              <a:t>Constituição e a LO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* 1998 – instituiu-se a primeira Política nacional de Assistência Social e as Normas Operacionais Básicas 1 e 2 (1999), que reafirmaram os princípios e diretrizes da LO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47640" y="1655640"/>
            <a:ext cx="7674120" cy="33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3100" spc="-1" strike="noStrike">
                <a:solidFill>
                  <a:srgbClr val="067811"/>
                </a:solidFill>
                <a:latin typeface="Tahoma"/>
                <a:ea typeface="Times New Roman"/>
              </a:rPr>
              <a:t>POLÍTICA NACIONAL DE ASSISTÊNCIA SOCIAL – PN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m 2004 é aprovada pelo Conselho nacional de Assistência Social – CNAS a nova Política Nacional de Assistência Social, consolidando princípios, diretrizes, objetivos e ações da assistência social, em particular a </a:t>
            </a:r>
            <a:r>
              <a:rPr b="1" lang="en-GB" sz="2300" spc="-1" strike="noStrike">
                <a:solidFill>
                  <a:srgbClr val="b80c08"/>
                </a:solidFill>
                <a:latin typeface="Arial"/>
                <a:ea typeface="Times New Roman"/>
              </a:rPr>
              <a:t>Proteção Social Básica e Especial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, e propondo as </a:t>
            </a:r>
            <a:r>
              <a:rPr b="1" lang="en-GB" sz="2300" spc="-1" strike="noStrike">
                <a:solidFill>
                  <a:srgbClr val="b80c08"/>
                </a:solidFill>
                <a:latin typeface="Arial"/>
                <a:ea typeface="Times New Roman"/>
              </a:rPr>
              <a:t>necessidades do SU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20760" y="1571760"/>
            <a:ext cx="8072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3100" spc="-1" strike="noStrike">
                <a:solidFill>
                  <a:srgbClr val="067811"/>
                </a:solidFill>
                <a:latin typeface="Tahoma"/>
                <a:ea typeface="Times New Roman"/>
              </a:rPr>
              <a:t>POLÍTICA NACIONAL DE ASSISTÊNCIA SOCIAL – PN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700" spc="-1" strike="noStrike">
                <a:solidFill>
                  <a:srgbClr val="b80c08"/>
                </a:solidFill>
                <a:latin typeface="Arial"/>
              </a:rPr>
              <a:t>OBJETIV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rover serviços, programas, projetos  e benefícios de proteção social básica e/ou especial para famílias, indivíduos e grupos que deles necessitarem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tribuir para a inclusão e equidade dos usuários e grupos específicos, ampliando o acesso aos bens e serviços socioassistenciais básicos e especiais, em áreas urbana e rur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ssegurar que as ações no âmbito  da Assistência Social tenham centralidade na família e que garantam a convivência familiar e comunitár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20760" y="1571760"/>
            <a:ext cx="875196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3100" spc="-1" strike="noStrike">
                <a:solidFill>
                  <a:srgbClr val="067811"/>
                </a:solidFill>
                <a:latin typeface="Tahoma"/>
                <a:ea typeface="Times New Roman"/>
              </a:rPr>
              <a:t>POLÍTICA NACIONAL DE ASSISTÊNCIA SOCIAL – PN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900" spc="-1" strike="noStrike">
                <a:solidFill>
                  <a:srgbClr val="b80c08"/>
                </a:solidFill>
                <a:latin typeface="Arial"/>
              </a:rPr>
              <a:t>PRÍNCÍPIOS                               SIGNIFIC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5120" y="2903400"/>
            <a:ext cx="4006800" cy="27576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remacia do atendimento às necessidades sociais sobre as exigências de rentabilidade econômi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iversalização dos direitos soci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06920" y="2835000"/>
            <a:ext cx="4006800" cy="2825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 fontScale="93000"/>
          </a:bodyPr>
          <a:p>
            <a:pPr marL="306720" indent="-3067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co de atenção da política nas necessidades e não no necessitado, rompendo com a idéia de que o indivíduo/família é exclusivamente responsável pelas suas situaçõ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6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6720" indent="-3067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segurar aos usuários da Assistência Social acesso às políticas básicas – habitação, saúde,alimentação, trabalho entre outr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20760" y="1106640"/>
            <a:ext cx="87519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900" spc="-1" strike="noStrike">
                <a:solidFill>
                  <a:srgbClr val="b80c08"/>
                </a:solidFill>
                <a:latin typeface="Arial"/>
              </a:rPr>
              <a:t>PRÍNCÍPIOS                               SIGNIFIC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5120" y="2303640"/>
            <a:ext cx="4006800" cy="3357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peito à dignidade do cidadão, a sua autonomia e ao seu direito a benefícios e serviços de qualid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gualdade de direitos no acesso ao atendimento, garantindo-se equivalência às populações urbanas e rurai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vulgação ampla dos benefícios, serviços, programas e projetos assistenciai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65800" y="1971720"/>
            <a:ext cx="4357440" cy="36892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Implica o reconhecimento da dignidade como um atributo inerente ao ser humano, que deve ser respeitado e garantido pelas políticas públic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Os serviços no campo da Assistência Social devem estar acessíveis a todas as pessoas que deles necessitem, independentemente de qualquer discriminação (étnia, de gênero, religião, idade, orientação sexual0 privilégio ou apadrinhamen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Os critérios da Assistência Social devem ser amplamente divul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0760" y="1571760"/>
            <a:ext cx="857412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3100" spc="-1" strike="noStrike">
                <a:solidFill>
                  <a:srgbClr val="067811"/>
                </a:solidFill>
                <a:latin typeface="Tahoma"/>
                <a:ea typeface="Times New Roman"/>
              </a:rPr>
              <a:t>POLÍTICA NACIONAL DE ASSISTÊNCIA SOCIAL – PN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700" spc="-1" strike="noStrike">
                <a:solidFill>
                  <a:srgbClr val="b80c08"/>
                </a:solidFill>
                <a:latin typeface="Arial"/>
              </a:rPr>
              <a:t>DIRETRIZ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Descentralização político-administrativ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ção da população, na formulação das políticas e no controle das açõe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rimazia da responsabilidade do estado na condução da Política de Assistência Soci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idade na família para concepção e implementação dos benefícios, serviços, programas e projet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1680" y="1571400"/>
            <a:ext cx="8215560" cy="4236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pt-BR" sz="3100" spc="-1" strike="noStrike">
                <a:solidFill>
                  <a:srgbClr val="067811"/>
                </a:solidFill>
                <a:latin typeface="Tahoma"/>
                <a:ea typeface="Tahoma"/>
              </a:rPr>
              <a:t>POLÍTICAS PÚBLICAS </a:t>
            </a:r>
            <a:br>
              <a:rPr sz="3100"/>
            </a:br>
            <a:br>
              <a:rPr sz="3100"/>
            </a:b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ções coletiva que concretiza direitos sociai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clarados e garantidos em lei (Potyara Pereira, 1996). </a:t>
            </a:r>
            <a:br>
              <a:rPr sz="1900"/>
            </a:br>
            <a:br>
              <a:rPr sz="1900"/>
            </a:b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 mediante as políticas públicas que são distribuídos ou redistribuídos bens e serviços sociais em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sposta às demandas da sociedade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por isso, o direito que as fundamenta é um direito coletivo e não individual. </a:t>
            </a:r>
            <a:br>
              <a:rPr sz="1900"/>
            </a:br>
            <a:br>
              <a:rPr sz="1900"/>
            </a:b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mbora as políticas públicas sejam de competência do Estado, não representam decisões autoritárias do governo para a sociedade, mas envolvem relações de reciprocidade e antagonismo entre as duas esferas.</a:t>
            </a:r>
            <a:br>
              <a:rPr sz="1900"/>
            </a:br>
            <a:br>
              <a:rPr sz="2300"/>
            </a:b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893880" y="2570040"/>
            <a:ext cx="7710480" cy="40132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29"/>
          <p:cNvSpPr/>
          <p:nvPr/>
        </p:nvSpPr>
        <p:spPr>
          <a:xfrm>
            <a:off x="606600" y="1638360"/>
            <a:ext cx="800892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100" spc="-1" strike="noStrike">
                <a:solidFill>
                  <a:srgbClr val="067811"/>
                </a:solidFill>
                <a:latin typeface="Tahoma"/>
                <a:ea typeface="Arial"/>
              </a:rPr>
              <a:t>ARQUITETURA DA POLÍTICA DE ASSISTÊNCIA SOCIAL NOS MUNICÍPI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31"/>
          <p:cNvSpPr/>
          <p:nvPr/>
        </p:nvSpPr>
        <p:spPr>
          <a:xfrm>
            <a:off x="5108400" y="3502080"/>
            <a:ext cx="2554560" cy="13968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>
                <a:solidFill>
                  <a:srgbClr val="067811"/>
                </a:solidFill>
                <a:latin typeface="Arial"/>
                <a:ea typeface="Arial"/>
              </a:rPr>
              <a:t>Gestor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a Política de Assistência Soci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Cargo Polític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34"/>
          <p:cNvSpPr/>
          <p:nvPr/>
        </p:nvSpPr>
        <p:spPr>
          <a:xfrm>
            <a:off x="1320840" y="3635280"/>
            <a:ext cx="2151000" cy="16862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cretaria Municipal de Assistência Soci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4600" y="1039680"/>
            <a:ext cx="7712280" cy="40132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1"/>
          <p:cNvSpPr/>
          <p:nvPr/>
        </p:nvSpPr>
        <p:spPr>
          <a:xfrm>
            <a:off x="4894200" y="3900600"/>
            <a:ext cx="3786120" cy="13968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ntro de Referência Especializado de Assistência Social - CRE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>
                <a:solidFill>
                  <a:srgbClr val="b80c08"/>
                </a:solidFill>
                <a:latin typeface="Arial"/>
                <a:ea typeface="Arial"/>
              </a:rPr>
              <a:t>Proteção Social Especi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4"/>
          <p:cNvSpPr/>
          <p:nvPr/>
        </p:nvSpPr>
        <p:spPr>
          <a:xfrm>
            <a:off x="4964040" y="1770120"/>
            <a:ext cx="3643560" cy="1107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ntro de Referência de Assistência Social – CR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>
                <a:solidFill>
                  <a:srgbClr val="b80c08"/>
                </a:solidFill>
                <a:latin typeface="Arial"/>
                <a:ea typeface="Arial"/>
              </a:rPr>
              <a:t>Proteção Social Bás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35"/>
          <p:cNvSpPr/>
          <p:nvPr/>
        </p:nvSpPr>
        <p:spPr>
          <a:xfrm>
            <a:off x="534960" y="2103480"/>
            <a:ext cx="3643200" cy="19756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>
                <a:solidFill>
                  <a:srgbClr val="b80c08"/>
                </a:solidFill>
                <a:latin typeface="Arial"/>
                <a:ea typeface="Arial"/>
              </a:rPr>
              <a:t>Trabalhadores da Assistência Social – Assistentes Sociais, Psicólogos, Pedagogos</a:t>
            </a:r>
            <a:r>
              <a:rPr b="1" lang="en-US" sz="1900" spc="-1" strike="noStrike">
                <a:solidFill>
                  <a:srgbClr val="067811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que executam os serviços, programas e proje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Concursado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571400"/>
            <a:ext cx="8192880" cy="4236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pt-BR" sz="3100" spc="-1" strike="noStrike">
                <a:solidFill>
                  <a:srgbClr val="067811"/>
                </a:solidFill>
                <a:latin typeface="Tahoma"/>
                <a:ea typeface="Tahoma"/>
              </a:rPr>
              <a:t>PROCESSO DE MUDANÇA NA ASSISTÊNCIA SOCIAL</a:t>
            </a:r>
            <a:br>
              <a:rPr sz="2900"/>
            </a:br>
            <a:br>
              <a:rPr sz="2900"/>
            </a:br>
            <a:r>
              <a:rPr b="1" lang="en-GB" sz="1900" spc="-1" strike="noStrike" u="sng">
                <a:solidFill>
                  <a:srgbClr val="067811"/>
                </a:solidFill>
                <a:uFillTx/>
                <a:latin typeface="Arial"/>
              </a:rPr>
              <a:t>Até a década de 80: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ções sociais sem nenhum parâmetro, com visões assistencialistas (LBA – FUNABEM, Internatos, Asilos…) </a:t>
            </a:r>
            <a:br>
              <a:rPr sz="1900"/>
            </a:b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900"/>
            </a:br>
            <a:r>
              <a:rPr b="1" lang="pt-BR" sz="1900" spc="-1" strike="noStrike" u="sng">
                <a:solidFill>
                  <a:srgbClr val="067811"/>
                </a:solidFill>
                <a:uFillTx/>
                <a:latin typeface="Arial"/>
                <a:ea typeface="Arial"/>
              </a:rPr>
              <a:t>A partir da década de 80: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mudança de ótica (de ação social para política de Assistência Social) e</a:t>
            </a:r>
            <a:br>
              <a:rPr sz="1900"/>
            </a:b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udança de cultura (de uma cultura assistencialista/paternalista, de benesse, ajuda para a cultura da proteção social e defesa de direitos).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571400"/>
            <a:ext cx="8192880" cy="4236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100" spc="-1" strike="noStrike">
                <a:solidFill>
                  <a:srgbClr val="067811"/>
                </a:solidFill>
                <a:latin typeface="Tahoma"/>
                <a:ea typeface="Tahoma"/>
              </a:rPr>
              <a:t>PROCESSO DE IMPLANTAÇÃO DA ASSISTÊNCIA SOCIAL</a:t>
            </a:r>
            <a:br>
              <a:rPr sz="3300"/>
            </a:br>
            <a:r>
              <a:rPr b="1" lang="en-US" sz="1900" spc="-1" strike="noStrike" u="sng">
                <a:solidFill>
                  <a:srgbClr val="067811"/>
                </a:solidFill>
                <a:uFillTx/>
                <a:latin typeface="Arial"/>
                <a:ea typeface="Arial"/>
              </a:rPr>
              <a:t>LOAS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é 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ei que institui e define o perfil da política de assistênci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social e lhe dá sustentação legal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o que é).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1900" spc="-1" strike="noStrike" u="sng">
                <a:solidFill>
                  <a:srgbClr val="067811"/>
                </a:solidFill>
                <a:uFillTx/>
                <a:latin typeface="Arial"/>
                <a:ea typeface="Arial"/>
              </a:rPr>
              <a:t>PNAS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senvolve e detalha a política de assistência soci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de acordo com as definições da LOAS, traçando o seu direcionamento em termos de gestão, serviços, controle e financiament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o que fazer). 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1900" spc="-1" strike="noStrike" u="sng">
                <a:solidFill>
                  <a:srgbClr val="067811"/>
                </a:solidFill>
                <a:uFillTx/>
                <a:latin typeface="Arial"/>
                <a:ea typeface="Arial"/>
              </a:rPr>
              <a:t>SUAS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cria instrumentos d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eracionalização da Lei e da Polític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como fazer)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49760" y="3235320"/>
            <a:ext cx="482400" cy="46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49760" y="4632480"/>
            <a:ext cx="482400" cy="46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1680" y="1571400"/>
            <a:ext cx="8215560" cy="4236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100" spc="-1" strike="noStrike">
                <a:solidFill>
                  <a:srgbClr val="067811"/>
                </a:solidFill>
                <a:latin typeface="Tahoma"/>
                <a:ea typeface="Tahoma"/>
              </a:rPr>
              <a:t>CINCO ETAPAS MAIS IMPORTANTES DAS AÇÕES  DE UMA POLÍTICA PÚBLICA </a:t>
            </a:r>
            <a:br>
              <a:rPr sz="3100"/>
            </a:br>
            <a:br>
              <a:rPr sz="31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Identificação de problemas. As demandas são expressas pelos cidadãos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. Formulação das alternativas de ação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. Legitimação e financiamento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 Implementação por meio de programas e projeto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. Avaliação. As ações precisam ser avaliadas para verificar possíveis mudanças. </a:t>
            </a: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9120" y="1039320"/>
            <a:ext cx="8645760" cy="476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3100"/>
            </a:br>
            <a:br>
              <a:rPr sz="800"/>
            </a:br>
            <a:br>
              <a:rPr sz="800"/>
            </a:br>
            <a:r>
              <a:rPr b="1" lang="en-US" sz="3100" spc="-1" strike="noStrike">
                <a:solidFill>
                  <a:srgbClr val="067811"/>
                </a:solidFill>
                <a:latin typeface="Tahoma"/>
                <a:ea typeface="Tahoma"/>
              </a:rPr>
              <a:t>ASSISTÊNCIA SOCIAL</a:t>
            </a:r>
            <a:br>
              <a:rPr sz="31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sistência Social é um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lítica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úblic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regulamentada pela Lei Orgânica da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sistência Social, LOAS, prevista na Constituição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deral de 1988, formando 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ipé da Seguridade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cial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estabelecida como dever do Estado e direito do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idadão. 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É um campo d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tuação dos Assistentes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ciais e outros trabalhador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as esfera Federal, Estadual e Municipal.</a:t>
            </a:r>
            <a:br>
              <a:rPr sz="1900"/>
            </a:br>
            <a:br>
              <a:rPr sz="1900"/>
            </a:b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7720" y="1638360"/>
            <a:ext cx="7142040" cy="4238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100" spc="-1" strike="noStrike">
                <a:solidFill>
                  <a:srgbClr val="067811"/>
                </a:solidFill>
                <a:latin typeface="Tahoma"/>
                <a:ea typeface="Tahoma"/>
              </a:rPr>
              <a:t>Política Pública de Assistência Social</a:t>
            </a: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ahoma"/>
              </a:rPr>
              <a:t>Realiza-se de forma integrada às políticas setoriais tendo por objetivo promover serviços, programas, projetos e benefícios de proteção social básica e  especial e contribuir com a inclusão e a eqüidade dos usuários e grupos específicos, ampliando o acesso aos bens e serviços socioassistenciais em áreas urbana e rural, além de assegurar que as suas ações garantam a convivência familiar e comunitária. </a:t>
            </a:r>
            <a:br>
              <a:rPr sz="1900"/>
            </a:br>
            <a:br>
              <a:rPr sz="1900"/>
            </a:br>
            <a:br>
              <a:rPr sz="2700"/>
            </a:br>
            <a:br>
              <a:rPr sz="2900"/>
            </a:br>
            <a:br>
              <a:rPr sz="2900"/>
            </a:br>
            <a:br>
              <a:rPr sz="25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br>
              <a:rPr sz="23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7840" y="1571400"/>
            <a:ext cx="8440560" cy="4236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100" spc="-1" strike="noStrike">
                <a:solidFill>
                  <a:srgbClr val="067811"/>
                </a:solidFill>
                <a:latin typeface="Tahoma"/>
                <a:ea typeface="Tahoma"/>
              </a:rPr>
              <a:t>CONCEPÇÕES ESTRUTURANTES DA POLÍTICA DE ASSISTÊNCIA SOCIAL</a:t>
            </a:r>
            <a:br>
              <a:rPr sz="3100"/>
            </a:br>
            <a:br>
              <a:rPr sz="3100"/>
            </a:b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A assistência social,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direito do cidadão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 e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dever do Estado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, é Política de Seguridade não contributiva, que prevê os mínimos sociais (...).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Política de Assistência Social –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Política Pública de Estado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Responsabilidade e compromisso pelo Município, Estado e União na </a:t>
            </a:r>
            <a:r>
              <a:rPr b="1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garantia de Direitos dos cidadãos à proteção social. </a:t>
            </a:r>
            <a:br>
              <a:rPr sz="1900"/>
            </a:br>
            <a:br>
              <a:rPr sz="1900"/>
            </a:br>
            <a:br>
              <a:rPr sz="2700"/>
            </a:br>
            <a:br>
              <a:rPr sz="2900"/>
            </a:br>
            <a:br>
              <a:rPr sz="2900"/>
            </a:br>
            <a:br>
              <a:rPr sz="25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br>
              <a:rPr sz="23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1680" y="1571400"/>
            <a:ext cx="8215560" cy="4236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100" spc="-1" strike="noStrike">
                <a:solidFill>
                  <a:srgbClr val="067811"/>
                </a:solidFill>
                <a:latin typeface="Tahoma"/>
                <a:ea typeface="Tahoma"/>
              </a:rPr>
              <a:t>SEGURIDADE SOCIAL</a:t>
            </a:r>
            <a:br>
              <a:rPr sz="3100"/>
            </a:br>
            <a:br>
              <a:rPr sz="3100"/>
            </a:br>
            <a:r>
              <a:rPr b="1" lang="en-US" sz="1900" spc="-1" strike="noStrike">
                <a:solidFill>
                  <a:srgbClr val="067811"/>
                </a:solidFill>
                <a:latin typeface="Arial"/>
                <a:ea typeface="Tahoma"/>
              </a:rPr>
              <a:t>Política Pública de Proteção Soci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ahoma"/>
              </a:rPr>
              <a:t> – conjunto de ações voltadas para proteger as famílias, os indivíduos e a sociedade dos riscos inerentes à condição humana ou atender necessidades geradas (situação de risco ou vulnerabilidade social).</a:t>
            </a:r>
            <a:br>
              <a:rPr sz="1900"/>
            </a:br>
            <a:br>
              <a:rPr sz="1900"/>
            </a:br>
            <a:r>
              <a:rPr b="1" lang="en-US" sz="1900" spc="-1" strike="noStrike">
                <a:solidFill>
                  <a:srgbClr val="067811"/>
                </a:solidFill>
                <a:latin typeface="Arial"/>
                <a:ea typeface="Tahoma"/>
              </a:rPr>
              <a:t>* Assistência Social </a:t>
            </a:r>
            <a:br>
              <a:rPr sz="1900"/>
            </a:br>
            <a:br>
              <a:rPr sz="1900"/>
            </a:br>
            <a:r>
              <a:rPr b="1" lang="en-US" sz="1900" spc="-1" strike="noStrike">
                <a:solidFill>
                  <a:srgbClr val="067811"/>
                </a:solidFill>
                <a:latin typeface="Arial"/>
                <a:ea typeface="Tahoma"/>
              </a:rPr>
              <a:t>* Previdência Social</a:t>
            </a:r>
            <a:br>
              <a:rPr sz="1900"/>
            </a:br>
            <a:br>
              <a:rPr sz="1900"/>
            </a:br>
            <a:r>
              <a:rPr b="1" lang="en-US" sz="1900" spc="-1" strike="noStrike">
                <a:solidFill>
                  <a:srgbClr val="067811"/>
                </a:solidFill>
                <a:latin typeface="Arial"/>
                <a:ea typeface="Tahoma"/>
              </a:rPr>
              <a:t>* Saúde</a:t>
            </a:r>
            <a:br>
              <a:rPr sz="1900"/>
            </a:br>
            <a:br>
              <a:rPr sz="23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2700"/>
            </a:br>
            <a:br>
              <a:rPr sz="2700"/>
            </a:br>
            <a:br>
              <a:rPr sz="2900"/>
            </a:br>
            <a:br>
              <a:rPr sz="25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br>
              <a:rPr sz="23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63720" y="1838160"/>
            <a:ext cx="754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3100" spc="-1" strike="noStrike">
                <a:solidFill>
                  <a:srgbClr val="067811"/>
                </a:solidFill>
                <a:latin typeface="Tahoma"/>
                <a:ea typeface="Times New Roman"/>
              </a:rPr>
              <a:t>MARCO LEG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buClr>
                <a:srgbClr val="000000"/>
              </a:buClr>
              <a:buFont typeface="Tahoma"/>
              <a:buAutoNum type="arabicParenR"/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ituição Federal  de 198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2)Lei Orgânica da Assistência Social (LOAS) – 199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3) Política Nacional de Assistência Social –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4) NOB/SUAS –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5) NOB/RH -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0760" y="1571760"/>
            <a:ext cx="875196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1" lang="en-GB" sz="3100" spc="-1" strike="noStrike">
                <a:solidFill>
                  <a:srgbClr val="067811"/>
                </a:solidFill>
                <a:latin typeface="Tahoma"/>
                <a:ea typeface="Times New Roman"/>
              </a:rPr>
              <a:t>CONSTITUIÇÃO DE 198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sagrou a concepção de SEGURIDADE SOCIAL, como Política pública de Proteção Social, política de direitos, de responsabilidade estatal, composta pelo tripé – Saúde, Previdência e Assistência Soci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ceu o princípio da descentralização e da participação local rompendo com a centralidade feder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No marco da Constituição de 88, a Assistência Social, integrante da Seguridade Social, é concebida como uma política pública, não contributiva, de responsabilidade estatal e como direito de cidad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ssa mudança de paradigma rompe com a histórica concepção de filantropia, caridade, onde a Assistência Social era concebida como ajuda ou favo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lnSpc>
                <a:spcPct val="78000"/>
              </a:lnSpc>
              <a:tabLst>
                <a:tab algn="l" pos="0"/>
                <a:tab algn="l" pos="431640"/>
                <a:tab algn="l" pos="863640"/>
                <a:tab algn="l" pos="1297080"/>
                <a:tab algn="l" pos="1728720"/>
                <a:tab algn="l" pos="2162160"/>
                <a:tab algn="l" pos="2593800"/>
                <a:tab algn="l" pos="3027240"/>
                <a:tab algn="l" pos="3459240"/>
                <a:tab algn="l" pos="3892680"/>
                <a:tab algn="l" pos="4324320"/>
                <a:tab algn="l" pos="4757760"/>
                <a:tab algn="l" pos="5189400"/>
                <a:tab algn="l" pos="5622840"/>
                <a:tab algn="l" pos="6054840"/>
                <a:tab algn="l" pos="6488280"/>
                <a:tab algn="l" pos="6919920"/>
                <a:tab algn="l" pos="7353360"/>
                <a:tab algn="l" pos="7785000"/>
                <a:tab algn="l" pos="8218440"/>
                <a:tab algn="l" pos="8650440"/>
                <a:tab algn="l" pos="8810640"/>
                <a:tab algn="l" pos="969156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4:03:02Z</dcterms:created>
  <dc:creator>daniel.tavares</dc:creator>
  <dc:description/>
  <dc:language>en-US</dc:language>
  <cp:lastModifiedBy>Egem</cp:lastModifiedBy>
  <dcterms:modified xsi:type="dcterms:W3CDTF">2009-09-21T12:55:00Z</dcterms:modified>
  <cp:revision>309</cp:revision>
  <dc:subject/>
  <dc:title>Slide 1</dc:title>
</cp:coreProperties>
</file>