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1C7F-1330-4D0F-AD11-6F0684F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FD11-5173-4FB4-BD54-8EA85DB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6184-6626-4928-AFD6-AF3EE508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DE47-653B-4403-AE03-451ECD25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2550-3B6F-4C2C-BA7A-C64655DD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B674-617D-4640-A5A6-EFC14EF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19A-1746-4D96-BB7E-75189E7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C4B-CF40-433E-9373-36F57FD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2EE1-3773-4712-B208-E8EAC01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45F1-088F-4DE0-8BE6-2D7BB610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305-F2A3-443E-885C-D033766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C392-4E40-4276-A6DB-6CBEB45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5781-DBA4-45B5-BF85-43D6F29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C277-57B3-4962-BA45-FEFB47A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DB8-45D4-46B7-9814-C1649A06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89B-8882-4533-8E4E-044C51A7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77A4-CDFB-4183-87FA-32B6159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3B7-7034-4E77-A3A2-DDBBBC96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655F-50FE-4D7F-90DC-EBAC9A5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E04A-1614-447B-B724-BD6CCF24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D83C-FE36-4DE1-9CA0-B4846642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7D1C-1717-4F5A-8A5D-16DA3B6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C83A-093C-467A-9698-5F5003D8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365A-57C7-4154-AB33-90C810E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211-D0FE-441E-A854-D2E6369870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4C2-DCF6-46DF-B030-1D9E287B0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11280" y="692280"/>
            <a:ext cx="770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Reunião Plano Local de Habitação de Interesse Social - PL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: 29 - outubro -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rário: das 8h30min às 12 ho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: Auditório da AMA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valiação/Discussão do I Seminário Estadual sobre Política Municipal de Habitação e I Encontro Técnico sobre o PLHI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Andamento dos trabalhos de elaboração do PLHI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Diagnóstico do Setor Habit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1. Apresentação do Diagnóstico realizado pela Prefeitura de Rio do S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2. Definição de questionário e metodologia a ser adotada para a coleta de dados da demanda habit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449360" cy="8650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766880" cy="976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508720" y="5734080"/>
            <a:ext cx="90648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SSENTAMENTOS PRECÁRI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Mapear as unidades, aglomerações ou assentamentos precários existentes no municípi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Caracterizar o assentamento e o tipo de intervenção adequad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Estimar o número de domicilio e o tipo de precariedade (pode ser preenchida uma ficha cadastr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bservação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iorizar o atendimento das necessidades habitacionais dos assentamentos precários no PLH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Tipos de Assentamentos Precári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Favelas, vila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Loteamentos Irregular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Cortiç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4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Conjuntos Habitacionais degradad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Características dos Assentamentos Precári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Consolidados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(área com infra-estrutura, pavimentação, edificações em melhor estado, fora de área de risco, et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Consolidáveis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(com condições de receber ações de consolidação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Não Consolidáveis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(sem condições de receber ações de consolidação, sendo necessário o reassentamento (áreas de risco, por exemplo)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Tipologias das Intervenções em Assentamentos Precári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Urbanização Simpl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Urbanização Complex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Remanejamento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(relocação dentro do próprio assentamento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4.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Reassentamento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(realocação para outro local fora do assentamento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Observação: Remanejamento e Reassentamento são computados como déficit habitacional quantita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UTRAS OBSERVAÇÕES INTERESSANT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 Transferência do ITBI para o Fundo Municipal de Habitação. Para tanto, é importante a atualização cadastral e do valor venal dos imóve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 Programa de incentivo a empresas privadas que queiram investir em produção de unidades habitacionais de interesse social, com isenção de I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 Serviço Habitacional: Tendência que está surgindo como o serviço de saúde e de assistência social surgiu anos atrás (contempla serviço de moradia com aluguel subsidiado para jovens casais, estudantes, famílias de baixa renda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ndamento dos trabalhos de elaboração do PLHIS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725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. Elaboração do Plano Local de Habitação de Interesse So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 conhecimento de V. Exª, informamos que a elaboração do Plano Local de Habitação de Interesse Social,  tem o seguinte cronograma de execução, com a coordenação dos técnicos da AMAV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-  Em 11/08/2009,  foi repassado aos técnicos municipais a metodologia de elaboração do plano e atribuído trabalhos iniciais a serem executados nos municípios para execução das etapas seguint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- Em 29/10/2009,  serão apresentados pelos técnicos municipais os trabalhos programados em 11/08/2009 e repassadas outras atribuiçõ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- Em 28/02/2010, serão concluídos os diagnósticos sobre o déficit habitacional e convalidados em audiência públic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- Em 30/06/2010, serão apresentadas as propostas (Plano) com o respectivo projeto de lei para encaminhamento as Câmaras Municipais para aprovação até dezembro de 201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DIAGNÓSTICO DO SETOR HABITACIONAL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2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esentação do Diagnóstico realizado pela Prefeitura de Rio do S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rcRect l="0" t="0" r="7633" b="6839"/>
          <a:stretch/>
        </p:blipFill>
        <p:spPr>
          <a:xfrm>
            <a:off x="0" y="568440"/>
            <a:ext cx="91440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N° de Identificação da Famíl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Data da Coleta de dados:      /      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Nome do Pesquisad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Endereç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Bairro/Comunidade: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2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.Identificação da Famíl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1.Quantas pessoas moram nesta casa? 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. Qual a renda familiar mens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o?________________ (para calcular % do alugu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)  sem rend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) de 0 a 3    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de 3 a 6    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de 6 a 10  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superior a 10 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7160" indent="-4971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Ônus Excessivo com alug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3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família acessa algum recurso feder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n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sim. Qu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Bolsa Família   (   ) P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BPC    (   ) Outro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4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é a composição famili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aposentado:  Quantos: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deficiente: Quantos: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adolescente: Quantos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crianças 0 a 12 Quantas: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920" indent="-475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Arial"/>
              </a:rPr>
              <a:t>Priorização das Famí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éficit Habitacional (quantitativo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•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r reposição de esto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omicílios Rústicos (lona, papelão, adobe ou taipa, madeira em mau estado de conservaç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•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r incremento de esto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omicílios Improvisados (lojas, fábricas, estufas, galpões, paiol, escolas, embarcações, carroças, vagões de trens, tendas e grut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omicílios com coabitação (mais de um domicilio no mesmo lote, “puxadinho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amílias conviventes (mais de uma família no mesmo domici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ômodos Alugados ou cedidos (coabitação disfarçad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Ônus excessivo com alug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. Quem é o chefe da famíl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Pai  (   ) Mãe    (   ) avô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) avó   (    ) outro  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6 Qual é a profissão deste chefe de famíl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) _____________ (  ) apose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7. Qual o grau de instrução deste chefe de famíl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primá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fundamental compl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ensino mé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curso sup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920" indent="-475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riorização das Famí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.Informações da Edifi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. Existe mais de uma família morando nesta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) não     ( ) sim.  Quantas?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situação é opção da família ou é por necessidade? 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bservação: Se existir mais de uma família preencher mais um formulário e anexar a es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Famílias Conviv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. É o proprietário do terren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não      (   ) sim. Tem escritura do terreno? (   ) sim     (   ) não     (  ) Con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 É o proprietário da cas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sim    (   ) não.  Então a casa 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cedida. Por quem? 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arrend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alugada. Qual o valor pago com aluguel: R$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outro. Qual: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nadequação Fundiá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4. A família possui mais algum outro imóv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sim         (   ) n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riorização de Famí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5. A casa foi construída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recursos próp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financi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recursos de programas habitacion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outro. Qual?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Forma de produção da edif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66ff"/>
                </a:solidFill>
                <a:uFillTx/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6. Existe mais de uma casa ou “puxado” neste terren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não     (   ) si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situação é opção da família ou é por necessidade? 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omicílio com coabi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66ff"/>
                </a:solidFill>
                <a:uFillTx/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7. Qual o material de construção da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alvenaria/tijo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made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m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outro   Qual: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560" indent="-529560"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omicilio rú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8. Estado de conservação da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novo/ó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ruim (necessita de refor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560" indent="-5295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omicilio rústico ou moradias depreci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66ff"/>
                </a:solidFill>
                <a:uFillTx/>
                <a:latin typeface="Arial"/>
              </a:rPr>
              <a:t>2- 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9. Qual o número de quartos na ca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0. Há pessoas da família que precisam dormir na sala ou cozinha por falta de quarto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sim     (   )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1. Há algum quarto onde dormem três pessoas ou mais no mesmo quar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sim     (   )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ensidade Exces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66ff"/>
                </a:solidFill>
                <a:uFillTx/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.12. A casa possui banheir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não     (   ) sim. (    ) quantos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banheiro é dentro de casa?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  ) sim     (   )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Arial"/>
              </a:rPr>
              <a:t>Inexistência de unidade sanitária domiciliar 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66ff"/>
                </a:solidFill>
                <a:uFillTx/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3. Há algum cômodo (quarto/sala) da sua casa alugado ou cedido para outra pessoa ou famíl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sim.     Quantos (     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   )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Cômodos alugados ou ced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14. Assinale se a área onde a casa encontra-se esta sujeita a uma ou mais das situações abaix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inundaç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desliza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insalubr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próximo a lix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extração mi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) localizam na faixa de domínio de rodovias/ ferrov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linhas transmissão alta ten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) assentamento precá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éficit Habitacional (quantitativo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servação 1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ar cuidado que nem sempre domicílios com coabitação e com famílias conviventes pode ser considerado déficit, as vezes é uma opção da própria famíl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nas aquelas famílias que têm intenção de constituir domicílio exclusivo passam a ser consideradas déficit habita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servação 2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o cálculo do ônus excessivo com aluguel no caso de domicílios com famílias conviventes, considerar apenas a renda da família prin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5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.Infra-estrutura exis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. A casa possui Energia Elétric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não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sim. Qual a fonte de energia elét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rede    (  ) rab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. A casa possui água com canalização intern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n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sim. Qual a fonte da águ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rede     (  ) poço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nascente/córr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3360" indent="-513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Carência de serviços de infra-estru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FORMULÁRIO PARA ELABORAÇÃO DO DIAGNÓSTICO</a:t>
            </a: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. Qual o destino do esgoto da cas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fossa/filt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fossa/filtro/sumido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 ) buraco ne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céu aber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outro? Qual?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. Como destina o lixo domést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coleta da Prefeitu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enter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queim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separa para recicl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céu abert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) outro. Qual?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24160" indent="-5241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Carência de serviços de infra-estru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adequação de Domicílios (qualitativo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 Densidade Excessiv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micílios com mais de três moradores por cômodo servindo de dormitório, o que inclui quartos, sala, cozinha servindo para essa finalidade em caráter permane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 Carência de infra-estrutur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ergia elétrica, abastecimento de água, esgotamento sanitário e coleta de lix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Inadequação Fundiár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m média 40% dos lotes brasilei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 Inexistência de unidade sanitária domiciliar 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servaçã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área rural os parâmetros utilizados para medir o atendimento de infra-estrutura e acesso a equipamentos comunitários podem ser diferenciados, por causa da baixa densidade, mas estes devem mesmo assim ser garant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manda Fu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 estimativa populacional futura será disponibilizado em breve pelo Ministério das C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ansformar a estimativa populacional para estimativa de novas moradias. Ter cuidado para não computar o número total de estimativa por novas moradias como déficit habitacional, pois há famílias que serão facilmente atendidas pelo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gestã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tilizar a mesma proporção de famílias de baixa renda existente hoje para definir a demanda futu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putar a demanda futura como déficit quantit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stratificar a demanda futura por período de revisão do PL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4143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éficit Habitacional que não está contemplado pela metodologia da Fundação João Pinheir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Áreas de risco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 contagem do déficit dependendo da situação se enquadra como déficit quantitativo ou qualitativo, pois nem sempre é necessária a remoção de famílias, e sim a realização de ações para eliminar o risco, como a contenção de encostas, muros de arrimo, etc. Nestes casos, no diagnóstico deve ser levantado também o tipo de risco existente, não só mapear a localização das áreas de risc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Áreas de Especial Interesse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 áreas 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inidas no Plano Diretor como de interesse público, ambiental, urbanístico, turístico, etc. Se existirem edificações nestas áreas, estas podem ser computadas como déficit habitacional quantita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Área de Preservação Permanente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edificações em área de APP pode ser computadas como área de risco, como assentamentos precários, área com interesse de regularização fundiária, entre outros, conforme o cas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07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éficit Habitacional que não está contemplado pela metodologia da Fundação João Pinheir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imensionamento do estoque de moradias depreciadas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ta-se de habitações obsoletas (com mais de 50 anos) que precisam ser refeitas ou reforma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omicilio Vagos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É preciso levantar os domicílios vagos que podem ser direcionados para programas habitacionais – doação em pagamento de dívid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4280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ESTRATÉGIAS DE 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•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Linhas Programátic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- Normativas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(revisão ou elaboração de marcos regulatórios municipais que impactam nas ações do setor habitacional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- Institucionais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(reforma administrativa, reformulação do quadro funcional, capacitação de servidores, etc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- Provisão, adequação e urbanização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(intervenção da administração pública na construção de novas moradias ou na melhoria (física ou normativa) daquelas que se encontra em situação inadequad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Observação: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nas linhas programáticas institucionais pode ser previsto a estrutura e o mapeamento necessários para a 1ª revisão do PLH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valiação/Discussão do I Seminário Estadual o PLHI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•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Objetivos, Metas e Indicador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- Desenvolver em forma de tabela auxilia no posterior monitoramento do PLH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- Para a definição das metas definir o prazo de execução das ações em curto, médio e longo (exemplo de Itá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- Curto prazo = 2 an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- Médio prazo = 6 an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- Longo prazo = 10 an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930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19:09Z</dcterms:created>
  <dc:creator>AMAVI</dc:creator>
  <dc:description/>
  <dc:language>en-US</dc:language>
  <cp:lastModifiedBy>Fabiana</cp:lastModifiedBy>
  <dcterms:modified xsi:type="dcterms:W3CDTF">2009-10-26T12:19:28Z</dcterms:modified>
  <cp:revision>38</cp:revision>
  <dc:subject/>
  <dc:title>Slide 1</dc:title>
</cp:coreProperties>
</file>