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1.png" ContentType="image/png"/>
  <Override PartName="/ppt/media/image29.wmf" ContentType="image/x-wmf"/>
  <Override PartName="/ppt/media/image31.png" ContentType="image/png"/>
  <Override PartName="/ppt/media/image9.png" ContentType="image/png"/>
  <Override PartName="/ppt/media/image34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wmf" ContentType="image/x-wmf"/>
  <Override PartName="/ppt/media/image30.png" ContentType="image/png"/>
  <Override PartName="/ppt/media/image35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37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221-EF1F-4383-BD0B-40CDA38B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5B6-D864-42CC-90C5-9391F5C1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B5229-8D58-4C15-8179-03CDDCD9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E7A36-29B1-45D0-BF10-9B925BB5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31EA4-6832-44B2-BCC5-258F1CEF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758C8-E746-41F5-9B21-1F650C85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D1699-3BB3-4DF0-BF2A-0C32FA2E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036BA-2556-4997-AE7C-655A817C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4E3C0-168E-40EC-BF98-873DB06C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9B8EB-4162-48C2-A576-A6987E16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F734B-ACF5-443D-BE9D-F9CE947A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CAA0-F2A7-41F3-A3D0-F9E9341A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C6D5-4942-44F6-9E12-02CFDDF8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EDC3-4F2E-4E08-BBCE-59220A12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6F35-BB1D-4C9A-B410-3F611E78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5AAF-4EC8-4455-9317-B947C56B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3D4B-0D6D-4ED3-91B2-100A17D4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8DB7-65AA-473B-A1A9-C3B331C7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AF72-B52C-4E05-8F4E-41E97B7F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6926-9603-43D5-91DA-AE04EAB9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13EF-F55D-43B5-AD6D-BEEBCD72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9DFE-A52D-47C9-A910-7A5AB1A9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AA27-1F50-4CAF-B36F-9D2268E1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B0C0-523E-4B32-A6AE-9B4B3AC9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B132-642D-489B-9DD1-0FE88D30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76B6-1957-426F-9B08-939B2D03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92709-9631-4662-A901-B19F62D1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ED2F1-5CAF-4E4B-A46E-F43E179B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E03BC-18D1-4135-A591-EBAECABD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08609-0400-4F35-892D-9B9E7E82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323DB-352D-49EB-9381-D483307F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8BF7-C928-48F5-AFC8-130C01EC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16416-5803-431E-8AA9-4BC7C788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6E188-C653-431F-A0C6-2216B308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FE644-8BB1-4C83-917D-3EB5B59C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A5C8C-345F-45D6-A4E0-20BB61FF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1278E-EFCE-461F-B504-494BBDC8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9F685-36A6-4EB6-AD96-8F82FF8D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6574E-B097-4E17-96E0-AB68477D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DC70B-E45E-4D20-BA64-99B7C3A8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CB5BF-2C5D-456A-9A14-E7C74BC4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45078-C70A-4440-8319-23048FF3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56A0-130E-4F5F-AD4D-B451823A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ECBAC-1E56-4864-95C8-7D000291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4CFF8-98C2-47C6-AF65-484D923E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875C4-87FF-4761-B65A-87EF3AF2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E68DF-A213-49A9-A652-BD8E8DAC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079FB-CEE5-4795-A4DB-61FAE6FC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2BEAA-E426-4E12-BC85-DE6A4662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B6640-1825-45E2-BF34-AC860E06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67F1E-928C-4D4F-8E74-8DB500E3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ECE64-D353-40B7-94FE-51EF6DF1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1910C-D521-49DE-B2E8-C907D77B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1F6-4E37-4254-99AC-4A9611EB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98C55-1D92-485B-8B60-D0035FA5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9A9D6-C0B5-4861-9F34-0967BED0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FC65C-A483-448A-AE4C-7F991D7F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AF0B5-4637-4F5F-A086-D9CD4D19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FCCC5-956F-4D76-AD4A-4549B6AA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34F6D-02BB-499F-967E-2A289E65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31566-C5FB-496B-B647-CBEB5B54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8ECEC-DAA1-4E1E-B273-0AF38CE6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8E2DF-8D88-44FF-B757-E9AFAF8C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298BC-B7CB-4AED-A856-085E9F83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C8C-6C65-4DED-9573-31BCAF17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CD1F9-F7DB-4F4B-BADA-77D33109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568D2-464B-440F-8F2B-DCA6E1CB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FB742-5593-4A36-B152-1C36407D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E4A8D-5E60-480E-8C8A-BB144699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69248-06F8-4E84-B231-D8275477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F5CB6-910F-4888-BCE3-58639A22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1AA28-D26C-4191-BEA8-6F2F292A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8459E-2437-4E28-93DB-B7F4A563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1F5B7-00B3-4333-9406-8E94BDCE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13D6E-D125-4FBD-BD77-95E55F53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BCE6-6A5C-400B-AC19-1354E0F3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959CA-C5C0-4B75-B316-3D74F237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E2D9E-9F83-487E-8696-5CFA3CAE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79719-689D-4DEC-8C30-B82AAC4A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AD9BD-5178-4A94-87B0-BBDE8172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0E908-69DF-4E39-9173-A6F57089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6029C-563F-4894-90BC-D377E40D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15D24-EDA9-4B67-A9A7-889E2590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3D390-4709-4851-A98B-5B70B2A0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75DA8-9A57-47B0-9C28-24265BD6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C8FB1-A6F8-4FEB-A4E3-0D3FFF89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B609-4DC3-4A6A-B153-C05AAC42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D0F46-2425-4F43-96FD-BB5F2F48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5E86E-84A9-4519-8BBD-D3307268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3FAB2-ED9C-49EF-BB47-A47E757F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55D19-A507-4695-8280-C7D1C977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4AF88-4A56-46A1-B75C-E3DC2052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CC1A4-AE78-4FBA-B780-5D7EB56E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670CC-4C6F-4436-AE01-DCFB4474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5CFB6-D8BE-428D-AC7D-00862879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BF9A0-4C03-4A11-BF45-03C98681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47223-3D6E-405A-8745-97E6BD2A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9922-FD7A-481B-8FAD-6CEC4447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8A393-2712-4367-AD89-BCB21F79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45F36-D302-4482-A7ED-0A1B99C3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0FC77-7A2F-4350-B273-74487D10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84A78-662D-47FA-AE55-BB65E55A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EE439-4D1D-4982-BBC0-3739978E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35ABA-AEFE-44B1-AA15-1FC67D20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2695B-39EF-4FEC-A64D-19DEDFD0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282D7-233B-437F-A4A1-FB9D4FC3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17744-2715-42D7-9B99-FF5A00A4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E7507-0BB3-44B7-AE6F-B8CAF6B0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ector reto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ector reto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A50E-A719-4C36-8A84-D82344452566}" type="slidenum">
              <a:rPr b="0" lang="pt-BR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Conector reto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ector reto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Conector reto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ector reto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ector reto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9264-8764-43D1-BB45-9F20529E62AA}" type="slidenum">
              <a:rPr b="0" lang="pt-BR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ector reto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ector reto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Conector reto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ector reto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Conector reto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ector reto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35F7-59EC-43DD-A696-1108ACEAF1AE}" type="slidenum">
              <a:rPr b="0" lang="pt-BR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ector reto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C379-3A94-42E9-8D92-A86CC405DCE3}" type="slidenum">
              <a:rPr b="0" lang="pt-BR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ector reto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C43B-21AC-46CE-B734-B215873048D1}" type="slidenum">
              <a:rPr b="0" lang="pt-BR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65A4-DB71-4877-9E2C-CBCCBD9963EC}" type="slidenum">
              <a:rPr b="0" lang="pt-BR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ector reto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F818-67BA-41F1-A313-ADEABD2AC569}" type="slidenum">
              <a:rPr b="0" lang="pt-BR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FD6D-7CC2-42D4-87CD-48D1C9E26452}" type="slidenum">
              <a:rPr b="0" lang="pt-BR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1687-81DC-419B-ADE5-E52ACCB3C7D5}" type="slidenum">
              <a:rPr b="0" lang="pt-BR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t.wikipedia.org/wiki/Popula&#231;&#227;o_residente" TargetMode="External"/><Relationship Id="rId2" Type="http://schemas.openxmlformats.org/officeDocument/2006/relationships/hyperlink" Target="http://pt.wikipedia.org/wiki/IBGE" TargetMode="External"/><Relationship Id="rId3" Type="http://schemas.openxmlformats.org/officeDocument/2006/relationships/hyperlink" Target="http://pt.wikipedia.org/wiki/2008" TargetMode="External"/><Relationship Id="rId4" Type="http://schemas.openxmlformats.org/officeDocument/2006/relationships/hyperlink" Target="http://pt.wikipedia.org/wiki/Popula&#231;&#227;o_residente" TargetMode="External"/><Relationship Id="rId5" Type="http://schemas.openxmlformats.org/officeDocument/2006/relationships/hyperlink" Target="http://pt.wikipedia.org/wiki/Km&#178;" TargetMode="External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Rio do Sul - Apresentacao - Diagnostic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3" name="Título 6" descr=""/>
          <p:cNvPicPr/>
          <p:nvPr/>
        </p:nvPicPr>
        <p:blipFill>
          <a:blip r:embed="rId3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Gráfico 3" descr=""/>
          <p:cNvPicPr/>
          <p:nvPr/>
        </p:nvPicPr>
        <p:blipFill>
          <a:blip r:embed="rId1"/>
          <a:stretch/>
        </p:blipFill>
        <p:spPr>
          <a:xfrm>
            <a:off x="4348080" y="2060640"/>
            <a:ext cx="4832280" cy="4797360"/>
          </a:xfrm>
          <a:prstGeom prst="rect">
            <a:avLst/>
          </a:prstGeom>
          <a:ln w="0">
            <a:noFill/>
          </a:ln>
        </p:spPr>
      </p:pic>
      <p:pic>
        <p:nvPicPr>
          <p:cNvPr id="431" name="Gráfico 2" descr=""/>
          <p:cNvPicPr/>
          <p:nvPr/>
        </p:nvPicPr>
        <p:blipFill>
          <a:blip r:embed="rId2"/>
          <a:stretch/>
        </p:blipFill>
        <p:spPr>
          <a:xfrm>
            <a:off x="0" y="0"/>
            <a:ext cx="47880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Conselho e Fundo Local de Habitação de Interesse Social;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Secretaria da Assistência Social e Habitação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Gráfico 2" descr=""/>
          <p:cNvPicPr/>
          <p:nvPr/>
        </p:nvPicPr>
        <p:blipFill>
          <a:blip r:embed="rId1"/>
          <a:stretch/>
        </p:blipFill>
        <p:spPr>
          <a:xfrm>
            <a:off x="357120" y="1643040"/>
            <a:ext cx="8286840" cy="5429160"/>
          </a:xfrm>
          <a:prstGeom prst="rect">
            <a:avLst/>
          </a:prstGeom>
          <a:ln w="0">
            <a:noFill/>
          </a:ln>
        </p:spPr>
      </p:pic>
      <p:pic>
        <p:nvPicPr>
          <p:cNvPr id="436" name="Título 5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Gráfico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Gráfico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Gráfico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Gráfico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Gráfico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Adesão -  27/12/2006 ao Sistema Nacional de Habitação de Interesse Social;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Cadastro para repasse do recurso de elaboração do PLHIS.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Gráfico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Gráfico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2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Gráfico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Gráfico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Gráfico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Título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Secretaria;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Previsão Orçamentária; 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Recursos Humanos;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Equipamentos.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Ampliação do Loteamento São Pedro – 90 unidades e Bairro Progresso – 20 unidades.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35 unidades habitacionais utilizando a modalidade de projeto da Moradia Econômica e 23 unidades de habitação popular.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Plano Diretor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No caso dos Instrumentos jurídicos, principalmente as ZEIS, o plano diretor, através da Lei Complementar 10/95, que estabelece o zoneamento da cidade, não contemplou áreas para este fim, inviabilizando a sua utilização.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1"/>
          <a:srcRect l="6291" t="4443" r="5186" b="3519"/>
          <a:stretch/>
        </p:blipFill>
        <p:spPr>
          <a:xfrm>
            <a:off x="1428840" y="1714680"/>
            <a:ext cx="5715000" cy="4000320"/>
          </a:xfrm>
          <a:prstGeom prst="rect">
            <a:avLst/>
          </a:prstGeom>
          <a:ln w="0">
            <a:noFill/>
          </a:ln>
        </p:spPr>
      </p:pic>
      <p:pic>
        <p:nvPicPr>
          <p:cNvPr id="403" name="Título 4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0" y="1714680"/>
            <a:ext cx="8501040" cy="43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4e5b6f"/>
                </a:solidFill>
                <a:latin typeface="Franklin Gothic Book"/>
              </a:rPr>
              <a:t>Construção de 1 milhão de moradias;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4e5b6f"/>
                </a:solidFill>
                <a:latin typeface="Franklin Gothic Book"/>
              </a:rPr>
              <a:t>Subsidiar a aquisição de imóvel novo para os segmentos populacionais de renda até 6 salários mínimos;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4e5b6f"/>
                </a:solidFill>
                <a:latin typeface="Franklin Gothic Book"/>
              </a:rPr>
              <a:t>Melhorar as condições de aquisição para as famílias entre 6 e 10 salários mínimos através de acesso ao Fundo Garantidor e redução dos custos de seguro.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4e5b6f"/>
                </a:solidFill>
                <a:latin typeface="Franklin Gothic Book"/>
              </a:rPr>
              <a:t>Compete aos Estados, municípios e DF: </a:t>
            </a:r>
            <a:endParaRPr b="0" lang="en-US" sz="2200" spc="-1" strike="noStrike">
              <a:solidFill>
                <a:srgbClr val="4e5b6f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4e5b6f"/>
                </a:solidFill>
                <a:latin typeface="Franklin Gothic Book"/>
              </a:rPr>
              <a:t>Organizar a demanda conforme critérios pré-definidos;</a:t>
            </a:r>
            <a:endParaRPr b="0" lang="en-US" sz="2200" spc="-1" strike="noStrike">
              <a:solidFill>
                <a:srgbClr val="4e5b6f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4e5b6f"/>
                </a:solidFill>
                <a:latin typeface="Franklin Gothic Book"/>
              </a:rPr>
              <a:t>Firmar termo de adesão;</a:t>
            </a:r>
            <a:endParaRPr b="0" lang="en-US" sz="2200" spc="-1" strike="noStrike">
              <a:solidFill>
                <a:srgbClr val="4e5b6f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4e5b6f"/>
                </a:solidFill>
                <a:latin typeface="Franklin Gothic Book"/>
              </a:rPr>
              <a:t>Providenciar autorizações, alvarás, licenças  e outras documentações necessárias à aprovação   dos projetos arquitetônicos, urbanísticos e complementares das unidades habitacionais, de forma célere;</a:t>
            </a:r>
            <a:endParaRPr b="0" lang="en-US" sz="2200" spc="-1" strike="noStrike">
              <a:solidFill>
                <a:srgbClr val="4e5b6f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4e5b6f"/>
                </a:solidFill>
                <a:latin typeface="Franklin Gothic Book"/>
              </a:rPr>
              <a:t>Propor a  desoneração  fiscal de tributos incidentes sobre os empreendimentos;</a:t>
            </a:r>
            <a:endParaRPr b="0" lang="en-US" sz="2200" spc="-1" strike="noStrike">
              <a:solidFill>
                <a:srgbClr val="4e5b6f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4e5b6f"/>
                </a:solidFill>
                <a:latin typeface="Franklin Gothic Book"/>
              </a:rPr>
              <a:t>Promover, a seu critério, parceria com empresas da construção civil  fornecendo contrapartida sob a forma de  bens, serviços ou  aporte financeiro.;</a:t>
            </a:r>
            <a:endParaRPr b="0" lang="en-US" sz="2200" spc="-1" strike="noStrike">
              <a:solidFill>
                <a:srgbClr val="4e5b6f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4e5b6f"/>
                </a:solidFill>
                <a:latin typeface="Franklin Gothic Book"/>
              </a:rPr>
              <a:t>Responsabilizar-se pela conservação e guarda dos empreendimentos entre sua conclusão e a entrega aos beneficiários finais.</a:t>
            </a:r>
            <a:endParaRPr b="0" lang="en-US" sz="2200" spc="-1" strike="noStrike">
              <a:solidFill>
                <a:srgbClr val="4e5b6f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4e5b6f"/>
                </a:solidFill>
                <a:latin typeface="Franklin Gothic Book"/>
              </a:rPr>
              <a:t>9.1 Priorização</a:t>
            </a:r>
            <a:r>
              <a:rPr b="0" i="1" lang="pt-BR" sz="3000" spc="-1" strike="noStrike">
                <a:solidFill>
                  <a:srgbClr val="4e5b6f"/>
                </a:solidFill>
                <a:latin typeface="Franklin Gothic Book"/>
              </a:rPr>
              <a:t> de Rio do Sul frente ao Sistema Nacional de Habitação de Interesse Social, maior contrapartida do poder público local na forma de: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4e5b6f"/>
                </a:solidFill>
                <a:latin typeface="Franklin Gothic Book"/>
              </a:rPr>
              <a:t> </a:t>
            </a:r>
            <a:r>
              <a:rPr b="0" i="1" lang="pt-BR" sz="2200" spc="-1" strike="noStrike">
                <a:solidFill>
                  <a:srgbClr val="4e5b6f"/>
                </a:solidFill>
                <a:latin typeface="Franklin Gothic Book"/>
              </a:rPr>
              <a:t>aporte financeiro</a:t>
            </a:r>
            <a:endParaRPr b="0" lang="en-US" sz="2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4e5b6f"/>
                </a:solidFill>
                <a:latin typeface="Franklin Gothic Book"/>
              </a:rPr>
              <a:t> </a:t>
            </a:r>
            <a:r>
              <a:rPr b="0" i="1" lang="pt-BR" sz="2200" spc="-1" strike="noStrike">
                <a:solidFill>
                  <a:srgbClr val="4e5b6f"/>
                </a:solidFill>
                <a:latin typeface="Franklin Gothic Book"/>
              </a:rPr>
              <a:t>terreno (ex: doação)</a:t>
            </a:r>
            <a:endParaRPr b="0" lang="en-US" sz="2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4e5b6f"/>
                </a:solidFill>
                <a:latin typeface="Franklin Gothic Book"/>
              </a:rPr>
              <a:t> </a:t>
            </a:r>
            <a:r>
              <a:rPr b="0" i="1" lang="pt-BR" sz="2200" spc="-1" strike="noStrike">
                <a:solidFill>
                  <a:srgbClr val="4e5b6f"/>
                </a:solidFill>
                <a:latin typeface="Franklin Gothic Book"/>
              </a:rPr>
              <a:t>infraestrutura </a:t>
            </a:r>
            <a:endParaRPr b="0" lang="en-US" sz="2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4e5b6f"/>
                </a:solidFill>
                <a:latin typeface="Franklin Gothic Book"/>
              </a:rPr>
              <a:t>desoneração fiscal (ICMS, ITCD, ITBI e ISS)</a:t>
            </a:r>
            <a:endParaRPr b="0" lang="en-US" sz="2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4e5b6f"/>
                </a:solidFill>
                <a:latin typeface="Franklin Gothic Book"/>
              </a:rPr>
              <a:t> </a:t>
            </a:r>
            <a:r>
              <a:rPr b="0" i="1" lang="pt-BR" sz="2200" spc="-1" strike="noStrike">
                <a:solidFill>
                  <a:srgbClr val="4e5b6f"/>
                </a:solidFill>
                <a:latin typeface="Franklin Gothic Book"/>
              </a:rPr>
              <a:t>Menor custo da unidade habitacional;</a:t>
            </a:r>
            <a:endParaRPr b="0" lang="en-US" sz="2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i="1" lang="pt-BR" sz="2200" spc="-1" strike="noStrike">
                <a:solidFill>
                  <a:srgbClr val="4e5b6f"/>
                </a:solidFill>
                <a:latin typeface="Franklin Gothic Book"/>
              </a:rPr>
              <a:t>Existência prévia de infraestrutura;</a:t>
            </a:r>
            <a:endParaRPr b="0" lang="en-US" sz="2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4e5b6f"/>
                </a:solidFill>
                <a:latin typeface="Franklin Gothic Book"/>
              </a:rPr>
              <a:t>Atendimento à regiões sujeitas à crescimento demográfico devido ao impacto de grandes empreendimentos de infraestrutura</a:t>
            </a:r>
            <a:endParaRPr b="0" lang="en-US" sz="2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4e5b6f"/>
                </a:solidFill>
                <a:latin typeface="Franklin Gothic Book"/>
              </a:rPr>
              <a:t>Regiões atingidas por catástrofes definidas pela defesa civil.</a:t>
            </a:r>
            <a:endParaRPr b="0" lang="en-US" sz="2200" spc="-1" strike="noStrike">
              <a:solidFill>
                <a:srgbClr val="4e5b6f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Localizado Alto vale do Itajaí;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População Total: 59.236 </a:t>
            </a:r>
            <a:r>
              <a:rPr b="0" lang="pt-BR" sz="3200" spc="-1" strike="noStrike" u="sng">
                <a:solidFill>
                  <a:srgbClr val="eb8803"/>
                </a:solidFill>
                <a:uFillTx/>
                <a:latin typeface="Franklin Gothic Book"/>
                <a:hlinkClick r:id="rId1"/>
              </a:rPr>
              <a:t>hab.</a:t>
            </a: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(est. </a:t>
            </a:r>
            <a:r>
              <a:rPr b="0" lang="pt-BR" sz="3200" spc="-1" strike="noStrike" u="sng">
                <a:solidFill>
                  <a:srgbClr val="eb8803"/>
                </a:solidFill>
                <a:uFillTx/>
                <a:latin typeface="Franklin Gothic Book"/>
                <a:hlinkClick r:id="rId2"/>
              </a:rPr>
              <a:t>IBGE</a:t>
            </a: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/</a:t>
            </a:r>
            <a:r>
              <a:rPr b="0" lang="pt-BR" sz="3200" spc="-1" strike="noStrike" u="sng">
                <a:solidFill>
                  <a:srgbClr val="eb8803"/>
                </a:solidFill>
                <a:uFillTx/>
                <a:latin typeface="Franklin Gothic Book"/>
                <a:hlinkClick r:id="rId3"/>
              </a:rPr>
              <a:t>2008</a:t>
            </a: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);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População Urbana: 55533 hab (est. baseada no dados do censo IBGE/2000);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População rural: 3703 hab (est. baseada no dados do censo IBGE/2000);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Densidade demográfica : 217 </a:t>
            </a:r>
            <a:r>
              <a:rPr b="0" lang="pt-BR" sz="3200" spc="-1" strike="noStrike" u="sng">
                <a:solidFill>
                  <a:srgbClr val="eb8803"/>
                </a:solidFill>
                <a:uFillTx/>
                <a:latin typeface="Franklin Gothic Book"/>
                <a:hlinkClick r:id="rId4"/>
              </a:rPr>
              <a:t>hab.</a:t>
            </a: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/</a:t>
            </a:r>
            <a:r>
              <a:rPr b="0" lang="pt-BR" sz="3200" spc="-1" strike="noStrike" u="sng">
                <a:solidFill>
                  <a:srgbClr val="eb8803"/>
                </a:solidFill>
                <a:uFillTx/>
                <a:latin typeface="Franklin Gothic Book"/>
                <a:hlinkClick r:id="rId5"/>
              </a:rPr>
              <a:t>km²</a:t>
            </a: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;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Taxa de crescimento anual: 1,94%.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Possui 1381 indústrias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18.017 unidades residenciais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16.860 unidades residenciais atendidas pela CASAN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Tratamento de Esgoto – 17,5% 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14.379 eram atendidos por coleta de lixo 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5b6f"/>
                </a:solidFill>
                <a:latin typeface="Franklin Gothic Book"/>
              </a:rPr>
              <a:t>96% atendidos pela CELESC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2071800" y="773280"/>
            <a:ext cx="400032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3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13:55:13Z</dcterms:created>
  <dc:creator>Edimar Garcia</dc:creator>
  <dc:description/>
  <dc:language>en-US</dc:language>
  <cp:lastModifiedBy>Administrador</cp:lastModifiedBy>
  <dcterms:modified xsi:type="dcterms:W3CDTF">2009-06-04T14:48:33Z</dcterms:modified>
  <cp:revision>5</cp:revision>
  <dc:subject/>
  <dc:title>Slide 1</dc:title>
</cp:coreProperties>
</file>