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1BF-9128-4518-9145-A1EC4B7C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045-8D15-4751-BBD1-F3E9F9F9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0F3-DBA8-4681-9E72-CC9528F4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AF5-8329-4D46-9A1B-096EC982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ADE-A643-486F-AA09-C87DE38C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FF2-EE12-41FA-BF68-EFEB10CF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F13-2898-49AB-8ECF-582EED38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D7B-D3AD-43F4-BA79-0EC8CDC2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924-F64C-48D7-8D6E-8C7751BE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132-1E64-4BE2-8630-665CE179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FE6-E841-4B90-B0D0-CE1618D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A19-9AAB-49D8-9A27-5E9A1058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B709-1EF2-46DD-9A07-627009E5843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6"/>
          <p:cNvSpPr/>
          <p:nvPr/>
        </p:nvSpPr>
        <p:spPr>
          <a:xfrm rot="5400000">
            <a:off x="6072120" y="3643200"/>
            <a:ext cx="571320" cy="5572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071880" y="6211800"/>
            <a:ext cx="514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000"/>
                </a:solidFill>
                <a:latin typeface="Bookman Old Style"/>
              </a:rPr>
              <a:t>Ministério do Desenvolvimento Social e Combate à F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000"/>
                </a:solidFill>
                <a:latin typeface="Bookman Old Style"/>
              </a:rPr>
              <a:t>Secretaria Nacional de Assistência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rcRect l="8319" t="19954" r="8319" b="29698"/>
          <a:stretch/>
        </p:blipFill>
        <p:spPr>
          <a:xfrm>
            <a:off x="8269200" y="6357960"/>
            <a:ext cx="874800" cy="233280"/>
          </a:xfrm>
          <a:prstGeom prst="rect">
            <a:avLst/>
          </a:prstGeom>
          <a:ln w="0">
            <a:noFill/>
          </a:ln>
        </p:spPr>
      </p:pic>
      <p:sp>
        <p:nvSpPr>
          <p:cNvPr id="44" name="Retângulo 9"/>
          <p:cNvSpPr/>
          <p:nvPr/>
        </p:nvSpPr>
        <p:spPr>
          <a:xfrm rot="5400000">
            <a:off x="4548960" y="-4548960"/>
            <a:ext cx="46080" cy="9144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10"/>
          <p:cNvSpPr/>
          <p:nvPr/>
        </p:nvSpPr>
        <p:spPr>
          <a:xfrm rot="5400000">
            <a:off x="4548960" y="2191320"/>
            <a:ext cx="46080" cy="914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11"/>
          <p:cNvSpPr/>
          <p:nvPr/>
        </p:nvSpPr>
        <p:spPr>
          <a:xfrm rot="5400000">
            <a:off x="4548960" y="2262600"/>
            <a:ext cx="46080" cy="9144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12"/>
          <p:cNvSpPr/>
          <p:nvPr/>
        </p:nvSpPr>
        <p:spPr>
          <a:xfrm rot="5400000">
            <a:off x="4548960" y="-4482360"/>
            <a:ext cx="46080" cy="914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ds.gov.br/suas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ixaDeTexto 3"/>
          <p:cNvSpPr/>
          <p:nvPr/>
        </p:nvSpPr>
        <p:spPr>
          <a:xfrm>
            <a:off x="357120" y="1413000"/>
            <a:ext cx="828684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Garamond"/>
              </a:rPr>
              <a:t>Protocolo de Gestão Integrada de Serviços, Benefícios e Transferências de Renda no âmbito do Sistema Único de Assistência Social – S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José C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Coordenador-G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Departamento de Gestão do S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Secretaria Nacional de Assistência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Ministério do Desenvolvimento Social e Combate à F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ixaDeTexto 2"/>
          <p:cNvSpPr/>
          <p:nvPr/>
        </p:nvSpPr>
        <p:spPr>
          <a:xfrm>
            <a:off x="428760" y="357120"/>
            <a:ext cx="8358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contro Cong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onal 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ixaDeTexto 3"/>
          <p:cNvSpPr/>
          <p:nvPr/>
        </p:nvSpPr>
        <p:spPr>
          <a:xfrm>
            <a:off x="2643120" y="5643720"/>
            <a:ext cx="4071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Garamond"/>
              </a:rPr>
              <a:t>Joinville, 05 de março de 20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CaixaDeTexto 1"/>
          <p:cNvSpPr/>
          <p:nvPr/>
        </p:nvSpPr>
        <p:spPr>
          <a:xfrm>
            <a:off x="285840" y="15732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Produção e repasse sistemático de informações para Estados, DF e Municípios, como condição para a Gestão Integ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2"/>
          <p:cNvSpPr/>
          <p:nvPr/>
        </p:nvSpPr>
        <p:spPr>
          <a:xfrm>
            <a:off x="3857760" y="1071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53735"/>
                </a:solidFill>
                <a:latin typeface="Arial"/>
              </a:rPr>
              <a:t>M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ixaDeTexto 3"/>
          <p:cNvSpPr/>
          <p:nvPr/>
        </p:nvSpPr>
        <p:spPr>
          <a:xfrm>
            <a:off x="4500720" y="1428840"/>
            <a:ext cx="40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Repasse das informaçõ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Cadastro Ú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Sistema de Condicion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Cadastro B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ixaDeTexto 4"/>
          <p:cNvSpPr/>
          <p:nvPr/>
        </p:nvSpPr>
        <p:spPr>
          <a:xfrm>
            <a:off x="1500120" y="32860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3735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5"/>
          <p:cNvSpPr/>
          <p:nvPr/>
        </p:nvSpPr>
        <p:spPr>
          <a:xfrm>
            <a:off x="5786280" y="30718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3735"/>
                </a:solidFill>
                <a:latin typeface="Arial"/>
              </a:rPr>
              <a:t>Municí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6"/>
          <p:cNvSpPr/>
          <p:nvPr/>
        </p:nvSpPr>
        <p:spPr>
          <a:xfrm>
            <a:off x="214200" y="3714840"/>
            <a:ext cx="371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Análise de informações para apoio à municípios na territorialização das vulnerabilidades e no processo de acompanhamento familiar, bem como para a definição dos serviços region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7"/>
          <p:cNvSpPr/>
          <p:nvPr/>
        </p:nvSpPr>
        <p:spPr>
          <a:xfrm>
            <a:off x="5357880" y="3605040"/>
            <a:ext cx="292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Territorializa a informação e elabora estratégias de acompanhamento  familiar no S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ixaDeTexto 8"/>
          <p:cNvSpPr/>
          <p:nvPr/>
        </p:nvSpPr>
        <p:spPr>
          <a:xfrm>
            <a:off x="5143680" y="536256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AS ou Equipe P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8"/>
          <p:cNvSpPr/>
          <p:nvPr/>
        </p:nvSpPr>
        <p:spPr>
          <a:xfrm>
            <a:off x="6786720" y="530064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AS ou Equipe 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have esquerda 10"/>
          <p:cNvSpPr/>
          <p:nvPr/>
        </p:nvSpPr>
        <p:spPr>
          <a:xfrm rot="5400000">
            <a:off x="4179240" y="464040"/>
            <a:ext cx="357120" cy="485784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4857840"/>
              <a:gd name="textAreaBottom" fmla="*/ 4848840 h 485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have esquerda 13"/>
          <p:cNvSpPr/>
          <p:nvPr/>
        </p:nvSpPr>
        <p:spPr>
          <a:xfrm rot="5400000">
            <a:off x="6572160" y="4214880"/>
            <a:ext cx="357120" cy="164304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643040"/>
              <a:gd name="textAreaBottom" fmla="*/ 163404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1"/>
                </a:cubicBezTo>
                <a:lnTo>
                  <a:pt x="10800" y="10409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1"/>
                </a:cubicBezTo>
                <a:lnTo>
                  <a:pt x="10800" y="21209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Conector de seta reta 15"/>
          <p:cNvCxnSpPr/>
          <p:nvPr/>
        </p:nvCxnSpPr>
        <p:spPr>
          <a:xfrm>
            <a:off x="3000240" y="3499920"/>
            <a:ext cx="2501280" cy="252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aixaDeTexto 2"/>
          <p:cNvSpPr/>
          <p:nvPr/>
        </p:nvSpPr>
        <p:spPr>
          <a:xfrm>
            <a:off x="285840" y="4857840"/>
            <a:ext cx="285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Famílias Beneficiárias do Bolsa Família e Famílias com Beneficiários do B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ixaDeTexto 4"/>
          <p:cNvSpPr/>
          <p:nvPr/>
        </p:nvSpPr>
        <p:spPr>
          <a:xfrm>
            <a:off x="571680" y="357192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PAIF - C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ixaDeTexto 5"/>
          <p:cNvSpPr/>
          <p:nvPr/>
        </p:nvSpPr>
        <p:spPr>
          <a:xfrm>
            <a:off x="5929200" y="178596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Equipe Técnica da 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ixaDeTexto 6"/>
          <p:cNvSpPr/>
          <p:nvPr/>
        </p:nvSpPr>
        <p:spPr>
          <a:xfrm>
            <a:off x="5786280" y="357192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Equipe Técnica da P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7"/>
          <p:cNvSpPr/>
          <p:nvPr/>
        </p:nvSpPr>
        <p:spPr>
          <a:xfrm>
            <a:off x="357120" y="185724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ixaDeTexto 8"/>
          <p:cNvSpPr/>
          <p:nvPr/>
        </p:nvSpPr>
        <p:spPr>
          <a:xfrm>
            <a:off x="5929200" y="4572000"/>
            <a:ext cx="2857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Famílias Beneficiárias do Bolsa Família e Famílias com Beneficiários do B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ixaDeTexto 9"/>
          <p:cNvSpPr/>
          <p:nvPr/>
        </p:nvSpPr>
        <p:spPr>
          <a:xfrm>
            <a:off x="3929040" y="371484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B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ixaDeTexto 10"/>
          <p:cNvSpPr/>
          <p:nvPr/>
        </p:nvSpPr>
        <p:spPr>
          <a:xfrm>
            <a:off x="3500280" y="314316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Bolsa Famí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Conector de seta reta 12"/>
          <p:cNvCxnSpPr/>
          <p:nvPr/>
        </p:nvCxnSpPr>
        <p:spPr>
          <a:xfrm flipV="1">
            <a:off x="1641960" y="407160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Conector de seta reta 13"/>
          <p:cNvCxnSpPr/>
          <p:nvPr/>
        </p:nvCxnSpPr>
        <p:spPr>
          <a:xfrm flipV="1">
            <a:off x="713160" y="2356920"/>
            <a:ext cx="2520" cy="221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Conector de seta reta 15"/>
          <p:cNvCxnSpPr/>
          <p:nvPr/>
        </p:nvCxnSpPr>
        <p:spPr>
          <a:xfrm flipV="1">
            <a:off x="1568880" y="2316960"/>
            <a:ext cx="25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Conector de seta reta 17"/>
          <p:cNvCxnSpPr/>
          <p:nvPr/>
        </p:nvCxnSpPr>
        <p:spPr>
          <a:xfrm flipH="1" flipV="1">
            <a:off x="7286040" y="4071600"/>
            <a:ext cx="1080" cy="28656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34" name="Conector de seta reta 18"/>
          <p:cNvCxnSpPr/>
          <p:nvPr/>
        </p:nvCxnSpPr>
        <p:spPr>
          <a:xfrm flipV="1">
            <a:off x="7286760" y="2285280"/>
            <a:ext cx="2160" cy="1143720"/>
          </a:xfrm>
          <a:prstGeom prst="straightConnector1">
            <a:avLst/>
          </a:prstGeom>
          <a:ln w="93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Conector de seta reta 19"/>
          <p:cNvCxnSpPr/>
          <p:nvPr/>
        </p:nvCxnSpPr>
        <p:spPr>
          <a:xfrm flipV="1">
            <a:off x="8501040" y="2428560"/>
            <a:ext cx="2160" cy="200088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36" name="Conector de seta reta 21"/>
          <p:cNvCxnSpPr/>
          <p:nvPr/>
        </p:nvCxnSpPr>
        <p:spPr>
          <a:xfrm flipV="1">
            <a:off x="2428920" y="3428640"/>
            <a:ext cx="929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Conector de seta reta 24"/>
          <p:cNvCxnSpPr/>
          <p:nvPr/>
        </p:nvCxnSpPr>
        <p:spPr>
          <a:xfrm>
            <a:off x="2428920" y="3785760"/>
            <a:ext cx="135792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8" name="Conector de seta reta 27"/>
          <p:cNvCxnSpPr/>
          <p:nvPr/>
        </p:nvCxnSpPr>
        <p:spPr>
          <a:xfrm flipV="1">
            <a:off x="2499840" y="1856880"/>
            <a:ext cx="36442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Conector de seta reta 31"/>
          <p:cNvCxnSpPr/>
          <p:nvPr/>
        </p:nvCxnSpPr>
        <p:spPr>
          <a:xfrm flipH="1">
            <a:off x="4714560" y="3713760"/>
            <a:ext cx="1357920" cy="14364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40" name="Conector de seta reta 32"/>
          <p:cNvCxnSpPr/>
          <p:nvPr/>
        </p:nvCxnSpPr>
        <p:spPr>
          <a:xfrm flipH="1" flipV="1">
            <a:off x="5214240" y="3342600"/>
            <a:ext cx="857880" cy="30060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41" name="Fluxograma: Entrada manual 37"/>
          <p:cNvSpPr/>
          <p:nvPr/>
        </p:nvSpPr>
        <p:spPr>
          <a:xfrm>
            <a:off x="857160" y="3429000"/>
            <a:ext cx="1500120" cy="571680"/>
          </a:xfrm>
          <a:prstGeom prst="flowChartManualInput">
            <a:avLst/>
          </a:prstGeom>
          <a:noFill/>
          <a:ln w="2844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uxograma: Entrada manual 38"/>
          <p:cNvSpPr/>
          <p:nvPr/>
        </p:nvSpPr>
        <p:spPr>
          <a:xfrm>
            <a:off x="857160" y="1714680"/>
            <a:ext cx="1500120" cy="571320"/>
          </a:xfrm>
          <a:prstGeom prst="flowChartManualInput">
            <a:avLst/>
          </a:prstGeom>
          <a:noFill/>
          <a:ln w="2844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luxograma: Entrada manual 39"/>
          <p:cNvSpPr/>
          <p:nvPr/>
        </p:nvSpPr>
        <p:spPr>
          <a:xfrm>
            <a:off x="6286680" y="1643040"/>
            <a:ext cx="2357280" cy="571680"/>
          </a:xfrm>
          <a:prstGeom prst="flowChartManualInput">
            <a:avLst/>
          </a:prstGeom>
          <a:noFill/>
          <a:ln w="28440">
            <a:solidFill>
              <a:srgbClr val="c05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luxograma: Entrada manual 40"/>
          <p:cNvSpPr/>
          <p:nvPr/>
        </p:nvSpPr>
        <p:spPr>
          <a:xfrm>
            <a:off x="6143760" y="3429000"/>
            <a:ext cx="2286000" cy="571680"/>
          </a:xfrm>
          <a:prstGeom prst="flowChartManualInput">
            <a:avLst/>
          </a:prstGeom>
          <a:noFill/>
          <a:ln w="28440">
            <a:solidFill>
              <a:srgbClr val="c05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Conector de seta reta 41"/>
          <p:cNvCxnSpPr/>
          <p:nvPr/>
        </p:nvCxnSpPr>
        <p:spPr>
          <a:xfrm flipH="1" flipV="1">
            <a:off x="2571120" y="1928160"/>
            <a:ext cx="3501000" cy="1515240"/>
          </a:xfrm>
          <a:prstGeom prst="straightConnector1">
            <a:avLst/>
          </a:prstGeom>
          <a:ln w="93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CaixaDeTexto 45"/>
          <p:cNvSpPr/>
          <p:nvPr/>
        </p:nvSpPr>
        <p:spPr>
          <a:xfrm>
            <a:off x="214200" y="21420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Definição de atribuições e fluxo entre a Proteção Social Básica e Proteção Social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46"/>
          <p:cNvSpPr/>
          <p:nvPr/>
        </p:nvSpPr>
        <p:spPr>
          <a:xfrm>
            <a:off x="3071880" y="11430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Garamond"/>
              </a:rPr>
              <a:t>MUNICÍPIOS E 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ipse 33"/>
          <p:cNvSpPr/>
          <p:nvPr/>
        </p:nvSpPr>
        <p:spPr>
          <a:xfrm>
            <a:off x="0" y="4500720"/>
            <a:ext cx="3571920" cy="2143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ixaDeTexto 34"/>
          <p:cNvSpPr/>
          <p:nvPr/>
        </p:nvSpPr>
        <p:spPr>
          <a:xfrm>
            <a:off x="571680" y="5857920"/>
            <a:ext cx="257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76092"/>
                </a:solidFill>
                <a:latin typeface="Comic Sans MS"/>
              </a:rPr>
              <a:t>Vulnerabilidades e potencialidades soci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ipse 42"/>
          <p:cNvSpPr/>
          <p:nvPr/>
        </p:nvSpPr>
        <p:spPr>
          <a:xfrm>
            <a:off x="5572080" y="4429080"/>
            <a:ext cx="3571920" cy="1643040"/>
          </a:xfrm>
          <a:prstGeom prst="ellipse">
            <a:avLst/>
          </a:prstGeom>
          <a:noFill/>
          <a:ln w="25560">
            <a:solidFill>
              <a:srgbClr val="c152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ixaDeTexto 45"/>
          <p:cNvSpPr/>
          <p:nvPr/>
        </p:nvSpPr>
        <p:spPr>
          <a:xfrm>
            <a:off x="6072120" y="557208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1524f"/>
                </a:solidFill>
                <a:latin typeface="Comic Sans MS"/>
              </a:rPr>
              <a:t>Riscos soci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ixaDeTexto 3"/>
          <p:cNvSpPr/>
          <p:nvPr/>
        </p:nvSpPr>
        <p:spPr>
          <a:xfrm>
            <a:off x="214200" y="357120"/>
            <a:ext cx="8643960" cy="59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Elaboração de uma estratégia de acompanhamento familiar para situações de maior risco social em municípios sem a presença de CRAS e ou C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Onde há CRAS e CREAS: “o acompanhamento das famílias será realizado por meio dos serviços ofertados pelo (CRAS) e pelo CREAS (local ou regional), nos territórios que possuem estas unidad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Onde não há essas unidades: “o acompanhamento das famílias residentes em territórios sem cobertura de CRAS e CREAS, até sua implementação, será realizado por meio da definição de equipes técnicas de referência da PSB e da PSE, que elaborarão estratégias condizentes com as previstas nesta Resolução para a implementação da Gestão Integrada, sob a coordenação do órgão gestor da política de assistência soci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CaixaDeTexto 1"/>
          <p:cNvSpPr/>
          <p:nvPr/>
        </p:nvSpPr>
        <p:spPr>
          <a:xfrm>
            <a:off x="214200" y="42876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Definição de um processo de monitoramento da Gestão Integ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ixaDeTexto 2"/>
          <p:cNvSpPr/>
          <p:nvPr/>
        </p:nvSpPr>
        <p:spPr>
          <a:xfrm>
            <a:off x="3857760" y="12859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Arial"/>
              </a:rPr>
              <a:t>M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ixaDeTexto 3"/>
          <p:cNvSpPr/>
          <p:nvPr/>
        </p:nvSpPr>
        <p:spPr>
          <a:xfrm>
            <a:off x="1071720" y="36432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3735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ixaDeTexto 4"/>
          <p:cNvSpPr/>
          <p:nvPr/>
        </p:nvSpPr>
        <p:spPr>
          <a:xfrm>
            <a:off x="6143760" y="36100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3735"/>
                </a:solidFill>
                <a:latin typeface="Arial"/>
              </a:rPr>
              <a:t>Municí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5"/>
          <p:cNvSpPr/>
          <p:nvPr/>
        </p:nvSpPr>
        <p:spPr>
          <a:xfrm>
            <a:off x="3286080" y="4935600"/>
            <a:ext cx="242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3735"/>
                </a:solidFill>
                <a:latin typeface="Arial"/>
              </a:rPr>
              <a:t>CRAS/CREAS ou equipes PSB/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ixaDeTexto 6"/>
          <p:cNvSpPr/>
          <p:nvPr/>
        </p:nvSpPr>
        <p:spPr>
          <a:xfrm>
            <a:off x="3071880" y="1714680"/>
            <a:ext cx="32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Produção de indicadores e aperfeiçoamento do fluxo de informação e da gestão integ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Conector de seta reta 8"/>
          <p:cNvCxnSpPr/>
          <p:nvPr/>
        </p:nvCxnSpPr>
        <p:spPr>
          <a:xfrm flipV="1">
            <a:off x="4642920" y="4000320"/>
            <a:ext cx="1644120" cy="71496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60" name="Conector de seta reta 10"/>
          <p:cNvCxnSpPr/>
          <p:nvPr/>
        </p:nvCxnSpPr>
        <p:spPr>
          <a:xfrm flipH="1" flipV="1">
            <a:off x="6286320" y="2714400"/>
            <a:ext cx="786240" cy="78624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61" name="Conector de seta reta 17"/>
          <p:cNvCxnSpPr/>
          <p:nvPr/>
        </p:nvCxnSpPr>
        <p:spPr>
          <a:xfrm flipH="1">
            <a:off x="4498200" y="3000240"/>
            <a:ext cx="2520" cy="150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2" name="Conector de seta reta 22"/>
          <p:cNvCxnSpPr/>
          <p:nvPr/>
        </p:nvCxnSpPr>
        <p:spPr>
          <a:xfrm flipH="1">
            <a:off x="1713960" y="2214360"/>
            <a:ext cx="1286280" cy="12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3" name="Conector de seta reta 26"/>
          <p:cNvCxnSpPr/>
          <p:nvPr/>
        </p:nvCxnSpPr>
        <p:spPr>
          <a:xfrm>
            <a:off x="6500880" y="2571840"/>
            <a:ext cx="71496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4" name="Conector de seta reta 29"/>
          <p:cNvCxnSpPr/>
          <p:nvPr/>
        </p:nvCxnSpPr>
        <p:spPr>
          <a:xfrm flipH="1" flipV="1">
            <a:off x="2571120" y="3855240"/>
            <a:ext cx="3786840" cy="2520"/>
          </a:xfrm>
          <a:prstGeom prst="straightConnector1">
            <a:avLst/>
          </a:prstGeom>
          <a:ln w="9360">
            <a:solidFill>
              <a:srgbClr val="95373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5" name="Conector de seta reta 33"/>
          <p:cNvCxnSpPr/>
          <p:nvPr/>
        </p:nvCxnSpPr>
        <p:spPr>
          <a:xfrm flipV="1">
            <a:off x="1999080" y="2428200"/>
            <a:ext cx="1143720" cy="114372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66" name="Conector de seta reta 36"/>
          <p:cNvCxnSpPr/>
          <p:nvPr/>
        </p:nvCxnSpPr>
        <p:spPr>
          <a:xfrm flipH="1" flipV="1">
            <a:off x="2571480" y="4000320"/>
            <a:ext cx="1715040" cy="71496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ixaDeTexto 1"/>
          <p:cNvSpPr/>
          <p:nvPr/>
        </p:nvSpPr>
        <p:spPr>
          <a:xfrm>
            <a:off x="0" y="28584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Organização do Protoco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ixaDeTexto 4"/>
          <p:cNvSpPr/>
          <p:nvPr/>
        </p:nvSpPr>
        <p:spPr>
          <a:xfrm>
            <a:off x="142920" y="841320"/>
            <a:ext cx="878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Responsabilidades dos Entes Federados e dos Conselhos de Assistência Social na Implementação da Gestão Integrada de Serviços, Benefícios e Transferências de R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6"/>
          <p:cNvSpPr/>
          <p:nvPr/>
        </p:nvSpPr>
        <p:spPr>
          <a:xfrm>
            <a:off x="214200" y="1797120"/>
            <a:ext cx="4214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Do Processo de Operacionalização da Gestão Integrada de Serviços, Benefícios e Transferências de Renda no âmbito do S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ixaDeTexto 7"/>
          <p:cNvSpPr/>
          <p:nvPr/>
        </p:nvSpPr>
        <p:spPr>
          <a:xfrm>
            <a:off x="214200" y="3270240"/>
            <a:ext cx="45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Dos Procedimentos Referentes ao Acompanhamento das Famíl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ixaDeTexto 8"/>
          <p:cNvSpPr/>
          <p:nvPr/>
        </p:nvSpPr>
        <p:spPr>
          <a:xfrm>
            <a:off x="285840" y="4205160"/>
            <a:ext cx="3786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Do Monitoramento da Gestão Integrada de Serviços, Benefícios e Transferências de Renda no Âmbito do Sistema Único de Assistências (SU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ixaDeTexto 10"/>
          <p:cNvSpPr/>
          <p:nvPr/>
        </p:nvSpPr>
        <p:spPr>
          <a:xfrm>
            <a:off x="6000840" y="2071800"/>
            <a:ext cx="264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Programa Bolsa Família e Programa de Erradicação do Trabalho Infa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11"/>
          <p:cNvSpPr/>
          <p:nvPr/>
        </p:nvSpPr>
        <p:spPr>
          <a:xfrm>
            <a:off x="5857920" y="3992400"/>
            <a:ext cx="278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Benefício de Prestação Continuada da Assistência Social e Benefícios Event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ipse 12"/>
          <p:cNvSpPr/>
          <p:nvPr/>
        </p:nvSpPr>
        <p:spPr>
          <a:xfrm>
            <a:off x="5786280" y="1714680"/>
            <a:ext cx="3000600" cy="1857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ipse 13"/>
          <p:cNvSpPr/>
          <p:nvPr/>
        </p:nvSpPr>
        <p:spPr>
          <a:xfrm>
            <a:off x="5572080" y="3714840"/>
            <a:ext cx="3000600" cy="1857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Conector de seta reta 15"/>
          <p:cNvCxnSpPr/>
          <p:nvPr/>
        </p:nvCxnSpPr>
        <p:spPr>
          <a:xfrm>
            <a:off x="4285800" y="2286000"/>
            <a:ext cx="1358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Conector de seta reta 16"/>
          <p:cNvCxnSpPr/>
          <p:nvPr/>
        </p:nvCxnSpPr>
        <p:spPr>
          <a:xfrm>
            <a:off x="4286160" y="2286000"/>
            <a:ext cx="164376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8" name="Conector de seta reta 19"/>
          <p:cNvCxnSpPr/>
          <p:nvPr/>
        </p:nvCxnSpPr>
        <p:spPr>
          <a:xfrm flipV="1">
            <a:off x="3928680" y="3142800"/>
            <a:ext cx="17866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9" name="Conector de seta reta 21"/>
          <p:cNvCxnSpPr/>
          <p:nvPr/>
        </p:nvCxnSpPr>
        <p:spPr>
          <a:xfrm>
            <a:off x="3928680" y="3714840"/>
            <a:ext cx="178668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0" name="Conector de seta reta 23"/>
          <p:cNvCxnSpPr/>
          <p:nvPr/>
        </p:nvCxnSpPr>
        <p:spPr>
          <a:xfrm flipV="1">
            <a:off x="3929040" y="3499560"/>
            <a:ext cx="2000880" cy="135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1" name="Conector de seta reta 25"/>
          <p:cNvCxnSpPr/>
          <p:nvPr/>
        </p:nvCxnSpPr>
        <p:spPr>
          <a:xfrm>
            <a:off x="4000680" y="4857840"/>
            <a:ext cx="14292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0"/>
          <p:cNvSpPr/>
          <p:nvPr/>
        </p:nvSpPr>
        <p:spPr>
          <a:xfrm>
            <a:off x="2652840" y="2684520"/>
            <a:ext cx="1089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5241960" y="4172040"/>
            <a:ext cx="1023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ixaDeTexto 1"/>
          <p:cNvSpPr/>
          <p:nvPr/>
        </p:nvSpPr>
        <p:spPr>
          <a:xfrm>
            <a:off x="6786720" y="421488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Garamond"/>
              </a:rPr>
              <a:t>Programa de Erradicação do Trabalho Infantil - P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2"/>
          <p:cNvSpPr/>
          <p:nvPr/>
        </p:nvSpPr>
        <p:spPr>
          <a:xfrm>
            <a:off x="214200" y="242892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Garamond"/>
              </a:rPr>
              <a:t>Programa Bolsa Famí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ixaDeTexto 3"/>
          <p:cNvSpPr/>
          <p:nvPr/>
        </p:nvSpPr>
        <p:spPr>
          <a:xfrm>
            <a:off x="6929280" y="228600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Garamond"/>
              </a:rPr>
              <a:t>Atenção Integral à Família - PA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ixaDeTexto 4"/>
          <p:cNvSpPr/>
          <p:nvPr/>
        </p:nvSpPr>
        <p:spPr>
          <a:xfrm>
            <a:off x="0" y="350028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Garamond"/>
              </a:rPr>
              <a:t>Benefício de Prestação Continuada -B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ixaDeTexto 5"/>
          <p:cNvSpPr/>
          <p:nvPr/>
        </p:nvSpPr>
        <p:spPr>
          <a:xfrm>
            <a:off x="7286760" y="55008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Garamond"/>
              </a:rPr>
              <a:t>Projovem Adoles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6"/>
          <p:cNvSpPr/>
          <p:nvPr/>
        </p:nvSpPr>
        <p:spPr>
          <a:xfrm>
            <a:off x="6786720" y="300024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Garamond"/>
              </a:rPr>
              <a:t>Atendimento Especializado às Famílias em Situação de Violê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ixaDeTexto 103"/>
          <p:cNvSpPr/>
          <p:nvPr/>
        </p:nvSpPr>
        <p:spPr>
          <a:xfrm>
            <a:off x="0" y="48578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Garamond"/>
              </a:rPr>
              <a:t>Benefício even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ixaDeTexto 88"/>
          <p:cNvSpPr/>
          <p:nvPr/>
        </p:nvSpPr>
        <p:spPr>
          <a:xfrm>
            <a:off x="285840" y="35712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Garamond"/>
              </a:rPr>
              <a:t>Protocolo de Gestão Integrada: </a:t>
            </a: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a centralidade não é a transferência de renda, benefício assistencial ou serviço socioassistencial. É a consolidação de uma rede de proteção socioassistencial para as famílias nos territó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ector reto 90"/>
          <p:cNvSpPr/>
          <p:nvPr/>
        </p:nvSpPr>
        <p:spPr>
          <a:xfrm flipV="1">
            <a:off x="1143000" y="2785680"/>
            <a:ext cx="592920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onector reto 92"/>
          <p:cNvSpPr/>
          <p:nvPr/>
        </p:nvSpPr>
        <p:spPr>
          <a:xfrm>
            <a:off x="1143000" y="2857680"/>
            <a:ext cx="5643720" cy="742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onector reto 94"/>
          <p:cNvSpPr/>
          <p:nvPr/>
        </p:nvSpPr>
        <p:spPr>
          <a:xfrm>
            <a:off x="1143000" y="2857680"/>
            <a:ext cx="5786280" cy="1785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ector reto 96"/>
          <p:cNvSpPr/>
          <p:nvPr/>
        </p:nvSpPr>
        <p:spPr>
          <a:xfrm>
            <a:off x="1143000" y="2857680"/>
            <a:ext cx="6143760" cy="2966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onector reto 98"/>
          <p:cNvSpPr/>
          <p:nvPr/>
        </p:nvSpPr>
        <p:spPr>
          <a:xfrm flipV="1">
            <a:off x="1357200" y="2571480"/>
            <a:ext cx="5500800" cy="1500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ector reto 100"/>
          <p:cNvSpPr/>
          <p:nvPr/>
        </p:nvSpPr>
        <p:spPr>
          <a:xfrm flipV="1">
            <a:off x="1357200" y="3285720"/>
            <a:ext cx="5643720" cy="78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onector reto 102"/>
          <p:cNvSpPr/>
          <p:nvPr/>
        </p:nvSpPr>
        <p:spPr>
          <a:xfrm>
            <a:off x="1357200" y="4071960"/>
            <a:ext cx="578664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ector reto 104"/>
          <p:cNvSpPr/>
          <p:nvPr/>
        </p:nvSpPr>
        <p:spPr>
          <a:xfrm>
            <a:off x="1357200" y="4071960"/>
            <a:ext cx="5929560" cy="1571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ector reto 106"/>
          <p:cNvSpPr/>
          <p:nvPr/>
        </p:nvSpPr>
        <p:spPr>
          <a:xfrm flipV="1">
            <a:off x="1357200" y="2714400"/>
            <a:ext cx="5643720" cy="242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ector reto 108"/>
          <p:cNvSpPr/>
          <p:nvPr/>
        </p:nvSpPr>
        <p:spPr>
          <a:xfrm flipV="1">
            <a:off x="1357200" y="3428640"/>
            <a:ext cx="5500800" cy="1714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ector reto 110"/>
          <p:cNvSpPr/>
          <p:nvPr/>
        </p:nvSpPr>
        <p:spPr>
          <a:xfrm flipV="1">
            <a:off x="1357200" y="4500720"/>
            <a:ext cx="5572080" cy="71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ector reto 112"/>
          <p:cNvSpPr/>
          <p:nvPr/>
        </p:nvSpPr>
        <p:spPr>
          <a:xfrm>
            <a:off x="1357200" y="5214960"/>
            <a:ext cx="592956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ector reto 121"/>
          <p:cNvSpPr/>
          <p:nvPr/>
        </p:nvSpPr>
        <p:spPr>
          <a:xfrm flipH="1">
            <a:off x="1285920" y="2642400"/>
            <a:ext cx="5572080" cy="500040"/>
          </a:xfrm>
          <a:prstGeom prst="line">
            <a:avLst/>
          </a:prstGeom>
          <a:ln w="9360">
            <a:solidFill>
              <a:srgbClr val="c152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ector reto 123"/>
          <p:cNvSpPr/>
          <p:nvPr/>
        </p:nvSpPr>
        <p:spPr>
          <a:xfrm flipH="1">
            <a:off x="1428480" y="2643120"/>
            <a:ext cx="5357880" cy="12146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onector reto 125"/>
          <p:cNvSpPr/>
          <p:nvPr/>
        </p:nvSpPr>
        <p:spPr>
          <a:xfrm flipH="1">
            <a:off x="1357200" y="2642400"/>
            <a:ext cx="5429520" cy="27147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ector reto 127"/>
          <p:cNvSpPr/>
          <p:nvPr/>
        </p:nvSpPr>
        <p:spPr>
          <a:xfrm flipH="1" flipV="1">
            <a:off x="1428840" y="2714400"/>
            <a:ext cx="5286240" cy="8571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ector reto 129"/>
          <p:cNvSpPr/>
          <p:nvPr/>
        </p:nvSpPr>
        <p:spPr>
          <a:xfrm flipH="1">
            <a:off x="1356840" y="3571200"/>
            <a:ext cx="5357880" cy="7858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to 131"/>
          <p:cNvSpPr/>
          <p:nvPr/>
        </p:nvSpPr>
        <p:spPr>
          <a:xfrm flipH="1">
            <a:off x="1571400" y="3571200"/>
            <a:ext cx="5143320" cy="17859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to 133"/>
          <p:cNvSpPr/>
          <p:nvPr/>
        </p:nvSpPr>
        <p:spPr>
          <a:xfrm flipH="1" flipV="1">
            <a:off x="1571760" y="2571480"/>
            <a:ext cx="5357520" cy="22143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ector reto 135"/>
          <p:cNvSpPr/>
          <p:nvPr/>
        </p:nvSpPr>
        <p:spPr>
          <a:xfrm flipH="1" flipV="1">
            <a:off x="1500120" y="3928680"/>
            <a:ext cx="5500800" cy="8571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to 137"/>
          <p:cNvSpPr/>
          <p:nvPr/>
        </p:nvSpPr>
        <p:spPr>
          <a:xfrm flipH="1">
            <a:off x="1428840" y="4786200"/>
            <a:ext cx="5572080" cy="6429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onector reto 139"/>
          <p:cNvSpPr/>
          <p:nvPr/>
        </p:nvSpPr>
        <p:spPr>
          <a:xfrm flipH="1" flipV="1">
            <a:off x="1499760" y="2642760"/>
            <a:ext cx="5643720" cy="30718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ector reto 141"/>
          <p:cNvSpPr/>
          <p:nvPr/>
        </p:nvSpPr>
        <p:spPr>
          <a:xfrm flipH="1" flipV="1">
            <a:off x="1357200" y="3928680"/>
            <a:ext cx="5786640" cy="17859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ector reto 143"/>
          <p:cNvSpPr/>
          <p:nvPr/>
        </p:nvSpPr>
        <p:spPr>
          <a:xfrm flipH="1" flipV="1">
            <a:off x="1357200" y="5000760"/>
            <a:ext cx="5786640" cy="7142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030"/>
          <p:cNvSpPr/>
          <p:nvPr/>
        </p:nvSpPr>
        <p:spPr>
          <a:xfrm rot="585000">
            <a:off x="3666600" y="1450440"/>
            <a:ext cx="285840" cy="3128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upo 410"/>
          <p:cNvGrpSpPr/>
          <p:nvPr/>
        </p:nvGrpSpPr>
        <p:grpSpPr>
          <a:xfrm>
            <a:off x="2187720" y="1643040"/>
            <a:ext cx="3787200" cy="1186920"/>
            <a:chOff x="2187720" y="1643040"/>
            <a:chExt cx="3787200" cy="1186920"/>
          </a:xfrm>
        </p:grpSpPr>
        <p:grpSp>
          <p:nvGrpSpPr>
            <p:cNvPr id="218" name="Group 91"/>
            <p:cNvGrpSpPr/>
            <p:nvPr/>
          </p:nvGrpSpPr>
          <p:grpSpPr>
            <a:xfrm>
              <a:off x="2187720" y="1739520"/>
              <a:ext cx="717480" cy="1087200"/>
              <a:chOff x="2187720" y="1739520"/>
              <a:chExt cx="717480" cy="1087200"/>
            </a:xfrm>
          </p:grpSpPr>
          <p:grpSp>
            <p:nvGrpSpPr>
              <p:cNvPr id="219" name="Group 92"/>
              <p:cNvGrpSpPr/>
              <p:nvPr/>
            </p:nvGrpSpPr>
            <p:grpSpPr>
              <a:xfrm>
                <a:off x="2187720" y="1752120"/>
                <a:ext cx="369360" cy="1073880"/>
                <a:chOff x="2187720" y="1752120"/>
                <a:chExt cx="369360" cy="1073880"/>
              </a:xfrm>
            </p:grpSpPr>
            <p:grpSp>
              <p:nvGrpSpPr>
                <p:cNvPr id="220" name="Group 93"/>
                <p:cNvGrpSpPr/>
                <p:nvPr/>
              </p:nvGrpSpPr>
              <p:grpSpPr>
                <a:xfrm>
                  <a:off x="2187720" y="2022480"/>
                  <a:ext cx="369360" cy="642240"/>
                  <a:chOff x="2187720" y="2022480"/>
                  <a:chExt cx="369360" cy="642240"/>
                </a:xfrm>
              </p:grpSpPr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187720" y="2022480"/>
                    <a:ext cx="369360" cy="642240"/>
                    <a:chOff x="2187720" y="2022480"/>
                    <a:chExt cx="369360" cy="642240"/>
                  </a:xfrm>
                </p:grpSpPr>
                <p:grpSp>
                  <p:nvGrpSpPr>
                    <p:cNvPr id="222" name="Group 95"/>
                    <p:cNvGrpSpPr/>
                    <p:nvPr/>
                  </p:nvGrpSpPr>
                  <p:grpSpPr>
                    <a:xfrm>
                      <a:off x="2187720" y="2029680"/>
                      <a:ext cx="369360" cy="635040"/>
                      <a:chOff x="2187720" y="2029680"/>
                      <a:chExt cx="369360" cy="635040"/>
                    </a:xfrm>
                  </p:grpSpPr>
                  <p:grpSp>
                    <p:nvGrpSpPr>
                      <p:cNvPr id="223" name="Group 96"/>
                      <p:cNvGrpSpPr/>
                      <p:nvPr/>
                    </p:nvGrpSpPr>
                    <p:grpSpPr>
                      <a:xfrm>
                        <a:off x="2205000" y="2034000"/>
                        <a:ext cx="347400" cy="471240"/>
                        <a:chOff x="2205000" y="2034000"/>
                        <a:chExt cx="347400" cy="471240"/>
                      </a:xfrm>
                    </p:grpSpPr>
                    <p:sp>
                      <p:nvSpPr>
                        <p:cNvPr id="224" name="Rectangle 97"/>
                        <p:cNvSpPr/>
                        <p:nvPr/>
                      </p:nvSpPr>
                      <p:spPr>
                        <a:xfrm>
                          <a:off x="2222280" y="2053080"/>
                          <a:ext cx="302760" cy="433440"/>
                        </a:xfrm>
                        <a:prstGeom prst="rect">
                          <a:avLst/>
                        </a:prstGeom>
                        <a:solidFill>
                          <a:srgbClr val="ffff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AutoShape 98"/>
                        <p:cNvSpPr/>
                        <p:nvPr/>
                      </p:nvSpPr>
                      <p:spPr>
                        <a:xfrm rot="2721600">
                          <a:off x="2258280" y="2061000"/>
                          <a:ext cx="129960" cy="128880"/>
                        </a:xfrm>
                        <a:custGeom>
                          <a:avLst/>
                          <a:gdLst>
                            <a:gd name="textAreaLeft" fmla="*/ 62280 w 129960"/>
                            <a:gd name="textAreaRight" fmla="*/ 67680 w 129960"/>
                            <a:gd name="textAreaTop" fmla="*/ 61920 h 128880"/>
                            <a:gd name="textAreaBottom" fmla="*/ 66960 h 128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2cddc"/>
                        </a:solidFill>
                        <a:ln w="9360">
                          <a:solidFill>
                            <a:srgbClr val="b6dde8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" name="AutoShape 99"/>
                        <p:cNvSpPr/>
                        <p:nvPr/>
                      </p:nvSpPr>
                      <p:spPr>
                        <a:xfrm rot="2721600">
                          <a:off x="2231640" y="2270520"/>
                          <a:ext cx="129960" cy="128880"/>
                        </a:xfrm>
                        <a:custGeom>
                          <a:avLst/>
                          <a:gdLst>
                            <a:gd name="textAreaLeft" fmla="*/ 62280 w 129960"/>
                            <a:gd name="textAreaRight" fmla="*/ 67680 w 129960"/>
                            <a:gd name="textAreaTop" fmla="*/ 61920 h 128880"/>
                            <a:gd name="textAreaBottom" fmla="*/ 66960 h 128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2cddc"/>
                        </a:solidFill>
                        <a:ln w="9360">
                          <a:solidFill>
                            <a:srgbClr val="d99594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AutoShape 100"/>
                        <p:cNvSpPr/>
                        <p:nvPr/>
                      </p:nvSpPr>
                      <p:spPr>
                        <a:xfrm rot="2721600">
                          <a:off x="2395800" y="2187360"/>
                          <a:ext cx="129960" cy="128880"/>
                        </a:xfrm>
                        <a:custGeom>
                          <a:avLst/>
                          <a:gdLst>
                            <a:gd name="textAreaLeft" fmla="*/ 62280 w 129960"/>
                            <a:gd name="textAreaRight" fmla="*/ 67680 w 129960"/>
                            <a:gd name="textAreaTop" fmla="*/ 61920 h 128880"/>
                            <a:gd name="textAreaBottom" fmla="*/ 66960 h 128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00"/>
                        </a:solidFill>
                        <a:ln w="9360">
                          <a:solidFill>
                            <a:srgbClr val="ffc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AutoShape 101"/>
                        <p:cNvSpPr/>
                        <p:nvPr/>
                      </p:nvSpPr>
                      <p:spPr>
                        <a:xfrm rot="2721600">
                          <a:off x="2297520" y="2349360"/>
                          <a:ext cx="129960" cy="128880"/>
                        </a:xfrm>
                        <a:custGeom>
                          <a:avLst/>
                          <a:gdLst>
                            <a:gd name="textAreaLeft" fmla="*/ 62280 w 129960"/>
                            <a:gd name="textAreaRight" fmla="*/ 67680 w 129960"/>
                            <a:gd name="textAreaTop" fmla="*/ 61920 h 128880"/>
                            <a:gd name="textAreaBottom" fmla="*/ 66960 h 128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65f91"/>
                        </a:solidFill>
                        <a:ln w="9360">
                          <a:solidFill>
                            <a:srgbClr val="95b3d7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9" name="Group 102"/>
                      <p:cNvGrpSpPr/>
                      <p:nvPr/>
                    </p:nvGrpSpPr>
                    <p:grpSpPr>
                      <a:xfrm>
                        <a:off x="2187720" y="2029680"/>
                        <a:ext cx="369360" cy="635040"/>
                        <a:chOff x="2187720" y="2029680"/>
                        <a:chExt cx="369360" cy="635040"/>
                      </a:xfrm>
                    </p:grpSpPr>
                    <p:sp>
                      <p:nvSpPr>
                        <p:cNvPr id="230" name="Rectangle 103"/>
                        <p:cNvSpPr/>
                        <p:nvPr/>
                      </p:nvSpPr>
                      <p:spPr>
                        <a:xfrm>
                          <a:off x="2222280" y="2493720"/>
                          <a:ext cx="302760" cy="170640"/>
                        </a:xfrm>
                        <a:prstGeom prst="rect">
                          <a:avLst/>
                        </a:prstGeom>
                        <a:blipFill rotWithShape="0">
                          <a:blip r:embed="rId1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cxnSp>
                      <p:nvCxnSpPr>
                        <p:cNvPr id="231" name="AutoShape 104"/>
                        <p:cNvCxnSpPr/>
                        <p:nvPr/>
                      </p:nvCxnSpPr>
                      <p:spPr>
                        <a:xfrm>
                          <a:off x="2367720" y="2493720"/>
                          <a:ext cx="1080" cy="17136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  <p:sp>
                      <p:nvSpPr>
                        <p:cNvPr id="232" name="AutoShape 105"/>
                        <p:cNvSpPr/>
                        <p:nvPr/>
                      </p:nvSpPr>
                      <p:spPr>
                        <a:xfrm rot="2721600">
                          <a:off x="2229840" y="2056680"/>
                          <a:ext cx="129960" cy="128880"/>
                        </a:xfrm>
                        <a:custGeom>
                          <a:avLst/>
                          <a:gdLst>
                            <a:gd name="textAreaLeft" fmla="*/ 62280 w 129960"/>
                            <a:gd name="textAreaRight" fmla="*/ 67680 w 129960"/>
                            <a:gd name="textAreaTop" fmla="*/ 61920 h 128880"/>
                            <a:gd name="textAreaBottom" fmla="*/ 66960 h 128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93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AutoShape 106"/>
                        <p:cNvSpPr/>
                        <p:nvPr/>
                      </p:nvSpPr>
                      <p:spPr>
                        <a:xfrm rot="2721600">
                          <a:off x="2323440" y="2138040"/>
                          <a:ext cx="129960" cy="128880"/>
                        </a:xfrm>
                        <a:custGeom>
                          <a:avLst/>
                          <a:gdLst>
                            <a:gd name="textAreaLeft" fmla="*/ 62280 w 129960"/>
                            <a:gd name="textAreaRight" fmla="*/ 67680 w 129960"/>
                            <a:gd name="textAreaTop" fmla="*/ 61920 h 128880"/>
                            <a:gd name="textAreaBottom" fmla="*/ 66960 h 128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2cddc"/>
                        </a:solidFill>
                        <a:ln w="9360">
                          <a:solidFill>
                            <a:srgbClr val="d99594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AutoShape 107"/>
                        <p:cNvSpPr/>
                        <p:nvPr/>
                      </p:nvSpPr>
                      <p:spPr>
                        <a:xfrm rot="2721600">
                          <a:off x="2214360" y="2360160"/>
                          <a:ext cx="129960" cy="128880"/>
                        </a:xfrm>
                        <a:custGeom>
                          <a:avLst/>
                          <a:gdLst>
                            <a:gd name="textAreaLeft" fmla="*/ 62280 w 129960"/>
                            <a:gd name="textAreaRight" fmla="*/ 67680 w 129960"/>
                            <a:gd name="textAreaTop" fmla="*/ 61920 h 128880"/>
                            <a:gd name="textAreaBottom" fmla="*/ 66960 h 128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93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AutoShape 108"/>
                        <p:cNvSpPr/>
                        <p:nvPr/>
                      </p:nvSpPr>
                      <p:spPr>
                        <a:xfrm rot="2721600">
                          <a:off x="2400480" y="2360160"/>
                          <a:ext cx="129960" cy="128880"/>
                        </a:xfrm>
                        <a:custGeom>
                          <a:avLst/>
                          <a:gdLst>
                            <a:gd name="textAreaLeft" fmla="*/ 62280 w 129960"/>
                            <a:gd name="textAreaRight" fmla="*/ 67680 w 129960"/>
                            <a:gd name="textAreaTop" fmla="*/ 61920 h 128880"/>
                            <a:gd name="textAreaBottom" fmla="*/ 66960 h 128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2cddc"/>
                        </a:solidFill>
                        <a:ln w="9360">
                          <a:solidFill>
                            <a:srgbClr val="548dd4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AutoShape 109"/>
                        <p:cNvSpPr/>
                        <p:nvPr/>
                      </p:nvSpPr>
                      <p:spPr>
                        <a:xfrm rot="2721600">
                          <a:off x="2234160" y="2222640"/>
                          <a:ext cx="129960" cy="128880"/>
                        </a:xfrm>
                        <a:custGeom>
                          <a:avLst/>
                          <a:gdLst>
                            <a:gd name="textAreaLeft" fmla="*/ 62280 w 129960"/>
                            <a:gd name="textAreaRight" fmla="*/ 67680 w 129960"/>
                            <a:gd name="textAreaTop" fmla="*/ 61920 h 128880"/>
                            <a:gd name="textAreaBottom" fmla="*/ 66960 h 128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2cddc"/>
                        </a:solidFill>
                        <a:ln w="9360">
                          <a:solidFill>
                            <a:srgbClr val="b6dde8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AutoShape 110"/>
                        <p:cNvSpPr/>
                        <p:nvPr/>
                      </p:nvSpPr>
                      <p:spPr>
                        <a:xfrm rot="2721600">
                          <a:off x="2393640" y="2268000"/>
                          <a:ext cx="129960" cy="128880"/>
                        </a:xfrm>
                        <a:custGeom>
                          <a:avLst/>
                          <a:gdLst>
                            <a:gd name="textAreaLeft" fmla="*/ 62280 w 129960"/>
                            <a:gd name="textAreaRight" fmla="*/ 67680 w 129960"/>
                            <a:gd name="textAreaTop" fmla="*/ 61920 h 128880"/>
                            <a:gd name="textAreaBottom" fmla="*/ 66960 h 128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2cddc"/>
                        </a:solidFill>
                        <a:ln w="93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AutoShape 111"/>
                        <p:cNvSpPr/>
                        <p:nvPr/>
                      </p:nvSpPr>
                      <p:spPr>
                        <a:xfrm rot="2721600">
                          <a:off x="2323440" y="2268000"/>
                          <a:ext cx="129960" cy="128880"/>
                        </a:xfrm>
                        <a:custGeom>
                          <a:avLst/>
                          <a:gdLst>
                            <a:gd name="textAreaLeft" fmla="*/ 62280 w 129960"/>
                            <a:gd name="textAreaRight" fmla="*/ 67680 w 129960"/>
                            <a:gd name="textAreaTop" fmla="*/ 61920 h 128880"/>
                            <a:gd name="textAreaBottom" fmla="*/ 66960 h 128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2cddc"/>
                        </a:solidFill>
                        <a:ln w="9360">
                          <a:solidFill>
                            <a:srgbClr val="f7964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9" name="Group 112"/>
                    <p:cNvGrpSpPr/>
                    <p:nvPr/>
                  </p:nvGrpSpPr>
                  <p:grpSpPr>
                    <a:xfrm>
                      <a:off x="2336760" y="2022480"/>
                      <a:ext cx="208080" cy="403920"/>
                      <a:chOff x="2336760" y="2022480"/>
                      <a:chExt cx="208080" cy="403920"/>
                    </a:xfrm>
                  </p:grpSpPr>
                  <p:sp>
                    <p:nvSpPr>
                      <p:cNvPr id="240" name="AutoShape 113"/>
                      <p:cNvSpPr/>
                      <p:nvPr/>
                    </p:nvSpPr>
                    <p:spPr>
                      <a:xfrm rot="2721600">
                        <a:off x="2388240" y="2049480"/>
                        <a:ext cx="129960" cy="128880"/>
                      </a:xfrm>
                      <a:custGeom>
                        <a:avLst/>
                        <a:gdLst>
                          <a:gd name="textAreaLeft" fmla="*/ 62280 w 129960"/>
                          <a:gd name="textAreaRight" fmla="*/ 67680 w 129960"/>
                          <a:gd name="textAreaTop" fmla="*/ 61560 h 128880"/>
                          <a:gd name="textAreaBottom" fmla="*/ 67320 h 1288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36" y="10336"/>
                            </a:lnTo>
                            <a:lnTo>
                              <a:pt x="10800" y="0"/>
                            </a:lnTo>
                            <a:lnTo>
                              <a:pt x="11264" y="10336"/>
                            </a:lnTo>
                            <a:lnTo>
                              <a:pt x="21600" y="10800"/>
                            </a:lnTo>
                            <a:lnTo>
                              <a:pt x="11264" y="11264"/>
                            </a:lnTo>
                            <a:lnTo>
                              <a:pt x="10800" y="21600"/>
                            </a:lnTo>
                            <a:lnTo>
                              <a:pt x="10336" y="1126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92cddc"/>
                      </a:solidFill>
                      <a:ln w="9360">
                        <a:solidFill>
                          <a:srgbClr val="31849b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AutoShape 114"/>
                      <p:cNvSpPr/>
                      <p:nvPr/>
                    </p:nvSpPr>
                    <p:spPr>
                      <a:xfrm rot="2721600">
                        <a:off x="2363400" y="2270520"/>
                        <a:ext cx="129960" cy="128880"/>
                      </a:xfrm>
                      <a:custGeom>
                        <a:avLst/>
                        <a:gdLst>
                          <a:gd name="textAreaLeft" fmla="*/ 62280 w 129960"/>
                          <a:gd name="textAreaRight" fmla="*/ 67680 w 129960"/>
                          <a:gd name="textAreaTop" fmla="*/ 61920 h 128880"/>
                          <a:gd name="textAreaBottom" fmla="*/ 66960 h 1288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b050"/>
                      </a:solidFill>
                      <a:ln w="9360">
                        <a:solidFill>
                          <a:srgbClr val="00b05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2" name="Group 115"/>
                  <p:cNvGrpSpPr/>
                  <p:nvPr/>
                </p:nvGrpSpPr>
                <p:grpSpPr>
                  <a:xfrm>
                    <a:off x="2195280" y="2025720"/>
                    <a:ext cx="347760" cy="490320"/>
                    <a:chOff x="2195280" y="2025720"/>
                    <a:chExt cx="347760" cy="490320"/>
                  </a:xfrm>
                </p:grpSpPr>
                <p:sp>
                  <p:nvSpPr>
                    <p:cNvPr id="243" name="AutoShape 116"/>
                    <p:cNvSpPr/>
                    <p:nvPr/>
                  </p:nvSpPr>
                  <p:spPr>
                    <a:xfrm rot="2721600">
                      <a:off x="2221920" y="2147760"/>
                      <a:ext cx="129960" cy="128880"/>
                    </a:xfrm>
                    <a:custGeom>
                      <a:avLst/>
                      <a:gdLst>
                        <a:gd name="textAreaLeft" fmla="*/ 62280 w 129960"/>
                        <a:gd name="textAreaRight" fmla="*/ 67680 w 129960"/>
                        <a:gd name="textAreaTop" fmla="*/ 61920 h 128880"/>
                        <a:gd name="textAreaBottom" fmla="*/ 66960 h 128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10358" y="10358"/>
                          </a:lnTo>
                          <a:lnTo>
                            <a:pt x="10800" y="0"/>
                          </a:lnTo>
                          <a:lnTo>
                            <a:pt x="11242" y="10358"/>
                          </a:lnTo>
                          <a:lnTo>
                            <a:pt x="21600" y="10800"/>
                          </a:lnTo>
                          <a:lnTo>
                            <a:pt x="11242" y="11242"/>
                          </a:lnTo>
                          <a:lnTo>
                            <a:pt x="10800" y="21600"/>
                          </a:lnTo>
                          <a:lnTo>
                            <a:pt x="10358" y="11242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92cddc"/>
                    </a:solidFill>
                    <a:ln w="9360">
                      <a:solidFill>
                        <a:srgbClr val="548dd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AutoShape 117"/>
                    <p:cNvSpPr/>
                    <p:nvPr/>
                  </p:nvSpPr>
                  <p:spPr>
                    <a:xfrm rot="2721600">
                      <a:off x="2315520" y="2052720"/>
                      <a:ext cx="129960" cy="128880"/>
                    </a:xfrm>
                    <a:custGeom>
                      <a:avLst/>
                      <a:gdLst>
                        <a:gd name="textAreaLeft" fmla="*/ 62280 w 129960"/>
                        <a:gd name="textAreaRight" fmla="*/ 67680 w 129960"/>
                        <a:gd name="textAreaTop" fmla="*/ 61920 h 128880"/>
                        <a:gd name="textAreaBottom" fmla="*/ 66960 h 128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10358" y="10358"/>
                          </a:lnTo>
                          <a:lnTo>
                            <a:pt x="10800" y="0"/>
                          </a:lnTo>
                          <a:lnTo>
                            <a:pt x="11242" y="10358"/>
                          </a:lnTo>
                          <a:lnTo>
                            <a:pt x="21600" y="10800"/>
                          </a:lnTo>
                          <a:lnTo>
                            <a:pt x="11242" y="11242"/>
                          </a:lnTo>
                          <a:lnTo>
                            <a:pt x="10800" y="21600"/>
                          </a:lnTo>
                          <a:lnTo>
                            <a:pt x="10358" y="11242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92cddc"/>
                    </a:solidFill>
                    <a:ln w="9360">
                      <a:solidFill>
                        <a:srgbClr val="94363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AutoShape 118"/>
                    <p:cNvSpPr/>
                    <p:nvPr/>
                  </p:nvSpPr>
                  <p:spPr>
                    <a:xfrm rot="2721600">
                      <a:off x="2386440" y="2134080"/>
                      <a:ext cx="129960" cy="128880"/>
                    </a:xfrm>
                    <a:custGeom>
                      <a:avLst/>
                      <a:gdLst>
                        <a:gd name="textAreaLeft" fmla="*/ 62280 w 129960"/>
                        <a:gd name="textAreaRight" fmla="*/ 67680 w 129960"/>
                        <a:gd name="textAreaTop" fmla="*/ 61920 h 128880"/>
                        <a:gd name="textAreaBottom" fmla="*/ 66960 h 128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10358" y="10358"/>
                          </a:lnTo>
                          <a:lnTo>
                            <a:pt x="10800" y="0"/>
                          </a:lnTo>
                          <a:lnTo>
                            <a:pt x="11242" y="10358"/>
                          </a:lnTo>
                          <a:lnTo>
                            <a:pt x="21600" y="10800"/>
                          </a:lnTo>
                          <a:lnTo>
                            <a:pt x="11242" y="11242"/>
                          </a:lnTo>
                          <a:lnTo>
                            <a:pt x="10800" y="21600"/>
                          </a:lnTo>
                          <a:lnTo>
                            <a:pt x="10358" y="11242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92cddc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AutoShape 119"/>
                    <p:cNvSpPr/>
                    <p:nvPr/>
                  </p:nvSpPr>
                  <p:spPr>
                    <a:xfrm rot="2721600">
                      <a:off x="2319840" y="2214360"/>
                      <a:ext cx="12996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10800" y="10800"/>
                          </a:lnTo>
                          <a:lnTo>
                            <a:pt x="10800" y="0"/>
                          </a:lnTo>
                          <a:lnTo>
                            <a:pt x="10800" y="10800"/>
                          </a:lnTo>
                          <a:lnTo>
                            <a:pt x="21600" y="10800"/>
                          </a:lnTo>
                          <a:lnTo>
                            <a:pt x="10800" y="10800"/>
                          </a:lnTo>
                          <a:lnTo>
                            <a:pt x="10800" y="21600"/>
                          </a:lnTo>
                          <a:lnTo>
                            <a:pt x="10800" y="10800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92cddc"/>
                    </a:solidFill>
                    <a:ln w="9360">
                      <a:solidFill>
                        <a:srgbClr val="94363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20"/>
                    <p:cNvSpPr/>
                    <p:nvPr/>
                  </p:nvSpPr>
                  <p:spPr>
                    <a:xfrm rot="2721600">
                      <a:off x="2343600" y="2360160"/>
                      <a:ext cx="129960" cy="128880"/>
                    </a:xfrm>
                    <a:custGeom>
                      <a:avLst/>
                      <a:gdLst>
                        <a:gd name="textAreaLeft" fmla="*/ 62280 w 129960"/>
                        <a:gd name="textAreaRight" fmla="*/ 67680 w 129960"/>
                        <a:gd name="textAreaTop" fmla="*/ 61920 h 128880"/>
                        <a:gd name="textAreaBottom" fmla="*/ 66960 h 128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10358" y="10358"/>
                          </a:lnTo>
                          <a:lnTo>
                            <a:pt x="10800" y="0"/>
                          </a:lnTo>
                          <a:lnTo>
                            <a:pt x="11242" y="10358"/>
                          </a:lnTo>
                          <a:lnTo>
                            <a:pt x="21600" y="10800"/>
                          </a:lnTo>
                          <a:lnTo>
                            <a:pt x="11242" y="11242"/>
                          </a:lnTo>
                          <a:lnTo>
                            <a:pt x="10800" y="21600"/>
                          </a:lnTo>
                          <a:lnTo>
                            <a:pt x="10358" y="11242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d99594"/>
                    </a:solidFill>
                    <a:ln w="9360">
                      <a:solidFill>
                        <a:srgbClr val="d9959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8" name="Group 121"/>
                <p:cNvGrpSpPr/>
                <p:nvPr/>
              </p:nvGrpSpPr>
              <p:grpSpPr>
                <a:xfrm>
                  <a:off x="2230920" y="1752120"/>
                  <a:ext cx="273600" cy="297000"/>
                  <a:chOff x="2230920" y="1752120"/>
                  <a:chExt cx="273600" cy="297000"/>
                </a:xfrm>
              </p:grpSpPr>
              <p:sp>
                <p:nvSpPr>
                  <p:cNvPr id="249" name="Freeform 122"/>
                  <p:cNvSpPr/>
                  <p:nvPr/>
                </p:nvSpPr>
                <p:spPr>
                  <a:xfrm rot="16560600">
                    <a:off x="2245680" y="1809360"/>
                    <a:ext cx="83880" cy="39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0" name="Group 123"/>
                  <p:cNvGrpSpPr/>
                  <p:nvPr/>
                </p:nvGrpSpPr>
                <p:grpSpPr>
                  <a:xfrm>
                    <a:off x="2230920" y="1752120"/>
                    <a:ext cx="273600" cy="297000"/>
                    <a:chOff x="2230920" y="1752120"/>
                    <a:chExt cx="273600" cy="297000"/>
                  </a:xfrm>
                </p:grpSpPr>
                <p:sp>
                  <p:nvSpPr>
                    <p:cNvPr id="251" name="Oval 124"/>
                    <p:cNvSpPr/>
                    <p:nvPr/>
                  </p:nvSpPr>
                  <p:spPr>
                    <a:xfrm>
                      <a:off x="2239920" y="1812600"/>
                      <a:ext cx="252720" cy="236520"/>
                    </a:xfrm>
                    <a:prstGeom prst="ellipse">
                      <a:avLst/>
                    </a:prstGeom>
                    <a:solidFill>
                      <a:srgbClr val="54381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125"/>
                    <p:cNvSpPr/>
                    <p:nvPr/>
                  </p:nvSpPr>
                  <p:spPr>
                    <a:xfrm rot="16560600">
                      <a:off x="2284200" y="1775880"/>
                      <a:ext cx="83880" cy="39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126"/>
                    <p:cNvSpPr/>
                    <p:nvPr/>
                  </p:nvSpPr>
                  <p:spPr>
                    <a:xfrm rot="16560600">
                      <a:off x="2438280" y="1842480"/>
                      <a:ext cx="83880" cy="39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Freeform 127"/>
                    <p:cNvSpPr/>
                    <p:nvPr/>
                  </p:nvSpPr>
                  <p:spPr>
                    <a:xfrm rot="16560600">
                      <a:off x="2369520" y="1796760"/>
                      <a:ext cx="83880" cy="39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Freeform 128"/>
                    <p:cNvSpPr/>
                    <p:nvPr/>
                  </p:nvSpPr>
                  <p:spPr>
                    <a:xfrm rot="16560600">
                      <a:off x="2212920" y="1834200"/>
                      <a:ext cx="83880" cy="39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29"/>
                    <p:cNvSpPr/>
                    <p:nvPr/>
                  </p:nvSpPr>
                  <p:spPr>
                    <a:xfrm rot="16560600">
                      <a:off x="2324520" y="1775880"/>
                      <a:ext cx="83880" cy="39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7" name="Freeform 130"/>
                  <p:cNvSpPr/>
                  <p:nvPr/>
                </p:nvSpPr>
                <p:spPr>
                  <a:xfrm rot="16560600">
                    <a:off x="2412720" y="1817280"/>
                    <a:ext cx="83880" cy="39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31"/>
                <p:cNvSpPr/>
                <p:nvPr/>
              </p:nvSpPr>
              <p:spPr>
                <a:xfrm>
                  <a:off x="2283120" y="2665440"/>
                  <a:ext cx="5760" cy="81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2"/>
                <p:cNvSpPr/>
                <p:nvPr/>
              </p:nvSpPr>
              <p:spPr>
                <a:xfrm>
                  <a:off x="2453040" y="2665440"/>
                  <a:ext cx="5760" cy="81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33"/>
                <p:cNvSpPr/>
                <p:nvPr/>
              </p:nvSpPr>
              <p:spPr>
                <a:xfrm rot="20313000">
                  <a:off x="2424240" y="2716560"/>
                  <a:ext cx="100800" cy="93960"/>
                </a:xfrm>
                <a:prstGeom prst="ellipse">
                  <a:avLst/>
                </a:prstGeom>
                <a:solidFill>
                  <a:srgbClr val="e36c0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34"/>
                <p:cNvSpPr/>
                <p:nvPr/>
              </p:nvSpPr>
              <p:spPr>
                <a:xfrm rot="20313000">
                  <a:off x="2226960" y="2716560"/>
                  <a:ext cx="100800" cy="93960"/>
                </a:xfrm>
                <a:prstGeom prst="ellipse">
                  <a:avLst/>
                </a:prstGeom>
                <a:solidFill>
                  <a:srgbClr val="e36c0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135"/>
              <p:cNvGrpSpPr/>
              <p:nvPr/>
            </p:nvGrpSpPr>
            <p:grpSpPr>
              <a:xfrm>
                <a:off x="2535120" y="1739520"/>
                <a:ext cx="370080" cy="1087200"/>
                <a:chOff x="2535120" y="1739520"/>
                <a:chExt cx="370080" cy="1087200"/>
              </a:xfrm>
            </p:grpSpPr>
            <p:grpSp>
              <p:nvGrpSpPr>
                <p:cNvPr id="263" name="Group 136"/>
                <p:cNvGrpSpPr/>
                <p:nvPr/>
              </p:nvGrpSpPr>
              <p:grpSpPr>
                <a:xfrm>
                  <a:off x="2535120" y="2143080"/>
                  <a:ext cx="370080" cy="683640"/>
                  <a:chOff x="2535120" y="2143080"/>
                  <a:chExt cx="370080" cy="683640"/>
                </a:xfrm>
              </p:grpSpPr>
              <p:grpSp>
                <p:nvGrpSpPr>
                  <p:cNvPr id="264" name="Group 137"/>
                  <p:cNvGrpSpPr/>
                  <p:nvPr/>
                </p:nvGrpSpPr>
                <p:grpSpPr>
                  <a:xfrm>
                    <a:off x="2535120" y="2143080"/>
                    <a:ext cx="370080" cy="569160"/>
                    <a:chOff x="2535120" y="2143080"/>
                    <a:chExt cx="370080" cy="569160"/>
                  </a:xfrm>
                </p:grpSpPr>
                <p:sp>
                  <p:nvSpPr>
                    <p:cNvPr id="265" name="AutoShape 138"/>
                    <p:cNvSpPr/>
                    <p:nvPr/>
                  </p:nvSpPr>
                  <p:spPr>
                    <a:xfrm>
                      <a:off x="2535120" y="2143080"/>
                      <a:ext cx="370080" cy="5691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2dbdb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AutoShape 139"/>
                    <p:cNvSpPr/>
                    <p:nvPr/>
                  </p:nvSpPr>
                  <p:spPr>
                    <a:xfrm>
                      <a:off x="2559240" y="2613600"/>
                      <a:ext cx="104040" cy="98640"/>
                    </a:xfrm>
                    <a:prstGeom prst="sun">
                      <a:avLst>
                        <a:gd name="adj" fmla="val 25000"/>
                      </a:avLst>
                    </a:prstGeom>
                    <a:solidFill>
                      <a:srgbClr val="e5b8b7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AutoShape 140"/>
                    <p:cNvSpPr/>
                    <p:nvPr/>
                  </p:nvSpPr>
                  <p:spPr>
                    <a:xfrm>
                      <a:off x="2663280" y="2610000"/>
                      <a:ext cx="104040" cy="98640"/>
                    </a:xfrm>
                    <a:prstGeom prst="sun">
                      <a:avLst>
                        <a:gd name="adj" fmla="val 25000"/>
                      </a:avLst>
                    </a:prstGeom>
                    <a:solidFill>
                      <a:srgbClr val="92cddc"/>
                    </a:solidFill>
                    <a:ln w="9360">
                      <a:solidFill>
                        <a:srgbClr val="fabf8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141"/>
                    <p:cNvSpPr/>
                    <p:nvPr/>
                  </p:nvSpPr>
                  <p:spPr>
                    <a:xfrm>
                      <a:off x="2663280" y="2527920"/>
                      <a:ext cx="64080" cy="68040"/>
                    </a:xfrm>
                    <a:prstGeom prst="sun">
                      <a:avLst>
                        <a:gd name="adj" fmla="val 25000"/>
                      </a:avLst>
                    </a:prstGeom>
                    <a:solidFill>
                      <a:srgbClr val="ffff00"/>
                    </a:solidFill>
                    <a:ln w="9360">
                      <a:solidFill>
                        <a:srgbClr val="5f497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142"/>
                    <p:cNvSpPr/>
                    <p:nvPr/>
                  </p:nvSpPr>
                  <p:spPr>
                    <a:xfrm>
                      <a:off x="2610720" y="2419560"/>
                      <a:ext cx="104040" cy="98640"/>
                    </a:xfrm>
                    <a:prstGeom prst="sun">
                      <a:avLst>
                        <a:gd name="adj" fmla="val 25000"/>
                      </a:avLst>
                    </a:prstGeom>
                    <a:solidFill>
                      <a:srgbClr val="e5b8b7"/>
                    </a:solidFill>
                    <a:ln w="9360">
                      <a:solidFill>
                        <a:srgbClr val="5f497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3"/>
                    <p:cNvSpPr/>
                    <p:nvPr/>
                  </p:nvSpPr>
                  <p:spPr>
                    <a:xfrm>
                      <a:off x="2663280" y="2314440"/>
                      <a:ext cx="104040" cy="98640"/>
                    </a:xfrm>
                    <a:prstGeom prst="sun">
                      <a:avLst>
                        <a:gd name="adj" fmla="val 25000"/>
                      </a:avLst>
                    </a:prstGeom>
                    <a:solidFill>
                      <a:srgbClr val="e5b8b7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AutoShape 144"/>
                    <p:cNvSpPr/>
                    <p:nvPr/>
                  </p:nvSpPr>
                  <p:spPr>
                    <a:xfrm>
                      <a:off x="2767680" y="2613600"/>
                      <a:ext cx="104040" cy="98640"/>
                    </a:xfrm>
                    <a:prstGeom prst="sun">
                      <a:avLst>
                        <a:gd name="adj" fmla="val 25000"/>
                      </a:avLst>
                    </a:prstGeom>
                    <a:solidFill>
                      <a:srgbClr val="5f497a"/>
                    </a:solidFill>
                    <a:ln w="9360">
                      <a:solidFill>
                        <a:srgbClr val="e36c0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AutoShape 145"/>
                    <p:cNvSpPr/>
                    <p:nvPr/>
                  </p:nvSpPr>
                  <p:spPr>
                    <a:xfrm>
                      <a:off x="2715120" y="2416680"/>
                      <a:ext cx="104040" cy="98640"/>
                    </a:xfrm>
                    <a:prstGeom prst="sun">
                      <a:avLst>
                        <a:gd name="adj" fmla="val 25000"/>
                      </a:avLst>
                    </a:prstGeom>
                    <a:solidFill>
                      <a:srgbClr val="ffff00"/>
                    </a:solidFill>
                    <a:ln w="9360">
                      <a:solidFill>
                        <a:srgbClr val="e36c0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146"/>
                    <p:cNvSpPr/>
                    <p:nvPr/>
                  </p:nvSpPr>
                  <p:spPr>
                    <a:xfrm>
                      <a:off x="2599200" y="2527920"/>
                      <a:ext cx="64080" cy="68040"/>
                    </a:xfrm>
                    <a:prstGeom prst="sun">
                      <a:avLst>
                        <a:gd name="adj" fmla="val 25000"/>
                      </a:avLst>
                    </a:prstGeom>
                    <a:solidFill>
                      <a:srgbClr val="ff0066"/>
                    </a:solidFill>
                    <a:ln w="9360">
                      <a:solidFill>
                        <a:srgbClr val="76923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147"/>
                    <p:cNvSpPr/>
                    <p:nvPr/>
                  </p:nvSpPr>
                  <p:spPr>
                    <a:xfrm>
                      <a:off x="2686320" y="2228760"/>
                      <a:ext cx="64080" cy="67680"/>
                    </a:xfrm>
                    <a:prstGeom prst="sun">
                      <a:avLst>
                        <a:gd name="adj" fmla="val 25000"/>
                      </a:avLst>
                    </a:prstGeom>
                    <a:solidFill>
                      <a:srgbClr val="daeef3"/>
                    </a:solidFill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8"/>
                    <p:cNvSpPr/>
                    <p:nvPr/>
                  </p:nvSpPr>
                  <p:spPr>
                    <a:xfrm>
                      <a:off x="2790720" y="2525760"/>
                      <a:ext cx="64080" cy="68040"/>
                    </a:xfrm>
                    <a:prstGeom prst="sun">
                      <a:avLst>
                        <a:gd name="adj" fmla="val 25000"/>
                      </a:avLst>
                    </a:prstGeom>
                    <a:solidFill>
                      <a:srgbClr val="b2a1c7"/>
                    </a:solidFill>
                    <a:ln w="9360">
                      <a:solidFill>
                        <a:srgbClr val="5f497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AutoShape 149"/>
                    <p:cNvSpPr/>
                    <p:nvPr/>
                  </p:nvSpPr>
                  <p:spPr>
                    <a:xfrm>
                      <a:off x="2726280" y="2525760"/>
                      <a:ext cx="64080" cy="68040"/>
                    </a:xfrm>
                    <a:prstGeom prst="sun">
                      <a:avLst>
                        <a:gd name="adj" fmla="val 25000"/>
                      </a:avLst>
                    </a:prstGeom>
                    <a:solidFill>
                      <a:srgbClr val="ffc000"/>
                    </a:solidFill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Oval 150"/>
                  <p:cNvSpPr/>
                  <p:nvPr/>
                </p:nvSpPr>
                <p:spPr>
                  <a:xfrm rot="20313000">
                    <a:off x="2589840" y="2720520"/>
                    <a:ext cx="100800" cy="90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d9959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151"/>
                  <p:cNvSpPr/>
                  <p:nvPr/>
                </p:nvSpPr>
                <p:spPr>
                  <a:xfrm rot="20313000">
                    <a:off x="2721240" y="2720520"/>
                    <a:ext cx="100800" cy="90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d9959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152"/>
                <p:cNvGrpSpPr/>
                <p:nvPr/>
              </p:nvGrpSpPr>
              <p:grpSpPr>
                <a:xfrm>
                  <a:off x="2584080" y="1739520"/>
                  <a:ext cx="262800" cy="408960"/>
                  <a:chOff x="2584080" y="1739520"/>
                  <a:chExt cx="262800" cy="408960"/>
                </a:xfrm>
              </p:grpSpPr>
              <p:sp>
                <p:nvSpPr>
                  <p:cNvPr id="280" name="Freeform 153"/>
                  <p:cNvSpPr/>
                  <p:nvPr/>
                </p:nvSpPr>
                <p:spPr>
                  <a:xfrm rot="17845200">
                    <a:off x="2622600" y="1898640"/>
                    <a:ext cx="105840" cy="39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1" name="Group 154"/>
                  <p:cNvGrpSpPr/>
                  <p:nvPr/>
                </p:nvGrpSpPr>
                <p:grpSpPr>
                  <a:xfrm>
                    <a:off x="2584080" y="1739520"/>
                    <a:ext cx="262800" cy="408960"/>
                    <a:chOff x="2584080" y="1739520"/>
                    <a:chExt cx="262800" cy="408960"/>
                  </a:xfrm>
                </p:grpSpPr>
                <p:sp>
                  <p:nvSpPr>
                    <p:cNvPr id="282" name="Freeform 155"/>
                    <p:cNvSpPr/>
                    <p:nvPr/>
                  </p:nvSpPr>
                  <p:spPr>
                    <a:xfrm rot="3775200">
                      <a:off x="2725920" y="1911240"/>
                      <a:ext cx="105840" cy="39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3" name="Group 156"/>
                    <p:cNvGrpSpPr/>
                    <p:nvPr/>
                  </p:nvGrpSpPr>
                  <p:grpSpPr>
                    <a:xfrm>
                      <a:off x="2584080" y="1739520"/>
                      <a:ext cx="262800" cy="408960"/>
                      <a:chOff x="2584080" y="1739520"/>
                      <a:chExt cx="262800" cy="408960"/>
                    </a:xfrm>
                  </p:grpSpPr>
                  <p:sp>
                    <p:nvSpPr>
                      <p:cNvPr id="284" name="Freeform 157"/>
                      <p:cNvSpPr/>
                      <p:nvPr/>
                    </p:nvSpPr>
                    <p:spPr>
                      <a:xfrm rot="4948800">
                        <a:off x="2714760" y="1898640"/>
                        <a:ext cx="105840" cy="39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5" name="Group 158"/>
                      <p:cNvGrpSpPr/>
                      <p:nvPr/>
                    </p:nvGrpSpPr>
                    <p:grpSpPr>
                      <a:xfrm>
                        <a:off x="2584080" y="1739520"/>
                        <a:ext cx="262800" cy="408960"/>
                        <a:chOff x="2584080" y="1739520"/>
                        <a:chExt cx="262800" cy="408960"/>
                      </a:xfrm>
                    </p:grpSpPr>
                    <p:sp>
                      <p:nvSpPr>
                        <p:cNvPr id="286" name="Freeform 159"/>
                        <p:cNvSpPr/>
                        <p:nvPr/>
                      </p:nvSpPr>
                      <p:spPr>
                        <a:xfrm rot="16560600">
                          <a:off x="2618280" y="1898640"/>
                          <a:ext cx="105840" cy="3960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Freeform 160"/>
                        <p:cNvSpPr/>
                        <p:nvPr/>
                      </p:nvSpPr>
                      <p:spPr>
                        <a:xfrm rot="16560600">
                          <a:off x="2688120" y="1910880"/>
                          <a:ext cx="105840" cy="3960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88" name="Group 161"/>
                        <p:cNvGrpSpPr/>
                        <p:nvPr/>
                      </p:nvGrpSpPr>
                      <p:grpSpPr>
                        <a:xfrm>
                          <a:off x="2584080" y="1739520"/>
                          <a:ext cx="262800" cy="408960"/>
                          <a:chOff x="2584080" y="1739520"/>
                          <a:chExt cx="262800" cy="408960"/>
                        </a:xfrm>
                      </p:grpSpPr>
                      <p:grpSp>
                        <p:nvGrpSpPr>
                          <p:cNvPr id="289" name="Group 162"/>
                          <p:cNvGrpSpPr/>
                          <p:nvPr/>
                        </p:nvGrpSpPr>
                        <p:grpSpPr>
                          <a:xfrm>
                            <a:off x="2584080" y="1739520"/>
                            <a:ext cx="262800" cy="408960"/>
                            <a:chOff x="2584080" y="1739520"/>
                            <a:chExt cx="262800" cy="408960"/>
                          </a:xfrm>
                        </p:grpSpPr>
                        <p:sp>
                          <p:nvSpPr>
                            <p:cNvPr id="290" name="Freeform 163"/>
                            <p:cNvSpPr/>
                            <p:nvPr/>
                          </p:nvSpPr>
                          <p:spPr>
                            <a:xfrm rot="7135800">
                              <a:off x="2730240" y="1771200"/>
                              <a:ext cx="91800" cy="57600"/>
                            </a:xfrm>
                            <a:prstGeom prst="pie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1" name="Oval 164"/>
                            <p:cNvSpPr/>
                            <p:nvPr/>
                          </p:nvSpPr>
                          <p:spPr>
                            <a:xfrm>
                              <a:off x="2591640" y="1920240"/>
                              <a:ext cx="252360" cy="228240"/>
                            </a:xfrm>
                            <a:prstGeom prst="ellipse">
                              <a:avLst/>
                            </a:prstGeom>
                            <a:solidFill>
                              <a:srgbClr val="54381c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2" name="Freeform 165"/>
                            <p:cNvSpPr/>
                            <p:nvPr/>
                          </p:nvSpPr>
                          <p:spPr>
                            <a:xfrm rot="13772400">
                              <a:off x="2663280" y="1775880"/>
                              <a:ext cx="91800" cy="57600"/>
                            </a:xfrm>
                            <a:prstGeom prst="pie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3" name="Freeform 166"/>
                            <p:cNvSpPr/>
                            <p:nvPr/>
                          </p:nvSpPr>
                          <p:spPr>
                            <a:xfrm rot="3763800">
                              <a:off x="2751840" y="1900800"/>
                              <a:ext cx="105840" cy="39600"/>
                            </a:xfrm>
                            <a:prstGeom prst="pie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840" bIns="-68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94" name="Group 167"/>
                            <p:cNvGrpSpPr/>
                            <p:nvPr/>
                          </p:nvGrpSpPr>
                          <p:grpSpPr>
                            <a:xfrm>
                              <a:off x="2673360" y="1821960"/>
                              <a:ext cx="63720" cy="56160"/>
                              <a:chOff x="2673360" y="1821960"/>
                              <a:chExt cx="63720" cy="56160"/>
                            </a:xfrm>
                          </p:grpSpPr>
                          <p:sp>
                            <p:nvSpPr>
                              <p:cNvPr id="295" name="Oval 168"/>
                              <p:cNvSpPr/>
                              <p:nvPr/>
                            </p:nvSpPr>
                            <p:spPr>
                              <a:xfrm>
                                <a:off x="2693880" y="1840680"/>
                                <a:ext cx="22320" cy="18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d99594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120" bIns="-331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6" name="Oval 169"/>
                              <p:cNvSpPr/>
                              <p:nvPr/>
                            </p:nvSpPr>
                            <p:spPr>
                              <a:xfrm>
                                <a:off x="2693880" y="1821960"/>
                                <a:ext cx="22320" cy="18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120" bIns="-331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7" name="Oval 170"/>
                              <p:cNvSpPr/>
                              <p:nvPr/>
                            </p:nvSpPr>
                            <p:spPr>
                              <a:xfrm>
                                <a:off x="2693880" y="1859400"/>
                                <a:ext cx="22320" cy="18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120" bIns="-331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Oval 171"/>
                              <p:cNvSpPr/>
                              <p:nvPr/>
                            </p:nvSpPr>
                            <p:spPr>
                              <a:xfrm>
                                <a:off x="2714760" y="1830600"/>
                                <a:ext cx="22320" cy="18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120" bIns="-331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9" name="Oval 172"/>
                              <p:cNvSpPr/>
                              <p:nvPr/>
                            </p:nvSpPr>
                            <p:spPr>
                              <a:xfrm>
                                <a:off x="2673360" y="1831680"/>
                                <a:ext cx="22320" cy="18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120" bIns="-331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0" name="Oval 173"/>
                              <p:cNvSpPr/>
                              <p:nvPr/>
                            </p:nvSpPr>
                            <p:spPr>
                              <a:xfrm>
                                <a:off x="2714760" y="1849320"/>
                                <a:ext cx="22320" cy="18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120" bIns="-331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1" name="Oval 174"/>
                              <p:cNvSpPr/>
                              <p:nvPr/>
                            </p:nvSpPr>
                            <p:spPr>
                              <a:xfrm>
                                <a:off x="2673360" y="1850760"/>
                                <a:ext cx="22320" cy="18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120" bIns="-331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02" name="Freeform 175"/>
                            <p:cNvSpPr/>
                            <p:nvPr/>
                          </p:nvSpPr>
                          <p:spPr>
                            <a:xfrm rot="16459800">
                              <a:off x="2711520" y="1748880"/>
                              <a:ext cx="72720" cy="57600"/>
                            </a:xfrm>
                            <a:prstGeom prst="pie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3" name="Freeform 176"/>
                            <p:cNvSpPr/>
                            <p:nvPr/>
                          </p:nvSpPr>
                          <p:spPr>
                            <a:xfrm rot="15778200">
                              <a:off x="2676960" y="1886040"/>
                              <a:ext cx="64080" cy="57600"/>
                            </a:xfrm>
                            <a:prstGeom prst="pie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4" name="Freeform 177"/>
                            <p:cNvSpPr/>
                            <p:nvPr/>
                          </p:nvSpPr>
                          <p:spPr>
                            <a:xfrm rot="18016800">
                              <a:off x="2574720" y="1918440"/>
                              <a:ext cx="105840" cy="39600"/>
                            </a:xfrm>
                            <a:prstGeom prst="pie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840" bIns="-68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5" name="Group 178"/>
                          <p:cNvGrpSpPr/>
                          <p:nvPr/>
                        </p:nvGrpSpPr>
                        <p:grpSpPr>
                          <a:xfrm>
                            <a:off x="2738520" y="1821960"/>
                            <a:ext cx="63720" cy="56160"/>
                            <a:chOff x="2738520" y="1821960"/>
                            <a:chExt cx="63720" cy="56160"/>
                          </a:xfrm>
                        </p:grpSpPr>
                        <p:sp>
                          <p:nvSpPr>
                            <p:cNvPr id="306" name="Oval 179"/>
                            <p:cNvSpPr/>
                            <p:nvPr/>
                          </p:nvSpPr>
                          <p:spPr>
                            <a:xfrm>
                              <a:off x="2759040" y="1840680"/>
                              <a:ext cx="22320" cy="18720"/>
                            </a:xfrm>
                            <a:prstGeom prst="ellipse">
                              <a:avLst/>
                            </a:prstGeom>
                            <a:solidFill>
                              <a:srgbClr val="d99594"/>
                            </a:solidFill>
                            <a:ln w="9360">
                              <a:solidFill>
                                <a:srgbClr val="fff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7" name="Oval 180"/>
                            <p:cNvSpPr/>
                            <p:nvPr/>
                          </p:nvSpPr>
                          <p:spPr>
                            <a:xfrm>
                              <a:off x="2759040" y="1821960"/>
                              <a:ext cx="22320" cy="187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9360">
                              <a:solidFill>
                                <a:srgbClr val="fff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8" name="Oval 181"/>
                            <p:cNvSpPr/>
                            <p:nvPr/>
                          </p:nvSpPr>
                          <p:spPr>
                            <a:xfrm>
                              <a:off x="2759040" y="1859400"/>
                              <a:ext cx="22320" cy="187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9360">
                              <a:solidFill>
                                <a:srgbClr val="fff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9" name="Oval 182"/>
                            <p:cNvSpPr/>
                            <p:nvPr/>
                          </p:nvSpPr>
                          <p:spPr>
                            <a:xfrm>
                              <a:off x="2779920" y="1830600"/>
                              <a:ext cx="22320" cy="187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9360">
                              <a:solidFill>
                                <a:srgbClr val="fff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10" name="Oval 183"/>
                            <p:cNvSpPr/>
                            <p:nvPr/>
                          </p:nvSpPr>
                          <p:spPr>
                            <a:xfrm>
                              <a:off x="2738520" y="1831680"/>
                              <a:ext cx="22320" cy="187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9360">
                              <a:solidFill>
                                <a:srgbClr val="fff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11" name="Oval 184"/>
                            <p:cNvSpPr/>
                            <p:nvPr/>
                          </p:nvSpPr>
                          <p:spPr>
                            <a:xfrm>
                              <a:off x="2779920" y="1849320"/>
                              <a:ext cx="22320" cy="187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9360">
                              <a:solidFill>
                                <a:srgbClr val="fff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12" name="Oval 185"/>
                            <p:cNvSpPr/>
                            <p:nvPr/>
                          </p:nvSpPr>
                          <p:spPr>
                            <a:xfrm>
                              <a:off x="2738520" y="1850760"/>
                              <a:ext cx="22320" cy="187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9360">
                              <a:solidFill>
                                <a:srgbClr val="fff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  <p:grpSp>
          <p:nvGrpSpPr>
            <p:cNvPr id="313" name="Group 186"/>
            <p:cNvGrpSpPr/>
            <p:nvPr/>
          </p:nvGrpSpPr>
          <p:grpSpPr>
            <a:xfrm>
              <a:off x="3629160" y="1906560"/>
              <a:ext cx="403200" cy="912240"/>
              <a:chOff x="3629160" y="1906560"/>
              <a:chExt cx="403200" cy="912240"/>
            </a:xfrm>
          </p:grpSpPr>
          <p:grpSp>
            <p:nvGrpSpPr>
              <p:cNvPr id="314" name="Group 187"/>
              <p:cNvGrpSpPr/>
              <p:nvPr/>
            </p:nvGrpSpPr>
            <p:grpSpPr>
              <a:xfrm>
                <a:off x="3629160" y="1906560"/>
                <a:ext cx="403200" cy="912240"/>
                <a:chOff x="3629160" y="1906560"/>
                <a:chExt cx="403200" cy="912240"/>
              </a:xfrm>
            </p:grpSpPr>
            <p:sp>
              <p:nvSpPr>
                <p:cNvPr id="315" name="AutoShape 188"/>
                <p:cNvSpPr/>
                <p:nvPr/>
              </p:nvSpPr>
              <p:spPr>
                <a:xfrm>
                  <a:off x="3629160" y="2143440"/>
                  <a:ext cx="403200" cy="412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2a1c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189"/>
                <p:cNvSpPr/>
                <p:nvPr/>
              </p:nvSpPr>
              <p:spPr>
                <a:xfrm>
                  <a:off x="3707640" y="1906560"/>
                  <a:ext cx="252000" cy="22752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90"/>
                <p:cNvSpPr/>
                <p:nvPr/>
              </p:nvSpPr>
              <p:spPr>
                <a:xfrm>
                  <a:off x="3882240" y="2553480"/>
                  <a:ext cx="0" cy="182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91"/>
                <p:cNvSpPr/>
                <p:nvPr/>
              </p:nvSpPr>
              <p:spPr>
                <a:xfrm>
                  <a:off x="3774600" y="2553480"/>
                  <a:ext cx="0" cy="182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192"/>
                <p:cNvSpPr/>
                <p:nvPr/>
              </p:nvSpPr>
              <p:spPr>
                <a:xfrm rot="20313000">
                  <a:off x="3846960" y="2711880"/>
                  <a:ext cx="100800" cy="90360"/>
                </a:xfrm>
                <a:prstGeom prst="ellipse">
                  <a:avLst/>
                </a:prstGeom>
                <a:solidFill>
                  <a:srgbClr val="c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193"/>
                <p:cNvSpPr/>
                <p:nvPr/>
              </p:nvSpPr>
              <p:spPr>
                <a:xfrm rot="20313000">
                  <a:off x="3704760" y="2712960"/>
                  <a:ext cx="100800" cy="90360"/>
                </a:xfrm>
                <a:prstGeom prst="ellipse">
                  <a:avLst/>
                </a:prstGeom>
                <a:solidFill>
                  <a:srgbClr val="c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94"/>
              <p:cNvGrpSpPr/>
              <p:nvPr/>
            </p:nvGrpSpPr>
            <p:grpSpPr>
              <a:xfrm>
                <a:off x="3654360" y="2178360"/>
                <a:ext cx="151200" cy="279360"/>
                <a:chOff x="3654360" y="2178360"/>
                <a:chExt cx="151200" cy="279360"/>
              </a:xfrm>
            </p:grpSpPr>
            <p:sp>
              <p:nvSpPr>
                <p:cNvPr id="322" name="AutoShape 195"/>
                <p:cNvSpPr/>
                <p:nvPr/>
              </p:nvSpPr>
              <p:spPr>
                <a:xfrm>
                  <a:off x="3654360" y="2250360"/>
                  <a:ext cx="151200" cy="125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196"/>
                <p:cNvSpPr/>
                <p:nvPr/>
              </p:nvSpPr>
              <p:spPr>
                <a:xfrm>
                  <a:off x="3683520" y="2178360"/>
                  <a:ext cx="94320" cy="694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97"/>
                <p:cNvSpPr/>
                <p:nvPr/>
              </p:nvSpPr>
              <p:spPr>
                <a:xfrm>
                  <a:off x="3749400" y="2375640"/>
                  <a:ext cx="0" cy="55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98"/>
                <p:cNvSpPr/>
                <p:nvPr/>
              </p:nvSpPr>
              <p:spPr>
                <a:xfrm>
                  <a:off x="3709080" y="2375640"/>
                  <a:ext cx="0" cy="55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199"/>
                <p:cNvSpPr/>
                <p:nvPr/>
              </p:nvSpPr>
              <p:spPr>
                <a:xfrm rot="20313000">
                  <a:off x="3736080" y="2423880"/>
                  <a:ext cx="37800" cy="2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200"/>
                <p:cNvSpPr/>
                <p:nvPr/>
              </p:nvSpPr>
              <p:spPr>
                <a:xfrm rot="20313000">
                  <a:off x="3682800" y="2424240"/>
                  <a:ext cx="37800" cy="2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" name="Group 201"/>
            <p:cNvGrpSpPr/>
            <p:nvPr/>
          </p:nvGrpSpPr>
          <p:grpSpPr>
            <a:xfrm>
              <a:off x="4105440" y="1643040"/>
              <a:ext cx="742320" cy="1166040"/>
              <a:chOff x="4105440" y="1643040"/>
              <a:chExt cx="742320" cy="1166040"/>
            </a:xfrm>
          </p:grpSpPr>
          <p:grpSp>
            <p:nvGrpSpPr>
              <p:cNvPr id="329" name="Group 202"/>
              <p:cNvGrpSpPr/>
              <p:nvPr/>
            </p:nvGrpSpPr>
            <p:grpSpPr>
              <a:xfrm>
                <a:off x="4512240" y="1643040"/>
                <a:ext cx="335520" cy="1166040"/>
                <a:chOff x="4512240" y="1643040"/>
                <a:chExt cx="335520" cy="1166040"/>
              </a:xfrm>
            </p:grpSpPr>
            <p:grpSp>
              <p:nvGrpSpPr>
                <p:cNvPr id="330" name="Group 203"/>
                <p:cNvGrpSpPr/>
                <p:nvPr/>
              </p:nvGrpSpPr>
              <p:grpSpPr>
                <a:xfrm>
                  <a:off x="4512240" y="1643040"/>
                  <a:ext cx="335520" cy="1166040"/>
                  <a:chOff x="4512240" y="1643040"/>
                  <a:chExt cx="335520" cy="1166040"/>
                </a:xfrm>
              </p:grpSpPr>
              <p:grpSp>
                <p:nvGrpSpPr>
                  <p:cNvPr id="331" name="Group 204"/>
                  <p:cNvGrpSpPr/>
                  <p:nvPr/>
                </p:nvGrpSpPr>
                <p:grpSpPr>
                  <a:xfrm>
                    <a:off x="4512240" y="1643040"/>
                    <a:ext cx="335520" cy="1166040"/>
                    <a:chOff x="4512240" y="1643040"/>
                    <a:chExt cx="335520" cy="1166040"/>
                  </a:xfrm>
                </p:grpSpPr>
                <p:sp>
                  <p:nvSpPr>
                    <p:cNvPr id="332" name="Rectangle 205"/>
                    <p:cNvSpPr/>
                    <p:nvPr/>
                  </p:nvSpPr>
                  <p:spPr>
                    <a:xfrm>
                      <a:off x="4515120" y="2126160"/>
                      <a:ext cx="332640" cy="58392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Oval 206"/>
                    <p:cNvSpPr/>
                    <p:nvPr/>
                  </p:nvSpPr>
                  <p:spPr>
                    <a:xfrm rot="20313000">
                      <a:off x="4718160" y="2704320"/>
                      <a:ext cx="110520" cy="874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Oval 207"/>
                    <p:cNvSpPr/>
                    <p:nvPr/>
                  </p:nvSpPr>
                  <p:spPr>
                    <a:xfrm rot="20313000">
                      <a:off x="4524120" y="2704320"/>
                      <a:ext cx="110520" cy="874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Oval 208"/>
                    <p:cNvSpPr/>
                    <p:nvPr/>
                  </p:nvSpPr>
                  <p:spPr>
                    <a:xfrm>
                      <a:off x="4546080" y="1894320"/>
                      <a:ext cx="276840" cy="220680"/>
                    </a:xfrm>
                    <a:prstGeom prst="ellipse">
                      <a:avLst/>
                    </a:prstGeom>
                    <a:solidFill>
                      <a:srgbClr val="cc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9"/>
                    <p:cNvSpPr/>
                    <p:nvPr/>
                  </p:nvSpPr>
                  <p:spPr>
                    <a:xfrm rot="10800000">
                      <a:off x="4514400" y="2357640"/>
                      <a:ext cx="332280" cy="176760"/>
                    </a:xfrm>
                    <a:prstGeom prst="triangle">
                      <a:avLst>
                        <a:gd name="adj" fmla="val 50000"/>
                      </a:avLst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Line 210"/>
                    <p:cNvSpPr/>
                    <p:nvPr/>
                  </p:nvSpPr>
                  <p:spPr>
                    <a:xfrm>
                      <a:off x="4671720" y="2534760"/>
                      <a:ext cx="0" cy="17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Text Box 211"/>
                    <p:cNvSpPr/>
                    <p:nvPr/>
                  </p:nvSpPr>
                  <p:spPr>
                    <a:xfrm>
                      <a:off x="4533120" y="1643040"/>
                      <a:ext cx="244440" cy="27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Group 212"/>
                  <p:cNvGrpSpPr/>
                  <p:nvPr/>
                </p:nvGrpSpPr>
                <p:grpSpPr>
                  <a:xfrm>
                    <a:off x="4618800" y="1691640"/>
                    <a:ext cx="115560" cy="205200"/>
                    <a:chOff x="4618800" y="1691640"/>
                    <a:chExt cx="115560" cy="205200"/>
                  </a:xfrm>
                </p:grpSpPr>
                <p:grpSp>
                  <p:nvGrpSpPr>
                    <p:cNvPr id="340" name="Group 213"/>
                    <p:cNvGrpSpPr/>
                    <p:nvPr/>
                  </p:nvGrpSpPr>
                  <p:grpSpPr>
                    <a:xfrm>
                      <a:off x="4625280" y="1720440"/>
                      <a:ext cx="97560" cy="163800"/>
                      <a:chOff x="4625280" y="1720440"/>
                      <a:chExt cx="97560" cy="163800"/>
                    </a:xfrm>
                  </p:grpSpPr>
                  <p:grpSp>
                    <p:nvGrpSpPr>
                      <p:cNvPr id="341" name="Group 214"/>
                      <p:cNvGrpSpPr/>
                      <p:nvPr/>
                    </p:nvGrpSpPr>
                    <p:grpSpPr>
                      <a:xfrm>
                        <a:off x="4683240" y="1721160"/>
                        <a:ext cx="39600" cy="163080"/>
                        <a:chOff x="4683240" y="1721160"/>
                        <a:chExt cx="39600" cy="163080"/>
                      </a:xfrm>
                    </p:grpSpPr>
                    <p:cxnSp>
                      <p:nvCxnSpPr>
                        <p:cNvPr id="342" name="AutoShape 215"/>
                        <p:cNvCxnSpPr/>
                        <p:nvPr/>
                      </p:nvCxnSpPr>
                      <p:spPr>
                        <a:xfrm flipV="1">
                          <a:off x="4683240" y="1721160"/>
                          <a:ext cx="1080" cy="16344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43" name="AutoShape 216"/>
                        <p:cNvCxnSpPr/>
                        <p:nvPr/>
                      </p:nvCxnSpPr>
                      <p:spPr>
                        <a:xfrm flipV="1">
                          <a:off x="4683240" y="1789200"/>
                          <a:ext cx="39960" cy="7920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44" name="AutoShape 217"/>
                        <p:cNvCxnSpPr/>
                        <p:nvPr/>
                      </p:nvCxnSpPr>
                      <p:spPr>
                        <a:xfrm flipV="1">
                          <a:off x="4683240" y="1755000"/>
                          <a:ext cx="31320" cy="7452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45" name="AutoShape 218"/>
                        <p:cNvCxnSpPr/>
                        <p:nvPr/>
                      </p:nvCxnSpPr>
                      <p:spPr>
                        <a:xfrm flipV="1">
                          <a:off x="4683600" y="1730520"/>
                          <a:ext cx="21960" cy="5868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346" name="Group 219"/>
                      <p:cNvGrpSpPr/>
                      <p:nvPr/>
                    </p:nvGrpSpPr>
                    <p:grpSpPr>
                      <a:xfrm>
                        <a:off x="4625280" y="1720440"/>
                        <a:ext cx="51120" cy="163080"/>
                        <a:chOff x="4625280" y="1720440"/>
                        <a:chExt cx="51120" cy="163080"/>
                      </a:xfrm>
                    </p:grpSpPr>
                    <p:cxnSp>
                      <p:nvCxnSpPr>
                        <p:cNvPr id="347" name="AutoShape 220"/>
                        <p:cNvCxnSpPr/>
                        <p:nvPr/>
                      </p:nvCxnSpPr>
                      <p:spPr>
                        <a:xfrm flipH="1" flipV="1">
                          <a:off x="4675680" y="1720440"/>
                          <a:ext cx="1080" cy="16344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48" name="AutoShape 221"/>
                        <p:cNvCxnSpPr/>
                        <p:nvPr/>
                      </p:nvCxnSpPr>
                      <p:spPr>
                        <a:xfrm flipH="1" flipV="1">
                          <a:off x="4625280" y="1788480"/>
                          <a:ext cx="51120" cy="7920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49" name="AutoShape 222"/>
                        <p:cNvCxnSpPr/>
                        <p:nvPr/>
                      </p:nvCxnSpPr>
                      <p:spPr>
                        <a:xfrm flipH="1" flipV="1">
                          <a:off x="4636800" y="1754280"/>
                          <a:ext cx="39960" cy="7452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50" name="AutoShape 223"/>
                        <p:cNvCxnSpPr/>
                        <p:nvPr/>
                      </p:nvCxnSpPr>
                      <p:spPr>
                        <a:xfrm flipH="1" flipV="1">
                          <a:off x="4648320" y="1729800"/>
                          <a:ext cx="28440" cy="5868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</p:grpSp>
                </p:grpSp>
                <p:grpSp>
                  <p:nvGrpSpPr>
                    <p:cNvPr id="351" name="Group 224"/>
                    <p:cNvGrpSpPr/>
                    <p:nvPr/>
                  </p:nvGrpSpPr>
                  <p:grpSpPr>
                    <a:xfrm>
                      <a:off x="4618800" y="1691640"/>
                      <a:ext cx="115560" cy="205200"/>
                      <a:chOff x="4618800" y="1691640"/>
                      <a:chExt cx="115560" cy="205200"/>
                    </a:xfrm>
                  </p:grpSpPr>
                  <p:sp>
                    <p:nvSpPr>
                      <p:cNvPr id="352" name="AutoShape 225"/>
                      <p:cNvSpPr/>
                      <p:nvPr/>
                    </p:nvSpPr>
                    <p:spPr>
                      <a:xfrm>
                        <a:off x="4618800" y="1695600"/>
                        <a:ext cx="63720" cy="20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1473" y="241"/>
                              <a:pt x="1346" y="5080"/>
                              <a:pt x="1346" y="10800"/>
                            </a:cubicBezTo>
                            <a:cubicBezTo>
                              <a:pt x="1346" y="16520"/>
                              <a:pt x="11473" y="2135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e36c0a"/>
                      </a:solidFill>
                      <a:ln w="9360">
                        <a:solidFill>
                          <a:srgbClr val="548dd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3" name="AutoShape 226"/>
                      <p:cNvSpPr/>
                      <p:nvPr/>
                    </p:nvSpPr>
                    <p:spPr>
                      <a:xfrm rot="10625400">
                        <a:off x="4672440" y="1692720"/>
                        <a:ext cx="56520" cy="20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1594" y="285"/>
                              <a:pt x="1588" y="5080"/>
                              <a:pt x="1588" y="10800"/>
                            </a:cubicBezTo>
                            <a:cubicBezTo>
                              <a:pt x="1588" y="16520"/>
                              <a:pt x="11594" y="21315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e36c0a"/>
                      </a:solidFill>
                      <a:ln w="9360">
                        <a:solidFill>
                          <a:srgbClr val="548dd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cxnSp>
              <p:nvCxnSpPr>
                <p:cNvPr id="354" name="AutoShape 227"/>
                <p:cNvCxnSpPr/>
                <p:nvPr/>
              </p:nvCxnSpPr>
              <p:spPr>
                <a:xfrm>
                  <a:off x="4565880" y="1956960"/>
                  <a:ext cx="235440" cy="3960"/>
                </a:xfrm>
                <a:prstGeom prst="straightConnector1">
                  <a:avLst/>
                </a:prstGeom>
                <a:ln w="38160">
                  <a:solidFill>
                    <a:srgbClr val="548dd4"/>
                  </a:solidFill>
                  <a:miter/>
                </a:ln>
              </p:spPr>
            </p:cxnSp>
          </p:grpSp>
          <p:grpSp>
            <p:nvGrpSpPr>
              <p:cNvPr id="355" name="Group 228"/>
              <p:cNvGrpSpPr/>
              <p:nvPr/>
            </p:nvGrpSpPr>
            <p:grpSpPr>
              <a:xfrm>
                <a:off x="4105440" y="1725120"/>
                <a:ext cx="443520" cy="1081800"/>
                <a:chOff x="4105440" y="1725120"/>
                <a:chExt cx="443520" cy="1081800"/>
              </a:xfrm>
            </p:grpSpPr>
            <p:sp>
              <p:nvSpPr>
                <p:cNvPr id="356" name="Oval 229"/>
                <p:cNvSpPr/>
                <p:nvPr/>
              </p:nvSpPr>
              <p:spPr>
                <a:xfrm>
                  <a:off x="4181040" y="1943640"/>
                  <a:ext cx="281880" cy="223920"/>
                </a:xfrm>
                <a:prstGeom prst="ellipse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7" name="Group 230"/>
                <p:cNvGrpSpPr/>
                <p:nvPr/>
              </p:nvGrpSpPr>
              <p:grpSpPr>
                <a:xfrm>
                  <a:off x="4262400" y="1725120"/>
                  <a:ext cx="115560" cy="205200"/>
                  <a:chOff x="4262400" y="1725120"/>
                  <a:chExt cx="115560" cy="205200"/>
                </a:xfrm>
              </p:grpSpPr>
              <p:grpSp>
                <p:nvGrpSpPr>
                  <p:cNvPr id="358" name="Group 231"/>
                  <p:cNvGrpSpPr/>
                  <p:nvPr/>
                </p:nvGrpSpPr>
                <p:grpSpPr>
                  <a:xfrm>
                    <a:off x="4268880" y="1753920"/>
                    <a:ext cx="97200" cy="163800"/>
                    <a:chOff x="4268880" y="1753920"/>
                    <a:chExt cx="97200" cy="163800"/>
                  </a:xfrm>
                </p:grpSpPr>
                <p:grpSp>
                  <p:nvGrpSpPr>
                    <p:cNvPr id="359" name="Group 232"/>
                    <p:cNvGrpSpPr/>
                    <p:nvPr/>
                  </p:nvGrpSpPr>
                  <p:grpSpPr>
                    <a:xfrm>
                      <a:off x="4326480" y="1754640"/>
                      <a:ext cx="39600" cy="163080"/>
                      <a:chOff x="4326480" y="1754640"/>
                      <a:chExt cx="39600" cy="163080"/>
                    </a:xfrm>
                  </p:grpSpPr>
                  <p:cxnSp>
                    <p:nvCxnSpPr>
                      <p:cNvPr id="360" name="AutoShape 233"/>
                      <p:cNvCxnSpPr/>
                      <p:nvPr/>
                    </p:nvCxnSpPr>
                    <p:spPr>
                      <a:xfrm flipV="1">
                        <a:off x="4326480" y="1754640"/>
                        <a:ext cx="1080" cy="16344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548dd4"/>
                        </a:solidFill>
                        <a:miter/>
                      </a:ln>
                    </p:spPr>
                  </p:cxnSp>
                  <p:cxnSp>
                    <p:nvCxnSpPr>
                      <p:cNvPr id="361" name="AutoShape 234"/>
                      <p:cNvCxnSpPr/>
                      <p:nvPr/>
                    </p:nvCxnSpPr>
                    <p:spPr>
                      <a:xfrm flipV="1">
                        <a:off x="4326840" y="1822680"/>
                        <a:ext cx="39600" cy="7920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548dd4"/>
                        </a:solidFill>
                        <a:miter/>
                      </a:ln>
                    </p:spPr>
                  </p:cxnSp>
                  <p:cxnSp>
                    <p:nvCxnSpPr>
                      <p:cNvPr id="362" name="AutoShape 235"/>
                      <p:cNvCxnSpPr/>
                      <p:nvPr/>
                    </p:nvCxnSpPr>
                    <p:spPr>
                      <a:xfrm flipV="1">
                        <a:off x="4326840" y="1788480"/>
                        <a:ext cx="30600" cy="7452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548dd4"/>
                        </a:solidFill>
                        <a:miter/>
                      </a:ln>
                    </p:spPr>
                  </p:cxnSp>
                  <p:cxnSp>
                    <p:nvCxnSpPr>
                      <p:cNvPr id="363" name="AutoShape 236"/>
                      <p:cNvCxnSpPr/>
                      <p:nvPr/>
                    </p:nvCxnSpPr>
                    <p:spPr>
                      <a:xfrm flipV="1">
                        <a:off x="4326480" y="1764000"/>
                        <a:ext cx="21960" cy="5868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548dd4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364" name="Group 237"/>
                    <p:cNvGrpSpPr/>
                    <p:nvPr/>
                  </p:nvGrpSpPr>
                  <p:grpSpPr>
                    <a:xfrm>
                      <a:off x="4268880" y="1753920"/>
                      <a:ext cx="50400" cy="163080"/>
                      <a:chOff x="4268880" y="1753920"/>
                      <a:chExt cx="50400" cy="163080"/>
                    </a:xfrm>
                  </p:grpSpPr>
                  <p:cxnSp>
                    <p:nvCxnSpPr>
                      <p:cNvPr id="365" name="AutoShape 238"/>
                      <p:cNvCxnSpPr/>
                      <p:nvPr/>
                    </p:nvCxnSpPr>
                    <p:spPr>
                      <a:xfrm flipH="1" flipV="1">
                        <a:off x="4318560" y="1753920"/>
                        <a:ext cx="1080" cy="16344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548dd4"/>
                        </a:solidFill>
                        <a:miter/>
                      </a:ln>
                    </p:spPr>
                  </p:cxnSp>
                  <p:cxnSp>
                    <p:nvCxnSpPr>
                      <p:cNvPr id="366" name="AutoShape 239"/>
                      <p:cNvCxnSpPr/>
                      <p:nvPr/>
                    </p:nvCxnSpPr>
                    <p:spPr>
                      <a:xfrm flipH="1" flipV="1">
                        <a:off x="4268880" y="1821960"/>
                        <a:ext cx="50760" cy="7920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548dd4"/>
                        </a:solidFill>
                        <a:miter/>
                      </a:ln>
                    </p:spPr>
                  </p:cxnSp>
                  <p:cxnSp>
                    <p:nvCxnSpPr>
                      <p:cNvPr id="367" name="AutoShape 240"/>
                      <p:cNvCxnSpPr/>
                      <p:nvPr/>
                    </p:nvCxnSpPr>
                    <p:spPr>
                      <a:xfrm flipH="1" flipV="1">
                        <a:off x="4279680" y="1787760"/>
                        <a:ext cx="39600" cy="7452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548dd4"/>
                        </a:solidFill>
                        <a:miter/>
                      </a:ln>
                    </p:spPr>
                  </p:cxnSp>
                  <p:cxnSp>
                    <p:nvCxnSpPr>
                      <p:cNvPr id="368" name="AutoShape 241"/>
                      <p:cNvCxnSpPr/>
                      <p:nvPr/>
                    </p:nvCxnSpPr>
                    <p:spPr>
                      <a:xfrm flipH="1" flipV="1">
                        <a:off x="4291200" y="1763280"/>
                        <a:ext cx="28080" cy="5868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548dd4"/>
                        </a:solidFill>
                        <a:miter/>
                      </a:ln>
                    </p:spPr>
                  </p:cxnSp>
                </p:grpSp>
              </p:grpSp>
              <p:grpSp>
                <p:nvGrpSpPr>
                  <p:cNvPr id="369" name="Group 242"/>
                  <p:cNvGrpSpPr/>
                  <p:nvPr/>
                </p:nvGrpSpPr>
                <p:grpSpPr>
                  <a:xfrm>
                    <a:off x="4262400" y="1725120"/>
                    <a:ext cx="115560" cy="205200"/>
                    <a:chOff x="4262400" y="1725120"/>
                    <a:chExt cx="115560" cy="205200"/>
                  </a:xfrm>
                </p:grpSpPr>
                <p:sp>
                  <p:nvSpPr>
                    <p:cNvPr id="370" name="AutoShape 243"/>
                    <p:cNvSpPr/>
                    <p:nvPr/>
                  </p:nvSpPr>
                  <p:spPr>
                    <a:xfrm>
                      <a:off x="4262400" y="1729080"/>
                      <a:ext cx="6336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1473" y="241"/>
                            <a:pt x="1346" y="5080"/>
                            <a:pt x="1346" y="10800"/>
                          </a:cubicBezTo>
                          <a:cubicBezTo>
                            <a:pt x="1346" y="16520"/>
                            <a:pt x="11473" y="2135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e36c0a"/>
                    </a:solidFill>
                    <a:ln w="9360">
                      <a:solidFill>
                        <a:srgbClr val="548dd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244"/>
                    <p:cNvSpPr/>
                    <p:nvPr/>
                  </p:nvSpPr>
                  <p:spPr>
                    <a:xfrm rot="10625400">
                      <a:off x="4316400" y="1726200"/>
                      <a:ext cx="56160" cy="20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1594" y="285"/>
                            <a:pt x="1588" y="5080"/>
                            <a:pt x="1588" y="10800"/>
                          </a:cubicBezTo>
                          <a:cubicBezTo>
                            <a:pt x="1588" y="16520"/>
                            <a:pt x="11594" y="21315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e36c0a"/>
                    </a:solidFill>
                    <a:ln w="9360">
                      <a:solidFill>
                        <a:srgbClr val="548dd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72" name="AutoShape 245"/>
                <p:cNvSpPr/>
                <p:nvPr/>
              </p:nvSpPr>
              <p:spPr>
                <a:xfrm>
                  <a:off x="4105440" y="2167920"/>
                  <a:ext cx="443520" cy="39996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46"/>
                <p:cNvSpPr/>
                <p:nvPr/>
              </p:nvSpPr>
              <p:spPr>
                <a:xfrm>
                  <a:off x="4413960" y="2568240"/>
                  <a:ext cx="0" cy="1767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47"/>
                <p:cNvSpPr/>
                <p:nvPr/>
              </p:nvSpPr>
              <p:spPr>
                <a:xfrm>
                  <a:off x="4248360" y="2568240"/>
                  <a:ext cx="0" cy="1486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5" name="Group 248"/>
                <p:cNvGrpSpPr/>
                <p:nvPr/>
              </p:nvGrpSpPr>
              <p:grpSpPr>
                <a:xfrm>
                  <a:off x="4181040" y="1929240"/>
                  <a:ext cx="291960" cy="389880"/>
                  <a:chOff x="4181040" y="1929240"/>
                  <a:chExt cx="291960" cy="389880"/>
                </a:xfrm>
              </p:grpSpPr>
              <p:cxnSp>
                <p:nvCxnSpPr>
                  <p:cNvPr id="376" name="AutoShape 249"/>
                  <p:cNvCxnSpPr/>
                  <p:nvPr/>
                </p:nvCxnSpPr>
                <p:spPr>
                  <a:xfrm>
                    <a:off x="4201920" y="2004120"/>
                    <a:ext cx="235080" cy="4680"/>
                  </a:xfrm>
                  <a:prstGeom prst="straightConnector1">
                    <a:avLst/>
                  </a:prstGeom>
                  <a:ln w="38160">
                    <a:solidFill>
                      <a:srgbClr val="548dd4"/>
                    </a:solidFill>
                    <a:miter/>
                  </a:ln>
                </p:spPr>
              </p:cxnSp>
              <p:grpSp>
                <p:nvGrpSpPr>
                  <p:cNvPr id="377" name="Group 250"/>
                  <p:cNvGrpSpPr/>
                  <p:nvPr/>
                </p:nvGrpSpPr>
                <p:grpSpPr>
                  <a:xfrm>
                    <a:off x="4428360" y="1995480"/>
                    <a:ext cx="44640" cy="320400"/>
                    <a:chOff x="4428360" y="1995480"/>
                    <a:chExt cx="44640" cy="320400"/>
                  </a:xfrm>
                </p:grpSpPr>
                <p:sp>
                  <p:nvSpPr>
                    <p:cNvPr id="378" name="Oval 251"/>
                    <p:cNvSpPr/>
                    <p:nvPr/>
                  </p:nvSpPr>
                  <p:spPr>
                    <a:xfrm>
                      <a:off x="4428360" y="1995480"/>
                      <a:ext cx="349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Oval 252"/>
                    <p:cNvSpPr/>
                    <p:nvPr/>
                  </p:nvSpPr>
                  <p:spPr>
                    <a:xfrm>
                      <a:off x="4431240" y="2077200"/>
                      <a:ext cx="349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Oval 253"/>
                    <p:cNvSpPr/>
                    <p:nvPr/>
                  </p:nvSpPr>
                  <p:spPr>
                    <a:xfrm>
                      <a:off x="4434840" y="2158920"/>
                      <a:ext cx="349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Oval 254"/>
                    <p:cNvSpPr/>
                    <p:nvPr/>
                  </p:nvSpPr>
                  <p:spPr>
                    <a:xfrm>
                      <a:off x="4438080" y="2241000"/>
                      <a:ext cx="349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2" name="AutoShape 255"/>
                  <p:cNvSpPr/>
                  <p:nvPr/>
                </p:nvSpPr>
                <p:spPr>
                  <a:xfrm rot="5400000">
                    <a:off x="4260960" y="1858320"/>
                    <a:ext cx="1080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1938"/>
                          <a:pt x="10800" y="5080"/>
                          <a:pt x="10800" y="10800"/>
                        </a:cubicBezTo>
                        <a:cubicBezTo>
                          <a:pt x="10800" y="16520"/>
                          <a:pt x="16200" y="19662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Group 256"/>
                  <p:cNvGrpSpPr/>
                  <p:nvPr/>
                </p:nvGrpSpPr>
                <p:grpSpPr>
                  <a:xfrm>
                    <a:off x="4181040" y="1999080"/>
                    <a:ext cx="44640" cy="320040"/>
                    <a:chOff x="4181040" y="1999080"/>
                    <a:chExt cx="44640" cy="320040"/>
                  </a:xfrm>
                </p:grpSpPr>
                <p:sp>
                  <p:nvSpPr>
                    <p:cNvPr id="384" name="Oval 257"/>
                    <p:cNvSpPr/>
                    <p:nvPr/>
                  </p:nvSpPr>
                  <p:spPr>
                    <a:xfrm>
                      <a:off x="4181040" y="1999080"/>
                      <a:ext cx="349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Oval 258"/>
                    <p:cNvSpPr/>
                    <p:nvPr/>
                  </p:nvSpPr>
                  <p:spPr>
                    <a:xfrm>
                      <a:off x="4183920" y="2080800"/>
                      <a:ext cx="349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Oval 259"/>
                    <p:cNvSpPr/>
                    <p:nvPr/>
                  </p:nvSpPr>
                  <p:spPr>
                    <a:xfrm>
                      <a:off x="4187520" y="2162520"/>
                      <a:ext cx="349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Oval 260"/>
                    <p:cNvSpPr/>
                    <p:nvPr/>
                  </p:nvSpPr>
                  <p:spPr>
                    <a:xfrm>
                      <a:off x="4190760" y="2244240"/>
                      <a:ext cx="349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88" name="Oval 261"/>
                <p:cNvSpPr/>
                <p:nvPr/>
              </p:nvSpPr>
              <p:spPr>
                <a:xfrm rot="20313000">
                  <a:off x="4197960" y="2701800"/>
                  <a:ext cx="110880" cy="87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262"/>
                <p:cNvSpPr/>
                <p:nvPr/>
              </p:nvSpPr>
              <p:spPr>
                <a:xfrm rot="20313000">
                  <a:off x="4367880" y="2701800"/>
                  <a:ext cx="110880" cy="87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263"/>
              <p:cNvGrpSpPr/>
              <p:nvPr/>
            </p:nvGrpSpPr>
            <p:grpSpPr>
              <a:xfrm>
                <a:off x="4440240" y="2092680"/>
                <a:ext cx="298800" cy="702720"/>
                <a:chOff x="4440240" y="2092680"/>
                <a:chExt cx="298800" cy="702720"/>
              </a:xfrm>
            </p:grpSpPr>
            <p:grpSp>
              <p:nvGrpSpPr>
                <p:cNvPr id="391" name="Group 264"/>
                <p:cNvGrpSpPr/>
                <p:nvPr/>
              </p:nvGrpSpPr>
              <p:grpSpPr>
                <a:xfrm>
                  <a:off x="4440240" y="2092680"/>
                  <a:ext cx="298800" cy="702720"/>
                  <a:chOff x="4440240" y="2092680"/>
                  <a:chExt cx="298800" cy="702720"/>
                </a:xfrm>
              </p:grpSpPr>
              <p:grpSp>
                <p:nvGrpSpPr>
                  <p:cNvPr id="392" name="Group 265"/>
                  <p:cNvGrpSpPr/>
                  <p:nvPr/>
                </p:nvGrpSpPr>
                <p:grpSpPr>
                  <a:xfrm>
                    <a:off x="4440240" y="2092680"/>
                    <a:ext cx="298800" cy="702720"/>
                    <a:chOff x="4440240" y="2092680"/>
                    <a:chExt cx="298800" cy="702720"/>
                  </a:xfrm>
                </p:grpSpPr>
                <p:sp>
                  <p:nvSpPr>
                    <p:cNvPr id="393" name="Oval 266"/>
                    <p:cNvSpPr/>
                    <p:nvPr/>
                  </p:nvSpPr>
                  <p:spPr>
                    <a:xfrm>
                      <a:off x="4491000" y="2254680"/>
                      <a:ext cx="190080" cy="140040"/>
                    </a:xfrm>
                    <a:prstGeom prst="ellipse">
                      <a:avLst/>
                    </a:prstGeom>
                    <a:solidFill>
                      <a:srgbClr val="cc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AutoShape 267"/>
                    <p:cNvSpPr/>
                    <p:nvPr/>
                  </p:nvSpPr>
                  <p:spPr>
                    <a:xfrm>
                      <a:off x="4440240" y="2394720"/>
                      <a:ext cx="298800" cy="250560"/>
                    </a:xfrm>
                    <a:prstGeom prst="triangle">
                      <a:avLst>
                        <a:gd name="adj" fmla="val 50000"/>
                      </a:avLst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AutoShape 268"/>
                    <p:cNvSpPr/>
                    <p:nvPr/>
                  </p:nvSpPr>
                  <p:spPr>
                    <a:xfrm rot="5400000">
                      <a:off x="4547880" y="2194560"/>
                      <a:ext cx="67320" cy="16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1938"/>
                            <a:pt x="10800" y="5080"/>
                            <a:pt x="10800" y="10800"/>
                          </a:cubicBezTo>
                          <a:cubicBezTo>
                            <a:pt x="10800" y="16520"/>
                            <a:pt x="16200" y="19662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69"/>
                    <p:cNvSpPr/>
                    <p:nvPr/>
                  </p:nvSpPr>
                  <p:spPr>
                    <a:xfrm>
                      <a:off x="4647960" y="2645640"/>
                      <a:ext cx="0" cy="1105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70"/>
                    <p:cNvSpPr/>
                    <p:nvPr/>
                  </p:nvSpPr>
                  <p:spPr>
                    <a:xfrm>
                      <a:off x="4536360" y="2645640"/>
                      <a:ext cx="0" cy="9288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080" bIns="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98" name="Group 271"/>
                    <p:cNvGrpSpPr/>
                    <p:nvPr/>
                  </p:nvGrpSpPr>
                  <p:grpSpPr>
                    <a:xfrm>
                      <a:off x="4484880" y="2281680"/>
                      <a:ext cx="51480" cy="163080"/>
                      <a:chOff x="4484880" y="2281680"/>
                      <a:chExt cx="51480" cy="163080"/>
                    </a:xfrm>
                  </p:grpSpPr>
                  <p:sp>
                    <p:nvSpPr>
                      <p:cNvPr id="399" name="Oval 272"/>
                      <p:cNvSpPr/>
                      <p:nvPr/>
                    </p:nvSpPr>
                    <p:spPr>
                      <a:xfrm>
                        <a:off x="4484880" y="2281680"/>
                        <a:ext cx="40320" cy="38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0" name="Oval 273"/>
                      <p:cNvSpPr/>
                      <p:nvPr/>
                    </p:nvSpPr>
                    <p:spPr>
                      <a:xfrm>
                        <a:off x="4488480" y="2323080"/>
                        <a:ext cx="40320" cy="38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Oval 274"/>
                      <p:cNvSpPr/>
                      <p:nvPr/>
                    </p:nvSpPr>
                    <p:spPr>
                      <a:xfrm>
                        <a:off x="4492080" y="2364840"/>
                        <a:ext cx="40320" cy="38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2" name="Oval 275"/>
                      <p:cNvSpPr/>
                      <p:nvPr/>
                    </p:nvSpPr>
                    <p:spPr>
                      <a:xfrm>
                        <a:off x="4496040" y="2406600"/>
                        <a:ext cx="40320" cy="38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3" name="Group 276"/>
                    <p:cNvGrpSpPr/>
                    <p:nvPr/>
                  </p:nvGrpSpPr>
                  <p:grpSpPr>
                    <a:xfrm>
                      <a:off x="4640760" y="2281680"/>
                      <a:ext cx="51480" cy="163080"/>
                      <a:chOff x="4640760" y="2281680"/>
                      <a:chExt cx="51480" cy="163080"/>
                    </a:xfrm>
                  </p:grpSpPr>
                  <p:sp>
                    <p:nvSpPr>
                      <p:cNvPr id="404" name="Oval 277"/>
                      <p:cNvSpPr/>
                      <p:nvPr/>
                    </p:nvSpPr>
                    <p:spPr>
                      <a:xfrm>
                        <a:off x="4640760" y="2281680"/>
                        <a:ext cx="40320" cy="38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5" name="Oval 278"/>
                      <p:cNvSpPr/>
                      <p:nvPr/>
                    </p:nvSpPr>
                    <p:spPr>
                      <a:xfrm>
                        <a:off x="4644360" y="2323080"/>
                        <a:ext cx="40320" cy="38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6" name="Oval 279"/>
                      <p:cNvSpPr/>
                      <p:nvPr/>
                    </p:nvSpPr>
                    <p:spPr>
                      <a:xfrm>
                        <a:off x="4647960" y="2364840"/>
                        <a:ext cx="40320" cy="38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Oval 280"/>
                      <p:cNvSpPr/>
                      <p:nvPr/>
                    </p:nvSpPr>
                    <p:spPr>
                      <a:xfrm>
                        <a:off x="4651920" y="2406600"/>
                        <a:ext cx="40320" cy="38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08" name="Text Box 281"/>
                    <p:cNvSpPr/>
                    <p:nvPr/>
                  </p:nvSpPr>
                  <p:spPr>
                    <a:xfrm>
                      <a:off x="4478040" y="2092680"/>
                      <a:ext cx="22032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Oval 282"/>
                    <p:cNvSpPr/>
                    <p:nvPr/>
                  </p:nvSpPr>
                  <p:spPr>
                    <a:xfrm rot="20313000">
                      <a:off x="4502160" y="2728800"/>
                      <a:ext cx="74520" cy="54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Oval 283"/>
                    <p:cNvSpPr/>
                    <p:nvPr/>
                  </p:nvSpPr>
                  <p:spPr>
                    <a:xfrm rot="20313000">
                      <a:off x="4617000" y="2728800"/>
                      <a:ext cx="74520" cy="54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Line 284"/>
                  <p:cNvSpPr/>
                  <p:nvPr/>
                </p:nvSpPr>
                <p:spPr>
                  <a:xfrm>
                    <a:off x="4525200" y="2291040"/>
                    <a:ext cx="110520" cy="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285"/>
                <p:cNvGrpSpPr/>
                <p:nvPr/>
              </p:nvGrpSpPr>
              <p:grpSpPr>
                <a:xfrm>
                  <a:off x="4541400" y="2155320"/>
                  <a:ext cx="82440" cy="103320"/>
                  <a:chOff x="4541400" y="2155320"/>
                  <a:chExt cx="82440" cy="103320"/>
                </a:xfrm>
              </p:grpSpPr>
              <p:grpSp>
                <p:nvGrpSpPr>
                  <p:cNvPr id="413" name="Group 286"/>
                  <p:cNvGrpSpPr/>
                  <p:nvPr/>
                </p:nvGrpSpPr>
                <p:grpSpPr>
                  <a:xfrm>
                    <a:off x="4546080" y="2170080"/>
                    <a:ext cx="70560" cy="82080"/>
                    <a:chOff x="4546080" y="2170080"/>
                    <a:chExt cx="70560" cy="82080"/>
                  </a:xfrm>
                </p:grpSpPr>
                <p:grpSp>
                  <p:nvGrpSpPr>
                    <p:cNvPr id="414" name="Group 287"/>
                    <p:cNvGrpSpPr/>
                    <p:nvPr/>
                  </p:nvGrpSpPr>
                  <p:grpSpPr>
                    <a:xfrm>
                      <a:off x="4587840" y="2170440"/>
                      <a:ext cx="28800" cy="81720"/>
                      <a:chOff x="4587840" y="2170440"/>
                      <a:chExt cx="28800" cy="81720"/>
                    </a:xfrm>
                  </p:grpSpPr>
                  <p:cxnSp>
                    <p:nvCxnSpPr>
                      <p:cNvPr id="415" name="AutoShape 288"/>
                      <p:cNvCxnSpPr/>
                      <p:nvPr/>
                    </p:nvCxnSpPr>
                    <p:spPr>
                      <a:xfrm flipV="1">
                        <a:off x="4587840" y="2170440"/>
                        <a:ext cx="1080" cy="8208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416" name="AutoShape 289"/>
                      <p:cNvCxnSpPr/>
                      <p:nvPr/>
                    </p:nvCxnSpPr>
                    <p:spPr>
                      <a:xfrm flipV="1">
                        <a:off x="4587840" y="2203920"/>
                        <a:ext cx="29160" cy="3996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417" name="AutoShape 290"/>
                      <p:cNvCxnSpPr/>
                      <p:nvPr/>
                    </p:nvCxnSpPr>
                    <p:spPr>
                      <a:xfrm flipV="1">
                        <a:off x="4587840" y="2187360"/>
                        <a:ext cx="22680" cy="3744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418" name="AutoShape 291"/>
                      <p:cNvCxnSpPr/>
                      <p:nvPr/>
                    </p:nvCxnSpPr>
                    <p:spPr>
                      <a:xfrm flipV="1">
                        <a:off x="4587840" y="2174760"/>
                        <a:ext cx="15840" cy="2988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419" name="Group 292"/>
                    <p:cNvGrpSpPr/>
                    <p:nvPr/>
                  </p:nvGrpSpPr>
                  <p:grpSpPr>
                    <a:xfrm>
                      <a:off x="4546080" y="2170080"/>
                      <a:ext cx="36720" cy="81720"/>
                      <a:chOff x="4546080" y="2170080"/>
                      <a:chExt cx="36720" cy="81720"/>
                    </a:xfrm>
                  </p:grpSpPr>
                  <p:cxnSp>
                    <p:nvCxnSpPr>
                      <p:cNvPr id="420" name="AutoShape 293"/>
                      <p:cNvCxnSpPr/>
                      <p:nvPr/>
                    </p:nvCxnSpPr>
                    <p:spPr>
                      <a:xfrm flipH="1" flipV="1">
                        <a:off x="4582080" y="2170080"/>
                        <a:ext cx="1080" cy="8208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421" name="AutoShape 294"/>
                      <p:cNvCxnSpPr/>
                      <p:nvPr/>
                    </p:nvCxnSpPr>
                    <p:spPr>
                      <a:xfrm flipH="1" flipV="1">
                        <a:off x="4546080" y="2203560"/>
                        <a:ext cx="37080" cy="3996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422" name="AutoShape 295"/>
                      <p:cNvCxnSpPr/>
                      <p:nvPr/>
                    </p:nvCxnSpPr>
                    <p:spPr>
                      <a:xfrm flipH="1" flipV="1">
                        <a:off x="4554000" y="2187000"/>
                        <a:ext cx="28800" cy="3744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423" name="AutoShape 296"/>
                      <p:cNvCxnSpPr/>
                      <p:nvPr/>
                    </p:nvCxnSpPr>
                    <p:spPr>
                      <a:xfrm flipH="1" flipV="1">
                        <a:off x="4562640" y="2174400"/>
                        <a:ext cx="20520" cy="29880"/>
                      </a:xfrm>
                      <a:prstGeom prst="straightConnector1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</p:cxnSp>
                </p:grpSp>
              </p:grpSp>
              <p:grpSp>
                <p:nvGrpSpPr>
                  <p:cNvPr id="424" name="Group 297"/>
                  <p:cNvGrpSpPr/>
                  <p:nvPr/>
                </p:nvGrpSpPr>
                <p:grpSpPr>
                  <a:xfrm>
                    <a:off x="4541400" y="2155320"/>
                    <a:ext cx="82440" cy="103320"/>
                    <a:chOff x="4541400" y="2155320"/>
                    <a:chExt cx="82440" cy="103320"/>
                  </a:xfrm>
                </p:grpSpPr>
                <p:sp>
                  <p:nvSpPr>
                    <p:cNvPr id="425" name="AutoShape 298"/>
                    <p:cNvSpPr/>
                    <p:nvPr/>
                  </p:nvSpPr>
                  <p:spPr>
                    <a:xfrm>
                      <a:off x="4541400" y="2157840"/>
                      <a:ext cx="4608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1473" y="241"/>
                            <a:pt x="1346" y="5080"/>
                            <a:pt x="1346" y="10800"/>
                          </a:cubicBezTo>
                          <a:cubicBezTo>
                            <a:pt x="1346" y="16520"/>
                            <a:pt x="11473" y="2135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e36c0a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AutoShape 299"/>
                    <p:cNvSpPr/>
                    <p:nvPr/>
                  </p:nvSpPr>
                  <p:spPr>
                    <a:xfrm rot="10625400">
                      <a:off x="4580280" y="2156400"/>
                      <a:ext cx="4068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1594" y="285"/>
                            <a:pt x="1588" y="5080"/>
                            <a:pt x="1588" y="10800"/>
                          </a:cubicBezTo>
                          <a:cubicBezTo>
                            <a:pt x="1588" y="16520"/>
                            <a:pt x="11594" y="21315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27" name="Group 300"/>
            <p:cNvGrpSpPr/>
            <p:nvPr/>
          </p:nvGrpSpPr>
          <p:grpSpPr>
            <a:xfrm>
              <a:off x="2917800" y="1866600"/>
              <a:ext cx="669240" cy="957240"/>
              <a:chOff x="2917800" y="1866600"/>
              <a:chExt cx="669240" cy="957240"/>
            </a:xfrm>
          </p:grpSpPr>
          <p:grpSp>
            <p:nvGrpSpPr>
              <p:cNvPr id="428" name="Group 301"/>
              <p:cNvGrpSpPr/>
              <p:nvPr/>
            </p:nvGrpSpPr>
            <p:grpSpPr>
              <a:xfrm>
                <a:off x="3270960" y="1870920"/>
                <a:ext cx="316080" cy="944640"/>
                <a:chOff x="3270960" y="1870920"/>
                <a:chExt cx="316080" cy="944640"/>
              </a:xfrm>
            </p:grpSpPr>
            <p:grpSp>
              <p:nvGrpSpPr>
                <p:cNvPr id="429" name="Group 302"/>
                <p:cNvGrpSpPr/>
                <p:nvPr/>
              </p:nvGrpSpPr>
              <p:grpSpPr>
                <a:xfrm>
                  <a:off x="3270960" y="1870920"/>
                  <a:ext cx="316080" cy="944640"/>
                  <a:chOff x="3270960" y="1870920"/>
                  <a:chExt cx="316080" cy="944640"/>
                </a:xfrm>
              </p:grpSpPr>
              <p:grpSp>
                <p:nvGrpSpPr>
                  <p:cNvPr id="430" name="Group 303"/>
                  <p:cNvGrpSpPr/>
                  <p:nvPr/>
                </p:nvGrpSpPr>
                <p:grpSpPr>
                  <a:xfrm>
                    <a:off x="3270960" y="2123280"/>
                    <a:ext cx="316080" cy="610560"/>
                    <a:chOff x="3270960" y="2123280"/>
                    <a:chExt cx="316080" cy="610560"/>
                  </a:xfrm>
                </p:grpSpPr>
                <p:sp>
                  <p:nvSpPr>
                    <p:cNvPr id="431" name="Rectangle 304"/>
                    <p:cNvSpPr/>
                    <p:nvPr/>
                  </p:nvSpPr>
                  <p:spPr>
                    <a:xfrm>
                      <a:off x="3270960" y="2123280"/>
                      <a:ext cx="316080" cy="61056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305"/>
                    <p:cNvSpPr/>
                    <p:nvPr/>
                  </p:nvSpPr>
                  <p:spPr>
                    <a:xfrm>
                      <a:off x="3270960" y="2366280"/>
                      <a:ext cx="31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306"/>
                    <p:cNvSpPr/>
                    <p:nvPr/>
                  </p:nvSpPr>
                  <p:spPr>
                    <a:xfrm flipV="1">
                      <a:off x="3424320" y="2365200"/>
                      <a:ext cx="0" cy="362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4" name="Oval 307"/>
                  <p:cNvSpPr/>
                  <p:nvPr/>
                </p:nvSpPr>
                <p:spPr>
                  <a:xfrm rot="20313000">
                    <a:off x="3463920" y="2702880"/>
                    <a:ext cx="103320" cy="97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5" name="Group 308"/>
                  <p:cNvGrpSpPr/>
                  <p:nvPr/>
                </p:nvGrpSpPr>
                <p:grpSpPr>
                  <a:xfrm>
                    <a:off x="3285000" y="1870920"/>
                    <a:ext cx="276840" cy="233640"/>
                    <a:chOff x="3285000" y="1870920"/>
                    <a:chExt cx="276840" cy="233640"/>
                  </a:xfrm>
                </p:grpSpPr>
                <p:sp>
                  <p:nvSpPr>
                    <p:cNvPr id="436" name="Oval 309"/>
                    <p:cNvSpPr/>
                    <p:nvPr/>
                  </p:nvSpPr>
                  <p:spPr>
                    <a:xfrm>
                      <a:off x="3285000" y="1870920"/>
                      <a:ext cx="276840" cy="233640"/>
                    </a:xfrm>
                    <a:prstGeom prst="ellipse">
                      <a:avLst/>
                    </a:prstGeom>
                    <a:solidFill>
                      <a:srgbClr val="c3864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Freeform 310"/>
                    <p:cNvSpPr/>
                    <p:nvPr/>
                  </p:nvSpPr>
                  <p:spPr>
                    <a:xfrm flipH="1">
                      <a:off x="3486240" y="1883520"/>
                      <a:ext cx="75600" cy="1281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311"/>
                    <p:cNvSpPr/>
                    <p:nvPr/>
                  </p:nvSpPr>
                  <p:spPr>
                    <a:xfrm>
                      <a:off x="3285000" y="1883520"/>
                      <a:ext cx="73440" cy="123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9" name="Oval 312"/>
                  <p:cNvSpPr/>
                  <p:nvPr/>
                </p:nvSpPr>
                <p:spPr>
                  <a:xfrm rot="20313000">
                    <a:off x="3289680" y="2701800"/>
                    <a:ext cx="103320" cy="97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AutoShape 313"/>
                <p:cNvSpPr/>
                <p:nvPr/>
              </p:nvSpPr>
              <p:spPr>
                <a:xfrm rot="5851800">
                  <a:off x="3398760" y="1943640"/>
                  <a:ext cx="56880" cy="15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314"/>
              <p:cNvGrpSpPr/>
              <p:nvPr/>
            </p:nvGrpSpPr>
            <p:grpSpPr>
              <a:xfrm>
                <a:off x="2917800" y="1866600"/>
                <a:ext cx="448920" cy="957240"/>
                <a:chOff x="2917800" y="1866600"/>
                <a:chExt cx="448920" cy="957240"/>
              </a:xfrm>
            </p:grpSpPr>
            <p:sp>
              <p:nvSpPr>
                <p:cNvPr id="442" name="Oval 315"/>
                <p:cNvSpPr/>
                <p:nvPr/>
              </p:nvSpPr>
              <p:spPr>
                <a:xfrm>
                  <a:off x="3008880" y="1919160"/>
                  <a:ext cx="246600" cy="241200"/>
                </a:xfrm>
                <a:prstGeom prst="ellipse">
                  <a:avLst/>
                </a:prstGeom>
                <a:solidFill>
                  <a:srgbClr val="fabf8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316"/>
                <p:cNvSpPr/>
                <p:nvPr/>
              </p:nvSpPr>
              <p:spPr>
                <a:xfrm>
                  <a:off x="3177000" y="2557080"/>
                  <a:ext cx="0" cy="180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317"/>
                <p:cNvSpPr/>
                <p:nvPr/>
              </p:nvSpPr>
              <p:spPr>
                <a:xfrm rot="20313000">
                  <a:off x="3142800" y="2715480"/>
                  <a:ext cx="112320" cy="89640"/>
                </a:xfrm>
                <a:prstGeom prst="ellipse">
                  <a:avLst/>
                </a:prstGeom>
                <a:solidFill>
                  <a:srgbClr val="a5a5a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318"/>
                <p:cNvSpPr/>
                <p:nvPr/>
              </p:nvSpPr>
              <p:spPr>
                <a:xfrm>
                  <a:off x="3079080" y="1866600"/>
                  <a:ext cx="111960" cy="90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AutoShape 319"/>
                <p:cNvSpPr/>
                <p:nvPr/>
              </p:nvSpPr>
              <p:spPr>
                <a:xfrm>
                  <a:off x="2917800" y="2160360"/>
                  <a:ext cx="448920" cy="40788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320"/>
                <p:cNvSpPr/>
                <p:nvPr/>
              </p:nvSpPr>
              <p:spPr>
                <a:xfrm>
                  <a:off x="3059280" y="2559240"/>
                  <a:ext cx="0" cy="163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321"/>
                <p:cNvSpPr/>
                <p:nvPr/>
              </p:nvSpPr>
              <p:spPr>
                <a:xfrm rot="20313000">
                  <a:off x="2981160" y="2716560"/>
                  <a:ext cx="111960" cy="89640"/>
                </a:xfrm>
                <a:prstGeom prst="ellipse">
                  <a:avLst/>
                </a:prstGeom>
                <a:solidFill>
                  <a:srgbClr val="7f7f7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AutoShape 322"/>
                <p:cNvSpPr/>
                <p:nvPr/>
              </p:nvSpPr>
              <p:spPr>
                <a:xfrm rot="5609400">
                  <a:off x="3070080" y="1860840"/>
                  <a:ext cx="132480" cy="246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7163" y="2283"/>
                        <a:pt x="12725" y="5080"/>
                        <a:pt x="12725" y="10800"/>
                      </a:cubicBezTo>
                      <a:cubicBezTo>
                        <a:pt x="12725" y="16520"/>
                        <a:pt x="17163" y="1931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0" name="Group 323"/>
            <p:cNvGrpSpPr/>
            <p:nvPr/>
          </p:nvGrpSpPr>
          <p:grpSpPr>
            <a:xfrm>
              <a:off x="4935600" y="1887480"/>
              <a:ext cx="1039320" cy="942480"/>
              <a:chOff x="4935600" y="1887480"/>
              <a:chExt cx="1039320" cy="942480"/>
            </a:xfrm>
          </p:grpSpPr>
          <p:grpSp>
            <p:nvGrpSpPr>
              <p:cNvPr id="451" name="Group 324"/>
              <p:cNvGrpSpPr/>
              <p:nvPr/>
            </p:nvGrpSpPr>
            <p:grpSpPr>
              <a:xfrm>
                <a:off x="5177160" y="1893600"/>
                <a:ext cx="402840" cy="912240"/>
                <a:chOff x="5177160" y="1893600"/>
                <a:chExt cx="402840" cy="912240"/>
              </a:xfrm>
            </p:grpSpPr>
            <p:sp>
              <p:nvSpPr>
                <p:cNvPr id="452" name="AutoShape 325"/>
                <p:cNvSpPr/>
                <p:nvPr/>
              </p:nvSpPr>
              <p:spPr>
                <a:xfrm>
                  <a:off x="5177160" y="2130480"/>
                  <a:ext cx="402840" cy="412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Oval 326"/>
                <p:cNvSpPr/>
                <p:nvPr/>
              </p:nvSpPr>
              <p:spPr>
                <a:xfrm>
                  <a:off x="5255280" y="1893600"/>
                  <a:ext cx="251640" cy="227880"/>
                </a:xfrm>
                <a:prstGeom prst="ellipse">
                  <a:avLst/>
                </a:prstGeom>
                <a:solidFill>
                  <a:srgbClr val="593b1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327"/>
                <p:cNvSpPr/>
                <p:nvPr/>
              </p:nvSpPr>
              <p:spPr>
                <a:xfrm>
                  <a:off x="5430240" y="2540520"/>
                  <a:ext cx="0" cy="182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328"/>
                <p:cNvSpPr/>
                <p:nvPr/>
              </p:nvSpPr>
              <p:spPr>
                <a:xfrm>
                  <a:off x="5322600" y="2540520"/>
                  <a:ext cx="0" cy="182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29"/>
                <p:cNvSpPr/>
                <p:nvPr/>
              </p:nvSpPr>
              <p:spPr>
                <a:xfrm rot="20313000">
                  <a:off x="5394960" y="2699280"/>
                  <a:ext cx="100800" cy="90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330"/>
                <p:cNvSpPr/>
                <p:nvPr/>
              </p:nvSpPr>
              <p:spPr>
                <a:xfrm rot="20313000">
                  <a:off x="5252760" y="2700000"/>
                  <a:ext cx="100800" cy="90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331"/>
              <p:cNvGrpSpPr/>
              <p:nvPr/>
            </p:nvGrpSpPr>
            <p:grpSpPr>
              <a:xfrm>
                <a:off x="4935600" y="2066400"/>
                <a:ext cx="391320" cy="741240"/>
                <a:chOff x="4935600" y="2066400"/>
                <a:chExt cx="391320" cy="741240"/>
              </a:xfrm>
            </p:grpSpPr>
            <p:sp>
              <p:nvSpPr>
                <p:cNvPr id="459" name="AutoShape 332"/>
                <p:cNvSpPr/>
                <p:nvPr/>
              </p:nvSpPr>
              <p:spPr>
                <a:xfrm>
                  <a:off x="4935600" y="2257920"/>
                  <a:ext cx="391320" cy="333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Oval 333"/>
                <p:cNvSpPr/>
                <p:nvPr/>
              </p:nvSpPr>
              <p:spPr>
                <a:xfrm>
                  <a:off x="5011560" y="2066400"/>
                  <a:ext cx="244440" cy="18432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334"/>
                <p:cNvSpPr/>
                <p:nvPr/>
              </p:nvSpPr>
              <p:spPr>
                <a:xfrm>
                  <a:off x="5181480" y="2589840"/>
                  <a:ext cx="0" cy="1472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335"/>
                <p:cNvSpPr/>
                <p:nvPr/>
              </p:nvSpPr>
              <p:spPr>
                <a:xfrm>
                  <a:off x="5076720" y="2589840"/>
                  <a:ext cx="0" cy="1472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Oval 336"/>
                <p:cNvSpPr/>
                <p:nvPr/>
              </p:nvSpPr>
              <p:spPr>
                <a:xfrm rot="20313000">
                  <a:off x="5146560" y="2718000"/>
                  <a:ext cx="97920" cy="73080"/>
                </a:xfrm>
                <a:prstGeom prst="ellipse">
                  <a:avLst/>
                </a:prstGeom>
                <a:solidFill>
                  <a:srgbClr val="7f7f7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337"/>
                <p:cNvSpPr/>
                <p:nvPr/>
              </p:nvSpPr>
              <p:spPr>
                <a:xfrm rot="20313000">
                  <a:off x="5008680" y="2719080"/>
                  <a:ext cx="97920" cy="73080"/>
                </a:xfrm>
                <a:prstGeom prst="ellipse">
                  <a:avLst/>
                </a:prstGeom>
                <a:solidFill>
                  <a:srgbClr val="7f7f7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Group 338"/>
              <p:cNvGrpSpPr/>
              <p:nvPr/>
            </p:nvGrpSpPr>
            <p:grpSpPr>
              <a:xfrm>
                <a:off x="5415120" y="2254320"/>
                <a:ext cx="204120" cy="557280"/>
                <a:chOff x="5415120" y="2254320"/>
                <a:chExt cx="204120" cy="557280"/>
              </a:xfrm>
            </p:grpSpPr>
            <p:sp>
              <p:nvSpPr>
                <p:cNvPr id="466" name="Rectangle 339"/>
                <p:cNvSpPr/>
                <p:nvPr/>
              </p:nvSpPr>
              <p:spPr>
                <a:xfrm>
                  <a:off x="5417280" y="2395080"/>
                  <a:ext cx="201960" cy="355680"/>
                </a:xfrm>
                <a:prstGeom prst="rect">
                  <a:avLst/>
                </a:prstGeom>
                <a:solidFill>
                  <a:srgbClr val="d8d8d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340"/>
                <p:cNvSpPr/>
                <p:nvPr/>
              </p:nvSpPr>
              <p:spPr>
                <a:xfrm>
                  <a:off x="5417280" y="2532600"/>
                  <a:ext cx="201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341"/>
                <p:cNvSpPr/>
                <p:nvPr/>
              </p:nvSpPr>
              <p:spPr>
                <a:xfrm flipV="1">
                  <a:off x="5516280" y="2532600"/>
                  <a:ext cx="0" cy="21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Oval 342"/>
                <p:cNvSpPr/>
                <p:nvPr/>
              </p:nvSpPr>
              <p:spPr>
                <a:xfrm rot="20313000">
                  <a:off x="5540400" y="2747520"/>
                  <a:ext cx="67320" cy="5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Oval 343"/>
                <p:cNvSpPr/>
                <p:nvPr/>
              </p:nvSpPr>
              <p:spPr>
                <a:xfrm rot="20313000">
                  <a:off x="5422320" y="2747520"/>
                  <a:ext cx="67320" cy="5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Oval 344"/>
                <p:cNvSpPr/>
                <p:nvPr/>
              </p:nvSpPr>
              <p:spPr>
                <a:xfrm>
                  <a:off x="5436000" y="2254320"/>
                  <a:ext cx="168480" cy="134280"/>
                </a:xfrm>
                <a:prstGeom prst="ellipse">
                  <a:avLst/>
                </a:prstGeom>
                <a:solidFill>
                  <a:srgbClr val="593b1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345"/>
              <p:cNvGrpSpPr/>
              <p:nvPr/>
            </p:nvGrpSpPr>
            <p:grpSpPr>
              <a:xfrm>
                <a:off x="5723280" y="2169360"/>
                <a:ext cx="251640" cy="571680"/>
                <a:chOff x="5723280" y="2169360"/>
                <a:chExt cx="251640" cy="571680"/>
              </a:xfrm>
            </p:grpSpPr>
            <p:cxnSp>
              <p:nvCxnSpPr>
                <p:cNvPr id="473" name="AutoShape 346"/>
                <p:cNvCxnSpPr/>
                <p:nvPr/>
              </p:nvCxnSpPr>
              <p:spPr>
                <a:xfrm>
                  <a:off x="5723280" y="2201040"/>
                  <a:ext cx="249840" cy="50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4" name="AutoShape 347"/>
                <p:cNvCxnSpPr/>
                <p:nvPr/>
              </p:nvCxnSpPr>
              <p:spPr>
                <a:xfrm flipV="1">
                  <a:off x="5723280" y="2169360"/>
                  <a:ext cx="173880" cy="208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5" name="AutoShape 348"/>
                <p:cNvCxnSpPr/>
                <p:nvPr/>
              </p:nvCxnSpPr>
              <p:spPr>
                <a:xfrm>
                  <a:off x="5896440" y="2169360"/>
                  <a:ext cx="78840" cy="5720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76" name="Group 349"/>
              <p:cNvGrpSpPr/>
              <p:nvPr/>
            </p:nvGrpSpPr>
            <p:grpSpPr>
              <a:xfrm>
                <a:off x="5533200" y="1887480"/>
                <a:ext cx="307440" cy="942480"/>
                <a:chOff x="5533200" y="1887480"/>
                <a:chExt cx="307440" cy="942480"/>
              </a:xfrm>
            </p:grpSpPr>
            <p:sp>
              <p:nvSpPr>
                <p:cNvPr id="477" name="Rectangle 350"/>
                <p:cNvSpPr/>
                <p:nvPr/>
              </p:nvSpPr>
              <p:spPr>
                <a:xfrm>
                  <a:off x="5537880" y="2126880"/>
                  <a:ext cx="302760" cy="602280"/>
                </a:xfrm>
                <a:prstGeom prst="rect">
                  <a:avLst/>
                </a:prstGeom>
                <a:solidFill>
                  <a:srgbClr val="c2d69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Line 351"/>
                <p:cNvSpPr/>
                <p:nvPr/>
              </p:nvSpPr>
              <p:spPr>
                <a:xfrm>
                  <a:off x="5537880" y="2359800"/>
                  <a:ext cx="30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52"/>
                <p:cNvSpPr/>
                <p:nvPr/>
              </p:nvSpPr>
              <p:spPr>
                <a:xfrm flipV="1">
                  <a:off x="5686200" y="2359080"/>
                  <a:ext cx="0" cy="36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353"/>
                <p:cNvSpPr/>
                <p:nvPr/>
              </p:nvSpPr>
              <p:spPr>
                <a:xfrm rot="20313000">
                  <a:off x="5723280" y="2723760"/>
                  <a:ext cx="100800" cy="90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Oval 354"/>
                <p:cNvSpPr/>
                <p:nvPr/>
              </p:nvSpPr>
              <p:spPr>
                <a:xfrm rot="20313000">
                  <a:off x="5546160" y="2723760"/>
                  <a:ext cx="100800" cy="90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Oval 355"/>
                <p:cNvSpPr/>
                <p:nvPr/>
              </p:nvSpPr>
              <p:spPr>
                <a:xfrm>
                  <a:off x="5565600" y="1887480"/>
                  <a:ext cx="252720" cy="2278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5"/>
          <p:cNvSpPr/>
          <p:nvPr/>
        </p:nvSpPr>
        <p:spPr>
          <a:xfrm>
            <a:off x="285840" y="4643280"/>
            <a:ext cx="860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mds.gov.br/s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800- 707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7" descr="logo_suas"/>
          <p:cNvPicPr/>
          <p:nvPr/>
        </p:nvPicPr>
        <p:blipFill>
          <a:blip r:embed="rId2"/>
          <a:stretch/>
        </p:blipFill>
        <p:spPr>
          <a:xfrm>
            <a:off x="2928960" y="928800"/>
            <a:ext cx="3462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aixaDeTexto 3"/>
          <p:cNvSpPr/>
          <p:nvPr/>
        </p:nvSpPr>
        <p:spPr>
          <a:xfrm>
            <a:off x="71280" y="428760"/>
            <a:ext cx="892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Garamond"/>
              </a:rPr>
              <a:t>Protocolo de Gestão Integrada de Serviços, Benefícios e Transferências de Renda no âmbito do Sistema Único de Assistência Social – SU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4"/>
          <p:cNvSpPr/>
          <p:nvPr/>
        </p:nvSpPr>
        <p:spPr>
          <a:xfrm>
            <a:off x="285840" y="1474920"/>
            <a:ext cx="8429400" cy="59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Garamond"/>
              </a:rPr>
              <a:t>Breve Histór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Na 74ª reunião ordinária da CIT (11/03/08) foi abordada a necessidade de aprovação do Protocolo de Gestão, dada sua importância para a materialização dos direitos socioassistenciais nos territó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O Protocolo foi amplamente divulgado em 2009. As sugestões encaminhadas ao Ministério foram discutidas em duas reuniões da C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O Protocolo foi aprovado na última reunião da CIT, de setembro de 2009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Este Protocolo foi elaborado conjuntamente pela Secretaria Nacional de Assistência Social (SNAS) e Secretaria Nacional de Renda de Cidadania (SENAR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aixaDeTexto 3"/>
          <p:cNvSpPr/>
          <p:nvPr/>
        </p:nvSpPr>
        <p:spPr>
          <a:xfrm>
            <a:off x="1214280" y="1571760"/>
            <a:ext cx="67154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O Protocolo de Gestão Integrada de Serviços, Benefícios e Transferências de Renda no âmbito do Sistema Único de Assistência Social – SUAS </a:t>
            </a:r>
            <a:r>
              <a:rPr b="0" lang="pt-BR" sz="2400" spc="-1" strike="noStrike">
                <a:solidFill>
                  <a:srgbClr val="0000ff"/>
                </a:solidFill>
                <a:latin typeface="Garamond"/>
              </a:rPr>
              <a:t>tem por foco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a integração/ articulação entre os benefícios socioassistenciais, transferência de renda e serviços socioassistenciais do SU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aixaDeTexto 1"/>
          <p:cNvSpPr/>
          <p:nvPr/>
        </p:nvSpPr>
        <p:spPr>
          <a:xfrm>
            <a:off x="285840" y="285840"/>
            <a:ext cx="86439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aramond"/>
              </a:rPr>
              <a:t>A integração/ articulação entre os benefícios socioassistenciais, transferência de renda e serviços socioassistenciais do SUAS vincula segurança de renda às seguranças de convívio familiar, comunitário e de desenvolvimento da autonomia previstas na Política Nacional de Assistência Social,  de modo a materializar os direitos socioassistenci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Garamond"/>
              </a:rPr>
              <a:t>As situações de vulnerabilidade e risco  social podem ser agravadas                                               em contextos de pobreza e extrema pobr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030"/>
          <p:cNvSpPr/>
          <p:nvPr/>
        </p:nvSpPr>
        <p:spPr>
          <a:xfrm rot="585000">
            <a:off x="4123800" y="3868560"/>
            <a:ext cx="181080" cy="627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571680" y="4857840"/>
            <a:ext cx="814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Garamond"/>
              </a:rPr>
              <a:t>Efetivar a constituição de redes de proteção social e materialização da política de assistência social nos territó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030"/>
          <p:cNvSpPr/>
          <p:nvPr/>
        </p:nvSpPr>
        <p:spPr>
          <a:xfrm rot="585000">
            <a:off x="4051440" y="2531880"/>
            <a:ext cx="423720" cy="639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aixaDeTexto 2"/>
          <p:cNvSpPr/>
          <p:nvPr/>
        </p:nvSpPr>
        <p:spPr>
          <a:xfrm>
            <a:off x="785880" y="1928880"/>
            <a:ext cx="77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aramond"/>
              </a:rPr>
              <a:t>Acordar procedimentos para a gestão integrada dos serviços, benefícios e transferências de renda para o acompanhamento das famílias do PBF, PETI e BPC no âmbito do SU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030"/>
          <p:cNvSpPr/>
          <p:nvPr/>
        </p:nvSpPr>
        <p:spPr>
          <a:xfrm rot="585000">
            <a:off x="4305240" y="3144960"/>
            <a:ext cx="963720" cy="1154160"/>
          </a:xfrm>
          <a:prstGeom prst="pie">
            <a:avLst/>
          </a:prstGeom>
          <a:noFill/>
          <a:ln w="2844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4"/>
          <p:cNvSpPr/>
          <p:nvPr/>
        </p:nvSpPr>
        <p:spPr>
          <a:xfrm>
            <a:off x="3357720" y="4500720"/>
            <a:ext cx="5413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aramond"/>
              </a:rPr>
              <a:t>A gestão integrada é uma estratégia para qualificar e potencializar o impacto dos benefícios assistenciais, transferência de renda e dos serviços do SU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3"/>
          <p:cNvSpPr/>
          <p:nvPr/>
        </p:nvSpPr>
        <p:spPr>
          <a:xfrm>
            <a:off x="428760" y="42876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Garamond"/>
              </a:rPr>
              <a:t>Protocolo de Gestão Integrada de Serviços, Benefícios e Transferências de Renda no âmbito do Sistema Único de Assistência Social – SUAS </a:t>
            </a:r>
            <a:r>
              <a:rPr b="1" lang="pt-BR" sz="2200" spc="-1" strike="noStrike">
                <a:solidFill>
                  <a:srgbClr val="0000ff"/>
                </a:solidFill>
                <a:latin typeface="Garamond"/>
              </a:rPr>
              <a:t>resolv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CaixaDeTexto 2"/>
          <p:cNvSpPr/>
          <p:nvPr/>
        </p:nvSpPr>
        <p:spPr>
          <a:xfrm>
            <a:off x="285840" y="428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Protocolo de Gestão Integrad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ixaDeTexto 3"/>
          <p:cNvSpPr/>
          <p:nvPr/>
        </p:nvSpPr>
        <p:spPr>
          <a:xfrm>
            <a:off x="2714760" y="1428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Garamond"/>
              </a:rPr>
              <a:t>normatiza gest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ixaDeTexto 4"/>
          <p:cNvSpPr/>
          <p:nvPr/>
        </p:nvSpPr>
        <p:spPr>
          <a:xfrm>
            <a:off x="3143160" y="2071800"/>
            <a:ext cx="5786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Garamond"/>
              </a:rPr>
              <a:t>Dispõem sobre as responsabilidades dos entes federativos sobre a operacionalização da gestão integra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Garamond"/>
              </a:rPr>
              <a:t>Dispõem sobre os fluxos de repasse e gestão de informaçõe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Garamond"/>
              </a:rPr>
              <a:t>Dispõem sobre os procedimentos referentes ao atendimento às famíli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030"/>
          <p:cNvSpPr/>
          <p:nvPr/>
        </p:nvSpPr>
        <p:spPr>
          <a:xfrm rot="175800">
            <a:off x="2730240" y="938160"/>
            <a:ext cx="387360" cy="627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aixaDeTexto 1"/>
          <p:cNvSpPr/>
          <p:nvPr/>
        </p:nvSpPr>
        <p:spPr>
          <a:xfrm>
            <a:off x="285840" y="285840"/>
            <a:ext cx="8572320" cy="74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Objetivos do Protocolo de Gestão Integr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Garamond"/>
              </a:rPr>
              <a:t>Pactuar, entre os entes federados, procedimentos que garantam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a oferta prioritária de serviços socioassistenciais para as famílias beneficiárias  de benefícios assistenciais e transferência de rend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o encaminhamento para acesso a benefícios assistenciais e transferência de renda a indivíduos e famílias atendidos nos serviços socioassistenci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Garamond"/>
              </a:rPr>
              <a:t>Favorecer  a identificação das situações de risco ou vulnerabilidade social (causas de descumprimento de condicionalidades - violência, trabalho infantil, etc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Garamond"/>
              </a:rPr>
              <a:t>Contribuir na superação de situações de vulnerabilidade e risco identificadas, por meio de oferta de acompanhamento familiar e encaminhamentos para a rede socioassistencial e das demais políticas públicas e quando necessário, para órgãos do Sistema de Garantia de Direitos 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aixaDeTexto 1"/>
          <p:cNvSpPr/>
          <p:nvPr/>
        </p:nvSpPr>
        <p:spPr>
          <a:xfrm>
            <a:off x="357120" y="357120"/>
            <a:ext cx="842976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Público - Alvo do Protocolo de Gestão Integrad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Garamond"/>
              </a:rPr>
              <a:t>Famílias beneficiárias de transferência de renda e famílias com beneficiários do B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Serão priorizados no acompanhamento famili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I – as famílias que vivenciam situações de risco soci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II - as famílias do PBF que estão em descumprimento de condicionalidades, na repercussão: “suspensão do benefício por dois meses”, a fim de garantir a segurança de renda das famílias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III – demais famílias do PBF em situação de descumprimento de condiciona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IV - famílias com beneficiários do BPC que se encontrem em situação de maior vulnerabi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aixaDeTexto 1"/>
          <p:cNvSpPr/>
          <p:nvPr/>
        </p:nvSpPr>
        <p:spPr>
          <a:xfrm>
            <a:off x="214200" y="324000"/>
            <a:ext cx="8643960" cy="72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O Protocolo de Gestão  favore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Produção e repasse sistemático de informações para Estados, DF e Municípios, como condição para a Gestão Integ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tratamento das informações pelos estados e municípios e repasse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para CRAS e 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Definição de atribuições e fluxo entre a Proteção Social Básica e Proteção Social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Encaminhamentos para políticas setoriais e S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Elaboração de uma estratégia de acompanhamento familiar para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situações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de maior risco social em municípios sem a presença de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CRAS e ou 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Definição de um processo de monitoramento da Gestão Integ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030"/>
          <p:cNvSpPr/>
          <p:nvPr/>
        </p:nvSpPr>
        <p:spPr>
          <a:xfrm rot="585000">
            <a:off x="2663640" y="3606480"/>
            <a:ext cx="447480" cy="4302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030"/>
          <p:cNvSpPr/>
          <p:nvPr/>
        </p:nvSpPr>
        <p:spPr>
          <a:xfrm rot="585000">
            <a:off x="1402920" y="3681000"/>
            <a:ext cx="530280" cy="8524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Conector de seta reta 6"/>
          <p:cNvCxnSpPr/>
          <p:nvPr/>
        </p:nvCxnSpPr>
        <p:spPr>
          <a:xfrm>
            <a:off x="844560" y="2038320"/>
            <a:ext cx="286560" cy="21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7:39:36Z</dcterms:created>
  <dc:creator>priscilla.maia</dc:creator>
  <dc:description/>
  <dc:language>en-US</dc:language>
  <cp:lastModifiedBy>mmazzarotto</cp:lastModifiedBy>
  <dcterms:modified xsi:type="dcterms:W3CDTF">2010-03-16T13:05:58Z</dcterms:modified>
  <cp:revision>97</cp:revision>
  <dc:subject/>
  <dc:title>Slide 1</dc:title>
</cp:coreProperties>
</file>