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EE3-0AA9-4389-95BD-E49852FA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409-E96F-467A-AA77-8013E0E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B8F-2A23-40A1-B878-45FCAB84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076-8AFC-4815-AA25-9D97F359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680-7CCF-4BFD-AE39-49D6D417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989-F804-4238-9799-E75C0B5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A25-0911-42DA-AC0B-DA0D3D9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EB4-7949-436E-BBC7-4565B87F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EE1-1958-4A50-AF11-F54E067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E42-CF19-4702-A14E-0847396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6F-647A-49D6-9E43-457202E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161-B4FC-411A-B43C-7C91485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2C0-AF2A-43AB-AB1A-27ABC8AC4D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67" name="Espaço Reservado para Conteúdo 10" descr=""/>
          <p:cNvPicPr/>
          <p:nvPr/>
        </p:nvPicPr>
        <p:blipFill>
          <a:blip r:embed="rId1"/>
          <a:stretch/>
        </p:blipFill>
        <p:spPr>
          <a:xfrm>
            <a:off x="268200" y="1481040"/>
            <a:ext cx="7723440" cy="4322880"/>
          </a:xfrm>
          <a:prstGeom prst="rect">
            <a:avLst/>
          </a:prstGeom>
          <a:ln w="0">
            <a:noFill/>
          </a:ln>
        </p:spPr>
      </p:pic>
      <p:pic>
        <p:nvPicPr>
          <p:cNvPr id="68" name="CaixaDeTexto 11" descr=""/>
          <p:cNvPicPr/>
          <p:nvPr/>
        </p:nvPicPr>
        <p:blipFill>
          <a:blip r:embed="rId2"/>
          <a:stretch/>
        </p:blipFill>
        <p:spPr>
          <a:xfrm>
            <a:off x="8217000" y="993600"/>
            <a:ext cx="933480" cy="5413680"/>
          </a:xfrm>
          <a:prstGeom prst="rect">
            <a:avLst/>
          </a:prstGeom>
          <a:ln w="0">
            <a:noFill/>
          </a:ln>
        </p:spPr>
      </p:pic>
      <p:sp>
        <p:nvSpPr>
          <p:cNvPr id="69" name="Seta para a esquerda 13"/>
          <p:cNvSpPr/>
          <p:nvPr/>
        </p:nvSpPr>
        <p:spPr>
          <a:xfrm>
            <a:off x="7715160" y="18572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ta para a esquerda 14"/>
          <p:cNvSpPr/>
          <p:nvPr/>
        </p:nvSpPr>
        <p:spPr>
          <a:xfrm>
            <a:off x="7715160" y="34448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ta para a esquerda 15"/>
          <p:cNvSpPr/>
          <p:nvPr/>
        </p:nvSpPr>
        <p:spPr>
          <a:xfrm>
            <a:off x="7715160" y="50720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 Coordenador – Ministério das Cidade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 Operador – Caixa Econômica Federal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Financeiros – Caixa Econômica Federal, Instituições Financeiras Privadas, Cooperativas de Crédi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Promotores – Governos Estaduais, Governos Municipais, Entidades Privadas sem Fins Lucrativos Vinculadas ao Setor Habitacional, Promotores Priv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de Assistência Técn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Frutiger 55 Roman"/>
              </a:rPr>
              <a:t>Ministério das Cidade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– órgão central do Sistema Nacional de Habitação (SNH) que deve coordenar sua implementação, junto com o Conselho Nacional das Cidades (CNC) e Conselho Gestor do FNH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É a instância responsável pela formulação e implementação da Política Nacional de Habitação (PNH) e do Plano Nacional de Habitação (PLANHAB), ouvido o CNC, visando à construção, com base no pacto federativo, do Sistema Nacional de Habitação (SNH) composto pelo Sistema Nacional de Habitação de Interesse Social (SNHIS) e pelo Sistema Nacional de Habitação de Mercado (SNHM)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 estruturar o Sistema de Informação, Avaliação e Monitoramento da Habitação, instrumento da PNH, composto pelo cadastro de beneficiários e por bancos de dados e informações nacionais, estaduais e municipais para o monitoramento e avaliação do processo de implementação da PNH e do PlanHab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Caixa Econômica Federal (CEF)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deve operar todos os aspectos relacionados com os repasses não onerosos e concessão de empréstimos realizados com recursos financeiros da União destinados à produção, aquisição e melhorias habitacionais e ao desenvolvimento institucional dos agentes do SNHI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Caixa Econômica Federal (CEF) e Instituições Financeiras Públicas ou Privadas Habilitad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além de contratar empréstimos para  promotores privados destinados a apoiar a produção habitacional, devem contratar empréstimos junto aos mutuário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Frutiger 55 Roman"/>
              </a:rPr>
              <a:t>Governos Estaduai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– devem aderir ao SNH e construir seus Sistemas Estaduais de Habitação (SEH) por meio da criação, quando não existir, ou da estruturação de um órgão da administração pública direta responsável pela política habitacional do Estado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m instituir seus Conselhos Gestores dos Fundos Estaduais de Habitação (CGFEH) e seus Fundos Estaduais de Habitação (FEH) conforme determina a Lei Federal 11.124/2004, regulamentada pelo Decreto 5.796/2005, articulados, respectivamente, com seus Conselhos e Fundos das Cidades ou similar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Órgãos Estaduais das Administrações Públicas Diretas Responsáveis pelas Políticas Habitacionais nos Estad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devem formular suas Políticas Estaduais de Habitação (PEH) e elaborar seus Planos Estaduais de Habitação (PleHab) junto com os Conselhos Estaduais de Habitação (CEH), com o envolvimento de diversos atores sociais e de gestores municipais, baseado em ampla articulação com as políticas e planos municipais de habitação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Governos Municipai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devem aderir ao SNH e construir o Sistema Municipal de Habitação (SMH) por meio da criação, quando não existir, e da estruturação de um órgão da administração pública direta responsável pela política habitacional do Município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vem instituir seus Conselhos Municipais de Habitação (CMH) e seus Fundos Municipais de Habitação (FMH) conforme a Lei Federal 11.124/2004, regulamentada pelo Decreto 5.796/2005, articulados, respectivamente, com o Conselho e Fundo das Cidades ou similar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MH – ¼ dos membros - representantes de movimentos populares e associações de moradore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Órgãos Municipais das Administrações Públicas Diretas Responsáveis pelas Políticas Habitacionais nos Municípi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devem formular as Políticas Municipais de Habitação (PMH) e elaborar seus Planos Municipais de Habitação (PlamHab) ) junto com os Conselhos Municipais de Habitação (CMH) e baseados em amplos processos de participação cidadã que incluam os diversos atores sociais envolvidos com as questões habitacionais locai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Promotores Privados Vinculados ao Setor Habitacional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atuam, mediante contratos com o agente coordenador, governos estaduais e municipais, na execução de serviços que complementem os processos de formulação e implementação das Políticas Nacional, Estaduais e Municipais de Habitação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 55 Roman"/>
              </a:rPr>
              <a:t>Organização Institucional para Gestão e Monitoramento da Política e Plano Habitacional Loc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72360" y="3716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azuo Nak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Agentes de Assistência Técnica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devem preencher os requisitos exigidos pelo agente coordenador para sua habilitação e cadastramento junto aos municípios onde serão executadas as obra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evem possuir equipes multidisciplinares capazes de oferecer assistências arquitetônicas, jurídicas, sociais, contábeis e de engenharia civi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umári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ontos críticos na organização institucional atual da política habitacion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onstrução do sistema nacional de habit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gentes envolvidos na construção do sistema nacional de habit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85920"/>
          <a:ext cx="8229600" cy="4911840"/>
        </p:xfrm>
        <a:graphic>
          <a:graphicData uri="http://schemas.openxmlformats.org/drawingml/2006/table">
            <a:tbl>
              <a:tblPr/>
              <a:tblGrid>
                <a:gridCol w="6257880"/>
                <a:gridCol w="1214640"/>
                <a:gridCol w="7570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CURSOS INSTITUCIONAIS NA ÁREA HABIT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Nº de Municípios –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enhuma capacidade administr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penas cadastro de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pensas órg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adastro de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8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elho sem fun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54" name="CaixaDeTexto 5"/>
          <p:cNvSpPr/>
          <p:nvPr/>
        </p:nvSpPr>
        <p:spPr>
          <a:xfrm>
            <a:off x="440640" y="621504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IBGE – Perfil dos Municípios Brasileiros - Gestão Pública, 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285920"/>
          <a:ext cx="8229600" cy="4540320"/>
        </p:xfrm>
        <a:graphic>
          <a:graphicData uri="http://schemas.openxmlformats.org/drawingml/2006/table">
            <a:tbl>
              <a:tblPr/>
              <a:tblGrid>
                <a:gridCol w="6400800"/>
                <a:gridCol w="1071720"/>
                <a:gridCol w="7570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CURSOS INSTITUCIONAIS NA ÁREA HABIT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Nº de Municípios -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2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, conselho se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, conselho se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, conselho co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onselho co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onselho com fundo, 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57" name="CaixaDeTexto 4"/>
          <p:cNvSpPr/>
          <p:nvPr/>
        </p:nvSpPr>
        <p:spPr>
          <a:xfrm>
            <a:off x="440640" y="585792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IBGE – Perfil dos Municípios Brasileiros - Gestão Pública, 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Fragilidades políticas, técnicas e institucionai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formulação e articulação entre políticas, planos, programas e projetos habit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promoção pública de acesso à terra urbana adequada para habitação de interesse social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o planejamento e gestão metropolitana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o controle social por meio dos canais institucionais de participação (conselhos)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construção dos componentes do sistema nacional de habitação que muitas vezes são atropelados por investimentos como, por exemplo, o PAC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esarticulações e conflitos entre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líticas urbanas e habitacionais – separações entre órgãos, fundos e conselhos de desenvolvimento urbano e habitacional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instâncias formuladoras e executoras da política habitacional (secretarias de habitação x companhias ou agências habitacionais)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líticas e ações habitacionais dos diferentes entes da federação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úcleos paralelos de decisão sobre os usos das diferentes fontes de recurs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425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centralização federativ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rticulação intersetori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Gestão democrátic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gulação pública (função social da propriedade)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envolvimento institucional e fortalecimento da gestão pública loc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20T13:32:59Z</dcterms:modified>
  <cp:revision>45</cp:revision>
  <dc:subject/>
  <dc:title>Slide 1</dc:title>
</cp:coreProperties>
</file>