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8DC-D1F1-45F4-9B87-3577B934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1FA-1985-4258-8151-BF0CA31A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42C-5E16-43D9-BA7E-BD637924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F3B-ADE5-4F24-A972-1213A576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933-BB8F-4FD1-9E62-4BE61B70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623-059C-4978-A22A-F09E09EC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53D-2441-4B73-9EF1-FC25D0BF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38C-2360-4015-AB12-303C46D1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6F2-FB7E-4D64-8ED3-564590BC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2D1-62E2-47AC-923F-C061315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D3C-1A49-448C-863B-8AA05CE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A88-2E94-400E-B0E3-EF3CE9F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E761-20D1-4EE8-B4E9-A5E9E21209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44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omicílios com coabitação familiar: 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mpreende a soma das famílias conviventes secundárias com as famílias que viviam em cômodos cedidos ou alugados (considerados como domicílios com coabitação disfarçada)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Famílias conviventes secundárias: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famílias constituídas por, no mínimo, duas pessoas que residem em um mesmo domicílio junto com outra família denominada principal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57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omicílios cujos moradores possuem ônus excessivo com aluguel: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domicílios com famílias que recebem até três salários mínimos e tem 30% da sua renda familiar comprometida com aluguel - parâmetro do antigo BNH e CEF  - máximo tolerável de gasto direto com habitação.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Observação: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no caso de domicílios com famílias conviventes, a FJP considerou apenas a renda da família principal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com adensamento interno excessivo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omicílios com mais de três pessoas por dormitório definido como o cômodo utilizado, com exceção do banheiro, para essa finalidade em caráter permanente por morador do domicílio na data de referência da pesquisa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com carência de serviços de infra-estrutura: d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omicílios que não possuem um ou mais dos seguintes serviços básicos: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istribuição de água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fornecimento de energia elétrica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coleta de lixo e de esgoto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com inadequação fundiária urbana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omicílios com moradores que declararam não ter a propriedade do terreno e sim apenas da construção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éficit Habitacional Básico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Básico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3080" y="1714680"/>
          <a:ext cx="5043600" cy="3571560"/>
        </p:xfrm>
        <a:graphic>
          <a:graphicData uri="http://schemas.openxmlformats.org/drawingml/2006/table">
            <a:tbl>
              <a:tblPr/>
              <a:tblGrid>
                <a:gridCol w="5043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éficit habitacional bá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7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posição do esto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rús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154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cremento do esto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improvis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abitação 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Famílias conviventes secundá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ômodos alugados e cedidos (coabitação disfarç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sp>
        <p:nvSpPr>
          <p:cNvPr id="78" name="CaixaDeTexto 4"/>
          <p:cNvSpPr/>
          <p:nvPr/>
        </p:nvSpPr>
        <p:spPr>
          <a:xfrm>
            <a:off x="1685520" y="5357880"/>
            <a:ext cx="61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ervação: Exclui a variável ônus excessivo com alug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– Déficit Habitacional Básic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1857240"/>
          <a:ext cx="9144000" cy="31402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Regi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éficit Habitacional –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- total de domicí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éficit Habitacional Básico –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- total de domicí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48.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12.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ord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851.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515.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ud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341.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.660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78.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16.6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entro O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02.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85.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222.6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.890.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81" name="CaixaDeTexto 7"/>
          <p:cNvSpPr/>
          <p:nvPr/>
        </p:nvSpPr>
        <p:spPr>
          <a:xfrm>
            <a:off x="0" y="5000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Déficit Habitacional no Brasil – Municípios Selecionados e Micro-regiões geográficas, Fundação João Pinheiro – Centro de Estatística e Informações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– Déficit Habitacional Básic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éficit Habitacional (PNAD e Censos)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Resultados agregados por Estados, Distrito Federal e Regiões Metropolitana de Belém, Fortaleza, Recife, Salvador, Belo Horizonte, Rio de Janeiro, São Paulo, Curitiba e Porto Alegre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éficit Habitacional Básico (Censo 2000)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Resultados agregados por Estados, Distrito Federal, municípios com mais de 20 mil habitantes, municípios com menos de 20 mil habitantes agrupados em micro-regiões geográficas do IBGE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aixa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77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Frutiger 55 Roman"/>
              </a:rPr>
              <a:t>Análise e Quantificação das Necessidades Habitacionais Locai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372360" y="37162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Kazuo Nak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A coabitação familiar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não se pode considerar todas as famílias conviventes num mesmo domicílio como demandas automáticas por novas moradia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ampos de Goytacazes (RJ, 2006)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no universo total de famílias conviventes daquele município, 64% deve ser considerada como parte do déficit habitacional local, dos quais 48% com alta expectativa de mudança e 16% com baixa expectativa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s rendas domiciliares das unidades com famílias conviventes incluídas no déficit habitacional foram: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44%: até 3 salários mínimos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4%: mais de 3 a 5 salários mínimos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13%: mais de 5 a 10 salários mínimos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4%: mais de 10 salários mínimos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5%: sem declaraç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Moradias em áreas com irregularidade fundiária: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enquanto o cálculo do déficit por famílias conviventes está super-dimensionado, a inadequação por irregularidade na titulação da propriedade do terreno está sub-dimensionada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Sub-dimensionamento dos domicílios com inadequação fundiária segundo a FJP: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1,7 milhão (PNAD 2005) - 3,2% do total de domicílios (53 milhões) e 3,8% do total de domicílios urbanos (45 milhões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imensionamento do estoque de moradias depreciadas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não se trata de habitações com carência de infra-estrutura ou precária. Trata-se de habitações obsoletas (com mais de 50 anos) que precisam ser refeitas ou reformadas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omicílios vagos: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domicílios sem moradore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enso 1991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3 milhões de domicílios particulares urbanos vagos (9,36% do estoque total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enso 2000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4,6 milhões de domicílios particulares urbanos vagos (10,3% do estoque total), 450 mil domicílios fechados e 1,9 milhão de uso  ocasional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É preciso levantar os domicílios vagos que podem ser direcionados para programas habitacionais – dação em pagamento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857240"/>
          <a:ext cx="9144000" cy="33051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341280">
                <a:tc rowSpan="2">
                  <a:txBody>
                    <a:bodyPr lIns="34920" rIns="3492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3"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omicílios vagos -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sobre domicílios va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sobre dom. vagos urba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rb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 pode ser ocup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em const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em ruí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urb. pode ser ocup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urb. em const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urb. em ruí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398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.736.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.084.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.652.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41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23.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12.7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0.6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41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ord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.827.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.081.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45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394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ud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.117.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661.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55.8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41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76.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40.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35.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380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. 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91.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87.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3.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sp>
        <p:nvSpPr>
          <p:cNvPr id="98" name="CaixaDeTexto 4"/>
          <p:cNvSpPr/>
          <p:nvPr/>
        </p:nvSpPr>
        <p:spPr>
          <a:xfrm>
            <a:off x="3600" y="5143680"/>
            <a:ext cx="31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 Básica: PNAD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aboração: Fundação João Pinheiro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imensionamento dos Assentamentos Precários e Estimativa da Irregularidade Fundiári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Total de domicílios em assentamentos precários no país 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- 3.149.288 unidades (pesquisa CEM/CEBRAP em 526 municípios)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omicílios em assentamentos precários em regiões metropolitana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- 2.367.418 unidades (75,17%) - Regiões Metropolitanas de Belém, Salvador, Fortaleza, Recife, Curitiba, Porto Alegre, Belo Horizonte, Rio de Janeiro e São Paulo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357200"/>
          <a:ext cx="9144000" cy="4440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731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Regiões Metropolita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omicílios em Assentamentos Prec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- total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- total metropolit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70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BELÉ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4.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SALV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8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FORTAL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9.7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RECI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36.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CURITI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3.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PORTO ALE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0.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BELO HORIZO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88.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RIO DE JANE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30.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6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SÃO PA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62.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7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367.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05" name="CaixaDeTexto 4"/>
          <p:cNvSpPr/>
          <p:nvPr/>
        </p:nvSpPr>
        <p:spPr>
          <a:xfrm>
            <a:off x="7560" y="5786280"/>
            <a:ext cx="514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 básica: Censo Demográfico IBGE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s: CEM/ Cebrap - Assentamentos Precários no Brasil Urbano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07" name="Espaço Reservado para Conteúdo 3" descr="63_RMRJ.jpg"/>
          <p:cNvPicPr/>
          <p:nvPr/>
        </p:nvPicPr>
        <p:blipFill>
          <a:blip r:embed="rId1"/>
          <a:stretch/>
        </p:blipFill>
        <p:spPr>
          <a:xfrm>
            <a:off x="928800" y="1357200"/>
            <a:ext cx="7286400" cy="5478480"/>
          </a:xfrm>
          <a:prstGeom prst="rect">
            <a:avLst/>
          </a:prstGeom>
          <a:ln w="0">
            <a:noFill/>
          </a:ln>
        </p:spPr>
      </p:pic>
      <p:sp>
        <p:nvSpPr>
          <p:cNvPr id="108" name="CaixaDeTexto 4"/>
          <p:cNvSpPr/>
          <p:nvPr/>
        </p:nvSpPr>
        <p:spPr>
          <a:xfrm>
            <a:off x="243000" y="12733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ião Metropolitana do Rio de Janeiro - 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remissa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imensionamento das necessidades habitacionais com vistas a elaboração de propostas para o plano municipal de habitação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nálise qualitativa dos diferentes tipos de necessidades habitacionais, hábitos de moradia, formas de provisão habitacional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10" name="Espaço Reservado para Conteúdo 3" descr="85_RMCampinas.jpg"/>
          <p:cNvPicPr/>
          <p:nvPr/>
        </p:nvPicPr>
        <p:blipFill>
          <a:blip r:embed="rId1"/>
          <a:stretch/>
        </p:blipFill>
        <p:spPr>
          <a:xfrm>
            <a:off x="2428920" y="1285920"/>
            <a:ext cx="4786200" cy="5594400"/>
          </a:xfrm>
          <a:prstGeom prst="rect">
            <a:avLst/>
          </a:prstGeom>
          <a:ln w="0">
            <a:noFill/>
          </a:ln>
        </p:spPr>
      </p:pic>
      <p:sp>
        <p:nvSpPr>
          <p:cNvPr id="111" name="CaixaDeTexto 4"/>
          <p:cNvSpPr/>
          <p:nvPr/>
        </p:nvSpPr>
        <p:spPr>
          <a:xfrm>
            <a:off x="0" y="121428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ião Metropolitana de Campinas -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em assentamentos precários em municípios não metropolitanos com mais de 20 mil habitantes -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781.870 unidades (24,83% do total nacional)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Concentração no Nordeste e Sudeste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 - 69,97% de domicílios em assentamentos precários de pequenos municípios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15" name="Espaço Reservado para Conteúdo 3" descr="106_jundiai.jpg"/>
          <p:cNvPicPr/>
          <p:nvPr/>
        </p:nvPicPr>
        <p:blipFill>
          <a:blip r:embed="rId1"/>
          <a:stretch/>
        </p:blipFill>
        <p:spPr>
          <a:xfrm>
            <a:off x="1857240" y="1214280"/>
            <a:ext cx="5850000" cy="564372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437400" y="1785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ndiaí -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18" name="Espaço Reservado para Conteúdo 6" descr="35_feiradesantana.jpg"/>
          <p:cNvPicPr/>
          <p:nvPr/>
        </p:nvPicPr>
        <p:blipFill>
          <a:blip r:embed="rId1"/>
          <a:stretch/>
        </p:blipFill>
        <p:spPr>
          <a:xfrm>
            <a:off x="1573200" y="1214280"/>
            <a:ext cx="62136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4"/>
          <p:cNvSpPr/>
          <p:nvPr/>
        </p:nvSpPr>
        <p:spPr>
          <a:xfrm>
            <a:off x="13680" y="17146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eira de Santana - 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Frutiger 55 Roman"/>
              </a:rPr>
              <a:t>Percentuais de domicílios em assentamentos precários realocados </a:t>
            </a:r>
            <a:r>
              <a:rPr b="0" lang="pt-BR" sz="2200" spc="-1" strike="noStrike">
                <a:solidFill>
                  <a:srgbClr val="000000"/>
                </a:solidFill>
                <a:latin typeface="Frutiger 55 Roman"/>
              </a:rPr>
              <a:t>(PlanHab):</a:t>
            </a:r>
            <a:endParaRPr b="0" lang="en-US" sz="2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utiger 55 Roman"/>
              </a:rPr>
              <a:t>27% do total de domicílios urbanos em assentamentos precários localizados em regiões metropolitanas – 639.203 unidades; </a:t>
            </a:r>
            <a:endParaRPr b="0" lang="en-US" sz="2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utiger 55 Roman"/>
              </a:rPr>
              <a:t>45% do total de domicílios urbanos em assentamentos precários localizados em municípios fora de regiões metropolitanas – 351.842 unidades.</a:t>
            </a:r>
            <a:endParaRPr b="0" lang="en-US" sz="2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utiger 55 Roman"/>
              </a:rPr>
              <a:t>Total estimado de domicílios urbanos de assentamentos precários realocados - 991.045 unidades (31,5% do total).</a:t>
            </a:r>
            <a:endParaRPr b="0" lang="en-US" sz="2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omicílios com carência de serviços e infra-estrutura e, possivelmente, em áreas irregulare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8.979.239 domicílios urbanos, inseridos ou não nos assentamentos precários (abastecimento de água, coleta de esgoto, coleta de lixo e fornecimento de energia elétrica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94,2% do total nacional em municípios não metropolitano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8.455.516 domicílios (45,8% em municípios com menos de 20 mil habitantes e 48,4% com mais de 20 mil habitantes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25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50720" y="1195560"/>
            <a:ext cx="824256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stimativa da Autopromoção Habitacional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Estimativa da Autopromoção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e 1991 a 2000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incremento de 15.177.598 domicílios particulares permanentes urbanos no Brasil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2,2 milhões de novas habitações financiadas pelo SBPE e FGT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12.977.598  unidades (85,5%) autopromovidas e de promoção pública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1 milhão de unidades – promoção pública estima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11.977.598 unidades autopromovidas (79% do total do incremento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Sumári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éficit Habitacional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éficit Habitacional Básico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stimativa da Autopromoção Habitacional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33" name="Espaço Reservado para Conteúdo 5" descr="141.JPG"/>
          <p:cNvPicPr/>
          <p:nvPr/>
        </p:nvPicPr>
        <p:blipFill>
          <a:blip r:embed="rId1"/>
          <a:srcRect l="0" t="0" r="0" b="22775"/>
          <a:stretch/>
        </p:blipFill>
        <p:spPr>
          <a:xfrm>
            <a:off x="1928880" y="1214280"/>
            <a:ext cx="55008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774720" y="1214280"/>
            <a:ext cx="77263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71516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éficit Habitacional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600200"/>
          <a:ext cx="9144000" cy="4135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009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éficit habit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imeira publicação – 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egunda publicação –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erceira publicação –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00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domic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93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posiçã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rús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posiçã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rús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depreci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posiçã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rús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34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crement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improvis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abitação domic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Famílias conviventes secundá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ômodos alugados e cedid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crement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improvis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abitação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Famílias conviventes secundá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ômodos alugados e cedidos (coabitação disfarça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Ônus excessivo com alug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crement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improvis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abitação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Famílias conviventes secundá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ômodos alugados e cedidos (coabitação disfarça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Ônus excessivo com alug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434960"/>
          <a:ext cx="9144000" cy="4923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8728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Inadequação habit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imeira publicação – 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egunda publicação –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erceira publicação –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domic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ensidade excessiva de moradores por dormitó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ensidade excessiva de moradores por dormitó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ensidade excessiva de moradores por dormitó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Ônus excessivo com alug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000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adequação da infra-estru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rência de infra-estru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fra-estrutura inadequ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Qualidade de infra-estrutura 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existência de unidade sanitária domiciliar in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rência de serviços de infra-estrutura – energia elétrica, abastecimento de água, esgotamento sanitário e coleta de l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rência de serviços de infra-estrutura – energia elétrica, abastecimento de água, esgotamento sanitário e coleta de l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862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adequação fundiária urb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adequação fundiária urb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adequados em função da depreci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existência de unidade sanitária domiciliar in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existência de unidade sanitária domiciliar in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rústicos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omicílios que não apresentam paredes de alvenaria ou madeira aparelhada, construídas com materiais inapropriados. Apresentam desconforto para seus ocupantes, riscos de desmoronamento e contaminação por doenças em decorrência de suas precárias condições de salubridade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improvisados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omicílios instalados em locais construídos para fins não residenciais que, no momento em que foi realizada a pesquisa, serviam de moradia como, por exemplo, lojas, fábricas, embarcações, carroças, vagões de trens, tendas e grutas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19T21:02:34Z</dcterms:modified>
  <cp:revision>64</cp:revision>
  <dc:subject/>
  <dc:title>Slide 1</dc:title>
</cp:coreProperties>
</file>