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34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47.jpeg" ContentType="image/jpeg"/>
  <Override PartName="/ppt/media/image42.jpeg" ContentType="image/jpeg"/>
  <Override PartName="/ppt/media/image19.jpeg" ContentType="image/jpeg"/>
  <Override PartName="/ppt/media/image4.jpeg" ContentType="image/jpeg"/>
  <Override PartName="/ppt/media/image8.wmf" ContentType="image/x-wmf"/>
  <Override PartName="/ppt/media/image50.jpeg" ContentType="image/jpeg"/>
  <Override PartName="/ppt/media/image52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2.png" ContentType="image/png"/>
  <Override PartName="/ppt/media/image24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61.wmf" ContentType="image/x-wmf"/>
  <Override PartName="/ppt/media/image15.jpeg" ContentType="image/jpeg"/>
  <Override PartName="/ppt/media/image63.wmf" ContentType="image/x-wmf"/>
  <Override PartName="/ppt/media/image23.png" ContentType="image/png"/>
  <Override PartName="/ppt/media/image26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4.wmf" ContentType="image/x-wmf"/>
  <Override PartName="/ppt/media/image59.wmf" ContentType="image/x-wmf"/>
  <Override PartName="/ppt/media/image7.wmf" ContentType="image/x-wmf"/>
  <Override PartName="/ppt/media/image6.wmf" ContentType="image/x-wmf"/>
  <Override PartName="/ppt/media/image30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51.wmf" ContentType="image/x-wmf"/>
  <Override PartName="/ppt/media/image12.jpeg" ContentType="image/jpeg"/>
  <Override PartName="/ppt/media/image29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39.jpeg" ContentType="image/jpeg"/>
  <Override PartName="/ppt/media/image43.jpeg" ContentType="image/jpeg"/>
  <Override PartName="/ppt/media/image60.wmf" ContentType="image/x-wmf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EED5-EEF5-4A34-8466-5A1461BD4B4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CB7-3328-4BBB-9F26-A91C054AD21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E7A0-244D-4EE8-B6DF-F1CEE665125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645B-4DED-4BC8-BDB9-2991F1B350B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E86-784D-4650-A797-9C8AAE84562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AEA4-23A9-493B-B2DC-ED950639A40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59AE-FECB-4951-BD82-3BEBC9EF474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F34A-5B9E-45F2-BE45-CB0416754F2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9A9D-DC38-4536-A46D-038CAA780C4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809D-2EAD-47C2-8291-DE8AD36F7EE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7028-C85C-484F-B4DE-A3DD34DC70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FC1D-AD93-4357-83CB-7A81E5B44DE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5274-C2A7-4478-B46D-18A313C0F72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303-CA48-4FA9-B260-E525340A79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717C-392C-4101-87FF-1026AE454BC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A17D-8230-4D18-B169-9ED3CDA750E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C3C7-62E7-4B7E-8AE2-2C8E83C201B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2901-2C99-4C6D-9467-2AD1DFFF1B7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CE7-92AE-48A4-A2C0-8003C8BEAEE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BA49-5D25-40EF-961E-D47EC39EDDD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0DBF-5DBA-492F-BB5A-D86C43C966E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467F-8F88-4C29-ADD0-869F024C2DD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03A2-72E8-4EC5-96C8-C8A3AF101BE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6543-ADDD-4AC0-8C5C-E4AA06F6783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5D1-BF20-4B6B-8FD1-24E3A291EAF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B67B-C24D-4AFB-BEC4-0CA64C12A2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4AC0-E9B3-4F2A-98E6-AA7D6F524A4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7380-84B2-48C0-B04E-62A41E9A57C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D6A-B1D8-4638-B84E-CC5A549B6DE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AF60-0BA1-4EC8-A2B0-FEF7FC0799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1601-F600-46CB-A0C5-605D6CBD9CF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5BCD-E8E1-42B3-9B25-85B4C5408D1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65B-D5AD-43C6-86DC-F1F686480A6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2784-5DF7-4500-9CF4-5A53DB7178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89CB-A904-4FC1-938B-24ABE16117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CB4-AB21-4363-9EBB-C8543FFD9E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8564-F2F5-4FC0-AB51-BC2B395DF0F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31DF-805D-47AA-A429-6EF4078BA35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0210-5FD8-402B-B0F3-FA3B85BB4A0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AE88-5E11-44F1-B209-1D7A600E619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45F2-F635-4711-860A-2AEA1C8241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859-FEFA-43B7-B299-4360AB17064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3C1-5C8D-4F5F-ACDE-7362666135C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AB5A-F0AF-46DA-B318-F4301DE60B4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E79A-545A-4AAD-BA68-EFB1E934592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8F75-D457-4830-BFC7-32E48673369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12AB-BE38-48D8-911E-1303056B027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207D-21DF-461C-9D4B-366F5EFAE1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31B1-6AD5-423E-8713-31AF8549DD7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5F02-E230-417D-A4D5-938BBA85779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E4B-1DA0-459C-A827-9B091BF99A3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BEBD-3BAB-4F39-B315-F2FD4E8D5D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8B6F-5120-4891-A1D7-5DA0E49D0B1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D477-8B29-426E-9FFF-81D92FE1B1E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3BCF-B8C8-4952-A48D-3698D62D8AB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579B-413E-4FE9-9986-6C9738574A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AB37-34AC-4981-ABBC-F4D41B5681F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62F1-F6BA-4836-85E4-57232952C0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66AE-7126-4347-9EB1-91E343EDB23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4798-487E-42FB-8AEA-D1DA75D00C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B353-4AAA-4A48-84CD-42CC411AD8B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093-CFDE-4524-84D6-FDC85521750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A8BB-CA8D-4635-AA68-B6382F24B29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567C-452D-4ADE-8730-B10AFDCD60C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96E-9E33-458A-8D25-4E4EDFEB599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D8B0-AB7B-46D1-99F3-8F49BD2578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3722-FC96-4395-A5ED-F337B682EF7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5A16-C67B-4D74-A926-B30A2764C49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6809-1110-4999-8B32-C7324A2501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B551-0B48-4524-8AA1-5AB9B7B0DE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545-4FA6-4987-B25C-02DD560E75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AC5-43FD-4810-9ACE-3C2C175AFE9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DF6-6CF7-4152-ABDA-89529057E47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C847-2A6D-4AED-8CE5-0253B12F104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AB2-CDB9-4288-86F8-AF5E959D40B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926-CCC9-477B-8BDC-E4525016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E78-69E8-4DCD-90B5-A39E1A14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C72-10C3-42A1-B1D6-49D79F08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D7B-EA89-4025-BB46-1245E514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0BA-77C2-43A8-AA93-CCEDBC88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59C-291D-44A8-AFDA-D570C9FD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C26-149A-4B3E-A193-0A86D787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B04-5568-48BA-96F6-8329155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7BA-B8A6-4457-B07C-3A7EE3AF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3EE-F48F-4EED-B458-F1F75C8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9E9-C7AE-417B-B115-000E451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89E-42E9-47A9-88F0-1E1939BD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9768-0309-4D33-8B2B-6765FC66A9A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51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-Bold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640" y="12679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Redução da carga tributária sobre o processo de construção da habita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Adoção de métodos de racionalização da construção  e produção em escal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Estímulo à auto-gest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Revisão da legislação de uso e ocupação do solo e Código de Obras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Procedimentos de crédito e financiamento ágeis e desburocratizad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Procedimento de aprovação de projetos desburocratizad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95280" y="432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atégias para Implementação da PN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Barateament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e qualificação  da p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36360" y="112392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Criação do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Sistema Nacional de Habitação</a:t>
            </a: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distinguindo a ação pública da privada através de dois subsistemas: Habitação de Interesse Social e Habitação de Mercado. 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Viabilização de fontes permanentes e estáveis de recursos privados e públic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Ampliação da captação de recursos privados desonerando o poder público do atendimento a classe média.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Garantia de segurança jurídica ao investidor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Potencializar a utilização do FGTS para financiamento habitacional e subsídios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Criação de fontes permanentes de recursos não onerosos para garantir o subsídio – FNHI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Provisão de mix de recursos onerosos e não onerosos, de </a:t>
            </a: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modo a atingir parcela da população de baixa renda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31640" y="114480"/>
            <a:ext cx="82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atégias para Implementação da PN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obilizaçã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00000" y="5877000"/>
            <a:ext cx="9109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Tendências  recentes a partir de</a:t>
            </a:r>
            <a:r>
              <a:rPr b="1" lang="pt-BR" sz="3600" spc="-1" strike="noStrike">
                <a:solidFill>
                  <a:srgbClr val="000000"/>
                </a:solidFill>
                <a:latin typeface="Frutiger-Bold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2004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investimentos em saneamento são retomado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mpliação dos investimentos em habitação, tanto dos recursos do FGTS como do SBP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ção do CMN (2005) obrigando os bancos a investir em habitação os recursos da poupança (SBPE) e ampliando os recursos para o mercad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i Federal 10.391/2004 dá garantias e segurança jurídica ao investi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Tendências recentes (2004-2006)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54728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689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usca de adequar o financiamento a faixas de renda mais baixa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153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mpliação do orçamento do FGT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153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ção 460/2005, amplia os recursos do FGTS para subsídiar a baixa ren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975"/>
              </a:spcBef>
              <a:spcAft>
                <a:spcPts val="5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ndo Nacional de Habitação de Interesse Social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975"/>
              </a:spcBef>
              <a:spcAft>
                <a:spcPts val="5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 de Aceleração do Crescimento PAC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975"/>
              </a:spcBef>
              <a:spcAft>
                <a:spcPts val="5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tirada do saneamento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o calculo do superávit primári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81440" y="4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Frutiger-Bold"/>
              </a:rPr>
              <a:t>Evolução e tendências dos recursos não onerosos para habitação e urbanização de assentamentos precários</a:t>
            </a:r>
            <a:endParaRPr b="0" lang="en-US" sz="26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900000" y="1406520"/>
          <a:ext cx="671040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06520"/>
                    <a:ext cx="67104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5796000" y="458136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008/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evisão P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Evolução dos recursos do SBPE para habitação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Renda média e alta</a:t>
            </a:r>
            <a:r>
              <a:rPr b="1" lang="pt-BR" sz="4000" spc="-1" strike="noStrike">
                <a:solidFill>
                  <a:srgbClr val="ffffff"/>
                </a:solidFill>
                <a:latin typeface="Frutiger-Bold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90" name="Object 2"/>
          <p:cNvGraphicFramePr/>
          <p:nvPr/>
        </p:nvGraphicFramePr>
        <p:xfrm>
          <a:off x="900000" y="1413000"/>
          <a:ext cx="828036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82803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Lei 11124/05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ria o Sistema Nacional de Habitação de Interesse Soci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ria o Fundo Nacional de Habitação de Interesse Soci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stabelece as finalidades e fontes de recursos do FNHI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stabelece as condições para estados e municípios aderirem ao SNHIS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Conselho Estadual ou Municipal de Habitação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Fundo Estadual ou Municipal de Habitação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Planos Estadual ou Municipal de Habitação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Integrantes do SNHIS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Ministério das Cidades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nselho Gestor do Fundo Nacional de Habitação de Interesse Soci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aixa Econômica Feder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nselho das Cidades,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nselhos, Órgãos e Instituições da Administração Pública direta e indireta dos Estados, Distrito Federal e Municípios, relacionados às questões urbanas e habitacionais,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ntidades privadas que desempenham atividades na área habitacion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s financeiros autorizados pelo Conselho Monetário Naciona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rincipios do SNHIS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escentralizaç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rticulação entre os entes federativo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Participação e Controle Socia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Planejamento Habitacional 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lanejamento Habitacional 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O que é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ara que serve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Que experiência temos no Brasil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mo se articula com outros planos, com o PPA e com o orçamento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Qual deve ser o horizonte temporal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mo deve ser elaborado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mo implementar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mo monitorar, avaliar, rever e garantir que seja respeitado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52720" y="-273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Oficina Metodologia para elaboração de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lanos Municipais de Habitação</a:t>
            </a: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a Política e do Plano Nacional de Habitação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aos planos municipais: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construindo uma estratégia para universalizar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o direito a moradia no Brasi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Prof. Dr Nabil Bonduki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FAU-USP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57" name="Picture 4" descr="logos Plano Hab"/>
          <p:cNvPicPr/>
          <p:nvPr/>
        </p:nvPicPr>
        <p:blipFill>
          <a:blip r:embed="rId1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Qual é o objetivo do Plano Nacional de Habitação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Frutiger 55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Governo"/>
          <p:cNvPicPr/>
          <p:nvPr/>
        </p:nvPicPr>
        <p:blipFill>
          <a:blip r:embed="rId1"/>
          <a:stretch/>
        </p:blipFill>
        <p:spPr>
          <a:xfrm>
            <a:off x="971640" y="6396120"/>
            <a:ext cx="2249280" cy="27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ogosSNH"/>
          <p:cNvPicPr/>
          <p:nvPr/>
        </p:nvPicPr>
        <p:blipFill>
          <a:blip r:embed="rId2"/>
          <a:stretch/>
        </p:blipFill>
        <p:spPr>
          <a:xfrm>
            <a:off x="255600" y="6288120"/>
            <a:ext cx="571320" cy="453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85800" y="18288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3520" y="15238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24000" y="1268280"/>
            <a:ext cx="8748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ormular uma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estratégi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ara equacionar a médio e longo prazo as necessidades habitacionais do Brasil, defini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necessários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 de subsíd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has programátic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stas para a Cadeia Produ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stas de Política Urbana relacionada com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ranjos instituc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ões legai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685800" y="18288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684360" y="1773360"/>
            <a:ext cx="79246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HORIZONTE TEMPORAL DO PLANH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2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4 quadriênio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M REVISÕES A CADA P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2011, 2015 E 20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25280"/>
            <a:ext cx="91440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ASSOS PARA ELABORAÇÃO DO PLAN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ntextualização (leitura técnica e participativa do problema habitacional)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Levantamento e sistematização das propostas existentes, no governo e em todos os segmentos sociai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Identificação das necessidades habitacionais presentes e futura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Regionalização das necessidades de habitação – urbano e rural, categorias de municípios, regiõe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utiger-Bold"/>
              </a:rPr>
              <a:t>PASSOS PARA ELABORAÇÃO DO PLANO</a:t>
            </a:r>
            <a:endParaRPr b="0" lang="en-US" sz="32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3413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enários: macro-econômico, demográfico, urbano, de disponibilidade de recursos para habitação das diferentes fontes;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finição de grupos de atendimento, por necessidade de subsídi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stabelecimento de metas físicas e financeiras, gerais e intermediárias, para os diferentes problemas habitacionais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Redefinição das linhas programáticas nacionais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finição da articulação com a questão urbana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finição dos arranjos institucionais e articulação dos entes federativos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finição do Plano de A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ropostas que viabilizem a estratégia defini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Frutiger 55 Roman"/>
              </a:rPr>
              <a:t>PROCESSO PARTICIPATIVO DE ELABORAÇÃO DO PLANO NACIONAL DE HABITAÇÃO </a:t>
            </a:r>
            <a:endParaRPr b="0" lang="en-US" sz="4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700360" y="26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minários Reg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55640" y="13334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4 e 05 de outubro de 2007 – Região Centro-Oeste e Estado do Tocan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979640" y="43578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7 e 18 de outubro de 2007 – Região Sud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5"/>
          <p:cNvGrpSpPr/>
          <p:nvPr/>
        </p:nvGrpSpPr>
        <p:grpSpPr>
          <a:xfrm>
            <a:off x="-108000" y="1773360"/>
            <a:ext cx="9288360" cy="2160360"/>
            <a:chOff x="-108000" y="1773360"/>
            <a:chExt cx="9288360" cy="2160360"/>
          </a:xfrm>
        </p:grpSpPr>
        <p:pic>
          <p:nvPicPr>
            <p:cNvPr id="119" name="Picture 6" descr="PlanHabFotoCentroOeste06"/>
            <p:cNvPicPr/>
            <p:nvPr/>
          </p:nvPicPr>
          <p:blipFill>
            <a:blip r:embed="rId1"/>
            <a:stretch/>
          </p:blipFill>
          <p:spPr>
            <a:xfrm>
              <a:off x="-108000" y="1773360"/>
              <a:ext cx="32767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PlanHabFotoCentroOeste05"/>
            <p:cNvPicPr/>
            <p:nvPr/>
          </p:nvPicPr>
          <p:blipFill>
            <a:blip r:embed="rId2"/>
            <a:stretch/>
          </p:blipFill>
          <p:spPr>
            <a:xfrm>
              <a:off x="3132000" y="1773360"/>
              <a:ext cx="288000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8" descr="PlanHabFotoCentroOeste01"/>
            <p:cNvPicPr/>
            <p:nvPr/>
          </p:nvPicPr>
          <p:blipFill>
            <a:blip r:embed="rId3"/>
            <a:stretch/>
          </p:blipFill>
          <p:spPr>
            <a:xfrm>
              <a:off x="5951520" y="1773360"/>
              <a:ext cx="3228840" cy="21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9"/>
          <p:cNvGrpSpPr/>
          <p:nvPr/>
        </p:nvGrpSpPr>
        <p:grpSpPr>
          <a:xfrm>
            <a:off x="-103320" y="4869000"/>
            <a:ext cx="9283680" cy="2160360"/>
            <a:chOff x="-103320" y="4869000"/>
            <a:chExt cx="9283680" cy="2160360"/>
          </a:xfrm>
        </p:grpSpPr>
        <p:pic>
          <p:nvPicPr>
            <p:cNvPr id="123" name="Picture 10" descr="PlanhabFotoSudeste4G"/>
            <p:cNvPicPr/>
            <p:nvPr/>
          </p:nvPicPr>
          <p:blipFill>
            <a:blip r:embed="rId4"/>
            <a:stretch/>
          </p:blipFill>
          <p:spPr>
            <a:xfrm>
              <a:off x="-103320" y="4869000"/>
              <a:ext cx="3235320" cy="21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1" descr="PlanHabFotoSudeste02"/>
            <p:cNvPicPr/>
            <p:nvPr/>
          </p:nvPicPr>
          <p:blipFill>
            <a:blip r:embed="rId5"/>
            <a:stretch/>
          </p:blipFill>
          <p:spPr>
            <a:xfrm>
              <a:off x="3132000" y="4869000"/>
              <a:ext cx="288000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2" descr="IMG007"/>
            <p:cNvPicPr/>
            <p:nvPr/>
          </p:nvPicPr>
          <p:blipFill>
            <a:blip r:embed="rId6"/>
            <a:stretch/>
          </p:blipFill>
          <p:spPr>
            <a:xfrm>
              <a:off x="5977080" y="4869000"/>
              <a:ext cx="3203280" cy="21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700360" y="26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minários Reg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20720" y="14778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 de outubro e 01 de novembro de 2007 – Região 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979640" y="42861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 e 07 de novembro de 2007 – Região Nord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-252360" y="1989000"/>
            <a:ext cx="9575640" cy="2160720"/>
            <a:chOff x="-252360" y="1989000"/>
            <a:chExt cx="9575640" cy="2160720"/>
          </a:xfrm>
        </p:grpSpPr>
        <p:pic>
          <p:nvPicPr>
            <p:cNvPr id="130" name="Picture 6" descr="DSC01049"/>
            <p:cNvPicPr/>
            <p:nvPr/>
          </p:nvPicPr>
          <p:blipFill>
            <a:blip r:embed="rId1"/>
            <a:stretch/>
          </p:blipFill>
          <p:spPr>
            <a:xfrm>
              <a:off x="2771640" y="1989000"/>
              <a:ext cx="359892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" descr="DSC01040"/>
            <p:cNvPicPr/>
            <p:nvPr/>
          </p:nvPicPr>
          <p:blipFill>
            <a:blip r:embed="rId2"/>
            <a:stretch/>
          </p:blipFill>
          <p:spPr>
            <a:xfrm>
              <a:off x="-252360" y="1989000"/>
              <a:ext cx="3198600" cy="21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8" descr="DSC01056"/>
            <p:cNvPicPr/>
            <p:nvPr/>
          </p:nvPicPr>
          <p:blipFill>
            <a:blip r:embed="rId3"/>
            <a:stretch/>
          </p:blipFill>
          <p:spPr>
            <a:xfrm>
              <a:off x="6012000" y="1989000"/>
              <a:ext cx="3311280" cy="21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9"/>
          <p:cNvGrpSpPr/>
          <p:nvPr/>
        </p:nvGrpSpPr>
        <p:grpSpPr>
          <a:xfrm>
            <a:off x="-318960" y="4797360"/>
            <a:ext cx="9566280" cy="2160720"/>
            <a:chOff x="-318960" y="4797360"/>
            <a:chExt cx="9566280" cy="2160720"/>
          </a:xfrm>
        </p:grpSpPr>
        <p:pic>
          <p:nvPicPr>
            <p:cNvPr id="134" name="Picture 10" descr="PlanHabFotoNordeste02"/>
            <p:cNvPicPr/>
            <p:nvPr/>
          </p:nvPicPr>
          <p:blipFill>
            <a:blip r:embed="rId4"/>
            <a:stretch/>
          </p:blipFill>
          <p:spPr>
            <a:xfrm>
              <a:off x="2849400" y="4797360"/>
              <a:ext cx="32353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1" descr="PlanHabFotoNordeste06"/>
            <p:cNvPicPr/>
            <p:nvPr/>
          </p:nvPicPr>
          <p:blipFill>
            <a:blip r:embed="rId5"/>
            <a:stretch/>
          </p:blipFill>
          <p:spPr>
            <a:xfrm>
              <a:off x="-318960" y="4799160"/>
              <a:ext cx="32353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" descr="PlanHabFotoNordeste04"/>
            <p:cNvPicPr/>
            <p:nvPr/>
          </p:nvPicPr>
          <p:blipFill>
            <a:blip r:embed="rId6"/>
            <a:stretch/>
          </p:blipFill>
          <p:spPr>
            <a:xfrm>
              <a:off x="6012000" y="4797360"/>
              <a:ext cx="3235320" cy="215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700360" y="549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minários Reg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42920" y="1341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7 e 18 de dezembro de 2007 – Região Norte e Estado do Maranhão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-103320" y="1844640"/>
            <a:ext cx="9423360" cy="2162160"/>
            <a:chOff x="-103320" y="1844640"/>
            <a:chExt cx="9423360" cy="2162160"/>
          </a:xfrm>
        </p:grpSpPr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3065400" y="1844640"/>
              <a:ext cx="32353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"/>
            <p:cNvPicPr/>
            <p:nvPr/>
          </p:nvPicPr>
          <p:blipFill>
            <a:blip r:embed="rId2"/>
            <a:stretch/>
          </p:blipFill>
          <p:spPr>
            <a:xfrm>
              <a:off x="-103320" y="1844640"/>
              <a:ext cx="32353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"/>
            <p:cNvPicPr/>
            <p:nvPr/>
          </p:nvPicPr>
          <p:blipFill>
            <a:blip r:embed="rId3"/>
            <a:stretch/>
          </p:blipFill>
          <p:spPr>
            <a:xfrm>
              <a:off x="6084720" y="1846080"/>
              <a:ext cx="3235320" cy="216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589040"/>
            <a:ext cx="88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ficina sobre o Plano Nacional de Habitação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nferência Nacional das 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ubro de 2007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0" y="3908520"/>
            <a:ext cx="9143640" cy="2949120"/>
            <a:chOff x="0" y="3908520"/>
            <a:chExt cx="9143640" cy="2949120"/>
          </a:xfrm>
        </p:grpSpPr>
        <p:pic>
          <p:nvPicPr>
            <p:cNvPr id="145" name="Picture 4" descr="Abertura5"/>
            <p:cNvPicPr/>
            <p:nvPr/>
          </p:nvPicPr>
          <p:blipFill>
            <a:blip r:embed="rId1"/>
            <a:stretch/>
          </p:blipFill>
          <p:spPr>
            <a:xfrm>
              <a:off x="2882880" y="3908520"/>
              <a:ext cx="3163680" cy="29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Abertura1"/>
            <p:cNvPicPr/>
            <p:nvPr/>
          </p:nvPicPr>
          <p:blipFill>
            <a:blip r:embed="rId2"/>
            <a:stretch/>
          </p:blipFill>
          <p:spPr>
            <a:xfrm>
              <a:off x="0" y="3908520"/>
              <a:ext cx="3095280" cy="29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GT1"/>
            <p:cNvPicPr/>
            <p:nvPr/>
          </p:nvPicPr>
          <p:blipFill>
            <a:blip r:embed="rId3"/>
            <a:stretch/>
          </p:blipFill>
          <p:spPr>
            <a:xfrm>
              <a:off x="5979960" y="3908520"/>
              <a:ext cx="3163680" cy="29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7" descr="DSC_0193"/>
          <p:cNvPicPr/>
          <p:nvPr/>
        </p:nvPicPr>
        <p:blipFill>
          <a:blip r:embed="rId4"/>
          <a:stretch/>
        </p:blipFill>
        <p:spPr>
          <a:xfrm>
            <a:off x="3130560" y="3902040"/>
            <a:ext cx="2881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>
            <a:hlinkClick r:id="" action="ppaction://hlinkshowjump?jump=nextslide"/>
          </p:cNvPr>
          <p:cNvSpPr/>
          <p:nvPr/>
        </p:nvSpPr>
        <p:spPr>
          <a:xfrm>
            <a:off x="-36360" y="1152360"/>
            <a:ext cx="9144000" cy="58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radia digna como direito e vetor de inclusão soci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indo padrão mínimo de qualidade, infra-estrutura básica, transporte coletivo e serviços so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ocial da propriedade urba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ndo implementar instrumentos de reforma urbana para combater a especulação e garantir acesso a terra urban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stão Habitacional como uma Política de Estad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público é agente indispensáv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regulação urbana e do mercado imobiliário, na provisão da moradia e na regularização de assentamentos prec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democrátic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participação popular, controle social e transparência nas decisões e proced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ordinação das ações em habitação à política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458136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68360" y="515772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25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24000" y="2278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cípios da Nova Política Nacional de Habi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268360" y="262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uniões com os seg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26920" y="83196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25 de fevereiro de 2008 – Entidades acadêmicas, profissionais e O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-181080" y="1343160"/>
            <a:ext cx="9433080" cy="2157120"/>
            <a:chOff x="-181080" y="1343160"/>
            <a:chExt cx="9433080" cy="2157120"/>
          </a:xfrm>
        </p:grpSpPr>
        <p:pic>
          <p:nvPicPr>
            <p:cNvPr id="152" name="Picture 5" descr="IMG_0475"/>
            <p:cNvPicPr/>
            <p:nvPr/>
          </p:nvPicPr>
          <p:blipFill>
            <a:blip r:embed="rId1"/>
            <a:stretch/>
          </p:blipFill>
          <p:spPr>
            <a:xfrm>
              <a:off x="2843280" y="1343160"/>
              <a:ext cx="3238560" cy="21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IMG_0515"/>
            <p:cNvPicPr/>
            <p:nvPr/>
          </p:nvPicPr>
          <p:blipFill>
            <a:blip r:embed="rId2"/>
            <a:stretch/>
          </p:blipFill>
          <p:spPr>
            <a:xfrm>
              <a:off x="6013440" y="1343160"/>
              <a:ext cx="3238560" cy="21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IMG_0452t"/>
            <p:cNvPicPr/>
            <p:nvPr/>
          </p:nvPicPr>
          <p:blipFill>
            <a:blip r:embed="rId3"/>
            <a:stretch/>
          </p:blipFill>
          <p:spPr>
            <a:xfrm>
              <a:off x="-181080" y="1343160"/>
              <a:ext cx="3238560" cy="21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8"/>
          <p:cNvSpPr/>
          <p:nvPr/>
        </p:nvSpPr>
        <p:spPr>
          <a:xfrm>
            <a:off x="1044720" y="407052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6 de fevereiro de 2008 – Poder Público Estadual e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-181080" y="4799160"/>
            <a:ext cx="9431280" cy="2158920"/>
            <a:chOff x="-181080" y="4799160"/>
            <a:chExt cx="9431280" cy="2158920"/>
          </a:xfrm>
        </p:grpSpPr>
        <p:pic>
          <p:nvPicPr>
            <p:cNvPr id="157" name="Picture 10" descr="IMG_0629"/>
            <p:cNvPicPr/>
            <p:nvPr/>
          </p:nvPicPr>
          <p:blipFill>
            <a:blip r:embed="rId4"/>
            <a:stretch/>
          </p:blipFill>
          <p:spPr>
            <a:xfrm>
              <a:off x="2917800" y="4799160"/>
              <a:ext cx="32385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IMG_0580t"/>
            <p:cNvPicPr/>
            <p:nvPr/>
          </p:nvPicPr>
          <p:blipFill>
            <a:blip r:embed="rId5"/>
            <a:stretch/>
          </p:blipFill>
          <p:spPr>
            <a:xfrm>
              <a:off x="-181080" y="4799160"/>
              <a:ext cx="32385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2" descr="IMG_0597t"/>
            <p:cNvPicPr/>
            <p:nvPr/>
          </p:nvPicPr>
          <p:blipFill>
            <a:blip r:embed="rId6"/>
            <a:stretch/>
          </p:blipFill>
          <p:spPr>
            <a:xfrm>
              <a:off x="6012000" y="4799160"/>
              <a:ext cx="3238200" cy="215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411280" y="8301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27 de fevereiro de 2008 – Empresá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-324000" y="-100080"/>
            <a:ext cx="9574200" cy="2160720"/>
            <a:chOff x="-324000" y="-100080"/>
            <a:chExt cx="9574200" cy="2160720"/>
          </a:xfrm>
        </p:grpSpPr>
        <p:pic>
          <p:nvPicPr>
            <p:cNvPr id="162" name="Picture 4" descr="IMG_0880t"/>
            <p:cNvPicPr/>
            <p:nvPr/>
          </p:nvPicPr>
          <p:blipFill>
            <a:blip r:embed="rId1"/>
            <a:stretch/>
          </p:blipFill>
          <p:spPr>
            <a:xfrm>
              <a:off x="2843280" y="-100080"/>
              <a:ext cx="330048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5" descr="IMG_0767t"/>
            <p:cNvPicPr/>
            <p:nvPr/>
          </p:nvPicPr>
          <p:blipFill>
            <a:blip r:embed="rId2"/>
            <a:stretch/>
          </p:blipFill>
          <p:spPr>
            <a:xfrm>
              <a:off x="-324000" y="-98280"/>
              <a:ext cx="32385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" descr="IMG_0897t"/>
            <p:cNvPicPr/>
            <p:nvPr/>
          </p:nvPicPr>
          <p:blipFill>
            <a:blip r:embed="rId3"/>
            <a:stretch/>
          </p:blipFill>
          <p:spPr>
            <a:xfrm>
              <a:off x="6012000" y="-100080"/>
              <a:ext cx="3238200" cy="21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7"/>
          <p:cNvGrpSpPr/>
          <p:nvPr/>
        </p:nvGrpSpPr>
        <p:grpSpPr>
          <a:xfrm>
            <a:off x="-322200" y="4724280"/>
            <a:ext cx="9574200" cy="2160720"/>
            <a:chOff x="-322200" y="4724280"/>
            <a:chExt cx="9574200" cy="2160720"/>
          </a:xfrm>
        </p:grpSpPr>
        <p:pic>
          <p:nvPicPr>
            <p:cNvPr id="166" name="Picture 8" descr="IMG_1137t"/>
            <p:cNvPicPr/>
            <p:nvPr/>
          </p:nvPicPr>
          <p:blipFill>
            <a:blip r:embed="rId4"/>
            <a:stretch/>
          </p:blipFill>
          <p:spPr>
            <a:xfrm>
              <a:off x="2846520" y="4726080"/>
              <a:ext cx="323820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9" descr="IMG_1055t"/>
            <p:cNvPicPr/>
            <p:nvPr/>
          </p:nvPicPr>
          <p:blipFill>
            <a:blip r:embed="rId5"/>
            <a:stretch/>
          </p:blipFill>
          <p:spPr>
            <a:xfrm>
              <a:off x="-322200" y="4724280"/>
              <a:ext cx="32385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0" descr="IMG_1154t"/>
            <p:cNvPicPr/>
            <p:nvPr/>
          </p:nvPicPr>
          <p:blipFill>
            <a:blip r:embed="rId6"/>
            <a:stretch/>
          </p:blipFill>
          <p:spPr>
            <a:xfrm>
              <a:off x="6013440" y="4724280"/>
              <a:ext cx="323856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 Box 11"/>
          <p:cNvSpPr/>
          <p:nvPr/>
        </p:nvSpPr>
        <p:spPr>
          <a:xfrm>
            <a:off x="2268360" y="26114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uniões com os segmentos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763640" y="356544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 de fevereiro de 2008 – Movimentos Populares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484360" y="4698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29 de fevereiro de 2008 – Sindic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268360" y="44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uniões com os seg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-181080" y="-27000"/>
            <a:ext cx="9595080" cy="2160720"/>
            <a:chOff x="-181080" y="-27000"/>
            <a:chExt cx="9595080" cy="2160720"/>
          </a:xfrm>
        </p:grpSpPr>
        <p:pic>
          <p:nvPicPr>
            <p:cNvPr id="174" name="Picture 5" descr="IMG_1298"/>
            <p:cNvPicPr/>
            <p:nvPr/>
          </p:nvPicPr>
          <p:blipFill>
            <a:blip r:embed="rId1"/>
            <a:stretch/>
          </p:blipFill>
          <p:spPr>
            <a:xfrm>
              <a:off x="2989440" y="-27000"/>
              <a:ext cx="3238200" cy="21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IMG_1281t"/>
            <p:cNvPicPr/>
            <p:nvPr/>
          </p:nvPicPr>
          <p:blipFill>
            <a:blip r:embed="rId2"/>
            <a:stretch/>
          </p:blipFill>
          <p:spPr>
            <a:xfrm>
              <a:off x="-181080" y="-27000"/>
              <a:ext cx="3286080" cy="21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IMG_1299t"/>
            <p:cNvPicPr/>
            <p:nvPr/>
          </p:nvPicPr>
          <p:blipFill>
            <a:blip r:embed="rId3"/>
            <a:stretch/>
          </p:blipFill>
          <p:spPr>
            <a:xfrm>
              <a:off x="6084720" y="-27000"/>
              <a:ext cx="3329280" cy="21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 Box 8"/>
          <p:cNvSpPr/>
          <p:nvPr/>
        </p:nvSpPr>
        <p:spPr>
          <a:xfrm>
            <a:off x="1258920" y="37101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8 de março de 2008 – Custos e tipologias habit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914560" y="3141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ficina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0"/>
          <p:cNvGrpSpPr/>
          <p:nvPr/>
        </p:nvGrpSpPr>
        <p:grpSpPr>
          <a:xfrm>
            <a:off x="-108000" y="4724280"/>
            <a:ext cx="9477360" cy="2160720"/>
            <a:chOff x="-108000" y="4724280"/>
            <a:chExt cx="9477360" cy="2160720"/>
          </a:xfrm>
        </p:grpSpPr>
        <p:pic>
          <p:nvPicPr>
            <p:cNvPr id="180" name="Picture 11" descr="DSC00031"/>
            <p:cNvPicPr/>
            <p:nvPr/>
          </p:nvPicPr>
          <p:blipFill>
            <a:blip r:embed="rId4"/>
            <a:stretch/>
          </p:blipFill>
          <p:spPr>
            <a:xfrm>
              <a:off x="2484360" y="4724280"/>
              <a:ext cx="426096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DSC00030"/>
            <p:cNvPicPr/>
            <p:nvPr/>
          </p:nvPicPr>
          <p:blipFill>
            <a:blip r:embed="rId5"/>
            <a:stretch/>
          </p:blipFill>
          <p:spPr>
            <a:xfrm>
              <a:off x="-108000" y="4724280"/>
              <a:ext cx="28796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3" descr="DSC00044"/>
            <p:cNvPicPr/>
            <p:nvPr/>
          </p:nvPicPr>
          <p:blipFill>
            <a:blip r:embed="rId6"/>
            <a:stretch/>
          </p:blipFill>
          <p:spPr>
            <a:xfrm>
              <a:off x="6012000" y="4724280"/>
              <a:ext cx="3357360" cy="215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763640" y="120492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6 de março de 2008 – A questão urbana e fundi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914560" y="18900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ficina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95280" y="37767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8 de março de 2008 – Custos de urbanização de assentamentos prec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0" y="4143240"/>
            <a:ext cx="9143280" cy="2925360"/>
            <a:chOff x="0" y="4143240"/>
            <a:chExt cx="9143280" cy="2925360"/>
          </a:xfrm>
        </p:grpSpPr>
        <p:pic>
          <p:nvPicPr>
            <p:cNvPr id="187" name="Picture 6" descr="MinCidades 031"/>
            <p:cNvPicPr/>
            <p:nvPr/>
          </p:nvPicPr>
          <p:blipFill>
            <a:blip r:embed="rId1"/>
            <a:stretch/>
          </p:blipFill>
          <p:spPr>
            <a:xfrm>
              <a:off x="0" y="4143240"/>
              <a:ext cx="457164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7" descr="MinCidades 056"/>
            <p:cNvPicPr/>
            <p:nvPr/>
          </p:nvPicPr>
          <p:blipFill>
            <a:blip r:embed="rId2"/>
            <a:stretch/>
          </p:blipFill>
          <p:spPr>
            <a:xfrm>
              <a:off x="4571640" y="4143240"/>
              <a:ext cx="4571640" cy="29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8"/>
          <p:cNvGrpSpPr/>
          <p:nvPr/>
        </p:nvGrpSpPr>
        <p:grpSpPr>
          <a:xfrm>
            <a:off x="-298440" y="1697040"/>
            <a:ext cx="9442440" cy="2160720"/>
            <a:chOff x="-298440" y="1697040"/>
            <a:chExt cx="9442440" cy="2160720"/>
          </a:xfrm>
        </p:grpSpPr>
        <p:pic>
          <p:nvPicPr>
            <p:cNvPr id="190" name="Picture 9" descr="DSC00010"/>
            <p:cNvPicPr/>
            <p:nvPr/>
          </p:nvPicPr>
          <p:blipFill>
            <a:blip r:embed="rId3"/>
            <a:stretch/>
          </p:blipFill>
          <p:spPr>
            <a:xfrm>
              <a:off x="2799000" y="1697040"/>
              <a:ext cx="31496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0" descr="DSC00034"/>
            <p:cNvPicPr/>
            <p:nvPr/>
          </p:nvPicPr>
          <p:blipFill>
            <a:blip r:embed="rId4"/>
            <a:stretch/>
          </p:blipFill>
          <p:spPr>
            <a:xfrm>
              <a:off x="-298440" y="1697040"/>
              <a:ext cx="31496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1" descr="DSC00067"/>
            <p:cNvPicPr/>
            <p:nvPr/>
          </p:nvPicPr>
          <p:blipFill>
            <a:blip r:embed="rId5"/>
            <a:stretch/>
          </p:blipFill>
          <p:spPr>
            <a:xfrm>
              <a:off x="5894640" y="1697040"/>
              <a:ext cx="3249360" cy="216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2286000"/>
            <a:ext cx="7702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79280" y="563400"/>
            <a:ext cx="86108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ndências e cenários 2008-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ários macro-econômico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rescimento econômico (PIB), evolução de distribuição de renda, receita tributária e das principais  fontes de recursos onerosos para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ários de necessidades habitacionai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ratificação por tipos de municípios, ren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ários de evolução do custo de habi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erra, produ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stão urban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localização da moradia, acesso a terra, qualific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eia produtiva da construção civi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ateriais, produtividade do setor, qualificação técnica e da mão de ob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Cenários macro-econômicos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rescimento do PIB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dotado cenário realista – </a:t>
            </a: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4% ao ano no período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nalisado o cenário pessimista – 2,5% ao ano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Taxa Básica de Juros (Selic) em queda – estabiliza em 4,5% real (descontada a inflação)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anutenção da carga tributária nos níveis atuais (35,9%)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nalisado o cenário de redução da carga tributári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ntinuidade na melhoria da renda dos setores mais pobres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utiger-Bold"/>
              </a:rPr>
              <a:t>Distribuição da população por faixa de rend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Frutiger-Bold"/>
              </a:rPr>
              <a:t>em Reais (%)</a:t>
            </a:r>
            <a:endParaRPr b="0" lang="en-US" sz="32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1955880"/>
          <a:ext cx="8570880" cy="3274920"/>
        </p:xfrm>
        <a:graphic>
          <a:graphicData uri="http://schemas.openxmlformats.org/drawingml/2006/table">
            <a:tbl>
              <a:tblPr/>
              <a:tblGrid>
                <a:gridCol w="1192680"/>
                <a:gridCol w="1335600"/>
                <a:gridCol w="1051560"/>
                <a:gridCol w="1195920"/>
                <a:gridCol w="1192680"/>
                <a:gridCol w="1194480"/>
                <a:gridCol w="1192680"/>
                <a:gridCol w="216000"/>
              </a:tblGrid>
              <a:tr h="137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Até R$ 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01 a 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00 a 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Mais de 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1555920"/>
            <a:ext cx="918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074600"/>
          <a:ext cx="9144000" cy="3297240"/>
        </p:xfrm>
        <a:graphic>
          <a:graphicData uri="http://schemas.openxmlformats.org/drawingml/2006/table">
            <a:tbl>
              <a:tblPr/>
              <a:tblGrid>
                <a:gridCol w="1908000"/>
                <a:gridCol w="1540080"/>
                <a:gridCol w="1411200"/>
                <a:gridCol w="1513080"/>
                <a:gridCol w="1439640"/>
                <a:gridCol w="133200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Especifica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ç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 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ficit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  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Acumul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2005-2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2010-20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2015-20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2005-20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nidades Nov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902.6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.447.7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.908.4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273.54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2.629.7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rbaniza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ão assentamentos prec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i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.25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rência de infra-estru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.83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CaixaDeTexto 3"/>
          <p:cNvSpPr/>
          <p:nvPr/>
        </p:nvSpPr>
        <p:spPr>
          <a:xfrm>
            <a:off x="-720" y="4565520"/>
            <a:ext cx="64594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éficit habitacional Urb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Fonte: Dados básicos: IBGE – PNAD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Elaboração: Fundação João Pinheiro – déficit habitacional no Brasil 2005 – Mcid – S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Assentamentos Pr´carios – Cálculo Centro de Estudos da Metropole - C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Projeções das Demandas Demográficas Fu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Fontes: IBGE, Censo Demográfico 1991 e 2000; MS/SVS/DASIS, SIM 1999 a 2001; U.S. Bureau of the Cens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Elaboração: CEDEPLAR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ixaDeTexto 3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  <a:ea typeface="Arial"/>
              </a:rPr>
              <a:t>Cenário de necessidades habitacionais atual e demanda demográfica 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8900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50920" y="115920"/>
            <a:ext cx="2736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987640" y="25560"/>
            <a:ext cx="6734160" cy="68594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0" y="0"/>
            <a:ext cx="3348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4920" y="0"/>
            <a:ext cx="3313080" cy="70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s A, B, C, D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unicípios com alto déficit habitacional absoluto e altas taxas de cres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75 municípios em RM’s, aglomerações e com + de 100 mil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centram 46% do déficit habitacional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ta taxa de crescimento populacional, que se concentram nas periferi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cresceram 30% entre 1991 e 2000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492360" y="5948280"/>
            <a:ext cx="71640" cy="73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492360" y="61642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3492360" y="6308640"/>
            <a:ext cx="71640" cy="7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3492360" y="6524640"/>
            <a:ext cx="7164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1"/>
          <p:cNvSpPr/>
          <p:nvPr/>
        </p:nvSpPr>
        <p:spPr>
          <a:xfrm>
            <a:off x="3492360" y="6740640"/>
            <a:ext cx="7164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124000" y="270720"/>
            <a:ext cx="50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bjetivos gerais da P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95280" y="16689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âmbito dos objetivos estratégicos do governo, a Política Nacional de Habitação deve perseguir dois objetivo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versalizar o acesso à moradia digna num prazo a ser definido no Plano Nacional de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ar empregos e renda dinamizando a econo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012000" y="1874880"/>
            <a:ext cx="3168360" cy="2922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6192720" y="-531720"/>
            <a:ext cx="3132360" cy="2798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0" y="-415800"/>
            <a:ext cx="6227640" cy="727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3080" y="4602240"/>
            <a:ext cx="62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H – Centros urbanos em espaços rurais pobres e estagna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 20 a 100 mil ha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aixa taxa de urbanização (54,6%); alto déficit habitacional relativo, aacom concentração na zona rural (46,6%) Baixa capacidade para enfrentamento do dé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3"/>
          <a:stretch/>
        </p:blipFill>
        <p:spPr>
          <a:xfrm>
            <a:off x="6156360" y="454176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0" y="-6480"/>
            <a:ext cx="66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F – Centros urbanos em espaços rurais prósperos de 20 a 100 mil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ta taxa de urbanização, crescimento moderado e baixa precariedade. Prósperos, situados nas micro-regiões mais ricas do país, tem mais condições de enfrentar o déficit com recursos próp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2276640"/>
            <a:ext cx="6227640" cy="23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08000" y="2276640"/>
            <a:ext cx="6264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G – Centros urbanos em espaços rurais consolidados de 20 a 100 mil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íveis moderados de precariedade e pobreza, regiões de ocupação consolidada, com relativa estagn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804000" y="1197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80400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6804000" y="61009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menos_de_20mil_paint"/>
          <p:cNvPicPr/>
          <p:nvPr/>
        </p:nvPicPr>
        <p:blipFill>
          <a:blip r:embed="rId1"/>
          <a:srcRect l="0" t="8872" r="0" b="0"/>
          <a:stretch/>
        </p:blipFill>
        <p:spPr>
          <a:xfrm>
            <a:off x="1185840" y="-27000"/>
            <a:ext cx="8642520" cy="550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menos_de_20mil_NE-CO_paint"/>
          <p:cNvPicPr/>
          <p:nvPr/>
        </p:nvPicPr>
        <p:blipFill>
          <a:blip r:embed="rId2"/>
          <a:srcRect l="1961" t="9408" r="1961" b="1304"/>
          <a:stretch/>
        </p:blipFill>
        <p:spPr>
          <a:xfrm>
            <a:off x="1116000" y="3284640"/>
            <a:ext cx="8496360" cy="53607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0" y="27000"/>
            <a:ext cx="169236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003640" y="-243000"/>
            <a:ext cx="1368720" cy="856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 flipH="1">
            <a:off x="35640" y="2160720"/>
            <a:ext cx="142920" cy="188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108000" y="450864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 flipH="1">
            <a:off x="107280" y="18900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0" y="144360"/>
            <a:ext cx="1692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I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paços rurais prósper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-36360" y="4437000"/>
            <a:ext cx="16189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K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paços rurais pobres de pouca densidade econô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788000" y="549360"/>
            <a:ext cx="1800000" cy="66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819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unicíp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m menos de 20 mil hab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5,84% do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éficit to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8,53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popul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0% do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éficit rur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1916280"/>
            <a:ext cx="1692360" cy="22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-36360" y="1844640"/>
            <a:ext cx="18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paços rurais consoli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4"/>
          <p:cNvSpPr/>
          <p:nvPr/>
        </p:nvSpPr>
        <p:spPr>
          <a:xfrm>
            <a:off x="71280" y="2133720"/>
            <a:ext cx="17964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5"/>
          <p:cNvSpPr/>
          <p:nvPr/>
        </p:nvSpPr>
        <p:spPr>
          <a:xfrm>
            <a:off x="71280" y="2421000"/>
            <a:ext cx="17964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17440" y="333360"/>
            <a:ext cx="946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imes New Roman"/>
              </a:rPr>
              <a:t>Distribuição do déficit básico por tipos de municíp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684360" y="477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24000" y="47628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afios para o Financiamento Habitac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1844640"/>
            <a:ext cx="8820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la – déficit quantitativo, qualitativo e demanda proje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a capacidade de pagamento das famí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 custo do bem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xidade do financiamento em long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4360" y="1159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-1189080" y="2138400"/>
            <a:ext cx="943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4382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ximizar as principais fontes de financiamento hoje disponíveis: FNHIS, FGTS e SB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r um modelo de garantias e segu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ar um novo modelo de subsí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178720" y="-100080"/>
            <a:ext cx="4917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anciamento e Subsíd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1592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trizes para equacionar o Financ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619280" y="15573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24000" y="140796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co nas fonte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ticulação FNHIS e FGTS para atendimento dos grupos prioritários das necessidades habitac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de otimizar e harmonizar os recursos destinados a subsíd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ização da demanda em grupos de atend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equação – funding X grupo de atendimento (demanda solváve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antação de sistemas complementares – subsídios e Modelo de Garantia e Segu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de fontes altern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0" y="1159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odologia – Estratificação em Grupos de At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08000" y="1141560"/>
            <a:ext cx="903600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amílias sem renda ou com renda líquida abaixo da mínima necessária à assunção de um compromisso de retorno regular e estruturado (abaixo da linha de financiamento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amílias com renda mensal que lhes permite assumir algum compromisso de pagamento mensal regular e estruturado e acessar financiamento imobiliário, mas com alto risco de crédito para os Agentes Financeiros em decorrência de suas rendas informais e reduzidas e das precárias garantias oferecidas para o financi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I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mílias com renda mensal que lhes permite assumir compromisso de pagamento mensal e acessar financiamento imobiliário, nem sempre suficiente para acessar uma moradia adequada e, com moderado risco de crédito para os Agentes Financei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amílias com capacidade de pagamento regular e estruturada, com plenas condições de assumirem compromisso de pagamento mensal relativo a financiamento imobiliário, em valor suficiente para acessar uma moradia adequada, desde que em condições acessíveis (perfil do FGTS), pois possuem empregos e rendas estáveis e são capazes de oferecer garantias reais para os financiamentos contraí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amílias com plena capacidade de acesso a um imóvel adequado às suas necessidades, através de esquemas de financiamento de mercado (SBPE e outr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0" y="6066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ia – Estratificação em Grupos de At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08000" y="1731960"/>
            <a:ext cx="903600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N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Mix FGTS / Desconto - FN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I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– FGTS / Desc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G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 SBPE /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4"/>
          <p:cNvGraphicFramePr/>
          <p:nvPr/>
        </p:nvGraphicFramePr>
        <p:xfrm>
          <a:off x="0" y="1238400"/>
          <a:ext cx="889308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8400"/>
                    <a:ext cx="889308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609480" y="214956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187280" y="1479600"/>
            <a:ext cx="763272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teórico de resultado de simulação (Estados de Custo Médi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âmetro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xa total de financiamento = 6,16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495360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 subsidiada e Prazo de 20 anos, sem poupança prév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187280" y="2496960"/>
            <a:ext cx="7201080" cy="38116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468360" y="44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ELAGEM DE  SUBSÍDI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Estratégia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Articulação entre política habitacional e políticas fundiária, de saneamento e de transporte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Fortalecer o papel do Estado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Recursos não onerosos dos 3 âmbitos de governo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Promover o atendimento à população de baixa renda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Estimular o mercado sem recursos público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Expandir o crédito habitacional ampliando fontes de recurso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remissas para a construção dos cenários das fontes de recursos para habitação - OGU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7640" y="1341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PPA 2008-2011 previu grande elevação de recursos em relação aos períodos anteriores – 16 bi – 4bi/ano 0,685%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enário Realista - Manutenção da % do investimento em habitação em relação ao OGU prevista no PPA 2008-11 no período 2011 a 2023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enário Otimista - Possibilidade de crescimento gradual da % no período até atingir 1%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Necessidade de estabilidade, previsibilidade e planejamento das dotações orçamentária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Vinculação da receita (?)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826920" y="1413000"/>
          <a:ext cx="7848720" cy="3744720"/>
        </p:xfrm>
        <a:graphic>
          <a:graphicData uri="http://schemas.openxmlformats.org/drawingml/2006/table">
            <a:tbl>
              <a:tblPr/>
              <a:tblGrid>
                <a:gridCol w="4465800"/>
                <a:gridCol w="3382920"/>
              </a:tblGrid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çã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or previsto (em milhõ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NH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sídio habit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zação de Assentamentos Prec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e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.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7" name="Text Box 25"/>
          <p:cNvSpPr/>
          <p:nvPr/>
        </p:nvSpPr>
        <p:spPr>
          <a:xfrm>
            <a:off x="611280" y="1159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vestimento em habitação e urbanização de assentamentos precários previstos no PPA 2008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>
            <a:off x="826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755640" y="558972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>
            <a:off x="867564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"/>
          <p:cNvSpPr/>
          <p:nvPr/>
        </p:nvSpPr>
        <p:spPr>
          <a:xfrm>
            <a:off x="5292720" y="50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900000" y="5157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édia anual – 2008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1"/>
          <p:cNvSpPr/>
          <p:nvPr/>
        </p:nvSpPr>
        <p:spPr>
          <a:xfrm>
            <a:off x="7885080" y="51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4.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684360" y="1159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NHIS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nário Realista – 2008 a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2182680"/>
            <a:ext cx="914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stentação do patamar mínimo de 0,685% do OGU par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bi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scimento médio da receita federal disponível de 4% a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nutenção da carga tributár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ção orçamentária federal = R$ 80,5 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4360" y="1159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39640" y="5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NHIS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ário otimista  - 2008 a 20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68360" y="1700280"/>
            <a:ext cx="8136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remento gradual para o patamar mínimo de 1%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OGU para habitação Projeção orçamentári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deral = R$ 96,3 bilhões (aumento de 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ções orçamentárias demais 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Estados = R$ 41,5 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unicípios = R$ 26,6 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çamento público total estimado = R$ 164,4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remissas para a construção dos cenários das fontes de recursos para habitação - FGTS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97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rescimento da receita bruta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Grande potencial para ampliação do investimento em habitação e saneamento até 2023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ois cenários: a)209bi  b)358 bi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Tendência de queda da receita financeira e, com as regras atuais, tendência de redução do subsídi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spaço para mobilização de recursos para subsidio no próprio fundo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Tendência de redução do custo do financiamento, ampliando as alternativas para a baixa ren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Fundo Garantidor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977760"/>
          <a:ext cx="9144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7760"/>
                    <a:ext cx="9144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remissas para a construção dos cenários das fontes de recursos para habitação - SBPE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782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anutenção da atratividade da poupança – 6% + TR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anutenção da exigibilidade de aplicação em habitação – 65%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rescimento da aplicação em habitação – 590 bi até 2023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Possibilidade de tributação sobre a rentabilidad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Gradativa redução das faixas de renda a ser atendidas pelo SBP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1116000" y="1139760"/>
          <a:ext cx="5904000" cy="5121360"/>
        </p:xfrm>
        <a:graphic>
          <a:graphicData uri="http://schemas.openxmlformats.org/drawingml/2006/table">
            <a:tbl>
              <a:tblPr/>
              <a:tblGrid>
                <a:gridCol w="725400"/>
                <a:gridCol w="1295640"/>
                <a:gridCol w="1293840"/>
                <a:gridCol w="1295280"/>
                <a:gridCol w="12938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ol. Fi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em mil 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Un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dades SFH/SB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dades SFH &lt;R$150 m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4.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.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9.8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5.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6.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9.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.7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1.7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.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.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7.3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6.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.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3.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.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.7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.8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.4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.0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8.9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.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.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7.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.8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5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7.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5.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.4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8.6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.5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2.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7.0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3.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.7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.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7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3.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8.5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3.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6.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5.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9.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9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3.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23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28.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92.0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118"/>
          <p:cNvSpPr/>
          <p:nvPr/>
        </p:nvSpPr>
        <p:spPr>
          <a:xfrm>
            <a:off x="1155960" y="306720"/>
            <a:ext cx="68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jeção de Recursos do SBPE – 2008 a 20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250920" y="-100440"/>
            <a:ext cx="856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as Financei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enário Realista 2008-2023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em R$ bi – valores de dez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60360" y="1628640"/>
          <a:ext cx="8532720" cy="3672000"/>
        </p:xfrm>
        <a:graphic>
          <a:graphicData uri="http://schemas.openxmlformats.org/drawingml/2006/table">
            <a:tbl>
              <a:tblPr/>
              <a:tblGrid>
                <a:gridCol w="1187280"/>
                <a:gridCol w="792360"/>
                <a:gridCol w="1246320"/>
                <a:gridCol w="1074600"/>
                <a:gridCol w="1135080"/>
                <a:gridCol w="1008000"/>
                <a:gridCol w="1152720"/>
                <a:gridCol w="93636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Recursos não onero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Recursos onero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Perí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(P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OG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GTS Desc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G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inan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B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08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4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12/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7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16/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4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20/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6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9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9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2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9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9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2271240" y="-27360"/>
            <a:ext cx="476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as Finance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enário otimista 2008-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em R$ bi – valores de dez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341360"/>
          <a:ext cx="8459640" cy="4541760"/>
        </p:xfrm>
        <a:graphic>
          <a:graphicData uri="http://schemas.openxmlformats.org/drawingml/2006/table">
            <a:tbl>
              <a:tblPr/>
              <a:tblGrid>
                <a:gridCol w="755640"/>
                <a:gridCol w="720720"/>
                <a:gridCol w="647640"/>
                <a:gridCol w="647640"/>
                <a:gridCol w="792360"/>
                <a:gridCol w="720720"/>
                <a:gridCol w="792000"/>
                <a:gridCol w="790560"/>
                <a:gridCol w="865440"/>
                <a:gridCol w="792000"/>
                <a:gridCol w="934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Recursos não onero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Recursos onero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Perí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P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OG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Or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E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Orç.M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GTS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inan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B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si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H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sist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08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4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12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8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16/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5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20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9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5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3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9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1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5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9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4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6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9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8459640" y="1341360"/>
          <a:ext cx="936720" cy="4361040"/>
        </p:xfrm>
        <a:graphic>
          <a:graphicData uri="http://schemas.openxmlformats.org/drawingml/2006/table">
            <a:tbl>
              <a:tblPr/>
              <a:tblGrid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7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2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1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5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165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atégias de Implementação da Política Nacional de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10492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ganização e fortalecimento institucion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bilização de recursos onerosos e não oneros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forma urban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arateamento e qualificação da produ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252720" y="-273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Oficina Metodologia para elaboração de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lanos Municipais de Habitação</a:t>
            </a: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a Política e do Plano Nacional de Habitação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aos planos municipais: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construindo uma estratégia para universalizar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o direito a moradia no Brasi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Prof. Dr Nabil Bonduki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FAU-USP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96" name="Picture 4" descr="logos Plano Hab"/>
          <p:cNvPicPr/>
          <p:nvPr/>
        </p:nvPicPr>
        <p:blipFill>
          <a:blip r:embed="rId1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Frutiger-Bold"/>
              </a:rPr>
              <a:t>Crédito para habitaçã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(Por fontes de recursos – em R$ bi)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298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684360" y="477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826920" y="4428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fios para o Financiamento Habitac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757080" y="1884240"/>
            <a:ext cx="7560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la – déficit quantitativo, qualitativo e demanda proje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a capacidade de pagamento das famí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 custo do bem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xidade do financiamento em long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684360" y="1159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-973080" y="1989000"/>
            <a:ext cx="943272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ximizar as principais fontes de financiamento hoje disponíveis: FNHIS, FGTS e SB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r um modelo de garantias e segu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ar um modelo de subsí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r fonte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ização da demanda em grupos de at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826920" y="11592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fios para o Financiamento Habitac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00000" y="1413000"/>
            <a:ext cx="76327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G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ntinuidade dos valores de repasse para Estados e municípios, prioritariamente para urbanização de assentamentos precá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posta de estruturação de um modelo de subsídios habitacionais (OGU+FGTS) objetivando alavancar a produção e o financiamento das modalidades de atendimento, especialmente para a população de baixa rend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G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 dos pilares do SFH e principal fonte para a PN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or custo de captação (TR+3%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ual saúde financeira e robustez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nte estável e sustentável de recurs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duz recursos não oneros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de ter seu desempenho potencializ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BP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Outro pilar do SFH, complementar ao FGT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usto de captação ainda abaixo dos custos de mercado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ior volume de recurs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de ser melhor adequado à questão habitacional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ode ter seu desempenho potencializ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826920" y="115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afios para o Financiamento Habitac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8334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mis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900000" y="2062080"/>
            <a:ext cx="7632720" cy="41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tibilizar a baixa capacidade de pagamento das famílias a produtos habitacionais adequados para cada região/municíp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ntar um sistema de subsídios eqüitativo e sustent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cionar os casos de precariedade da garant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zir u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elo que contemp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renda familiar per capita – (impacto no comprometimento, nos subsídios, na comprovação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ficar soluções de escala viáveis nas Regiões Metropolitanas adensadas (exemplo típico Rio e São Pau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ar com a participação efetiva dos estados e municípios (estrutura, capacidade institucional e contrapartida financei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r as especificidades locais X modelo de operacionaliz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685800" y="2057400"/>
            <a:ext cx="7632720" cy="34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timização, harmonização, eqüidade, sustentabilidade, transparência e monitor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r mecanismos de incentivo e pactua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ão para prom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rcerias com estados, municípios e associ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oupança prév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468360" y="8334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mis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609480" y="26319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826920" y="1790640"/>
            <a:ext cx="770580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ficação do público alvo em Grupos de At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Famílias com renda líquida abaixo da mínima necessária à assunção de um compromisso de retorno regular e estruturado (abaixo da linha de financiament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I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Famílias com possibilidade de assumir algum compromisso de pagamento mensal regular e estruturado e acessar financiamento imobiliário, mas em valor insuficiente e com alto risco de crédito para os Agentes Financeiros, em função de suas rendas e das precárias garantias oferecidas, com necessidade de subsíd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III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Famílias com renda mensal que lhes permite assumir compromisso de pagamento mensal e acessar financiamento imobiliário, nem sempre suficiente para acessar uma moradia adequada e, com moderado risco de crédito para os Agentes Financeir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609480" y="26319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826920" y="1790640"/>
            <a:ext cx="770580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Classificação do público alvo em Grupos de At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I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Famílias com capacidade de pagamento regular e estruturada, com plenas condições de assumirem compromisso de pagamento mensal relativo a financiamento imobiliário em valor suficiente e oferecerem garantias reais, desde que em condições acessíve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Famílias com plena capacidade de acesso a um imóvel adequado às suas necessidades, através de esquemas de financiamento de merc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09480" y="213984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914400" y="1828800"/>
            <a:ext cx="75596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) Estudos de tipologias de atendimento e respectivos cu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logias que variam desde a cesta de materiais e assistência técnica, com ou sem lote, até unidades prontas tanto em sistemas de auto-gestão quanto de produção privada, em áreas periféricas e centrais incluindo o retrof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s dos Produtos Regionaliz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)  Construção – base SINAPI (por estad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) Terreno - estudos de casos, levantamentos diversos, CAIXA (p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 de Municíp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ii) Assessoria Téc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ais custos (infra, BDI, projetos) - levantamentos diver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68360" y="6951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79280" y="1332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Criação do Ministério das Cidades (1/1/2003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Instancias de controle e participação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004760" indent="-533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Conferencia Nacional das Cidades (2003 - 2005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004760" indent="-533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Conselho Nacional das Cidades (Instalado 2004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Criação do Sistema e do Fundo Nacional de Habitação de Interesse Social (Lei 11.124/05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Aprovação do novo marco jurídico do Saneament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Implementação do Sistema Nacional de Habita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Plano Nacional de Habitação (em desenvolvimento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8360" y="1144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atégias para Implementação da PNH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enho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609480" y="221148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900000" y="2565360"/>
            <a:ext cx="763272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)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ção de 3 tipologias de atendimento como referência de custo regionalizada (por estado e tipo de municípi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esta de materiais para uma casa de 32 m² para área urbana e de 56 m² para área rural  + Assistência Téc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de 125 m² + Cesta (casa 32 m²) + Assistênci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tamento (45,8 m² e 8 pvtos.) em área nã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: O padrão de custo utilizado foi sempre calculado com base na produção privada. Na modalidade auto-gerida, será, provavelmente, possível produzir uma unidade ma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68360" y="9111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609480" y="203508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900000" y="1727280"/>
            <a:ext cx="7632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Agrupamento dos 27 estados por similaridade de custos Sin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ixo custo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B, RN, RO, PI, GO, MS, SE, 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édio custo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E, BA, MA, PE, AL, PA, AM, RS, PR, SC, AC, TO, AP, DF, MG, 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to custo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P, RJ, R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2916360" y="3460680"/>
            <a:ext cx="4680000" cy="27050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73120" y="247176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900000" y="2090880"/>
            <a:ext cx="755964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Agrupamento das 11 tipologias de municípios em 4 grupos, consider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il de distribuição da população por re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ção urbana e possibilidades e soluções de escala indic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RM São Paulo e Rio de Jane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e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Demais RM, aglomerados e capi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, E, F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ros regionais com + de 100 mil habitantes e cidades do centro sul com população entre 20 e 100 mil habi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a K e rura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mais municípios com menos de 100 mil e áreas ru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609480" y="207180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900000" y="2340000"/>
            <a:ext cx="7632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 Simulações de financiamentos com base nos 3 padrões de referência de custo de produto para defi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es/limites de renda dos Grupos de Atendimen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zos de financiamento adequad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ometimento de re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ídio de equilíbrio (quais a serem mantidos – spread e 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ídio de complemento (necessidade, com e sem poupança prévi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xas por grandes grupos de atend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609480" y="214956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971640" y="1841400"/>
            <a:ext cx="7632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de resultado de simulação (Estados de Custo Médi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âmetro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xa total de financiamento = 6,16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 subsidiada e Prazo de 20 anos, sem poupança prévia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547640" y="2849400"/>
            <a:ext cx="6264360" cy="33163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1736640"/>
            <a:ext cx="90662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09480" y="203688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63640" y="1584360"/>
            <a:ext cx="91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) Definições dos Grupos de Atendim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4"/>
          <p:cNvGraphicFramePr/>
          <p:nvPr/>
        </p:nvGraphicFramePr>
        <p:xfrm>
          <a:off x="457200" y="826920"/>
          <a:ext cx="824076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26920"/>
                    <a:ext cx="824076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5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609480" y="211464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900000" y="2124000"/>
            <a:ext cx="76327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) Definição da grade de valores de Subsíd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valor de subsídio deve viabilizar, no mínimo, a solução de Lote+Cesta+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ular a participação do mutuário por meio de contrapartida e poupança prév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ídios decrescentes à medida que evoluem as faixas de re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ídios variáveis por estados e municípios (custos regionai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municípios tipo A, B e C será acrescido um subsídio de localização que terá como condicionalida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) Contrapartida financeira do poder público estadual e/ou loc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) Ocupação de áreas mais centrais e dotadas de infra-estrutura ple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) Uso das ZEIS pelo municíp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68360" y="76824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900000" y="2416320"/>
            <a:ext cx="7632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) Cálculo dos Montantes Necessários – Financiamento e Subsíd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a futura até 202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ficit acumul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dades qualitativas/urbanização de assentamentos precá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68360" y="76824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Frutiger-Bold"/>
              </a:rPr>
              <a:t>Cenários de Gastos com Habitação – OGU/Repasse a estados e municípios </a:t>
            </a: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Frutiger-Bold"/>
              </a:rPr>
              <a:t>(2007-2023)</a:t>
            </a:r>
            <a:endParaRPr b="0" lang="en-US" sz="22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00000" y="1915920"/>
            <a:ext cx="763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Necessidade de estabilidade, previsibilidade e planejamento das do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ões 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amen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rias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50000"/>
              </a:lnSpc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Cen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rio 1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- Manute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ão da % do investimento em habi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ão em rel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ão a receita tribu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ria no p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odo 2011 a 2023 (de acordo com o PPA 2007-11)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50000"/>
              </a:lnSpc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Cen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rio 2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- Crescimento gradual da % no p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odo a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atingir 1% dos 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amentos da União, Estado e Munic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pios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50000"/>
              </a:lnSpc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Cen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rio 3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- Crescimento gradual da % no p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odo a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atingir 2% dos 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amentos da União, Estado e Munic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pios (PEC da Habi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ão)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66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Estratégias para Implementação da PNH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Regulação fundiária e urbana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7640" y="1481040"/>
            <a:ext cx="8991720" cy="569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Adoção, nos planos diretores e em leis complementares,  de instrumentos urbanísticos previstos no Estatuto da Cidade que combatem a especulação com terra e imóveis ociosos e ampliem a disponibilidade e barateiem o custo da terra: 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Zeis – Zonas Especiais de Interesse Social para população de baixa ren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Parcelamento e edificação compulsória e IPTU progressivo no temp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Desenvolvimento de programas municipais de regularização da posse da terr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Adoção de padrões para elaboração de projetos que garantam qualidade ambiental e urbanístic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47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Frutiger-Bold"/>
              </a:rPr>
              <a:t>Cenários de Gastos com Habitação – OGU/Repasse a estados e municípios </a:t>
            </a: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Frutiger-Bold"/>
              </a:rPr>
              <a:t>(2007-2023)</a:t>
            </a:r>
            <a:endParaRPr b="0" lang="en-US" sz="22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00000" y="2133720"/>
          <a:ext cx="7704360" cy="4060800"/>
        </p:xfrm>
        <a:graphic>
          <a:graphicData uri="http://schemas.openxmlformats.org/drawingml/2006/table">
            <a:tbl>
              <a:tblPr/>
              <a:tblGrid>
                <a:gridCol w="1925640"/>
                <a:gridCol w="1927440"/>
                <a:gridCol w="1925640"/>
                <a:gridCol w="19256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enári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enári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enári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07-2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12-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16-1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20-20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ot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7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Text Box 40"/>
          <p:cNvSpPr/>
          <p:nvPr/>
        </p:nvSpPr>
        <p:spPr>
          <a:xfrm>
            <a:off x="7167600" y="1700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$ b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6648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-Bold"/>
              </a:rPr>
              <a:t>Estratégias para Implementação da PNH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Frutiger-Bold"/>
              </a:rPr>
              <a:t>Desenvolvimento Tecnológico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70000" y="1471680"/>
            <a:ext cx="88390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ovação e ao desenvolvimento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moção de programas que ampliem a qualidade e a produtividade da construçã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didas que ampliem a segurança e qualificação do trabalhador da indústria  da constr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centivo a elaboração, revisão e adoção de normas técnicas e indicadores de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ecessidade de projeto básico como requisito para a implantação de empreendimentos habit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19T16:02:10Z</dcterms:modified>
  <cp:revision>22</cp:revision>
  <dc:subject/>
  <dc:title>Slide 1</dc:title>
</cp:coreProperties>
</file>