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C17-73F2-49DC-AED6-8F4B2D70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1D-9B45-4EFE-9B77-EFE2340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F18-84D0-4BC8-A184-A3BFAE32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D30-9078-475B-99D7-E2139E12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EB8-DB65-467A-ABC7-144C228E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E6D-FA93-460B-AA73-AD6A438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CEA-706C-4A95-A91D-A80FE88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340-1D06-44D6-A039-69199C5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31D-86C8-4FB8-9AEE-43D677A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55F-2FE7-40B7-9658-53C7D68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21E-CDB9-4779-8720-5EAD2BA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369-5849-4EAB-9325-8C883B4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554-AB83-4546-BA7C-B892F13BA4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idades.gov.br/ministerio-das-cidades/sistematica-2007/sistematica-2008/ManualFNHISPlanosHabitacionais2008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PLHIS – diretrizes manual do FNHIS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1 - Proposta metodológica de trabalho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2 - Diagnóstico do Setor Habitacional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3 – Estratégias de Ação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1 - Proposta metodológica de trabalho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a) Elaborar Plano de trabalho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etapas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prazos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responsabilidades da equipe de trabalho municipal e dos consultores,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mecanismos de participação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mecanismos de publicidade e o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ronograma de discussão com a sociedad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b) Proposta metodológica - 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 ser pactuada com a sociedade e com o Conselho Gestor do Fundo Local de Habitação de Interesse Social quando este existir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5940360" y="5157720"/>
            <a:ext cx="30225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ação de consulto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2 - Diagnóstico do Setor Habitacional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)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inserção regional e características do município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b) atores sociais e suas capacidade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) necessidades habitacionai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) oferta habitacional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) marcos regulatórios e legais existentes, a ser modificados ou elaborado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f) condições institucional e administrativa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g) programas e ações identificando quem os promove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h) recursos para financiamento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Leitura técnica e participativa do problema da habitaçã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39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Note que para a elaboração de um bom diagnóstico é preciso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onhecer a realidade local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. Se a prefeitura ou o estado não dispuser de informações, a equipe contratada e o órgão público contratante deverão identificar as informações essenciais a serem coletadas em campo ou elaboradas a partir de dados secundários, mapas e fotos aérea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s informações sobre o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assentamentos precári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colhidas localmente são sempre mais adequadas do que aquelas elaboradas a partir dos dados secundários. Em campo é possível colher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informações qualitativas que permitem estabelecer indicadores de prioridad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O diagnóstico participativ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elaborado junto com a população, é  fonte importantíssima de levantamento e checagem de informações.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39640" y="6308640"/>
            <a:ext cx="813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m mora na cidade conhe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3 – Estratégias de aç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1 diretrizes e objetiv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2 programas e açõ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3 metas, recursos e fontes de financiament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4 indicador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5 monitoramento, avaliação e revis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Formulando uma estratégia para enfrentar o problema habitaciona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35880" cy="3168360"/>
          </a:xfrm>
          <a:prstGeom prst="rect">
            <a:avLst/>
          </a:prstGeom>
          <a:solidFill>
            <a:srgbClr val="ff9900">
              <a:alpha val="6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abe aos planos definir uma estratégia local de equacionamento do problema, num nível de detalhamento indispensável para estabelecer metas, prioridades e cronogramas de implementação do programa habitacional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HIS: conteúdo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iretrizes e objetivo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que queremos atingir com o Plan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iagnóstico do setor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(necessidades, oferta, insumos, base legal, condições institucionais e administrativas, recursos)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azo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de vigência do plan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Implementação: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ogramas e açõ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Met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físicas, financeiras, normativas, institucionais  </a:t>
            </a:r>
            <a:r>
              <a:rPr b="0" lang="pt-BR" sz="2800" spc="-1" strike="noStrike">
                <a:solidFill>
                  <a:srgbClr val="ff0000"/>
                </a:solidFill>
                <a:latin typeface="Frutiger 55 Roman"/>
              </a:rPr>
              <a:t>x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ioridad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Monitoramento e avali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Implementação:</a:t>
            </a: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rogramas e ações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OM RECURSOS DO FNHI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 – aquisição, construção, conclusão, melhoria, reforma, locação social e arrendamento de unidades habitacionais em áreas urbanas e rur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I – produção de lotes urbanizados para fins habitacion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II – urbanização, produção de equipamentos comunitários, regularização fundiária e urbanística de áreas caracterizada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V – implantação de saneamento básico, infra-estrutura e equipamentos urbanos, complementares aos programas habitacionai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 – aquisição de materiais para construção, ampliação e reforma de moradia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I – recuperação ou produção de imóveis em áreas encortiçadas ou deterioradas, centrais ou periféricas, para fins habitacionai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II – outros programas e intervenções na forma aprovada pelo Conselho Gestor do FNH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Meta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lação entre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ecessidades/ demanda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ust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cursos existent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otencialidades (agentes, outras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strições ( fundiárias, institucionais,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Estratégias ( prioridades, ação no tempo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4643280" y="44280"/>
            <a:ext cx="4426200" cy="332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0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413240" cy="329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3"/>
          <a:stretch/>
        </p:blipFill>
        <p:spPr>
          <a:xfrm>
            <a:off x="73080" y="3502080"/>
            <a:ext cx="441144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"/>
          <p:cNvPicPr/>
          <p:nvPr/>
        </p:nvPicPr>
        <p:blipFill>
          <a:blip r:embed="rId4"/>
          <a:stretch/>
        </p:blipFill>
        <p:spPr>
          <a:xfrm>
            <a:off x="74520" y="44280"/>
            <a:ext cx="442620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 55 Roman"/>
              </a:rPr>
              <a:t>Os Componentes Básicos do </a:t>
            </a:r>
            <a:endParaRPr b="0" lang="en-US" sz="3600" spc="-1" strike="noStrike">
              <a:solidFill>
                <a:srgbClr val="000000"/>
              </a:solidFill>
              <a:latin typeface="Frutiger 55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 55 Roman"/>
              </a:rPr>
              <a:t>Plano Municipal de Habitação</a:t>
            </a:r>
            <a:endParaRPr b="0" lang="en-US" sz="36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58920" y="37162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q. Dra. Rossella Rossetto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ltora Instituto Via Pública e Casa d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Metas PHIS de Salvador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 definição das metas do Plano Municipal de Habitação foi estabelecida, seguindo os seguinte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passos metodológic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álculo dos cust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para o enfrentamento global das necessidades habitacionais, incluindo a produção de novas unidades, a urbanização de assentamentos precários e a regularização fundiária;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b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Segmentação da necessidade de novas moradi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, excluindo a parcela que poderá ser atendida pelo mercado e a que pode ser equacionada com autofinanciamento e autopromoçã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álculo da disponibilidade de recurs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no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prazo temporal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físic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de produção de nov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unidades, considerando as restrições financeiras, fundiárias e institucion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e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físicas relacionadas à regularização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e à urbanização de assentamentos precário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f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urbanas e normativ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do plano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00000" y="6453360"/>
            <a:ext cx="4824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ehab.salvador.ba.gov.br/Publica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passo 1 - custos</a:t>
            </a:r>
            <a:endParaRPr b="0" lang="en-US" sz="3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341360"/>
          <a:ext cx="8675640" cy="5078520"/>
        </p:xfrm>
        <a:graphic>
          <a:graphicData uri="http://schemas.openxmlformats.org/drawingml/2006/table">
            <a:tbl>
              <a:tblPr/>
              <a:tblGrid>
                <a:gridCol w="2892240"/>
                <a:gridCol w="2000520"/>
                <a:gridCol w="37828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ipo de 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usto médio unitários em reais (set./20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ferê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Lotes urbanizad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660,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m os custos de proje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rowSpan="2"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habitacionais nov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.973,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Crédito Solidário. Unidade habitacional sem custos de projeto, urbanização e terre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.296,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H Programa de Arrendamento Residencial – PA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habitacionais novas para relocação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.5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PAT-Prosanear. Projeto de Urbanização Integrada no bairro de São Marcos. Unidade habitacional, padrão apartamento, sem custos de projeto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gularização fundiária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de Regularização: Calabar, Alto das Pombas e Canabrav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ização integrada – sem unidades habitacionais no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5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PAT-Prosanear. Projeto de Urbanização Integrada no bairro de São Marcos. Urbanização integrada sem custos de 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passo 2 – disponibilidade de recursos</a:t>
            </a:r>
            <a:endParaRPr b="0" lang="en-US" sz="3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abeleceu-se um cenário de quantos recursos poderiam vir da esfera federal para Salvador em 17 anos: 1,3% para produção de novas moradias ( 637 milhões) e 3,2% urbanização de favelas (1,57 bilhões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ado da Bahia – contrapartida de 10% dos recursos federais – R$157 milhões para urbanização e R$ 63 milhões para produção = 13 milhões a. a.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unicípio – terra urbanizada, projetos, trabalho social, equipamentos sociais, serviço de assistencia técnic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39640" y="5157720"/>
            <a:ext cx="79930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asso 3 – equacionamento das metas de provis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Mercado privado atenderá população acima de 5 salários mínim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der público atenderá (provisão)todas as famílias relocadas de obras de urbanização de assentamentos precári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Recursos totalmente subsidiados atenderão  déficit até 2 s. min. e demanda futura até 1,5 salários mínim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pulação entre 1,5/2 s. min. recursos de subsídios e financiamen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Urbanização integral só surtirá efeito se acompanhada de produção por auto-promoção com assistência técn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ecessidades de novas moradias ( relocação/ deficit e demanda futura) 358 mil domicílios até 2025= R$4,1 bilhõe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Salvador: metas atendimento ao deficit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16000" y="1403280"/>
            <a:ext cx="8820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articipação é a chave do sucesso de um plano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7993080" cy="259236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ossa experiência pessoal mostra que quando as prioridades são estabelecidas junto com a comunidade, o Plano ganha apoio e respaldo públic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26920" y="1700280"/>
            <a:ext cx="80661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a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rão ser acompanhadas pel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ioridad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ção e  estabelecidas com prazos parciais e finais de cump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rever indicadores que permita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avaliar o desempenho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os programas criando informações que permitam re-alimentar e, se for necessário, alterar o plano em função dos acertos e erro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060800"/>
          </a:xfrm>
          <a:prstGeom prst="rect">
            <a:avLst/>
          </a:prstGeom>
          <a:solidFill>
            <a:srgbClr val="bbe0e3">
              <a:alpha val="8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esmo que não disponhamos de todas as informações, que as condições adequadas não estejam dadas, ou que tenhamos que acertá-lo enquanto o executamos, o PLANO DE HABITAÇÃO será o resultado de um trabalho técnico com respaldo da sociedade, que indicará o que fazer, por onde começar e estabelecerá as etapas de trabalho - enfim, dará uma direção para que possamos por a mão na massa e conseguir alterar a realidade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lano Nacional de Habitaçã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função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 de planejar as ações públicas e privadas, 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planejamento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 de médio e longo prazos, 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horizonte temporal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2023 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(4 PPAs)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propósito de formular uma estratégia para enfrentar as necessidades habitacionais do país, direcionando, da melhor maneira possível, os recursos existentes e a serem mobilizados.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2" name="Picture 4" descr="faixa3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1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Identificar de fontes de recursos perenes e estáveis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recursos para financiamento habitacional (retornáveis ao agente financeiro)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recursos para subsídios, (que não prevê retorno - a fundo perdido)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a forma de articulação dos recurs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os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três níveis de govern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 na implementação dos programas e projetos habitacionais, a partir da atuação dos agentes que aderirem ao Sistema Nacional de Habitação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metas físic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visando à resolução dos problemas identificados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finidas com base em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ioridades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ve espelhar o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erfil do déficit e da demanda futura de habitaçã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istribuídas no tempo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metas financeir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om o objetivo de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irigir recursos para as prioridades de atendiment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considerando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as características das fontes de recursos (onerosas e não onerosas),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os custos de produtos habitacionais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capacidade de pagamento da população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16000" y="40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lano Nacional de Hab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Plano Nacional de Habitaç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esenvolver outros critérios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além da renda familiar, para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efinir a faixa prioritária de atendimento e a indicação de grupos conforme sua capacidade de pagament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 em relação aos custos de financiamento das diferentes fontes de recursos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opor a articulação institucional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o conjunto de atores públicos, privados e demais agentes sociais afetos ao setor habitacional, a partir do Sistema Nacional de Habitação (SNH), de forma a garantir que possam cumprir seus papéis na implementação do PlanHab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Formular os mecanismos e instrument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 regulamentação e fomento à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odução de mercado e ampliação da cadeia produtiva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Articular os program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 caráter nacional e linhas de financiamento nas quais sejam consideradas as diversas fontes de recursos a serem utilizadas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riar as bases para a montagem de um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sistema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Orientar a elaboração dos plan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habitacionais de âmbitos estadual e municipal.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NH - ades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Sistema Nacional de Habitação Interesse Social (SNHIS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Lei Federal n° 11.124 de junho de 2005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ara pleitear recursos do FNHIS Estados e Municípios devem aderir ao SNHIS  - adesão voluntári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Até o momento a adesão todos os estados e de 4.304 municípios, 77% do total de municípios existentes no paí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NH - ades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Inicialmente bastou comprometer-se a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riar Fundo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onselho de Habitação e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elaborar Plano Municipal de Habitação.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Até março deste ano, 142 municípios haviam enviado ao Ministério cópia da lei de criação do FHIS e apenas 7 concluíram o Plano Habitaciona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Frutiger 55 Roman"/>
              </a:rPr>
              <a:t>O NÃO CUMPRIMENTO DAS OBRIGAÇÕES PACTUADAS NO TERMO DE ADESÃO INVIABILIZARÁ O ACESSO AOS RECURSOS DE 2009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Qual a situação do seu Município? Você vê interesse para o Estado e Município em aderir ao SNHIS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lanos estaduais e municipa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O PlanHab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metas nacionais, recursos, modelo de financiamento e subsídios, desenho institucional, deverão servir de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arâmetro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para uma grande parte das questões a serem elaboradas nos planos estaduais e municipai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Sistema Nacional de Habitação de Interesse Social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está em implantação e exige a elaboração de planos locais para que estados e municípios possam acessar os recursos do FNHIS anualmente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linha de recursos no FNHIS de apoio à elaboração de planos locais de habitação de interesse social e o manual define alguns conteúd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Veja em detalhes as orientações do Ministério das Cidades (Manual 2007-08) in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Frutiger 55 Roman"/>
                <a:hlinkClick r:id="rId1"/>
              </a:rPr>
              <a:t>http://www.cidades.gov.br/ministerio-das-cidades/sistematica-2007/sistematica-2008/ManualFNHISPlanosHabitacionais2008.pdf</a:t>
            </a: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18:56:39Z</dcterms:modified>
  <cp:revision>30</cp:revision>
  <dc:subject/>
  <dc:title>Slide 1</dc:title>
</cp:coreProperties>
</file>