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-Bold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20A2-354F-444D-8EC8-562BCC732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08C4-62DD-496E-B140-621D87CA69D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9DF-BA37-4705-99ED-61D157B3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0BC-CD62-4588-BBB3-61989DC1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D50A-F582-468D-A049-8B979EFA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8132-B8F7-45A6-88CB-213F2917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00D0-F938-4FE8-A43F-CEDC35A6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230-A51C-4E3A-8EA4-9189B76D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91A-79E5-4AD5-BC49-4D406B95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321-6235-47A6-9055-2B6F0400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666D-6F0F-484C-9D2C-564882A0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85D-8C7A-4965-BF27-93BAC36E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C82-66D3-4CC7-8308-EBEC95B6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BA69-91B9-4075-8CC5-63A5F81E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aixa1"/>
          <p:cNvPicPr/>
          <p:nvPr/>
        </p:nvPicPr>
        <p:blipFill>
          <a:blip r:embed="rId2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-Bold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85FF-47A9-40DF-BDC0-E96ECF51AD7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faixa3"/>
          <p:cNvPicPr/>
          <p:nvPr/>
        </p:nvPicPr>
        <p:blipFill>
          <a:blip r:embed="rId3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51" name="Picture 4" descr="faixa curso plano hab"/>
          <p:cNvPicPr/>
          <p:nvPr/>
        </p:nvPicPr>
        <p:blipFill>
          <a:blip r:embed="rId1"/>
          <a:stretch/>
        </p:blipFill>
        <p:spPr>
          <a:xfrm>
            <a:off x="0" y="0"/>
            <a:ext cx="9144000" cy="4159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logos Plano Hab"/>
          <p:cNvPicPr/>
          <p:nvPr/>
        </p:nvPicPr>
        <p:blipFill>
          <a:blip r:embed="rId2"/>
          <a:stretch/>
        </p:blipFill>
        <p:spPr>
          <a:xfrm>
            <a:off x="0" y="5408640"/>
            <a:ext cx="9144000" cy="1449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1979640" y="4437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Frutiger-Bold"/>
              </a:rPr>
              <a:t>São Paulo, 19 e 20 de junho d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faixa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1152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187280" y="299736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Organização Institu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9152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Participação na elaboração do PLHIS: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Escuta: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Representantes do movimento de moradia:  associações de moradia, moradores de núcleos de favela, moradores de conjuntos habitacionais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Outros segmentos: Setor imobiliário, construção civil, ambientalistas;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Aprovação: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Conselho Municipal de Habitação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Conferencia ou Encontro Municipal (representantes de conjuntos habitacionais, movimentos de moradia, associações, núcleos de favela)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9152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Conselho Municipal de Habitação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Representantes: Governo Municipal, Movimentos de moradia, ONGs, Universidades, Sindicatos, Setor Imobiliário e da Construção Civil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Minimo: 50% sociedade civil e 30% movimento de moradia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Governo Municipal: setor de habitação, planejamento urbano e meio ambiente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Papel: eleger prioridades, decidir investimentos (recursos do Fundo),  acompanhar a execução do PLHIS, avaliar programas e projetos, aprovar revisão do plano etc,.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Dialogar com outros Conselhos. EX: OP. Politica Urbana, Meio Ambiente.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9152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 55 Roman"/>
              </a:rPr>
              <a:t>Fundo  Municipal de Habitaçã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 55 Roman"/>
              </a:rPr>
              <a:t>Recursos: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 55 Roman"/>
              </a:rPr>
              <a:t>Federais, Governo Estadual,orçamento municipal,retorno de financiamentos (habitação, CDRU),outorga onerosa, outros,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 55 Roman"/>
              </a:rPr>
              <a:t>Utilização: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 55 Roman"/>
              </a:rPr>
              <a:t>Produção de HIS, Urbanização de Favelas, Recuperação de cortiços, Regularização Fundiária, Requalificação Habitacional, Assessoria Tecnica, elaboração de projetos, aquisição de terras etc,.    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Frutiger 55 Roman"/>
              </a:rPr>
              <a:t>Planejamento e Gestão Regional: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Frutiger 55 Roman"/>
              </a:rPr>
              <a:t>-  Elaboração de diagnostico e de estratégias regionais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Frutiger 55 Roman"/>
              </a:rPr>
              <a:t>-  Compatibilização de planos municipais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Frutiger 55 Roman"/>
              </a:rPr>
              <a:t>Monitoramento e avaliação regional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Frutiger 55 Roman"/>
              </a:rPr>
              <a:t>Articulação com outros planos: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Frutiger 55 Roman"/>
              </a:rPr>
              <a:t>APPs Urbanas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Frutiger 55 Roman"/>
              </a:rPr>
              <a:t>Bacia Hidrográfica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Frutiger 55 Roman"/>
              </a:rPr>
              <a:t>PLAGESAN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Frutiger 55 Roman"/>
              </a:rPr>
              <a:t>Patrimônio Histórico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Frutiger 55 Roman"/>
              </a:rPr>
              <a:t>PMRR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Frutiger 55 Roman"/>
              </a:rPr>
              <a:t>Plano Diretor 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9:09:27Z</dcterms:created>
  <dc:creator>Pollini</dc:creator>
  <dc:description/>
  <dc:language>en-US</dc:language>
  <cp:lastModifiedBy>Kazuo</cp:lastModifiedBy>
  <dcterms:modified xsi:type="dcterms:W3CDTF">2008-06-20T13:32:08Z</dcterms:modified>
  <cp:revision>11</cp:revision>
  <dc:subject/>
  <dc:title>Slide 1</dc:title>
</cp:coreProperties>
</file>