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5F3E0E-3CEE-458A-BB6D-4127E9072F8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A7365A-F4C3-4D6A-8C11-6AD62E5628A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8"/>
          <p:cNvSpPr/>
          <p:nvPr/>
        </p:nvSpPr>
        <p:spPr>
          <a:xfrm>
            <a:off x="3921120" y="8717040"/>
            <a:ext cx="28814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2EB83-BA12-463B-A3B8-BBF2296E44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941400" y="708120"/>
            <a:ext cx="501804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41040" y="4322520"/>
            <a:ext cx="5018040" cy="411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 racionalidade na gestão: serviços por níveis de complex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0" y="-7094520"/>
            <a:ext cx="1440" cy="1557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8"/>
          <p:cNvSpPr/>
          <p:nvPr/>
        </p:nvSpPr>
        <p:spPr>
          <a:xfrm>
            <a:off x="3921120" y="8717040"/>
            <a:ext cx="28814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4F941-0D35-474D-BDA6-93ED7D38CF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941400" y="708120"/>
            <a:ext cx="501804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41040" y="4317840"/>
            <a:ext cx="5000760" cy="41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25560" y="4352760"/>
            <a:ext cx="500220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166680" algn="just">
              <a:lnSpc>
                <a:spcPct val="93000"/>
              </a:lnSpc>
              <a:tabLst>
                <a:tab algn="l" pos="0"/>
                <a:tab algn="l" pos="166680"/>
                <a:tab algn="l" pos="614520"/>
                <a:tab algn="l" pos="1063800"/>
                <a:tab algn="l" pos="1512720"/>
                <a:tab algn="l" pos="1962000"/>
                <a:tab algn="l" pos="2411280"/>
                <a:tab algn="l" pos="2860560"/>
                <a:tab algn="l" pos="3309840"/>
                <a:tab algn="l" pos="3759120"/>
                <a:tab algn="l" pos="4208400"/>
                <a:tab algn="l" pos="4657680"/>
                <a:tab algn="l" pos="5106960"/>
                <a:tab algn="l" pos="5556240"/>
                <a:tab algn="l" pos="6005520"/>
                <a:tab algn="l" pos="6454800"/>
                <a:tab algn="l" pos="6904080"/>
                <a:tab algn="l" pos="7353360"/>
                <a:tab algn="l" pos="7802640"/>
                <a:tab algn="l" pos="8251920"/>
                <a:tab algn="l" pos="8701200"/>
                <a:tab algn="l" pos="9150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Haettenschweiler"/>
                <a:ea typeface="Arial"/>
              </a:rPr>
              <a:t>CF/88 &gt; Inserida como política da Seguridade Social Brasileira, direito do cidadão dever do Estado. Pressupõe a superação do assistencialismo e consolidação da assistência social como Política Públic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925560" y="5189400"/>
            <a:ext cx="500220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Haettenschweiler"/>
              </a:rPr>
              <a:t>LOAS &gt; Regulamentação da Constituição Federal e define que a assistência social é Política de Seguridade Social não contributiva, que provê os mínimos sociais, realizada através de um conjunto integrado de ações de iniciativa pública e da sociedade, para garantir o atendimento às necessidades básicas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925560" y="6362640"/>
            <a:ext cx="50022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aettenschweiler"/>
              </a:rPr>
              <a:t>PNAS &gt; Prevista nos artigos 18 e 19 da LOAS foi aprovada em setembro de 2004, define o sistema único de assistência social para o Brasil e o direito à proteção social básica e especial no campo socioassistenc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925560" y="7031160"/>
            <a:ext cx="500220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aettenschweiler"/>
              </a:rPr>
              <a:t>NOB/SUAS &gt; Disciplina e normatiza a operacionalização da gestão da Política Nacional de Assistência Social – PNAS e o novo modelo de gestã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aettenschweiler"/>
              </a:rPr>
              <a:t>NOB RH:CONSOLIDA OS EIXOS MAIS IMPORTANTES A SEREM CONSIDERADOS PARA A GESTÃO DOS RECURSOS HUMANOS NA ÁREA DA ASSISTÊNCIA SOCIAL, COM PRINCÍPIOS E DIRETRIZES NACIONAIS PARA A GESTÃO DE R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CB356C-CD56-4645-AEBC-4E83B4B943B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E09DAA-5A4C-43F9-8F28-6B534BD360E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98CAB0-F81D-4EE2-A811-F83A8C50135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32177C-5FDB-4F2E-93F5-D6DADB76EA6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470D25-9F4D-473B-B6DB-F3539FDFEA8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3D195D-9E0A-4DF5-AA9C-563770D77F3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8"/>
          <p:cNvSpPr/>
          <p:nvPr/>
        </p:nvSpPr>
        <p:spPr>
          <a:xfrm>
            <a:off x="3921120" y="8717040"/>
            <a:ext cx="28814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E5695-B1FE-4DB8-9F91-D6295D24B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941400" y="708120"/>
            <a:ext cx="50115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41040" y="4322520"/>
            <a:ext cx="500076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14444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ireito à Proteção social por meio da intersetorialidade das políticas públicas -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ahoma"/>
              </a:rPr>
              <a:t>Realiza-se de forma integrada às políticas setor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Protocolo de Gestão Integrada de Serviços, Benefícios e Transferências de Renda no âmbito do SUAS, pactuado na reunião da CIT em setembro/2009. O Desafio é imple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63F552-D7DC-4587-9D0D-9AC52467352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8"/>
          <p:cNvSpPr/>
          <p:nvPr/>
        </p:nvSpPr>
        <p:spPr>
          <a:xfrm>
            <a:off x="3921120" y="8717040"/>
            <a:ext cx="28814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3BDB7-7470-43F6-A7F6-FB4389DF1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"/>
          <p:cNvSpPr/>
          <p:nvPr/>
        </p:nvSpPr>
        <p:spPr>
          <a:xfrm>
            <a:off x="941400" y="708120"/>
            <a:ext cx="501804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41040" y="4322520"/>
            <a:ext cx="500076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8"/>
          <p:cNvSpPr/>
          <p:nvPr/>
        </p:nvSpPr>
        <p:spPr>
          <a:xfrm>
            <a:off x="3921120" y="8717040"/>
            <a:ext cx="28814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7D0FB-D029-45D4-B1B9-5F0891A0C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0" y="303120"/>
            <a:ext cx="14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41040" y="4322520"/>
            <a:ext cx="500076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8"/>
          <p:cNvSpPr/>
          <p:nvPr/>
        </p:nvSpPr>
        <p:spPr>
          <a:xfrm>
            <a:off x="3921120" y="8717040"/>
            <a:ext cx="28814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7EC08-57AE-4789-98B7-488808587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941400" y="708120"/>
            <a:ext cx="501804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39600" y="4322520"/>
            <a:ext cx="5018040" cy="41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E SUAS  como sistema de informação do suas atuando em duas áreas 1. processamento de transações: repasse de recurso, acompanhamento orçamentário e de convên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Suporte gerencial e apoio a decis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Espaço Reservado para Número de Slide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77EC9B-100D-4DC6-B417-CF9FA39D773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ED0-F465-4196-A0B6-E8852F3D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024-73AE-4C0F-9F4F-70A89148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AA7-FB5C-4553-824D-1A2B3F2A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1EC-CD14-4CD0-A8A2-4719DEC9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469-BD27-4D35-8E3D-B1A6A9D3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A57-EB9B-43C6-BAC8-95BEB555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CBF-3E2B-45E3-AEF0-71E57DC9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0EF-89DE-462D-9E1D-EF34C9BC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D17-0CF2-4644-8920-D45E88E8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47F-DAD9-4515-BE15-EFB8C09B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CB6-1B96-4D72-BA3C-71FEA68C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8F0-A289-4785-BB7C-0E4A0AA8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5CCD5C-CDD8-4ED7-B81F-72BCFDAB729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1785960"/>
            <a:ext cx="7772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990033"/>
                </a:solidFill>
                <a:latin typeface="Calibri"/>
                <a:ea typeface="Tahoma"/>
              </a:rPr>
              <a:t>Sistema Único de Assistência Social (SU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000080" y="4581360"/>
            <a:ext cx="7236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143000" y="4857840"/>
            <a:ext cx="723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Calibri"/>
              </a:rPr>
              <a:t>Rosário de Maria da Costa Ferrei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Assessora Técnica do Departamento de Gestão do SU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cretaria Nacional de Assistência Social - S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Ministério do Desenvolvimento Social e Combate à Fome- M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920" y="500040"/>
            <a:ext cx="885816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Calibri"/>
              </a:rPr>
              <a:t>Matricialidade Sociofamiliar e Território </a:t>
            </a:r>
            <a:br>
              <a:rPr sz="3600"/>
            </a:br>
            <a:r>
              <a:rPr b="1" lang="pt-BR" sz="3600" spc="-1" strike="noStrike">
                <a:solidFill>
                  <a:srgbClr val="a50021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a50021"/>
                </a:solidFill>
                <a:latin typeface="Calibri"/>
              </a:rPr>
              <a:t>eixos estruturantes da proteção so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2920" y="1856880"/>
            <a:ext cx="8786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atricialidade sociofamiliar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 refere à centralidade da família como núcleo social fundamental para a efetividade de todas as ações e serviços da política de assistência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compreensão da família ainda é determinada pelas estruturas geracionais e de gênero presentes: os conflitos e desigualdades vivenciadas no âmbito familiar devem ser analisados e trabalhados a partir da diferenciada distribuição de poder e responsabilidade entre seus m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Territorializaçã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fere à centralidade do território como  fator determinante para a compreensão das situações de vulnerabilidade e risco sociais, bem como para seu enfrent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adoção da perspectiva da territorialização se materializa a partir da descentralização da política de assistência social e consequente oferta dos serviços socioassistenciais em  locais próximos aos seus usuários. Isso aumenta sua eficácia e efetividade, criando condições favoráveis à ação de prevenção ou enfrentamento das situações de vulnerabilidade e risco social, bem como de identificação e estimulo das potencialidades presentes no territó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2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Calibri"/>
              </a:rPr>
              <a:t>Família e Territó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3840" y="128556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amíli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segundo a PNAS, é o conjunto de pessoas unidas por laços consangüíneos, afetivos e ou de solidariedade, cuja sobrevivência e reprodução social pressupõem obrigações recíprocas e o compartlhamento de renda e ou dependência econô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m base nessa visão, a política de Assistência Social busca superar a concepção tradicional de família, o modelo padrão, a unidade ideal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territóri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como ponto  central de  atuação,  é o reconhecimento da presença de múltiplos fatores de vulnerabilidade e de recursos econômicos, sociais e culturais presentes em determinado local e o impacto desses fatores na fragilização ou no fortalecimento dos vínculos familiares e comunitários. Diversidade de condições a que está submetida a mulher brasil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Os territórios ganham significados e valores para as famílias ali residentes, como também para os técnicos que neles atuam, sendo mais um elemento da vigilância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571680"/>
            <a:ext cx="8305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Calibri"/>
                <a:ea typeface="Verdana"/>
              </a:rPr>
              <a:t>Organização das Ações de Proteção Social (Rede de Serviços Socioassistencia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757160"/>
            <a:ext cx="82105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Verdana"/>
              </a:rPr>
              <a:t>Os Serviços Socioassistenciais implicam na produção de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Verdana"/>
              </a:rPr>
              <a:t>ações continuadas e por tempo indeterminad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Verdana"/>
              </a:rPr>
              <a:t> voltados à proteção social da população usuária da rede de assistência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Verdana"/>
              </a:rPr>
              <a:t>As ações</a:t>
            </a:r>
            <a:r>
              <a:rPr b="1" lang="pt-BR" sz="2800" spc="-1" strike="noStrike">
                <a:solidFill>
                  <a:srgbClr val="ff0000"/>
                </a:solidFill>
                <a:latin typeface="Calibri"/>
                <a:ea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Verdana"/>
              </a:rPr>
              <a:t>de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Verdana"/>
              </a:rPr>
              <a:t> proteção socioassistenciai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Verdana"/>
              </a:rPr>
              <a:t> adotadas na lógica do SUAS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Verdana"/>
              </a:rPr>
              <a:t> possuem graus diferenciados de complexidade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Verdana"/>
              </a:rPr>
              <a:t> que demandam diferentes operações executadas pelos trabalhadores da Assistência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"/>
          <p:cNvSpPr/>
          <p:nvPr/>
        </p:nvSpPr>
        <p:spPr>
          <a:xfrm>
            <a:off x="1523880" y="5587920"/>
            <a:ext cx="700416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"/>
          <p:cNvSpPr/>
          <p:nvPr/>
        </p:nvSpPr>
        <p:spPr>
          <a:xfrm>
            <a:off x="1523880" y="3149640"/>
            <a:ext cx="714708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66720" y="1666800"/>
            <a:ext cx="446040" cy="4759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965240" y="2446200"/>
            <a:ext cx="108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3263760" y="4319640"/>
            <a:ext cx="3935520" cy="180000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4319640" y="4844880"/>
            <a:ext cx="1828800" cy="735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aettenschweiler"/>
              </a:rPr>
              <a:t>PS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4471920" y="3419640"/>
            <a:ext cx="1828800" cy="734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aettenschweiler"/>
              </a:rPr>
              <a:t>PSE Mé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4500720" y="2340000"/>
            <a:ext cx="1828800" cy="73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PSE A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1523880" y="4444920"/>
            <a:ext cx="289584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619280" y="2160720"/>
            <a:ext cx="24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aettenschweiler"/>
              </a:rPr>
              <a:t>Ausência de Vínculos Familiares e Comunitá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6480000" y="414036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aettenschweiler"/>
              </a:rPr>
              <a:t>Vínculos Familiare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Haettenschweiler"/>
              </a:rPr>
              <a:t>e Comunitá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 rot="16200000">
            <a:off x="-1668960" y="287856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Haettenschweiler"/>
              </a:rPr>
              <a:t>Escala de risco e vulnerabilid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0" y="5000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6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20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alibri"/>
                <a:ea typeface="Arial"/>
              </a:rPr>
              <a:t>Serviços socioassistenci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6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20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a50021"/>
                </a:solidFill>
                <a:latin typeface="Calibri"/>
                <a:ea typeface="Arial"/>
              </a:rPr>
              <a:t>Proteção Social Básica -PSB e Proteção Social Especial-PSE (média e alta complexida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a50021"/>
                </a:solidFill>
                <a:latin typeface="Calibri"/>
                <a:ea typeface="Verdana"/>
              </a:rPr>
              <a:t>Tipificação Nacional de Serviços Socioassistenc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8572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Verdana"/>
              </a:rPr>
              <a:t>Padronização Nacional dos Serviços Socioassistenciais –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Verdana"/>
              </a:rPr>
              <a:t>mesma nomenclatura para todo o território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Verdana"/>
              </a:rPr>
              <a:t>Estabelece uma matriz padronizada de serviços socioassistenciais, organizados conforme nível de complexidade: Proteção Social Básica e Proteção Social Especial de Média e Alta Complexidad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Verdana"/>
              </a:rPr>
              <a:t>Pactuada na CIT e aprovada no CNAS (2009) –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Verdana"/>
              </a:rPr>
              <a:t>Resolução No. 109 de 11/11/2009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Verdana"/>
              </a:rPr>
              <a:t>aprova a Tipificação Publicada no Diário Oficial da União  Seção 1, No. 225, 25/11/2009 , pg. 82 à 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81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a50021"/>
                </a:solidFill>
                <a:latin typeface="Calibri"/>
                <a:ea typeface="Verdana"/>
              </a:rPr>
              <a:t>Quadro síntese dos serviços por nível de complexid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ject 2" descr=""/>
          <p:cNvPicPr/>
          <p:nvPr/>
        </p:nvPicPr>
        <p:blipFill>
          <a:blip r:embed="rId1"/>
          <a:stretch/>
        </p:blipFill>
        <p:spPr>
          <a:xfrm>
            <a:off x="154080" y="1357200"/>
            <a:ext cx="8862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816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a50021"/>
                </a:solidFill>
                <a:latin typeface="Calibri"/>
              </a:rPr>
              <a:t>Centro de Referência de Assistência Social  (CR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8400" y="178596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Unidade pública  estatal descentralizada da política de assistência  social,  responsável pela organização e oferta de serviços da proteção social básica do Sistema Único de Assistência Social (SUAS)  nas áreas de vulnerabilidade e risco social dos municípios e D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da  sua capilaridade nos  territórios,  se caracteriza como a principal porta de entrada do SUAS, ou seja,  é uma unidade que possibilita o acesso de um grande número de famílias à rede de proteção social de assistência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ta unidade pública do SUAS   é referência para o desenvolvimento de todos os serviços socioassistenciais de proteção básica do Sistema Único de Assistência Social – SUAS, no seu território de abrang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285920" y="1285920"/>
            <a:ext cx="64292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285840" y="1928880"/>
            <a:ext cx="85723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e pública estatal e pólo de referência da Proteção Social Espe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ena e opera a referência e a contrarreferência  com a rede de serviços socioassistenciais,  demais políticas públicas e Sistema de Garantia de Dire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erta orientação e apoio especializados e continuados a indivíduos e famílias com direitos viol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 a família como foco de suas ações, na perspectiva de potencializar sua capacidade de proteção e socialização de seus memb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CaixaDeTexto 5"/>
          <p:cNvSpPr/>
          <p:nvPr/>
        </p:nvSpPr>
        <p:spPr>
          <a:xfrm>
            <a:off x="0" y="714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a50021"/>
                </a:solidFill>
                <a:latin typeface="Calibri"/>
                <a:ea typeface="Calibri"/>
              </a:rPr>
              <a:t>Centro de Referência Especializado de Assistência Social (C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81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alibri"/>
                <a:ea typeface="Verdana"/>
              </a:rPr>
              <a:t>CREAS - ABRANG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1341360"/>
            <a:ext cx="558144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Verdana"/>
              </a:rPr>
              <a:t>Local ou regional, de acordo c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 algn="just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Verdana"/>
              </a:rPr>
              <a:t>porte, nível de gestão e demanda dos municíp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 algn="just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Verdana"/>
              </a:rPr>
              <a:t>incidência e complexidade das situações de risco e violação de direi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Verdana"/>
              </a:rPr>
              <a:t>CREAS REG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Verdana"/>
              </a:rPr>
              <a:t>Nos casos em q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 algn="just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Verdana"/>
              </a:rPr>
              <a:t>a demanda do município não justificar a implementação lo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 algn="just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Verdana"/>
              </a:rPr>
              <a:t>o município, devido ao seu porte ou nível de gestão, não tenha condições de gestão individual de um serviço em seu territó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2916360" y="1557360"/>
            <a:ext cx="144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79280" y="1557360"/>
            <a:ext cx="252108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S LO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S REG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500040"/>
            <a:ext cx="914400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00" indent="-3240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2400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1356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Sistema Único de Assistência Social (SUA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2400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1356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Marcos Norma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357120" y="909720"/>
            <a:ext cx="8502480" cy="2977560"/>
            <a:chOff x="357120" y="909720"/>
            <a:chExt cx="8502480" cy="2977560"/>
          </a:xfrm>
        </p:grpSpPr>
        <p:sp>
          <p:nvSpPr>
            <p:cNvPr id="54" name="Rectangle 3"/>
            <p:cNvSpPr/>
            <p:nvPr/>
          </p:nvSpPr>
          <p:spPr>
            <a:xfrm>
              <a:off x="499680" y="909720"/>
              <a:ext cx="835992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"/>
            <p:cNvSpPr/>
            <p:nvPr/>
          </p:nvSpPr>
          <p:spPr>
            <a:xfrm>
              <a:off x="357120" y="2000880"/>
              <a:ext cx="7891200" cy="4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6"/>
            <p:cNvSpPr/>
            <p:nvPr/>
          </p:nvSpPr>
          <p:spPr>
            <a:xfrm>
              <a:off x="707760" y="2396520"/>
              <a:ext cx="792000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stituição Federal de 1988 - Art. 6°, 194, 203 e 2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i Orgânica da Assistência Social (LOAS) - Lei N° 8.742/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lítica Nacional de Assistência Social (PNAS) –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rma Operacional Básica do SUAS (NOB/SUAS) –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  <a:ea typeface="Tahoma"/>
              </a:rPr>
              <a:t>V Conferência Nacional de Assistência Social - Aprova o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Tahoma"/>
              </a:rPr>
              <a:t>Plano Decenal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  <a:ea typeface="Tahoma"/>
              </a:rPr>
              <a:t> para a área (2005 a 201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rma Operacional Básica de Recursos Humanos (NOB-RH/SUAS) –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  <a:ea typeface="Verdana"/>
              </a:rPr>
              <a:t>Celebração do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Verdana"/>
              </a:rPr>
              <a:t>Pacto de Aprimoramento da Gestão dos Estados e do Distrito Federal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  <a:ea typeface="Verdana"/>
              </a:rPr>
              <a:t>no contexto do SUAS, do Programa Bolsa Família e do Cadastro Único –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Verdana"/>
              </a:rPr>
              <a:t>Adesão ao SUAS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  <a:ea typeface="Verdana"/>
              </a:rPr>
              <a:t>: em junho de 2009, 5.472 municípios (cerca de 98,4% dos municípios brasileiros) estão habilitados nos níveis de gestão definidos na Norma Operacional Básica do SUAS -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Aprovação PL CEBAS -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Protocolo de Gestão Integrada de Serviços, Benefícios e Transferências de Renda no âmbito do SUAS  -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ipificação Nacional de Serviços Socioassistenciais -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CaixaDeTexto 2"/>
          <p:cNvSpPr/>
          <p:nvPr/>
        </p:nvSpPr>
        <p:spPr>
          <a:xfrm>
            <a:off x="785880" y="235728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cordar procedimentos para 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gestão integrad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s serviços, benefícios e transferências de renda para o acompanhamento das famílias do PBF, PETI e BPC no âmbito do SU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030"/>
          <p:cNvSpPr/>
          <p:nvPr/>
        </p:nvSpPr>
        <p:spPr>
          <a:xfrm rot="585000">
            <a:off x="4422600" y="3843360"/>
            <a:ext cx="744840" cy="828720"/>
          </a:xfrm>
          <a:prstGeom prst="pie">
            <a:avLst/>
          </a:prstGeom>
          <a:noFill/>
          <a:ln w="9360">
            <a:solidFill>
              <a:srgbClr val="2e2ec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CaixaDeTexto 4"/>
          <p:cNvSpPr/>
          <p:nvPr/>
        </p:nvSpPr>
        <p:spPr>
          <a:xfrm>
            <a:off x="1571760" y="4792680"/>
            <a:ext cx="719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262699"/>
                </a:solidFill>
                <a:latin typeface="Calibri"/>
              </a:rPr>
              <a:t>A </a:t>
            </a:r>
            <a:r>
              <a:rPr b="1" lang="pt-BR" sz="2400" spc="-1" strike="noStrike">
                <a:solidFill>
                  <a:srgbClr val="262699"/>
                </a:solidFill>
                <a:latin typeface="Calibri"/>
              </a:rPr>
              <a:t>gestão integrada </a:t>
            </a:r>
            <a:r>
              <a:rPr b="0" lang="pt-BR" sz="2400" spc="-1" strike="noStrike">
                <a:solidFill>
                  <a:srgbClr val="262699"/>
                </a:solidFill>
                <a:latin typeface="Calibri"/>
              </a:rPr>
              <a:t>é uma estratégia para qualificar e potencializar o impacto dos benefícios assistenciais, transferência de renda e dos serviços do SU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CaixaDeTexto 3"/>
          <p:cNvSpPr/>
          <p:nvPr/>
        </p:nvSpPr>
        <p:spPr>
          <a:xfrm>
            <a:off x="428760" y="454320"/>
            <a:ext cx="8286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a50021"/>
                </a:solidFill>
                <a:latin typeface="Calibri"/>
              </a:rPr>
              <a:t>Protocolo de Gestão Integrada de Serviços, Benefícios e Transferências de Renda no âmbito do Sistema Único de Assistência Social – SU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a50021"/>
                </a:solidFill>
                <a:latin typeface="Calibri"/>
              </a:rPr>
              <a:t>(Resolução CIT Nº 07, de setembro de 200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CaixaDeTexto 1"/>
          <p:cNvSpPr/>
          <p:nvPr/>
        </p:nvSpPr>
        <p:spPr>
          <a:xfrm>
            <a:off x="142920" y="609480"/>
            <a:ext cx="87868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a50021"/>
                </a:solidFill>
                <a:latin typeface="Arial"/>
              </a:rPr>
              <a:t>Objetivos do Protocolo de Gestão Integ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ctuar, entre os entes federados, procedimentos que garanta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a oferta prioritária de serviços socioassistenciais para as famílias beneficiárias  de benefícios assistenciais e transferência de renda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o encaminhamento para acesso a benefícios assistenciais e transferência de renda a indivíduos e famílias atendidos nos serviços socioassistencia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2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200" spc="-1" strike="noStrike">
                <a:solidFill>
                  <a:srgbClr val="262699"/>
                </a:solidFill>
                <a:latin typeface="Arial"/>
                <a:ea typeface="Arial"/>
              </a:rPr>
              <a:t>Estabelecer e consolidar fluxos entre serviços, benefícios e </a:t>
            </a:r>
            <a:r>
              <a:rPr b="0" lang="pt-BR" sz="22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262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262699"/>
                </a:solidFill>
                <a:latin typeface="Arial"/>
                <a:ea typeface="Arial"/>
              </a:rPr>
              <a:t>transferência de renda e fortalecer a referência e contrarreferência no âmbito do SU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Freeform 1030"/>
          <p:cNvSpPr/>
          <p:nvPr/>
        </p:nvSpPr>
        <p:spPr>
          <a:xfrm rot="175800">
            <a:off x="3948120" y="4441680"/>
            <a:ext cx="533520" cy="773280"/>
          </a:xfrm>
          <a:prstGeom prst="pie">
            <a:avLst/>
          </a:prstGeom>
          <a:noFill/>
          <a:ln w="9360">
            <a:solidFill>
              <a:srgbClr val="2e2ec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1700280"/>
            <a:ext cx="8362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belecer fluxos de referência na identificação das responsabilidades na prestação dos serviços que respondem à dem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1541520" y="620640"/>
            <a:ext cx="7145280" cy="7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a50021"/>
                </a:solidFill>
                <a:latin typeface="Trebuchet MS"/>
              </a:rPr>
              <a:t>Gestão</a:t>
            </a:r>
            <a:r>
              <a:rPr b="0" lang="pt-BR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a50021"/>
                </a:solidFill>
                <a:latin typeface="Trebuchet MS"/>
              </a:rPr>
              <a:t>dos</a:t>
            </a:r>
            <a:r>
              <a:rPr b="0" lang="pt-BR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a50021"/>
                </a:solidFill>
                <a:latin typeface="Trebuchet MS"/>
              </a:rPr>
              <a:t>serviç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928800" y="3357720"/>
            <a:ext cx="792468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457200" y="1643040"/>
            <a:ext cx="83628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contrarreferências, quanto aos encaminhamentos necessários e ao estabelecimento das informações de retorno que permitirão o acompanhamento e o monitoramento do atendimento ofertado e dos resultados alcanç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571760" y="500040"/>
            <a:ext cx="714528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a50021"/>
                </a:solidFill>
                <a:latin typeface="Trebuchet MS"/>
              </a:rPr>
              <a:t>Gestão</a:t>
            </a:r>
            <a:r>
              <a:rPr b="0" lang="pt-BR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a50021"/>
                </a:solidFill>
                <a:latin typeface="Trebuchet MS"/>
              </a:rPr>
              <a:t>dos</a:t>
            </a:r>
            <a:r>
              <a:rPr b="0" lang="pt-BR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a50021"/>
                </a:solidFill>
                <a:latin typeface="Trebuchet MS"/>
              </a:rPr>
              <a:t>serviç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214280" y="4124160"/>
            <a:ext cx="7056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Arial"/>
              </a:rPr>
              <a:t>Gestão do Trabal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-341280" algn="just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dos eixos estruturantes para consolidação do Sistema Único de Assistência Social – SUAS, descentralizado e participativo, que consagra um novo modelo socioassistencial no paí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peamento dos(as) trabalhadores(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nhecimento dos perfis e necessidades de qualificação técnico-política do exercício profis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oção de mecanismos de valorização e avaliação contínua dos serviços quanto aos impactos produz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ganização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457200" y="1844640"/>
            <a:ext cx="82296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 qualidade dos serviços prestados no âmbito do SUAS depende da estruturação do trabalho, da valorização e qualificação dos seus trabalhadores que prestam serviços de caráter público e continu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547640" y="620640"/>
            <a:ext cx="7145640" cy="8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a50021"/>
                </a:solidFill>
                <a:latin typeface="Trebuchet MS"/>
              </a:rPr>
              <a:t>Gestão do trabal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4"/>
          <p:cNvSpPr/>
          <p:nvPr/>
        </p:nvSpPr>
        <p:spPr>
          <a:xfrm>
            <a:off x="928800" y="4357800"/>
            <a:ext cx="742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s/as profissionais das equipes técnicas de referência, são agentes públicos mediadores de dire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1000080" y="571680"/>
            <a:ext cx="74851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a50021"/>
                </a:solidFill>
                <a:latin typeface="Arial"/>
              </a:rPr>
              <a:t>Trabalhadores(as) do SU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00040" y="1357200"/>
            <a:ext cx="8286840" cy="52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412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incipal tecnologia da política de assistência so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peradores(as) do direito à assistência social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ssuem uma posição fundamental nas relações institucion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tencialidade 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xplorar as contradições da real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, estabelecer a mediação entre necessidades sociais e Es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dem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rtalecer projetos sociais democrátic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, exercer a autonomia profissional, e favorecer processos de construção do pleno desenvolvimento e protagonismo dos indivíduos soci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8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a50021"/>
                </a:solidFill>
                <a:latin typeface="Arial"/>
              </a:rPr>
              <a:t>Quantidade de trabalhadores(as)</a:t>
            </a:r>
            <a:br>
              <a:rPr sz="2800"/>
            </a:br>
            <a:r>
              <a:rPr b="1" lang="pt-BR" sz="2800" spc="-1" strike="noStrike">
                <a:solidFill>
                  <a:srgbClr val="a50021"/>
                </a:solidFill>
                <a:latin typeface="Arial"/>
              </a:rPr>
              <a:t>hoje no SU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4320" y="1080"/>
            <a:ext cx="2709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4465440" y="11304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00000" y="1916280"/>
          <a:ext cx="7201080" cy="2205000"/>
        </p:xfrm>
        <a:graphic>
          <a:graphicData uri="http://schemas.openxmlformats.org/drawingml/2006/table">
            <a:tbl>
              <a:tblPr/>
              <a:tblGrid>
                <a:gridCol w="3722760"/>
                <a:gridCol w="34783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so SUAS 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balhadores (48% tem formação de nível superio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lhador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9% tem formação de nível superio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1" name="CaixaDeTexto 6"/>
          <p:cNvSpPr/>
          <p:nvPr/>
        </p:nvSpPr>
        <p:spPr>
          <a:xfrm>
            <a:off x="0" y="472428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3.000 (estimativa) - Orientador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10mil PROJOVEM, 44mil PETI, 29mil Educadores Serviço de Acolhimento e Abordagem de Ru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esa dos direitos socioassistenci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romissos com a qualidade dos serviç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à informação, condições de privacidade e sigilo profis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enção profissional direcionada para a construção de projetos pessoais e soci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à renda e qualific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entivo à participação em espaços democrát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da população sem qualquer forma de discriminação (gênero, raça/etnia, credo, orientação sexual, classe social, entre outras), considerando os critérios de elegibilidade, devolução de informações, e contribuição na desburocratização dos serviç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1547640" y="549360"/>
            <a:ext cx="714564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a50021"/>
                </a:solidFill>
                <a:latin typeface="Trebuchet MS"/>
              </a:rPr>
              <a:t>Princípios ét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76582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Calibri"/>
                <a:ea typeface="Verdana"/>
              </a:rPr>
              <a:t>A prática do(a) profis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714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Verdana"/>
              </a:rPr>
              <a:t>Práticas comprometidas com a transformação social em direção a uma ética voltada para a emancipação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Verdana"/>
              </a:rPr>
              <a:t>Realizar o trabalho social de caráter sócio-educativo visando efetivar direitos soc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Verdana"/>
              </a:rPr>
              <a:t>Trabalhar com os usuários como sujeitos de direitos políticos e soc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Verdana"/>
              </a:rPr>
              <a:t>Produzir intervenções sociais para que todas as pessoas tenham uma vida mel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Verdana"/>
              </a:rPr>
              <a:t>Oferecer seus serviços a todas as pessoas que deles necessi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142920" y="971640"/>
            <a:ext cx="8640720" cy="57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alibri"/>
              </a:rPr>
              <a:t>O que é o SU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liberação da IV Conferência Nacional de Assistência Social (2003) -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ovo modelo de gestão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ntegrando os entes federa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É um sistema público não-contributivo, descentralizado que tem por função a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gestão do conteúdo específico da Assistência Social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ampo da proteção social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rasilei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troduz  uma  concepção de  sistema  orgânico  em  que  a  articulação  entre  as  três  esferas  de  governo constitui-se  em  elemento  fundamental. Desde  a  Loas,  previa-se  a  política de assistência social articulada entre as esferas municipal, estadual e fede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alibri"/>
              </a:rPr>
              <a:t>Qual o objetiv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solidar um Sistema Descentralizado e Participativ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gular e organizar as ações socioassistenciais num sistema, o   que  significa  planejar  a  política de Assistência Social de forma articulada entre os entes federados tendo os mesmos princípios e diretrizes como fundamento, mas respeitando as diversidade regiona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4400" spc="-1" strike="noStrike">
                <a:solidFill>
                  <a:srgbClr val="a50021"/>
                </a:solidFill>
                <a:latin typeface="Calibri"/>
                <a:ea typeface="Verdana"/>
              </a:rPr>
              <a:t>Trabalho Interdiscipli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Espaço Reservado para Conteúdo 6" descr=""/>
          <p:cNvPicPr/>
          <p:nvPr/>
        </p:nvPicPr>
        <p:blipFill>
          <a:blip r:embed="rId1"/>
          <a:stretch/>
        </p:blipFill>
        <p:spPr>
          <a:xfrm>
            <a:off x="457200" y="1914480"/>
            <a:ext cx="82281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3780000" y="2879640"/>
            <a:ext cx="1839600" cy="1871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183960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tretch/>
        </p:blipFill>
        <p:spPr>
          <a:xfrm>
            <a:off x="7304040" y="3600360"/>
            <a:ext cx="1839960" cy="1871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4"/>
          <a:stretch/>
        </p:blipFill>
        <p:spPr>
          <a:xfrm>
            <a:off x="6980400" y="1547640"/>
            <a:ext cx="1839600" cy="1872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5"/>
          <a:stretch/>
        </p:blipFill>
        <p:spPr>
          <a:xfrm>
            <a:off x="900000" y="4724280"/>
            <a:ext cx="1839960" cy="1871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6"/>
          <a:stretch/>
        </p:blipFill>
        <p:spPr>
          <a:xfrm>
            <a:off x="4716360" y="836640"/>
            <a:ext cx="1839960" cy="1871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7"/>
          <a:stretch/>
        </p:blipFill>
        <p:spPr>
          <a:xfrm>
            <a:off x="3564000" y="4986360"/>
            <a:ext cx="1839960" cy="1871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"/>
          <p:cNvPicPr/>
          <p:nvPr/>
        </p:nvPicPr>
        <p:blipFill>
          <a:blip r:embed="rId8"/>
          <a:stretch/>
        </p:blipFill>
        <p:spPr>
          <a:xfrm>
            <a:off x="1476360" y="765000"/>
            <a:ext cx="1839960" cy="18720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0"/>
          <p:cNvSpPr/>
          <p:nvPr/>
        </p:nvSpPr>
        <p:spPr>
          <a:xfrm>
            <a:off x="2050920" y="1139760"/>
            <a:ext cx="1368720" cy="480960"/>
          </a:xfrm>
          <a:custGeom>
            <a:avLst/>
            <a:gdLst>
              <a:gd name="textAreaLeft" fmla="*/ 342000 w 1368720"/>
              <a:gd name="textAreaRight" fmla="*/ 1026720 w 1368720"/>
              <a:gd name="textAreaTop" fmla="*/ 14040 h 480960"/>
              <a:gd name="textAreaBottom" fmla="*/ 280440 h 48096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6940"/>
                </a:lnTo>
                <a:arcTo wR="21600" hR="20153" stAng="-4471878" swAng="976834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27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4071"/>
                </a:lnTo>
                <a:close/>
              </a:path>
              <a:path fill="none" w="21600" h="21600">
                <a:moveTo>
                  <a:pt x="8100" y="127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27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6940"/>
                </a:moveTo>
                <a:lnTo>
                  <a:pt x="5400" y="13240"/>
                </a:lnTo>
              </a:path>
              <a:path fill="none" w="21600" h="21600">
                <a:moveTo>
                  <a:pt x="16200" y="6940"/>
                </a:moveTo>
                <a:lnTo>
                  <a:pt x="16200" y="1324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3ff23"/>
                </a:solidFill>
                <a:latin typeface="Arial Black"/>
              </a:rPr>
              <a:t>Saú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11"/>
          <p:cNvSpPr/>
          <p:nvPr/>
        </p:nvSpPr>
        <p:spPr>
          <a:xfrm>
            <a:off x="4038480" y="3419640"/>
            <a:ext cx="1828800" cy="36036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10440 h 360360"/>
              <a:gd name="textAreaBottom" fmla="*/ 2102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6940"/>
                </a:lnTo>
                <a:arcTo wR="21600" hR="20153" stAng="-4471878" swAng="976834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27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4071"/>
                </a:lnTo>
                <a:close/>
              </a:path>
              <a:path fill="none" w="21600" h="21600">
                <a:moveTo>
                  <a:pt x="8100" y="127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27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6940"/>
                </a:moveTo>
                <a:lnTo>
                  <a:pt x="5400" y="13240"/>
                </a:lnTo>
              </a:path>
              <a:path fill="none" w="21600" h="21600">
                <a:moveTo>
                  <a:pt x="16200" y="6940"/>
                </a:moveTo>
                <a:lnTo>
                  <a:pt x="16200" y="1324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33"/>
                </a:solidFill>
                <a:latin typeface="Arial Black"/>
              </a:rPr>
              <a:t>C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12"/>
          <p:cNvSpPr/>
          <p:nvPr/>
        </p:nvSpPr>
        <p:spPr>
          <a:xfrm>
            <a:off x="1258920" y="5157720"/>
            <a:ext cx="1441440" cy="432000"/>
          </a:xfrm>
          <a:custGeom>
            <a:avLst/>
            <a:gdLst>
              <a:gd name="textAreaLeft" fmla="*/ 360360 w 1441440"/>
              <a:gd name="textAreaRight" fmla="*/ 1081080 w 1441440"/>
              <a:gd name="textAreaTop" fmla="*/ 12600 h 432000"/>
              <a:gd name="textAreaBottom" fmla="*/ 25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6940"/>
                </a:lnTo>
                <a:arcTo wR="21600" hR="20153" stAng="-4471878" swAng="976834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27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4071"/>
                </a:lnTo>
                <a:close/>
              </a:path>
              <a:path fill="none" w="21600" h="21600">
                <a:moveTo>
                  <a:pt x="8100" y="127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27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6940"/>
                </a:moveTo>
                <a:lnTo>
                  <a:pt x="5400" y="13240"/>
                </a:lnTo>
              </a:path>
              <a:path fill="none" w="21600" h="21600">
                <a:moveTo>
                  <a:pt x="16200" y="6940"/>
                </a:moveTo>
                <a:lnTo>
                  <a:pt x="16200" y="1324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3"/>
          <p:cNvSpPr/>
          <p:nvPr/>
        </p:nvSpPr>
        <p:spPr>
          <a:xfrm>
            <a:off x="4500720" y="1260360"/>
            <a:ext cx="2160360" cy="360360"/>
          </a:xfrm>
          <a:custGeom>
            <a:avLst/>
            <a:gdLst>
              <a:gd name="textAreaLeft" fmla="*/ 540000 w 2160360"/>
              <a:gd name="textAreaRight" fmla="*/ 1620360 w 2160360"/>
              <a:gd name="textAreaTop" fmla="*/ 10440 h 360360"/>
              <a:gd name="textAreaBottom" fmla="*/ 2404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72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5140"/>
                </a:lnTo>
                <a:arcTo wR="21600" hR="20153" stAng="-4471878" swAng="976834"/>
                <a:lnTo>
                  <a:pt x="18900" y="131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45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3171"/>
                </a:lnTo>
                <a:close/>
              </a:path>
              <a:path fill="none" w="21600" h="21600">
                <a:moveTo>
                  <a:pt x="8100" y="145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45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5140"/>
                </a:moveTo>
                <a:lnTo>
                  <a:pt x="5400" y="15040"/>
                </a:lnTo>
              </a:path>
              <a:path fill="none" w="21600" h="21600">
                <a:moveTo>
                  <a:pt x="16200" y="5140"/>
                </a:moveTo>
                <a:lnTo>
                  <a:pt x="16200" y="1504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8ff"/>
                </a:solidFill>
                <a:latin typeface="Arial Black"/>
              </a:rPr>
              <a:t>Sistema deJustiç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7020000" y="1979640"/>
            <a:ext cx="1979640" cy="360360"/>
          </a:xfrm>
          <a:custGeom>
            <a:avLst/>
            <a:gdLst>
              <a:gd name="textAreaLeft" fmla="*/ 495000 w 1979640"/>
              <a:gd name="textAreaRight" fmla="*/ 1485000 w 1979640"/>
              <a:gd name="textAreaTop" fmla="*/ 10440 h 360360"/>
              <a:gd name="textAreaBottom" fmla="*/ 2102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6940"/>
                </a:lnTo>
                <a:arcTo wR="21600" hR="20153" stAng="-4471878" swAng="976834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27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4071"/>
                </a:lnTo>
                <a:close/>
              </a:path>
              <a:path fill="none" w="21600" h="21600">
                <a:moveTo>
                  <a:pt x="8100" y="127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27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6940"/>
                </a:moveTo>
                <a:lnTo>
                  <a:pt x="5400" y="13240"/>
                </a:lnTo>
              </a:path>
              <a:path fill="none" w="21600" h="21600">
                <a:moveTo>
                  <a:pt x="16200" y="6940"/>
                </a:moveTo>
                <a:lnTo>
                  <a:pt x="16200" y="1324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ff"/>
                </a:solidFill>
                <a:latin typeface="Arial Black"/>
              </a:rPr>
              <a:t>C. Tute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1908000" y="3789360"/>
            <a:ext cx="2087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6"/>
          <p:cNvSpPr/>
          <p:nvPr/>
        </p:nvSpPr>
        <p:spPr>
          <a:xfrm flipH="1">
            <a:off x="2356920" y="4319640"/>
            <a:ext cx="1830600" cy="90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3060720" y="2340000"/>
            <a:ext cx="122400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5351400" y="2565360"/>
            <a:ext cx="858960" cy="8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9"/>
          <p:cNvSpPr/>
          <p:nvPr/>
        </p:nvSpPr>
        <p:spPr>
          <a:xfrm flipH="1">
            <a:off x="5165640" y="3240000"/>
            <a:ext cx="2262240" cy="11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0"/>
          <p:cNvSpPr/>
          <p:nvPr/>
        </p:nvSpPr>
        <p:spPr>
          <a:xfrm flipH="1" flipV="1">
            <a:off x="5173200" y="4330440"/>
            <a:ext cx="261468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1"/>
          <p:cNvSpPr/>
          <p:nvPr/>
        </p:nvSpPr>
        <p:spPr>
          <a:xfrm flipV="1">
            <a:off x="4680000" y="4527360"/>
            <a:ext cx="3816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2"/>
          <p:cNvSpPr/>
          <p:nvPr/>
        </p:nvSpPr>
        <p:spPr>
          <a:xfrm flipH="1" flipV="1">
            <a:off x="2499840" y="5462640"/>
            <a:ext cx="150660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23"/>
          <p:cNvSpPr/>
          <p:nvPr/>
        </p:nvSpPr>
        <p:spPr>
          <a:xfrm flipH="1" flipV="1">
            <a:off x="1752120" y="3731760"/>
            <a:ext cx="208116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4"/>
          <p:cNvSpPr/>
          <p:nvPr/>
        </p:nvSpPr>
        <p:spPr>
          <a:xfrm flipV="1">
            <a:off x="1908000" y="2438280"/>
            <a:ext cx="935280" cy="15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3060720" y="2340000"/>
            <a:ext cx="1979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 flipV="1">
            <a:off x="2484360" y="2438280"/>
            <a:ext cx="432000" cy="29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 flipV="1">
            <a:off x="2556000" y="2222640"/>
            <a:ext cx="2520720" cy="31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V="1">
            <a:off x="2627280" y="3230280"/>
            <a:ext cx="4824360" cy="22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 flipV="1">
            <a:off x="2700360" y="5173200"/>
            <a:ext cx="4859280" cy="3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0"/>
          <p:cNvSpPr/>
          <p:nvPr/>
        </p:nvSpPr>
        <p:spPr>
          <a:xfrm flipH="1">
            <a:off x="5238360" y="5219640"/>
            <a:ext cx="236844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1"/>
          <p:cNvSpPr/>
          <p:nvPr/>
        </p:nvSpPr>
        <p:spPr>
          <a:xfrm flipH="1" flipV="1">
            <a:off x="7332480" y="3192120"/>
            <a:ext cx="45540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2"/>
          <p:cNvSpPr/>
          <p:nvPr/>
        </p:nvSpPr>
        <p:spPr>
          <a:xfrm flipH="1" flipV="1">
            <a:off x="5892480" y="2472840"/>
            <a:ext cx="1895400" cy="26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33"/>
          <p:cNvSpPr/>
          <p:nvPr/>
        </p:nvSpPr>
        <p:spPr>
          <a:xfrm flipH="1" flipV="1">
            <a:off x="5713560" y="2471400"/>
            <a:ext cx="1714320" cy="8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34"/>
          <p:cNvSpPr/>
          <p:nvPr/>
        </p:nvSpPr>
        <p:spPr>
          <a:xfrm>
            <a:off x="2879640" y="2340000"/>
            <a:ext cx="450072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35"/>
          <p:cNvSpPr/>
          <p:nvPr/>
        </p:nvSpPr>
        <p:spPr>
          <a:xfrm flipH="1" flipV="1">
            <a:off x="2833200" y="2292120"/>
            <a:ext cx="4954680" cy="29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36"/>
          <p:cNvSpPr/>
          <p:nvPr/>
        </p:nvSpPr>
        <p:spPr>
          <a:xfrm flipV="1">
            <a:off x="5292720" y="2471400"/>
            <a:ext cx="647640" cy="32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1547640" y="5148360"/>
            <a:ext cx="1152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1835280" y="4005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9"/>
          <p:cNvSpPr/>
          <p:nvPr/>
        </p:nvSpPr>
        <p:spPr>
          <a:xfrm flipV="1">
            <a:off x="1835280" y="2222280"/>
            <a:ext cx="3241440" cy="17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40"/>
          <p:cNvSpPr/>
          <p:nvPr/>
        </p:nvSpPr>
        <p:spPr>
          <a:xfrm flipV="1">
            <a:off x="1835280" y="2798280"/>
            <a:ext cx="554508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41"/>
          <p:cNvSpPr/>
          <p:nvPr/>
        </p:nvSpPr>
        <p:spPr>
          <a:xfrm>
            <a:off x="1835280" y="3933720"/>
            <a:ext cx="590544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2"/>
          <p:cNvSpPr/>
          <p:nvPr/>
        </p:nvSpPr>
        <p:spPr>
          <a:xfrm flipV="1">
            <a:off x="5292720" y="3192480"/>
            <a:ext cx="208764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43"/>
          <p:cNvSpPr/>
          <p:nvPr/>
        </p:nvSpPr>
        <p:spPr>
          <a:xfrm flipH="1" flipV="1">
            <a:off x="2933640" y="2367000"/>
            <a:ext cx="900000" cy="35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4"/>
          <p:cNvSpPr/>
          <p:nvPr/>
        </p:nvSpPr>
        <p:spPr>
          <a:xfrm>
            <a:off x="539640" y="2879640"/>
            <a:ext cx="1801800" cy="360360"/>
          </a:xfrm>
          <a:custGeom>
            <a:avLst/>
            <a:gdLst>
              <a:gd name="textAreaLeft" fmla="*/ 450360 w 1801800"/>
              <a:gd name="textAreaRight" fmla="*/ 1351440 w 1801800"/>
              <a:gd name="textAreaTop" fmla="*/ 10440 h 360360"/>
              <a:gd name="textAreaBottom" fmla="*/ 2102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6940"/>
                </a:lnTo>
                <a:arcTo wR="21600" hR="20153" stAng="-4471878" swAng="976834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27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4071"/>
                </a:lnTo>
                <a:close/>
              </a:path>
              <a:path fill="none" w="21600" h="21600">
                <a:moveTo>
                  <a:pt x="8100" y="127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27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6940"/>
                </a:moveTo>
                <a:lnTo>
                  <a:pt x="5400" y="13240"/>
                </a:lnTo>
              </a:path>
              <a:path fill="none" w="21600" h="21600">
                <a:moveTo>
                  <a:pt x="16200" y="6940"/>
                </a:moveTo>
                <a:lnTo>
                  <a:pt x="16200" y="1324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999ff"/>
                </a:solidFill>
                <a:latin typeface="Arial Black"/>
              </a:rPr>
              <a:t>Educ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45"/>
          <p:cNvSpPr/>
          <p:nvPr/>
        </p:nvSpPr>
        <p:spPr>
          <a:xfrm>
            <a:off x="7559640" y="4140360"/>
            <a:ext cx="1440000" cy="360360"/>
          </a:xfrm>
          <a:custGeom>
            <a:avLst/>
            <a:gdLst>
              <a:gd name="textAreaLeft" fmla="*/ 360000 w 1440000"/>
              <a:gd name="textAreaRight" fmla="*/ 1080000 w 1440000"/>
              <a:gd name="textAreaTop" fmla="*/ 10440 h 360360"/>
              <a:gd name="textAreaBottom" fmla="*/ 2404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72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5140"/>
                </a:lnTo>
                <a:arcTo wR="21600" hR="20153" stAng="-4471878" swAng="976834"/>
                <a:lnTo>
                  <a:pt x="18900" y="131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45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3171"/>
                </a:lnTo>
                <a:close/>
              </a:path>
              <a:path fill="none" w="21600" h="21600">
                <a:moveTo>
                  <a:pt x="8100" y="145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45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5140"/>
                </a:moveTo>
                <a:lnTo>
                  <a:pt x="5400" y="15040"/>
                </a:lnTo>
              </a:path>
              <a:path fill="none" w="21600" h="21600">
                <a:moveTo>
                  <a:pt x="16200" y="5140"/>
                </a:moveTo>
                <a:lnTo>
                  <a:pt x="16200" y="1504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 Black"/>
              </a:rPr>
              <a:t>Abrig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46"/>
          <p:cNvSpPr/>
          <p:nvPr/>
        </p:nvSpPr>
        <p:spPr>
          <a:xfrm>
            <a:off x="3600360" y="5400720"/>
            <a:ext cx="1800360" cy="360360"/>
          </a:xfrm>
          <a:custGeom>
            <a:avLst/>
            <a:gdLst>
              <a:gd name="textAreaLeft" fmla="*/ 450000 w 1800360"/>
              <a:gd name="textAreaRight" fmla="*/ 1350360 w 1800360"/>
              <a:gd name="textAreaTop" fmla="*/ 10440 h 360360"/>
              <a:gd name="textAreaBottom" fmla="*/ 2102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6940"/>
                </a:lnTo>
                <a:arcTo wR="21600" hR="20153" stAng="-4471878" swAng="976834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27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4071"/>
                </a:lnTo>
                <a:close/>
              </a:path>
              <a:path fill="none" w="21600" h="21600">
                <a:moveTo>
                  <a:pt x="8100" y="127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27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6940"/>
                </a:moveTo>
                <a:lnTo>
                  <a:pt x="5400" y="13240"/>
                </a:lnTo>
              </a:path>
              <a:path fill="none" w="21600" h="21600">
                <a:moveTo>
                  <a:pt x="16200" y="6940"/>
                </a:moveTo>
                <a:lnTo>
                  <a:pt x="16200" y="1324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 Black"/>
              </a:rPr>
              <a:t>Trabal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7" descr=""/>
          <p:cNvPicPr/>
          <p:nvPr/>
        </p:nvPicPr>
        <p:blipFill>
          <a:blip r:embed="rId9"/>
          <a:stretch/>
        </p:blipFill>
        <p:spPr>
          <a:xfrm>
            <a:off x="7650000" y="5257800"/>
            <a:ext cx="1494000" cy="160020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48"/>
          <p:cNvSpPr/>
          <p:nvPr/>
        </p:nvSpPr>
        <p:spPr>
          <a:xfrm rot="12420000">
            <a:off x="6714720" y="5401800"/>
            <a:ext cx="914400" cy="4572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2"/>
          <p:cNvSpPr/>
          <p:nvPr/>
        </p:nvSpPr>
        <p:spPr>
          <a:xfrm>
            <a:off x="857160" y="2170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50021"/>
                </a:solidFill>
                <a:latin typeface="Garamond"/>
              </a:rPr>
              <a:t>Articulação Intersetorial – estratégia de Gest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Arial"/>
              </a:rPr>
              <a:t>Desafios do S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0040" y="1500120"/>
            <a:ext cx="82281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  <a:ea typeface="Tahoma"/>
              </a:rPr>
              <a:t>Qualificar a gestão local do SU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ahoma"/>
              </a:rPr>
              <a:t>Profissionalização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ahoma"/>
              </a:rPr>
              <a:t>da gest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ahoma"/>
              </a:rPr>
              <a:t>Uso da informação como ferramenta de gest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ahoma"/>
              </a:rPr>
              <a:t>Planejamento/Plano Municipal/ orça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ahoma"/>
              </a:rPr>
              <a:t>Aprimorar a gestão financeira – Fundos como Unidades Orçamentárias e Co-financia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ompanhamento  e Apoio Técnico à implementação da Gestão do Trabal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8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Arial"/>
              </a:rPr>
              <a:t>Desafios do S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14200" y="1285560"/>
            <a:ext cx="8686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Tahoma"/>
              </a:rPr>
              <a:t>Implantação da NOB-RH/SUAS: superar a precarização dos vínculos trabalhistas e garantir a realização de concurso público para o quadro próprio e dos municípios e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rtaria 171 de 26/maio/2009) -dispõe sobre o Projovem Adolescente e Serviço Socioeduc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t. 36. Os recursos repassados para o custeio do Projovem Adolescente - Serviço Socioeducativo, por meio do Piso Básico Variável,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derão ser destinados à remuneração dos servidores públicos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nível médio ou superior que constituem a equipe de referência necessária à execução do serviço socioeduc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ovação do Projeto de Lei 3077/2008 (PL SUAS) prevê o pagamento de profissionais que integrarem as equipes de referência responsáveis pela organização e ofertas de ações continuadas de assistência social com os recursos do co-financiamento do SU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  <a:ea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28760" y="19285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Verdana"/>
              </a:rPr>
              <a:t>Obrigada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rosario.ferreira@mds.gov.b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500040"/>
            <a:ext cx="914400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00" indent="-3240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2400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1356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alibri"/>
              </a:rPr>
              <a:t>Sistema Único de Assistência Social (SUA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285840" y="1643040"/>
            <a:ext cx="8501040" cy="44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m novo modelo de gest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Supõe um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acto federativo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, com definição de competências dos entes das esferas de govern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ova lógica de organização das açõ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: por níveis de complexidade, por território, considerando regiões e porte de municípi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orma de operacionalização da LOA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, que viabiliza o sistema descentralizado e participativo e a regulação, em todo o território n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>
            <a:off x="0" y="285840"/>
            <a:ext cx="9144000" cy="657216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0" y="852480"/>
            <a:ext cx="9136080" cy="5991120"/>
            <a:chOff x="0" y="852480"/>
            <a:chExt cx="9136080" cy="5991120"/>
          </a:xfrm>
        </p:grpSpPr>
        <p:sp>
          <p:nvSpPr>
            <p:cNvPr id="63" name="AutoShape 3"/>
            <p:cNvSpPr/>
            <p:nvPr/>
          </p:nvSpPr>
          <p:spPr>
            <a:xfrm>
              <a:off x="6848640" y="4748040"/>
              <a:ext cx="2286000" cy="1312920"/>
            </a:xfrm>
            <a:prstGeom prst="roundRect">
              <a:avLst>
                <a:gd name="adj" fmla="val 1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AutoShape 4"/>
            <p:cNvSpPr/>
            <p:nvPr/>
          </p:nvSpPr>
          <p:spPr>
            <a:xfrm>
              <a:off x="2362320" y="5702400"/>
              <a:ext cx="2209680" cy="358560"/>
            </a:xfrm>
            <a:prstGeom prst="roundRect">
              <a:avLst>
                <a:gd name="adj" fmla="val 44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AutoShape 5"/>
            <p:cNvSpPr/>
            <p:nvPr/>
          </p:nvSpPr>
          <p:spPr>
            <a:xfrm>
              <a:off x="2362320" y="4238640"/>
              <a:ext cx="2209680" cy="514440"/>
            </a:xfrm>
            <a:prstGeom prst="roundRect">
              <a:avLst>
                <a:gd name="adj" fmla="val 3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AutoShape 6"/>
            <p:cNvSpPr/>
            <p:nvPr/>
          </p:nvSpPr>
          <p:spPr>
            <a:xfrm>
              <a:off x="2362320" y="2932200"/>
              <a:ext cx="2209680" cy="3650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7"/>
            <p:cNvGrpSpPr/>
            <p:nvPr/>
          </p:nvGrpSpPr>
          <p:grpSpPr>
            <a:xfrm>
              <a:off x="0" y="6060960"/>
              <a:ext cx="9121680" cy="768600"/>
              <a:chOff x="0" y="6060960"/>
              <a:chExt cx="9121680" cy="768600"/>
            </a:xfrm>
          </p:grpSpPr>
          <p:sp>
            <p:nvSpPr>
              <p:cNvPr id="68" name="AutoShape 8"/>
              <p:cNvSpPr/>
              <p:nvPr/>
            </p:nvSpPr>
            <p:spPr>
              <a:xfrm>
                <a:off x="0" y="6060960"/>
                <a:ext cx="9121680" cy="768600"/>
              </a:xfrm>
              <a:prstGeom prst="roundRect">
                <a:avLst>
                  <a:gd name="adj" fmla="val 2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Text Box 9"/>
              <p:cNvSpPr/>
              <p:nvPr/>
            </p:nvSpPr>
            <p:spPr>
              <a:xfrm>
                <a:off x="0" y="6060960"/>
                <a:ext cx="912168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EDE SOCIOASSISTENCIAL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rviços de Proteção Social Básica e Especial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(Governamental e Não Governamental)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10"/>
            <p:cNvGrpSpPr/>
            <p:nvPr/>
          </p:nvGrpSpPr>
          <p:grpSpPr>
            <a:xfrm>
              <a:off x="4568760" y="4748040"/>
              <a:ext cx="2273400" cy="1369080"/>
              <a:chOff x="4568760" y="4748040"/>
              <a:chExt cx="2273400" cy="1369080"/>
            </a:xfrm>
          </p:grpSpPr>
          <p:sp>
            <p:nvSpPr>
              <p:cNvPr id="71" name="AutoShape 11"/>
              <p:cNvSpPr/>
              <p:nvPr/>
            </p:nvSpPr>
            <p:spPr>
              <a:xfrm>
                <a:off x="4568760" y="4748040"/>
                <a:ext cx="2273400" cy="1300320"/>
              </a:xfrm>
              <a:prstGeom prst="roundRect">
                <a:avLst>
                  <a:gd name="adj" fmla="val 12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Text Box 12"/>
              <p:cNvSpPr/>
              <p:nvPr/>
            </p:nvSpPr>
            <p:spPr>
              <a:xfrm>
                <a:off x="4568760" y="4748040"/>
                <a:ext cx="2273400" cy="136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FM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Fundo Municipa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de Assistência Socia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13"/>
            <p:cNvGrpSpPr/>
            <p:nvPr/>
          </p:nvGrpSpPr>
          <p:grpSpPr>
            <a:xfrm>
              <a:off x="2362320" y="4748040"/>
              <a:ext cx="2197080" cy="949680"/>
              <a:chOff x="2362320" y="4748040"/>
              <a:chExt cx="2197080" cy="949680"/>
            </a:xfrm>
          </p:grpSpPr>
          <p:sp>
            <p:nvSpPr>
              <p:cNvPr id="74" name="AutoShape 14"/>
              <p:cNvSpPr/>
              <p:nvPr/>
            </p:nvSpPr>
            <p:spPr>
              <a:xfrm>
                <a:off x="2362320" y="4748040"/>
                <a:ext cx="2197080" cy="941400"/>
              </a:xfrm>
              <a:prstGeom prst="roundRect">
                <a:avLst>
                  <a:gd name="adj" fmla="val 1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Text Box 15"/>
              <p:cNvSpPr/>
              <p:nvPr/>
            </p:nvSpPr>
            <p:spPr>
              <a:xfrm>
                <a:off x="2362320" y="4748040"/>
                <a:ext cx="2197080" cy="9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CM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Conselho Municipal de Assistência Socia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6"/>
            <p:cNvGrpSpPr/>
            <p:nvPr/>
          </p:nvGrpSpPr>
          <p:grpSpPr>
            <a:xfrm>
              <a:off x="0" y="4748040"/>
              <a:ext cx="2349360" cy="1300320"/>
              <a:chOff x="0" y="4748040"/>
              <a:chExt cx="2349360" cy="1300320"/>
            </a:xfrm>
          </p:grpSpPr>
          <p:sp>
            <p:nvSpPr>
              <p:cNvPr id="77" name="AutoShape 17"/>
              <p:cNvSpPr/>
              <p:nvPr/>
            </p:nvSpPr>
            <p:spPr>
              <a:xfrm>
                <a:off x="0" y="4748040"/>
                <a:ext cx="2349360" cy="1300320"/>
              </a:xfrm>
              <a:prstGeom prst="roundRect">
                <a:avLst>
                  <a:gd name="adj" fmla="val 12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Text Box 18"/>
              <p:cNvSpPr/>
              <p:nvPr/>
            </p:nvSpPr>
            <p:spPr>
              <a:xfrm>
                <a:off x="0" y="4748040"/>
                <a:ext cx="234936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Governo Municipa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Secretaria Municipal de Assistência Social ou congênere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19"/>
            <p:cNvGrpSpPr/>
            <p:nvPr/>
          </p:nvGrpSpPr>
          <p:grpSpPr>
            <a:xfrm>
              <a:off x="6848640" y="3297240"/>
              <a:ext cx="2273040" cy="1469520"/>
              <a:chOff x="6848640" y="3297240"/>
              <a:chExt cx="2273040" cy="1469520"/>
            </a:xfrm>
          </p:grpSpPr>
          <p:sp>
            <p:nvSpPr>
              <p:cNvPr id="80" name="AutoShape 20"/>
              <p:cNvSpPr/>
              <p:nvPr/>
            </p:nvSpPr>
            <p:spPr>
              <a:xfrm>
                <a:off x="6848640" y="3297240"/>
                <a:ext cx="2273040" cy="1447920"/>
              </a:xfrm>
              <a:prstGeom prst="roundRect">
                <a:avLst>
                  <a:gd name="adj" fmla="val 1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Text Box 21"/>
              <p:cNvSpPr/>
              <p:nvPr/>
            </p:nvSpPr>
            <p:spPr>
              <a:xfrm>
                <a:off x="6848640" y="3297240"/>
                <a:ext cx="2273040" cy="146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CI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Comissão Intergestora Bipartit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22"/>
            <p:cNvGrpSpPr/>
            <p:nvPr/>
          </p:nvGrpSpPr>
          <p:grpSpPr>
            <a:xfrm>
              <a:off x="4568760" y="3297240"/>
              <a:ext cx="2273400" cy="1447920"/>
              <a:chOff x="4568760" y="3297240"/>
              <a:chExt cx="2273400" cy="1447920"/>
            </a:xfrm>
          </p:grpSpPr>
          <p:sp>
            <p:nvSpPr>
              <p:cNvPr id="83" name="AutoShape 23"/>
              <p:cNvSpPr/>
              <p:nvPr/>
            </p:nvSpPr>
            <p:spPr>
              <a:xfrm>
                <a:off x="4568760" y="3297240"/>
                <a:ext cx="2273400" cy="1447920"/>
              </a:xfrm>
              <a:prstGeom prst="roundRect">
                <a:avLst>
                  <a:gd name="adj" fmla="val 1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Text Box 24"/>
              <p:cNvSpPr/>
              <p:nvPr/>
            </p:nvSpPr>
            <p:spPr>
              <a:xfrm>
                <a:off x="4568760" y="3297240"/>
                <a:ext cx="2273400" cy="13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FE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Fundo Estadual de Assistência Socia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25"/>
            <p:cNvGrpSpPr/>
            <p:nvPr/>
          </p:nvGrpSpPr>
          <p:grpSpPr>
            <a:xfrm>
              <a:off x="2362320" y="3297240"/>
              <a:ext cx="2197080" cy="997920"/>
              <a:chOff x="2362320" y="3297240"/>
              <a:chExt cx="2197080" cy="997920"/>
            </a:xfrm>
          </p:grpSpPr>
          <p:sp>
            <p:nvSpPr>
              <p:cNvPr id="86" name="AutoShape 26"/>
              <p:cNvSpPr/>
              <p:nvPr/>
            </p:nvSpPr>
            <p:spPr>
              <a:xfrm>
                <a:off x="2362320" y="3297240"/>
                <a:ext cx="2197080" cy="933480"/>
              </a:xfrm>
              <a:prstGeom prst="roundRect">
                <a:avLst>
                  <a:gd name="adj" fmla="val 1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Text Box 27"/>
              <p:cNvSpPr/>
              <p:nvPr/>
            </p:nvSpPr>
            <p:spPr>
              <a:xfrm>
                <a:off x="2362320" y="3297240"/>
                <a:ext cx="2197080" cy="99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CE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Conselho Estadual de Assistência Socia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8"/>
            <p:cNvGrpSpPr/>
            <p:nvPr/>
          </p:nvGrpSpPr>
          <p:grpSpPr>
            <a:xfrm>
              <a:off x="0" y="3297240"/>
              <a:ext cx="2351160" cy="1449360"/>
              <a:chOff x="0" y="3297240"/>
              <a:chExt cx="2351160" cy="1449360"/>
            </a:xfrm>
          </p:grpSpPr>
          <p:sp>
            <p:nvSpPr>
              <p:cNvPr id="89" name="AutoShape 29"/>
              <p:cNvSpPr/>
              <p:nvPr/>
            </p:nvSpPr>
            <p:spPr>
              <a:xfrm>
                <a:off x="0" y="3297240"/>
                <a:ext cx="2351160" cy="1449360"/>
              </a:xfrm>
              <a:prstGeom prst="roundRect">
                <a:avLst>
                  <a:gd name="adj" fmla="val 1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Text Box 30"/>
              <p:cNvSpPr/>
              <p:nvPr/>
            </p:nvSpPr>
            <p:spPr>
              <a:xfrm>
                <a:off x="0" y="3297240"/>
                <a:ext cx="235116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Governo Estadua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Secretaria de Estado de Assistência Social ou congêner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31"/>
            <p:cNvGrpSpPr/>
            <p:nvPr/>
          </p:nvGrpSpPr>
          <p:grpSpPr>
            <a:xfrm>
              <a:off x="6848640" y="2130480"/>
              <a:ext cx="2273040" cy="1408680"/>
              <a:chOff x="6848640" y="2130480"/>
              <a:chExt cx="2273040" cy="1408680"/>
            </a:xfrm>
          </p:grpSpPr>
          <p:sp>
            <p:nvSpPr>
              <p:cNvPr id="92" name="AutoShape 32"/>
              <p:cNvSpPr/>
              <p:nvPr/>
            </p:nvSpPr>
            <p:spPr>
              <a:xfrm>
                <a:off x="6848640" y="2130480"/>
                <a:ext cx="2273040" cy="1154160"/>
              </a:xfrm>
              <a:prstGeom prst="roundRect">
                <a:avLst>
                  <a:gd name="adj" fmla="val 13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Text Box 33"/>
              <p:cNvSpPr/>
              <p:nvPr/>
            </p:nvSpPr>
            <p:spPr>
              <a:xfrm>
                <a:off x="6848640" y="2130480"/>
                <a:ext cx="2273040" cy="14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CI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Comissão Intergestora Tripartit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34"/>
            <p:cNvGrpSpPr/>
            <p:nvPr/>
          </p:nvGrpSpPr>
          <p:grpSpPr>
            <a:xfrm>
              <a:off x="4568760" y="2130480"/>
              <a:ext cx="2273400" cy="1154160"/>
              <a:chOff x="4568760" y="2130480"/>
              <a:chExt cx="2273400" cy="1154160"/>
            </a:xfrm>
          </p:grpSpPr>
          <p:sp>
            <p:nvSpPr>
              <p:cNvPr id="95" name="AutoShape 35"/>
              <p:cNvSpPr/>
              <p:nvPr/>
            </p:nvSpPr>
            <p:spPr>
              <a:xfrm>
                <a:off x="4568760" y="2130480"/>
                <a:ext cx="2273400" cy="1154160"/>
              </a:xfrm>
              <a:prstGeom prst="roundRect">
                <a:avLst>
                  <a:gd name="adj" fmla="val 13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 Box 36"/>
              <p:cNvSpPr/>
              <p:nvPr/>
            </p:nvSpPr>
            <p:spPr>
              <a:xfrm>
                <a:off x="4568760" y="2130480"/>
                <a:ext cx="227340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FN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Fundo Nacional de Assistência Socia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37"/>
            <p:cNvGrpSpPr/>
            <p:nvPr/>
          </p:nvGrpSpPr>
          <p:grpSpPr>
            <a:xfrm>
              <a:off x="2362320" y="2130480"/>
              <a:ext cx="2197080" cy="788760"/>
              <a:chOff x="2362320" y="2130480"/>
              <a:chExt cx="2197080" cy="788760"/>
            </a:xfrm>
          </p:grpSpPr>
          <p:sp>
            <p:nvSpPr>
              <p:cNvPr id="98" name="AutoShape 38"/>
              <p:cNvSpPr/>
              <p:nvPr/>
            </p:nvSpPr>
            <p:spPr>
              <a:xfrm>
                <a:off x="2362320" y="2130480"/>
                <a:ext cx="2197080" cy="78876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Text Box 39"/>
              <p:cNvSpPr/>
              <p:nvPr/>
            </p:nvSpPr>
            <p:spPr>
              <a:xfrm>
                <a:off x="2362320" y="2130480"/>
                <a:ext cx="2197080" cy="72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CN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Conselho Nacional de Assistência Socia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40"/>
            <p:cNvGrpSpPr/>
            <p:nvPr/>
          </p:nvGrpSpPr>
          <p:grpSpPr>
            <a:xfrm>
              <a:off x="0" y="2130480"/>
              <a:ext cx="2349360" cy="1154160"/>
              <a:chOff x="0" y="2130480"/>
              <a:chExt cx="2349360" cy="1154160"/>
            </a:xfrm>
          </p:grpSpPr>
          <p:sp>
            <p:nvSpPr>
              <p:cNvPr id="101" name="AutoShape 41"/>
              <p:cNvSpPr/>
              <p:nvPr/>
            </p:nvSpPr>
            <p:spPr>
              <a:xfrm>
                <a:off x="0" y="2130480"/>
                <a:ext cx="2349360" cy="1154160"/>
              </a:xfrm>
              <a:prstGeom prst="roundRect">
                <a:avLst>
                  <a:gd name="adj" fmla="val 13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 Box 42"/>
              <p:cNvSpPr/>
              <p:nvPr/>
            </p:nvSpPr>
            <p:spPr>
              <a:xfrm>
                <a:off x="0" y="2130480"/>
                <a:ext cx="234936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Governo Federal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Ministério de Desenvolvimento Social e Combate à Fom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3"/>
            <p:cNvGrpSpPr/>
            <p:nvPr/>
          </p:nvGrpSpPr>
          <p:grpSpPr>
            <a:xfrm>
              <a:off x="6848640" y="852480"/>
              <a:ext cx="2273040" cy="1265400"/>
              <a:chOff x="6848640" y="852480"/>
              <a:chExt cx="2273040" cy="1265400"/>
            </a:xfrm>
          </p:grpSpPr>
          <p:sp>
            <p:nvSpPr>
              <p:cNvPr id="104" name="AutoShape 44"/>
              <p:cNvSpPr/>
              <p:nvPr/>
            </p:nvSpPr>
            <p:spPr>
              <a:xfrm>
                <a:off x="6848640" y="852480"/>
                <a:ext cx="2273040" cy="1265400"/>
              </a:xfrm>
              <a:prstGeom prst="roundRect">
                <a:avLst>
                  <a:gd name="adj" fmla="val 12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45"/>
              <p:cNvSpPr/>
              <p:nvPr/>
            </p:nvSpPr>
            <p:spPr>
              <a:xfrm>
                <a:off x="6848640" y="852480"/>
                <a:ext cx="2273040" cy="61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QUEM PACTU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46"/>
            <p:cNvGrpSpPr/>
            <p:nvPr/>
          </p:nvGrpSpPr>
          <p:grpSpPr>
            <a:xfrm>
              <a:off x="4568760" y="852480"/>
              <a:ext cx="2273400" cy="1265400"/>
              <a:chOff x="4568760" y="852480"/>
              <a:chExt cx="2273400" cy="1265400"/>
            </a:xfrm>
          </p:grpSpPr>
          <p:sp>
            <p:nvSpPr>
              <p:cNvPr id="107" name="AutoShape 47"/>
              <p:cNvSpPr/>
              <p:nvPr/>
            </p:nvSpPr>
            <p:spPr>
              <a:xfrm>
                <a:off x="4568760" y="852480"/>
                <a:ext cx="2273400" cy="1265400"/>
              </a:xfrm>
              <a:prstGeom prst="roundRect">
                <a:avLst>
                  <a:gd name="adj" fmla="val 12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48"/>
              <p:cNvSpPr/>
              <p:nvPr/>
            </p:nvSpPr>
            <p:spPr>
              <a:xfrm>
                <a:off x="4568760" y="852480"/>
                <a:ext cx="227340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QUEM FINANCI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49"/>
            <p:cNvGrpSpPr/>
            <p:nvPr/>
          </p:nvGrpSpPr>
          <p:grpSpPr>
            <a:xfrm>
              <a:off x="2362320" y="852480"/>
              <a:ext cx="2198520" cy="1266840"/>
              <a:chOff x="2362320" y="852480"/>
              <a:chExt cx="2198520" cy="1266840"/>
            </a:xfrm>
          </p:grpSpPr>
          <p:sp>
            <p:nvSpPr>
              <p:cNvPr id="110" name="AutoShape 50"/>
              <p:cNvSpPr/>
              <p:nvPr/>
            </p:nvSpPr>
            <p:spPr>
              <a:xfrm>
                <a:off x="2362320" y="852480"/>
                <a:ext cx="2198520" cy="1266840"/>
              </a:xfrm>
              <a:prstGeom prst="roundRect">
                <a:avLst>
                  <a:gd name="adj" fmla="val 12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 Box 51"/>
              <p:cNvSpPr/>
              <p:nvPr/>
            </p:nvSpPr>
            <p:spPr>
              <a:xfrm>
                <a:off x="2362320" y="852480"/>
                <a:ext cx="219852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Times New Roman"/>
                  </a:rPr>
                  <a:t>QUEM DELIBERA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Times New Roman"/>
                  </a:rPr>
                  <a:t>E FISCALIZA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2"/>
            <p:cNvGrpSpPr/>
            <p:nvPr/>
          </p:nvGrpSpPr>
          <p:grpSpPr>
            <a:xfrm>
              <a:off x="0" y="852480"/>
              <a:ext cx="2349360" cy="1265400"/>
              <a:chOff x="0" y="852480"/>
              <a:chExt cx="2349360" cy="1265400"/>
            </a:xfrm>
          </p:grpSpPr>
          <p:sp>
            <p:nvSpPr>
              <p:cNvPr id="113" name="AutoShape 53"/>
              <p:cNvSpPr/>
              <p:nvPr/>
            </p:nvSpPr>
            <p:spPr>
              <a:xfrm>
                <a:off x="0" y="852480"/>
                <a:ext cx="2349360" cy="1265400"/>
              </a:xfrm>
              <a:prstGeom prst="roundRect">
                <a:avLst>
                  <a:gd name="adj" fmla="val 12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Text Box 54"/>
              <p:cNvSpPr/>
              <p:nvPr/>
            </p:nvSpPr>
            <p:spPr>
              <a:xfrm>
                <a:off x="0" y="852480"/>
                <a:ext cx="23493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QUEM EXECUT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Line 55"/>
            <p:cNvSpPr/>
            <p:nvPr/>
          </p:nvSpPr>
          <p:spPr>
            <a:xfrm>
              <a:off x="0" y="852480"/>
              <a:ext cx="9134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56"/>
            <p:cNvSpPr/>
            <p:nvPr/>
          </p:nvSpPr>
          <p:spPr>
            <a:xfrm>
              <a:off x="0" y="2130480"/>
              <a:ext cx="913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57"/>
            <p:cNvSpPr/>
            <p:nvPr/>
          </p:nvSpPr>
          <p:spPr>
            <a:xfrm>
              <a:off x="0" y="3297240"/>
              <a:ext cx="913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58"/>
            <p:cNvSpPr/>
            <p:nvPr/>
          </p:nvSpPr>
          <p:spPr>
            <a:xfrm>
              <a:off x="0" y="6060960"/>
              <a:ext cx="9134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59"/>
            <p:cNvSpPr/>
            <p:nvPr/>
          </p:nvSpPr>
          <p:spPr>
            <a:xfrm>
              <a:off x="0" y="6842160"/>
              <a:ext cx="9134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60"/>
            <p:cNvSpPr/>
            <p:nvPr/>
          </p:nvSpPr>
          <p:spPr>
            <a:xfrm>
              <a:off x="0" y="852480"/>
              <a:ext cx="1440" cy="598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61"/>
            <p:cNvSpPr/>
            <p:nvPr/>
          </p:nvSpPr>
          <p:spPr>
            <a:xfrm>
              <a:off x="2362320" y="852480"/>
              <a:ext cx="1440" cy="520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62"/>
            <p:cNvSpPr/>
            <p:nvPr/>
          </p:nvSpPr>
          <p:spPr>
            <a:xfrm>
              <a:off x="4568760" y="852480"/>
              <a:ext cx="1800" cy="520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63"/>
            <p:cNvSpPr/>
            <p:nvPr/>
          </p:nvSpPr>
          <p:spPr>
            <a:xfrm>
              <a:off x="6848640" y="852480"/>
              <a:ext cx="1440" cy="520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64"/>
            <p:cNvSpPr/>
            <p:nvPr/>
          </p:nvSpPr>
          <p:spPr>
            <a:xfrm>
              <a:off x="9134640" y="852480"/>
              <a:ext cx="1440" cy="598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65"/>
            <p:cNvSpPr/>
            <p:nvPr/>
          </p:nvSpPr>
          <p:spPr>
            <a:xfrm>
              <a:off x="2362320" y="2932200"/>
              <a:ext cx="220824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6"/>
            <p:cNvSpPr/>
            <p:nvPr/>
          </p:nvSpPr>
          <p:spPr>
            <a:xfrm>
              <a:off x="2362320" y="4238640"/>
              <a:ext cx="220824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7"/>
            <p:cNvSpPr/>
            <p:nvPr/>
          </p:nvSpPr>
          <p:spPr>
            <a:xfrm>
              <a:off x="2362320" y="5702400"/>
              <a:ext cx="220824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68"/>
            <p:cNvSpPr/>
            <p:nvPr/>
          </p:nvSpPr>
          <p:spPr>
            <a:xfrm>
              <a:off x="0" y="4748040"/>
              <a:ext cx="913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Group 69"/>
          <p:cNvGrpSpPr/>
          <p:nvPr/>
        </p:nvGrpSpPr>
        <p:grpSpPr>
          <a:xfrm>
            <a:off x="0" y="372600"/>
            <a:ext cx="9000720" cy="326160"/>
            <a:chOff x="0" y="372600"/>
            <a:chExt cx="9000720" cy="326160"/>
          </a:xfrm>
        </p:grpSpPr>
        <p:sp>
          <p:nvSpPr>
            <p:cNvPr id="130" name="AutoShape 70"/>
            <p:cNvSpPr/>
            <p:nvPr/>
          </p:nvSpPr>
          <p:spPr>
            <a:xfrm>
              <a:off x="0" y="461520"/>
              <a:ext cx="8845920" cy="1263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71"/>
            <p:cNvSpPr/>
            <p:nvPr/>
          </p:nvSpPr>
          <p:spPr>
            <a:xfrm>
              <a:off x="117720" y="372600"/>
              <a:ext cx="888300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500" spc="-1" strike="noStrike">
                  <a:solidFill>
                    <a:srgbClr val="a50021"/>
                  </a:solidFill>
                  <a:latin typeface="Calibri"/>
                </a:rPr>
                <a:t>Sistema Descentralizado e Participativo da Assistência Social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2" name="Picture 72" descr=""/>
          <p:cNvPicPr/>
          <p:nvPr/>
        </p:nvPicPr>
        <p:blipFill>
          <a:blip r:embed="rId1"/>
          <a:stretch/>
        </p:blipFill>
        <p:spPr>
          <a:xfrm>
            <a:off x="4786200" y="1143000"/>
            <a:ext cx="2000520" cy="1000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3" descr=""/>
          <p:cNvPicPr/>
          <p:nvPr/>
        </p:nvPicPr>
        <p:blipFill>
          <a:blip r:embed="rId2"/>
          <a:stretch/>
        </p:blipFill>
        <p:spPr>
          <a:xfrm>
            <a:off x="2343240" y="1301760"/>
            <a:ext cx="2157480" cy="793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4" descr=""/>
          <p:cNvPicPr/>
          <p:nvPr/>
        </p:nvPicPr>
        <p:blipFill>
          <a:blip r:embed="rId3"/>
          <a:stretch/>
        </p:blipFill>
        <p:spPr>
          <a:xfrm>
            <a:off x="428760" y="1297080"/>
            <a:ext cx="1571400" cy="726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5" descr=""/>
          <p:cNvPicPr/>
          <p:nvPr/>
        </p:nvPicPr>
        <p:blipFill>
          <a:blip r:embed="rId4"/>
          <a:stretch/>
        </p:blipFill>
        <p:spPr>
          <a:xfrm>
            <a:off x="7286760" y="1143000"/>
            <a:ext cx="1357200" cy="9288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6"/>
          <p:cNvGrpSpPr/>
          <p:nvPr/>
        </p:nvGrpSpPr>
        <p:grpSpPr>
          <a:xfrm>
            <a:off x="6934320" y="5791320"/>
            <a:ext cx="330120" cy="561600"/>
            <a:chOff x="6934320" y="5791320"/>
            <a:chExt cx="330120" cy="561600"/>
          </a:xfrm>
        </p:grpSpPr>
        <p:sp>
          <p:nvSpPr>
            <p:cNvPr id="137" name="Freeform 77"/>
            <p:cNvSpPr/>
            <p:nvPr/>
          </p:nvSpPr>
          <p:spPr>
            <a:xfrm>
              <a:off x="6934320" y="5961960"/>
              <a:ext cx="330120" cy="3909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78"/>
            <p:cNvSpPr/>
            <p:nvPr/>
          </p:nvSpPr>
          <p:spPr>
            <a:xfrm>
              <a:off x="6934320" y="5791320"/>
              <a:ext cx="330120" cy="2768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79"/>
          <p:cNvGrpSpPr/>
          <p:nvPr/>
        </p:nvGrpSpPr>
        <p:grpSpPr>
          <a:xfrm>
            <a:off x="1979640" y="5734080"/>
            <a:ext cx="291960" cy="560160"/>
            <a:chOff x="1979640" y="5734080"/>
            <a:chExt cx="291960" cy="560160"/>
          </a:xfrm>
        </p:grpSpPr>
        <p:sp>
          <p:nvSpPr>
            <p:cNvPr id="140" name="Freeform 80"/>
            <p:cNvSpPr/>
            <p:nvPr/>
          </p:nvSpPr>
          <p:spPr>
            <a:xfrm>
              <a:off x="1979640" y="5905080"/>
              <a:ext cx="291960" cy="3891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81"/>
            <p:cNvSpPr/>
            <p:nvPr/>
          </p:nvSpPr>
          <p:spPr>
            <a:xfrm>
              <a:off x="1979640" y="5734080"/>
              <a:ext cx="291960" cy="277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Freeform 82"/>
          <p:cNvSpPr/>
          <p:nvPr/>
        </p:nvSpPr>
        <p:spPr>
          <a:xfrm>
            <a:off x="5580000" y="4653000"/>
            <a:ext cx="228600" cy="342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Freeform 83"/>
          <p:cNvSpPr/>
          <p:nvPr/>
        </p:nvSpPr>
        <p:spPr>
          <a:xfrm>
            <a:off x="3348000" y="4653000"/>
            <a:ext cx="228600" cy="342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Freeform 84"/>
          <p:cNvSpPr/>
          <p:nvPr/>
        </p:nvSpPr>
        <p:spPr>
          <a:xfrm>
            <a:off x="5581800" y="3200400"/>
            <a:ext cx="228600" cy="3445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85"/>
          <p:cNvSpPr/>
          <p:nvPr/>
        </p:nvSpPr>
        <p:spPr>
          <a:xfrm>
            <a:off x="7867800" y="3219480"/>
            <a:ext cx="228600" cy="342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86"/>
          <p:cNvSpPr/>
          <p:nvPr/>
        </p:nvSpPr>
        <p:spPr>
          <a:xfrm>
            <a:off x="3348000" y="3213000"/>
            <a:ext cx="228600" cy="3430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87"/>
          <p:cNvSpPr/>
          <p:nvPr/>
        </p:nvSpPr>
        <p:spPr>
          <a:xfrm>
            <a:off x="1028880" y="3219480"/>
            <a:ext cx="228600" cy="342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88"/>
          <p:cNvSpPr/>
          <p:nvPr/>
        </p:nvSpPr>
        <p:spPr>
          <a:xfrm>
            <a:off x="990720" y="4686480"/>
            <a:ext cx="228600" cy="342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89"/>
          <p:cNvSpPr/>
          <p:nvPr/>
        </p:nvSpPr>
        <p:spPr>
          <a:xfrm>
            <a:off x="4400640" y="280044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90"/>
          <p:cNvSpPr/>
          <p:nvPr/>
        </p:nvSpPr>
        <p:spPr>
          <a:xfrm>
            <a:off x="4381560" y="407664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91"/>
          <p:cNvSpPr/>
          <p:nvPr/>
        </p:nvSpPr>
        <p:spPr>
          <a:xfrm>
            <a:off x="4427640" y="501336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92"/>
          <p:cNvSpPr/>
          <p:nvPr/>
        </p:nvSpPr>
        <p:spPr>
          <a:xfrm>
            <a:off x="2171880" y="281952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93"/>
          <p:cNvSpPr/>
          <p:nvPr/>
        </p:nvSpPr>
        <p:spPr>
          <a:xfrm>
            <a:off x="2152800" y="411480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94"/>
          <p:cNvSpPr/>
          <p:nvPr/>
        </p:nvSpPr>
        <p:spPr>
          <a:xfrm>
            <a:off x="2195640" y="501336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95"/>
          <p:cNvSpPr/>
          <p:nvPr/>
        </p:nvSpPr>
        <p:spPr>
          <a:xfrm>
            <a:off x="6629400" y="4191120"/>
            <a:ext cx="3445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96"/>
          <p:cNvSpPr/>
          <p:nvPr/>
        </p:nvSpPr>
        <p:spPr>
          <a:xfrm>
            <a:off x="6667560" y="276228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642960" y="66672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alibri"/>
                <a:ea typeface="Times New Roman"/>
              </a:rPr>
              <a:t>Gestão da Informa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rcRect l="3637" t="9850" r="4487" b="4220"/>
          <a:stretch/>
        </p:blipFill>
        <p:spPr>
          <a:xfrm>
            <a:off x="428760" y="1563840"/>
            <a:ext cx="8223120" cy="4865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81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Calibri"/>
              </a:rPr>
              <a:t>Centralidade do Estado na condução das ações de Proteção Social no âmbito da Assistência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2286000"/>
            <a:ext cx="822816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Uma das questões básicas apontadas pelo Suas refere-se à retomada d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entralidade do Estado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a garantia d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xistência de serviços estatais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ocioassistenci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entros de Referência de Assistência Social (CRAS)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vinculados à proteção social básica, e os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entros de Referência Especializados de Assistência Social (CREAS),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vinculados à proteção social especial, representam a afirmação da presença do Estado na condução da política de assistência soc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785520"/>
            <a:ext cx="883944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Calibri"/>
              </a:rPr>
              <a:t>A Proteção Social no âmbito da</a:t>
            </a:r>
            <a:br>
              <a:rPr sz="3600"/>
            </a:br>
            <a:r>
              <a:rPr b="1" lang="pt-BR" sz="3600" spc="-1" strike="noStrike">
                <a:solidFill>
                  <a:srgbClr val="a50021"/>
                </a:solidFill>
                <a:latin typeface="Calibri"/>
              </a:rPr>
              <a:t> Assistência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ve garantir as seguintes seguranç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urança de sobrevivência (de rendimento e de autonom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urança de acolh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urança de convívio ou vivência familiar e comunitá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642960"/>
            <a:ext cx="8839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Calibri"/>
              </a:rPr>
              <a:t>Assistência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3840" y="1499760"/>
            <a:ext cx="85726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política de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garantia de direit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que opera serviços, programas, projetos, benefícios e transferências de renda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prevenir/reduzir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situações de risco social e pesso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proteger pessoas e família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em situações de vulnerabil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riar medidas e possibilidades de socialização 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inclusão socia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monitorar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s exclusões e riscos sociais da popul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eb</dc:creator>
  <dc:description/>
  <dc:language>en-US</dc:language>
  <cp:lastModifiedBy>USUARIO</cp:lastModifiedBy>
  <dcterms:modified xsi:type="dcterms:W3CDTF">2010-10-15T18:56:57Z</dcterms:modified>
  <cp:revision>351</cp:revision>
  <dc:subject/>
  <dc:title>Reunião de avaliação e planejamento</dc:title>
</cp:coreProperties>
</file>