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937F-F5DB-4E15-97F4-6E8F7E1C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91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928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429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A05-5212-4FEC-985B-2DE15E86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91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928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928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429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429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5FC-1249-4881-BA08-257E8406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91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928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928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928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429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429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429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B8F6-D70F-4B1E-90DD-0ADCA263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91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FC4-4424-4B63-BBDE-00C46DE7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91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0D3-3BF1-44D3-8CE1-B2299097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91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928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928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D98-E3B4-464D-B207-689397F0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91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888-9A70-4C0E-A4D7-ED304498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2880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5CE-3812-455D-BA80-C036FEC3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91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928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928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429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4CE-5031-45D1-9465-3B13A0EE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91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928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928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429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7CE-B32A-4909-AD9B-A4EC2267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91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928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928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429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DA84-ADC3-4676-AC9D-672A76AB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579C-353E-4D5D-A3B5-461853A2395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Tipificação Nacional de Serviços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Socioassisten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596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Quadro síntese dos serviços por nível de complexida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82868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785880" y="78624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Proteção Social Bá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356840"/>
            <a:ext cx="8713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 u="sng">
                <a:solidFill>
                  <a:srgbClr val="000000"/>
                </a:solidFill>
                <a:uFillTx/>
                <a:latin typeface="Calibri"/>
              </a:rPr>
              <a:t>Serviço de Proteção e Atendimento Integral à Família – PAI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alibri"/>
              </a:rPr>
              <a:t>Descrição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: Trabalho social com famílias, de caráter continuado, com a finalidade de fortalecer a função protetiva das famílias, prevenir a ruptura dos seus vínculos, promover seu acesso e usufruto de direitos e contribuir na melhoria de sua qualidade de vida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alibri"/>
              </a:rPr>
              <a:t>Usuários: 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Famílias em situação de vulnerabilidade social decorrente da pobreza, do precário ou nulo acesso aos serviços públicos, da fragilização de vínculos de pertencimento e sociabilidade e/ou qualquer outra situação de vulnerabilidade e risco social residentes nos territórios de abrangência dos CR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alibri"/>
              </a:rPr>
              <a:t>Objetivos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: Fortalecer a função protetiva da família; Prevenir a ruptura dos vínculos familiares e comunitários;Promover aquisições sociais e materiais às famílias;Promover acessos a benefícios, programas de transferência de renda e serviços socioassistenciais; Promover acesso aos demais serviços setoriais;Apoiar famílias que possuem dentre seu membros indivíduos que necessitam de cuidado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alibri"/>
              </a:rPr>
              <a:t>Unidade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: Centro de Referência de Assistência Social (CRAS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alibri"/>
              </a:rPr>
              <a:t>Período de Funcionamento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: Período mínimo de 5 (cinco) dias por semana, 8 (oito) horas diárias, sendo que a unidade deverá necessariamente funcionar no período diurno podendo eventualmente executar atividades complementares a noite, com possibilidade de funcionar em feriados e finais de seman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alibri"/>
              </a:rPr>
              <a:t>Abrangência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: Municipal; Em metrópoles e municípios de médio e grande porte a abrangência corresponderá ao território de abrangência do CRAS, de acordo com a incidência da demand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Proteção Social Bás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Calibri"/>
              </a:rPr>
              <a:t>Serviço de Convivência e Fortalecimento de Víncul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Descrição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realizado em grupos, organizado a partir de percursos, de modo a garantir aquisições progressivas aos seus usuários, de acordo com o seu ciclo de vida, a fim de complementar o trabalho social com famílias e prevenir a ocorrência de situações de risco social.  Descrição específica do serviço para crianças de até 6 anos, crianças e adolescentes de 6 a 15 anos, adolescentes e jovens de 15 a 17 anos, para idosos (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Usuários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: Crianças de até 6 anos, Crianças e adolescentes de 6 a 15 anos, Adolescentes e Jovens de 15 a 17 anos, Idosos(as) com idade igual ou superior a 60 anos, em situação de vulnerabilidade social, em especial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Objetiv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Unidade: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Centro de Referência de Assistência Social (CRAS); Centros da criança, adolescente, juventude e idosos, referenciados ao CR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Período de Funcionamento: </a:t>
            </a: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até 6 anos  -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tividades em dias úteis, feriados ou finais de semana, com freqüência seqüenciada ou intercalada, de acordo com planejamento prévio, em turnos de até 1,5h diárias; </a:t>
            </a: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de 06 a 15 anos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tividades em dias úteis, feriados ou finais de semana, em turnos diários de até 4 (quatro) horas. No caso de crianças e adolescentes retiradas do trabalho infantil o serviço socioeducativo é, obrigatoriamente, de 3 (três) horas diárias e constitui condicionalidade para a transferência de renda às famílias.; </a:t>
            </a: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de 15 a 17 anos -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tividades em dias úteis, feriados ou finais de semana, em turnos de até 3 (três) horas, conforme regulamentação de serviços específicos, como por exemplo, o Projovem Adolescente, que prevê uma carga horária semanal de 12,5 horas.; </a:t>
            </a: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idosos-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tividades em dias úteis, feriados ou finais de semana, em horários programados, conforme deman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Abrangência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Municipal - corresponderá ao território de abrangência do CRAS, de acordo com a incidência da deman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  <a:ea typeface="Calibri"/>
              </a:rPr>
              <a:t>Proteção Social Bás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9680" y="192888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Calibri"/>
              </a:rPr>
              <a:t>Serviço de Proteção Social Básica no Domicílio para Pessoas com Deficiência e Idos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Descrição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 serviço tem por finalidade a prevenção de agravos que possam provocar o rompimento de vínculos familiares e sociais dos usuário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Usuários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Pessoas com deficiência e/ou pessoas idosas que vivenciam situação de vulnerabilidade social pela fragilização de vínculos familiares e sociais e/ou pela ausência de acesso a possibilidades de inserção, habilitação social e comunitária, em especial: Beneficiários do Benefício de Prestação Continuada; Membros de famílias beneficiárias de programas de transferência de ren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Objetivos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Prevenir agravos que possam desencadear rompimento de vínculos familiares e sociai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Unidade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Domicílio do(a) Usuário(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Período de Funcionamento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Em dias úteis e quando a demanda for identificada no PDU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Abrangência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Munici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Serviços da Proteção Social Especial – Média Complexi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2920" y="1571400"/>
            <a:ext cx="8786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Calibri"/>
              </a:rPr>
              <a:t>Serviço de Proteção e Atendimento Especializado a Famílias e Indivíduos – PAEF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Descrição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Serviço de apoio, orientação e acompanhamento a famílias com um ou mais de seus membros em situação de ameaça ou violação de direito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Usuários: 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Famílias e indivíduos que vivenciam violações de direitos por ocorrência de: Violência física, psicológica e negligência; Violência sexual: abuso e/ou exploração sexual; Afastamento do convívio familiar devido à aplicação de medida socioeducativa ou medida de proteção;  Tráfico de pessoas; Situação de rua e mendicância; Abandono; Vivência de trabalho infantil; Discriminação em decorrência da orientação sexual e/ou raça/etnia; Outras formas de  violação de direitos decorrentes de discriminações/submissões a situações que provocam danos e agravos a sua condição de vida e os impedem de usufruir autonomia e bem estar; Descumprimento de condicionalidades do PBF e do PETI em decorrência de violação de direi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Objetivos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ribuir para o fortalecimento da família no desempenho de sua função protetiva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Unidade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entro de Referência Especializado de Assistência Social (CRE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Período de funcionamento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mínimo de 5 (cinco) dias por semana, 8 (oito) horas diárias, com possibilidade de operar em feriados e finais de seman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Abrangência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Municipal e/ou Regio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Serviços da Proteção Social Especial – Média Complexi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92888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Serviço Especializado em Abordagem So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escrição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ofertado de forma continuada e programada com a finalidade de assegurar trabalho social de abordagem e busca ativa que identifique, nos territórios, a incidência de trabalho infantil, exploração sexual de crianças e adolescentes, situação de rua, dentre outr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suários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rianças, adolescentes, jovens, adultos, idosos (as) e famílias que utilizam espaços públicos como forma de moradia e/ou sobrevivê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bjetivos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onstruir o processo de saída das ruas e possibilitar condições de acesso à rede de serviços e à benefícios assistencia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nidade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entro de Referência Especializado de Assistência Social (CREAS) ou Unidade Específica Referenciada ao CRE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eríodo de funcionamento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ninterrupto e/ou de acordo com a especificidade dos territóri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brangência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unicipal e/ou Region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Serviços da Proteção Social Especial – Média Complexi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Calibri"/>
              </a:rPr>
              <a:t>Serviço de Proteção Social a Adolescentes em Cumprimento de Medida Socioeducativa de Liberdade Assistida (LA) e de Prestação de Serviços à Comunidade (PS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Descrição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tem por finalidade prover atenção socioassistencial e acompanhamento a adolescentes e jovens em cumprimento de medidas socioeducativas em meio aberto, determinadas judicialment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Usuários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Adolescentes de 12 a 18 anos incompletos, ou jovens de 18 a 21 anos, em cumprimento de medida socioeducativa de Liberdade Assistida e de Prestação de Serviços à Comunidade, aplicada pela Justiça da Infância e da Juventude ou, na ausência desta, pela Vara Civil correspondente; - Suas famíli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Objetivos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Realizar acompanhamento social a adolescentes durante o cumprimento de medida socioeducativa de Liberdade Assistida e de Prestação de Serviços à Comunidade e sua inserção em outros serviços e programas socioassistenciais e de políticas públicas setoriai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Unidade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entro de Referência Especializado de Assistência Social (CRE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Período de funcionamento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Dias úteis, com possibilidade de operar em feriados e finais de semana. Período mínimo de 5 (cinco) dias por semana, 8 (oito) horas diári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Abrangência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Municipal e/ou Regio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Serviços da Proteção Social Especial – Média Complexi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Calibri"/>
              </a:rPr>
              <a:t>Serviço de Proteção Social Especial para Pessoas com Deficiência, Idosos (as) e suas Família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Descrição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ferta de atendimento especializado a famílias com pessoas com deficiência e idosos (as) com algum grau de dependência, que tiveram suas limitações agravadas por violações de direit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Usuários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Pessoas com deficiência e idosos (as) com dependência, seus cuidadores e familiar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Objetivos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Promover a autonomia e a melhoria da qualidade de vida de pessoas com deficiência e idosos (as) com dependência, seus cuidadores e suas famíli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Unidade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Domicílio do usuário, centro-dia, Centro de Referência Especializado de Assistência Social (CREAS) ou Unidade Referenci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Período de funcionamento: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Funcionamento conforme necessidade e/ou orientações técnicas planejadas em conjunto com as pessoas com deficiência e idosos(as) com dependência atendidas, seus cuidadores e seus familiar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Abrangência: 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Munici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Serviços da Proteção Social Especial – Média Complexi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Serviço Especializado para Pessoas em Situação de R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escrição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ofertado para pessoas que utilizam as ruas como espaço de moradia e/ou sobrevivênc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suários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Jovens, adultos, idosos (as) e famílias que utilizam as ruas como espaço de moradia e/ou sobrevivê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bjetivos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ossibilitar condições de acolhida na rede socioassistenci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nidade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entro de Referência Especializado para População em Situação de R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eríodo de funcionamento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ias úteis, com possibilidade de funcionar em feriados, finais de semana e período noturno. Período mínimo de 5 (cinco) dias por semana, 8 (oito) horas diári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brangência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unici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Serviços da Proteção Social Especial – Alta Complexi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00" y="1571760"/>
            <a:ext cx="8715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Serviço de Acolhimento Institu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escrição: Geral -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colhimento em diferentes tipos de equipamentos, destinado a famílias e/ou indivíduos com vínculos familiares rompidos ou fragilizados, a fim de garantir proteção integral.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specíficas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rianças e adolescentes, adultos e famílias, mulheres em situação de violência, jovens e adultos com deficiência, idosos (a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suários (as)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rianças, adolescentes, jovens, adultos, pessoas com deficiência, idosos (as) e famíli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bjetivos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Gerais: Acolher e garantir proteção integral /Específicos: Acolher e garantir proteção integ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nidade: crianças e Adolescentes (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asa-Lar - Abrigo Institucional);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dultos e famílias         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Abrigo institucional - Casa de Passagem);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mulheres em situação de violência (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brigo institucional);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jovens e adultos com deficiência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Residências inclusivas);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idosos (as)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 Casa-Lar - Abrigo Institucional (Instituição de Longa Permanência para Idosos (as) - ILPI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eríodo de funcionamento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ninterrupto (24 hora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brangência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- Municipal; - Regional: Os serviços de acolhimento poderão ter abrangência correspondente a um pequeno grupo de municípios com proximidade geográfica, quando a incidência da demanda e porte do município não justificarem a disponibilização do serviço no seu âmbit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ipificação Nacional de Serviços Socioassistenci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714240" y="2143080"/>
            <a:ext cx="764388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istó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tratação de consultoria (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minários Internos (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bates com gestores (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minários Internos e Consolidação dos Resultados (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ctuação CIT (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provação no CNAS (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esão/Implantação(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Serviços da Proteção Social Especial – Alta Complexi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Serviço de Acolhimento em Repúbl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escrição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oferece proteção, apoio e moradia subsidiada a grupos de pessoas maiores de 18 anos em estado de abandono, situação de vulnerabilidade e risco pessoal e social, com vínculos familiares rompidos ou extremamente fragilizados e sem condições de moradia e auto-sustentaçã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suários (as)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Jovens entre 18 e 21 anos, adultos em processo de saída das ruas e idosos (a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bjetivos: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Proteger os usuários, preservando suas condições de autonomia e independência; Preparar os usuários para o alcance da auto-sustentação; Promover o restabelecimento de vínculos comunitários, familiares e/ou sociais; Promover o acesso à rede de políticas públic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nidade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epúbl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eríodo de funcionamento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ninterrupto (24 hora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brangência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unicipal ou reg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Serviços da Proteção Social Especial – Alta Complexi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2560" y="1428480"/>
            <a:ext cx="9001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Serviço de Acolhimento em Família Acolhedo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escrição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organiza o acolhimento de crianças e adolescentes, afastados da família por medida de proteção, em residência de famílias acolhedoras cadastrad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suários (as)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rianças e adolescentes, inclusive aqueles com deficiência, aos quais foi aplicada medida de proteção, por motivo de abandono ou violação de direitos, cujas famílias ou responsáveis encontrem-se temporariamente impossibilitados de cumprir sua função de cuidado e proteçã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bjetivos: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Promover o acolhimento familiar de crianças e adolescentes afastadas temporariamente de sua família de origem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nidade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Unidade de referência da Proteção Social Especial e residência da Família Acolhedo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eríodo de funcionamento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ninterrupto (24 hora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brangência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unicipal; Regional: No caso de municípios de pequeno porte que apresentem dificuldades para implantar e manter serviços de acolhimento para crianças e adolescentes – em virtude da pequena demanda e das condições de gestão – pode-se recorrer à implantação de um Serviço com Compartilhamento de Equipe (coordenação e equipe técnica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Serviços da Proteção Social Especial – Alta Complexi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0040" y="171468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Serviço de proteção em situações de calamidades públicas e de emergênc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escrição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move apoio e proteção à população atingida por situações de emergência e calamidade pública, com a oferta de alojamentos provisórios, atenções e provisões materiais, conforme as necessidades detectad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suários (as)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amílias e Indivíduos: - Atingidos por situações de emergência e calamidade pública (incêndios, desabamentos, deslizamentos, alagamentos, dentre outros) que tiveram perdas parciais ou totais de moradia, objetos ou utensílios pessoais, e se encontram temporária ou definitivamente desabrigados; - Removidos de áreas consideradas de risco, por prevenção ou determinação do Poder Judiciá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bjetivos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- Assegurar acolhimento imediato em condições dignas e de seguranç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nidade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Unidades referenciadas ao órgão gestor da Assistência So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eríodo de funcionamento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Na ocorrência das situações de emergência e de calamidades públicas, mediante a mobilização de equipe de prontidão escalonada pelo regime de plantão, a ser acionada em qualquer horário e dia da sema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brangência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unici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22960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  <a:ea typeface="Tahoma"/>
              </a:rPr>
              <a:t>Padronização Nacional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8572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  <a:ea typeface="Tahoma"/>
              </a:rPr>
              <a:t>Nomenclatura, conteúdo, padrão de funcionamento para todo o território nac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00040" y="200016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Tahoma"/>
              </a:rPr>
              <a:t>Estabelece uma matriz padronizada de serviços socioassistenciais, organizados conforme nível de complexidade: Proteção Social Básica e Proteção Social Especial de Média e Alta Complexida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OLUÇÃO No. 109, DE 11 DE NOVEMBRO DE 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00080" y="1928880"/>
            <a:ext cx="74296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prova a Tipificação Nacional de Serviços Socioassistenci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ublicada no Diário Oficial da União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Seção 1, No. 225,   25/11/2009 , pg. 82 à 9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atriz Padronizada para Fichas de Serviços Socioassistencia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5892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Nome do Serviço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Termos utilizados para denominar o serviço de modo a evidenciar sua principal função e os seus usuári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Descrição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Conteúdo da oferta substantiva do serviç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Usuários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lação e detalhamento dos destinatários a quem se destinam as atenções.  As situações identificadas em cada serviço constam de uma lista de vulnerabilidades e riscos contida nesse documen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Objetivos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opósitos do serviço e os resultados que dele se esper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rovisões: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s ofertas do trabalho institucional, organizadas em quatro dimensões: ambiente físico, recursos materiais, recursos humanos e trabalho social essencial ao serviço. Organizados conforme cada serviço as provisões garantem determinadas aquisições aos cidadão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atriz Padronizada para Fichas de Serviços Socioassistencia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quisições dos Usuá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rata dos compromissos a serem cumpridos pelos gestores em todos os níveis, para que os serviços prestados no âmbito do SUAS produzam seguranças sociais aos seus usuários, conforme suas necessidades e a situação de vulnerabilidade e risco em que se encontram. Podem resultar em medidas da resolutividade e efetividade dos serviços, a serem aferidas pelos níveis de participação e satisfação dos usuários e pelas mudanças efetivas e duradouras em sua condição de vida, na perspectiva do fortalecimento de sua autonomia e cidadan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s aquisições específicas de cada serviço estão organizadas segundo as seguranças sociais que devem garant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atriz Padronizada para Fichas de Serviços Socioassistencia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155700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ondições e Formas de Acesso: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Procedência dos (as) usuários (as) e formas de encaminhamen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Unidade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quipamento recomendado para a realização do serviço socioassistenc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ríodo de Funcionamento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Horários e dias da semana abertos ao funcionamento para o públic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Abrangência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ferência territorializada da procedência dos usuários e do alcance do serviç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Articulação em Rede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inaliza a completude da atenção hierarquizada em serviços de vigilância social, defesa de direitos e proteção básica e especial de assistência social e dos serviços de outras políticas públicas e de organizações privadas. Indica a conexão de cada serviço com outros serviços, programas, projetos e organizações dos Poderes Executivo e Judiciário e organizações não governamenta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atriz Padronizada para Fichas de Serviços Socioassistencia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mpacto Social esperado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: Trata dos resultados e dos impactos esperados de cada serviço e do conjunto dos serviços conectados em rede socioassistencial.  Projeta expectativas que vão além das aquisições dos sujeitos que utilizam os serviços e avançam na direção de mudanças positivas em relação a indicadores de vulnerabilidades e de riscos sociai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Regulamentações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missão a leis, decretos, normas técnicas e planos nacionais que regulam benefícios e serviços socioassistenciais e atenções a segmentos específicos que demandam a proteção social de assistência soci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6:54:11Z</dcterms:created>
  <dc:creator>rosario.ferreira</dc:creator>
  <dc:description/>
  <dc:language>en-US</dc:language>
  <cp:lastModifiedBy>rosario.ferreira</cp:lastModifiedBy>
  <dcterms:modified xsi:type="dcterms:W3CDTF">2010-09-16T14:13:09Z</dcterms:modified>
  <cp:revision>109</cp:revision>
  <dc:subject/>
  <dc:title>Slide 1</dc:title>
</cp:coreProperties>
</file>