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FC5C-E205-4B8E-9D73-8BCEF2A38C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F2C5-FF30-4F71-AADC-B88C768A7AD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4C7-682A-45AD-B602-ADDA42FF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0F5-6786-40CD-B4F8-271363FB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987-9B2E-4E05-82CE-CCEBA119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713-7183-42B5-BAA9-0843263F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35E-32C0-404D-8733-3A7D7120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A82-705F-4D46-8F70-3E16ABD1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7B2-C14C-4483-AD61-DD90E0B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9B3-2854-4782-8E85-7E4B5AB8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F1E-D178-469D-83A9-3F644E43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D95-97E0-41E4-BF7C-375D9153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B10-B75D-4A89-B44E-87291689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AF3-F0F6-4544-AC2F-92B9C67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651F-7D91-4C07-BC51-4145079C758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rma livre 6"/>
          <p:cNvSpPr/>
          <p:nvPr/>
        </p:nvSpPr>
        <p:spPr>
          <a:xfrm>
            <a:off x="-71280" y="0"/>
            <a:ext cx="357120" cy="6851520"/>
          </a:xfrm>
          <a:custGeom>
            <a:avLst/>
            <a:gdLst/>
            <a:ahLst/>
            <a:rect l="l" t="t" r="r" b="b"/>
            <a:pathLst>
              <a:path w="868878" h="6852062">
                <a:moveTo>
                  <a:pt x="581891" y="0"/>
                </a:moveTo>
                <a:cubicBezTo>
                  <a:pt x="427512" y="148442"/>
                  <a:pt x="273133" y="296884"/>
                  <a:pt x="285008" y="498764"/>
                </a:cubicBezTo>
                <a:cubicBezTo>
                  <a:pt x="296883" y="700644"/>
                  <a:pt x="647205" y="957943"/>
                  <a:pt x="653143" y="1211283"/>
                </a:cubicBezTo>
                <a:cubicBezTo>
                  <a:pt x="659081" y="1464623"/>
                  <a:pt x="292925" y="1769423"/>
                  <a:pt x="320634" y="2018805"/>
                </a:cubicBezTo>
                <a:cubicBezTo>
                  <a:pt x="348343" y="2268187"/>
                  <a:pt x="835232" y="2406732"/>
                  <a:pt x="819398" y="2707574"/>
                </a:cubicBezTo>
                <a:cubicBezTo>
                  <a:pt x="803564" y="3008416"/>
                  <a:pt x="223652" y="3418115"/>
                  <a:pt x="225631" y="3823855"/>
                </a:cubicBezTo>
                <a:cubicBezTo>
                  <a:pt x="227610" y="4229595"/>
                  <a:pt x="868878" y="4637315"/>
                  <a:pt x="831273" y="5142016"/>
                </a:cubicBezTo>
                <a:cubicBezTo>
                  <a:pt x="793668" y="5646717"/>
                  <a:pt x="0" y="6852062"/>
                  <a:pt x="0" y="6852062"/>
                </a:cubicBezTo>
                <a:lnTo>
                  <a:pt x="0" y="6852062"/>
                </a:ln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orma livre 7"/>
          <p:cNvSpPr/>
          <p:nvPr/>
        </p:nvSpPr>
        <p:spPr>
          <a:xfrm>
            <a:off x="0" y="0"/>
            <a:ext cx="357120" cy="6851520"/>
          </a:xfrm>
          <a:custGeom>
            <a:avLst/>
            <a:gdLst/>
            <a:ahLst/>
            <a:rect l="l" t="t" r="r" b="b"/>
            <a:pathLst>
              <a:path w="868878" h="6852062">
                <a:moveTo>
                  <a:pt x="581891" y="0"/>
                </a:moveTo>
                <a:cubicBezTo>
                  <a:pt x="427512" y="148442"/>
                  <a:pt x="273133" y="296884"/>
                  <a:pt x="285008" y="498764"/>
                </a:cubicBezTo>
                <a:cubicBezTo>
                  <a:pt x="296883" y="700644"/>
                  <a:pt x="647205" y="957943"/>
                  <a:pt x="653143" y="1211283"/>
                </a:cubicBezTo>
                <a:cubicBezTo>
                  <a:pt x="659081" y="1464623"/>
                  <a:pt x="292925" y="1769423"/>
                  <a:pt x="320634" y="2018805"/>
                </a:cubicBezTo>
                <a:cubicBezTo>
                  <a:pt x="348343" y="2268187"/>
                  <a:pt x="835232" y="2406732"/>
                  <a:pt x="819398" y="2707574"/>
                </a:cubicBezTo>
                <a:cubicBezTo>
                  <a:pt x="803564" y="3008416"/>
                  <a:pt x="223652" y="3418115"/>
                  <a:pt x="225631" y="3823855"/>
                </a:cubicBezTo>
                <a:cubicBezTo>
                  <a:pt x="227610" y="4229595"/>
                  <a:pt x="868878" y="4637315"/>
                  <a:pt x="831273" y="5142016"/>
                </a:cubicBezTo>
                <a:cubicBezTo>
                  <a:pt x="793668" y="5646717"/>
                  <a:pt x="0" y="6852062"/>
                  <a:pt x="0" y="6852062"/>
                </a:cubicBezTo>
                <a:lnTo>
                  <a:pt x="0" y="6852062"/>
                </a:ln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rma livre 8"/>
          <p:cNvSpPr/>
          <p:nvPr/>
        </p:nvSpPr>
        <p:spPr>
          <a:xfrm>
            <a:off x="0" y="0"/>
            <a:ext cx="357120" cy="6912000"/>
          </a:xfrm>
          <a:custGeom>
            <a:avLst/>
            <a:gdLst/>
            <a:ahLst/>
            <a:rect l="l" t="t" r="r" b="b"/>
            <a:pathLst>
              <a:path w="1405247" h="6911439">
                <a:moveTo>
                  <a:pt x="799605" y="0"/>
                </a:moveTo>
                <a:cubicBezTo>
                  <a:pt x="652153" y="341415"/>
                  <a:pt x="504701" y="682831"/>
                  <a:pt x="538348" y="997527"/>
                </a:cubicBezTo>
                <a:cubicBezTo>
                  <a:pt x="571995" y="1312223"/>
                  <a:pt x="1048987" y="1567542"/>
                  <a:pt x="1001486" y="1888176"/>
                </a:cubicBezTo>
                <a:cubicBezTo>
                  <a:pt x="953985" y="2208810"/>
                  <a:pt x="191984" y="2600696"/>
                  <a:pt x="253340" y="2921330"/>
                </a:cubicBezTo>
                <a:cubicBezTo>
                  <a:pt x="314696" y="3241964"/>
                  <a:pt x="1405247" y="3378530"/>
                  <a:pt x="1369621" y="3811979"/>
                </a:cubicBezTo>
                <a:cubicBezTo>
                  <a:pt x="1333995" y="4245428"/>
                  <a:pt x="79169" y="5005449"/>
                  <a:pt x="39584" y="5522026"/>
                </a:cubicBezTo>
                <a:cubicBezTo>
                  <a:pt x="0" y="6038603"/>
                  <a:pt x="1132114" y="6911439"/>
                  <a:pt x="1132114" y="6911439"/>
                </a:cubicBezTo>
                <a:lnTo>
                  <a:pt x="1132114" y="6911439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rma livre 9"/>
          <p:cNvSpPr/>
          <p:nvPr/>
        </p:nvSpPr>
        <p:spPr>
          <a:xfrm>
            <a:off x="214200" y="-54000"/>
            <a:ext cx="357480" cy="6912000"/>
          </a:xfrm>
          <a:custGeom>
            <a:avLst/>
            <a:gdLst/>
            <a:ahLst/>
            <a:rect l="l" t="t" r="r" b="b"/>
            <a:pathLst>
              <a:path w="1405247" h="6911439">
                <a:moveTo>
                  <a:pt x="799605" y="0"/>
                </a:moveTo>
                <a:cubicBezTo>
                  <a:pt x="652153" y="341415"/>
                  <a:pt x="504701" y="682831"/>
                  <a:pt x="538348" y="997527"/>
                </a:cubicBezTo>
                <a:cubicBezTo>
                  <a:pt x="571995" y="1312223"/>
                  <a:pt x="1048987" y="1567542"/>
                  <a:pt x="1001486" y="1888176"/>
                </a:cubicBezTo>
                <a:cubicBezTo>
                  <a:pt x="953985" y="2208810"/>
                  <a:pt x="191984" y="2600696"/>
                  <a:pt x="253340" y="2921330"/>
                </a:cubicBezTo>
                <a:cubicBezTo>
                  <a:pt x="314696" y="3241964"/>
                  <a:pt x="1405247" y="3378530"/>
                  <a:pt x="1369621" y="3811979"/>
                </a:cubicBezTo>
                <a:cubicBezTo>
                  <a:pt x="1333995" y="4245428"/>
                  <a:pt x="79169" y="5005449"/>
                  <a:pt x="39584" y="5522026"/>
                </a:cubicBezTo>
                <a:cubicBezTo>
                  <a:pt x="0" y="6038603"/>
                  <a:pt x="1132114" y="6911439"/>
                  <a:pt x="1132114" y="6911439"/>
                </a:cubicBezTo>
                <a:lnTo>
                  <a:pt x="1132114" y="6911439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rma livre 10"/>
          <p:cNvSpPr/>
          <p:nvPr/>
        </p:nvSpPr>
        <p:spPr>
          <a:xfrm>
            <a:off x="142920" y="-54000"/>
            <a:ext cx="357120" cy="6912000"/>
          </a:xfrm>
          <a:custGeom>
            <a:avLst/>
            <a:gdLst/>
            <a:ahLst/>
            <a:rect l="l" t="t" r="r" b="b"/>
            <a:pathLst>
              <a:path w="1405247" h="6911439">
                <a:moveTo>
                  <a:pt x="799605" y="0"/>
                </a:moveTo>
                <a:cubicBezTo>
                  <a:pt x="652153" y="341415"/>
                  <a:pt x="504701" y="682831"/>
                  <a:pt x="538348" y="997527"/>
                </a:cubicBezTo>
                <a:cubicBezTo>
                  <a:pt x="571995" y="1312223"/>
                  <a:pt x="1048987" y="1567542"/>
                  <a:pt x="1001486" y="1888176"/>
                </a:cubicBezTo>
                <a:cubicBezTo>
                  <a:pt x="953985" y="2208810"/>
                  <a:pt x="191984" y="2600696"/>
                  <a:pt x="253340" y="2921330"/>
                </a:cubicBezTo>
                <a:cubicBezTo>
                  <a:pt x="314696" y="3241964"/>
                  <a:pt x="1405247" y="3378530"/>
                  <a:pt x="1369621" y="3811979"/>
                </a:cubicBezTo>
                <a:cubicBezTo>
                  <a:pt x="1333995" y="4245428"/>
                  <a:pt x="79169" y="5005449"/>
                  <a:pt x="39584" y="5522026"/>
                </a:cubicBezTo>
                <a:cubicBezTo>
                  <a:pt x="0" y="6038603"/>
                  <a:pt x="1132114" y="6911439"/>
                  <a:pt x="1132114" y="6911439"/>
                </a:cubicBezTo>
                <a:lnTo>
                  <a:pt x="1132114" y="6911439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ds.gov.br/suas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aixaDeTexto 3"/>
          <p:cNvSpPr/>
          <p:nvPr/>
        </p:nvSpPr>
        <p:spPr>
          <a:xfrm>
            <a:off x="428760" y="500040"/>
            <a:ext cx="828648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17375e"/>
                </a:solidFill>
                <a:latin typeface="Calibri"/>
              </a:rPr>
              <a:t>Protocolo de Gestão Integrada de Serviços, Benefícios e Transferências de Renda no âmbito do Sistema Único de Assistência Social – SU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ixaDeTexto 18"/>
          <p:cNvSpPr/>
          <p:nvPr/>
        </p:nvSpPr>
        <p:spPr>
          <a:xfrm>
            <a:off x="357120" y="214200"/>
            <a:ext cx="82868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rma livre 19"/>
          <p:cNvSpPr/>
          <p:nvPr/>
        </p:nvSpPr>
        <p:spPr>
          <a:xfrm flipH="1">
            <a:off x="8781480" y="0"/>
            <a:ext cx="285480" cy="6851520"/>
          </a:xfrm>
          <a:custGeom>
            <a:avLst/>
            <a:gdLst/>
            <a:ahLst/>
            <a:rect l="l" t="t" r="r" b="b"/>
            <a:pathLst>
              <a:path w="868878" h="6852062">
                <a:moveTo>
                  <a:pt x="581891" y="0"/>
                </a:moveTo>
                <a:cubicBezTo>
                  <a:pt x="427512" y="148442"/>
                  <a:pt x="273133" y="296884"/>
                  <a:pt x="285008" y="498764"/>
                </a:cubicBezTo>
                <a:cubicBezTo>
                  <a:pt x="296883" y="700644"/>
                  <a:pt x="647205" y="957943"/>
                  <a:pt x="653143" y="1211283"/>
                </a:cubicBezTo>
                <a:cubicBezTo>
                  <a:pt x="659081" y="1464623"/>
                  <a:pt x="292925" y="1769423"/>
                  <a:pt x="320634" y="2018805"/>
                </a:cubicBezTo>
                <a:cubicBezTo>
                  <a:pt x="348343" y="2268187"/>
                  <a:pt x="835232" y="2406732"/>
                  <a:pt x="819398" y="2707574"/>
                </a:cubicBezTo>
                <a:cubicBezTo>
                  <a:pt x="803564" y="3008416"/>
                  <a:pt x="223652" y="3418115"/>
                  <a:pt x="225631" y="3823855"/>
                </a:cubicBezTo>
                <a:cubicBezTo>
                  <a:pt x="227610" y="4229595"/>
                  <a:pt x="868878" y="4637315"/>
                  <a:pt x="831273" y="5142016"/>
                </a:cubicBezTo>
                <a:cubicBezTo>
                  <a:pt x="793668" y="5646717"/>
                  <a:pt x="0" y="6852062"/>
                  <a:pt x="0" y="6852062"/>
                </a:cubicBezTo>
                <a:lnTo>
                  <a:pt x="0" y="6852062"/>
                </a:ln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rma livre 21"/>
          <p:cNvSpPr/>
          <p:nvPr/>
        </p:nvSpPr>
        <p:spPr>
          <a:xfrm flipH="1">
            <a:off x="8695440" y="0"/>
            <a:ext cx="428760" cy="6912000"/>
          </a:xfrm>
          <a:custGeom>
            <a:avLst/>
            <a:gdLst/>
            <a:ahLst/>
            <a:rect l="l" t="t" r="r" b="b"/>
            <a:pathLst>
              <a:path w="1405247" h="6911439">
                <a:moveTo>
                  <a:pt x="799605" y="0"/>
                </a:moveTo>
                <a:cubicBezTo>
                  <a:pt x="652153" y="341415"/>
                  <a:pt x="504701" y="682831"/>
                  <a:pt x="538348" y="997527"/>
                </a:cubicBezTo>
                <a:cubicBezTo>
                  <a:pt x="571995" y="1312223"/>
                  <a:pt x="1048987" y="1567542"/>
                  <a:pt x="1001486" y="1888176"/>
                </a:cubicBezTo>
                <a:cubicBezTo>
                  <a:pt x="953985" y="2208810"/>
                  <a:pt x="191984" y="2600696"/>
                  <a:pt x="253340" y="2921330"/>
                </a:cubicBezTo>
                <a:cubicBezTo>
                  <a:pt x="314696" y="3241964"/>
                  <a:pt x="1405247" y="3378530"/>
                  <a:pt x="1369621" y="3811979"/>
                </a:cubicBezTo>
                <a:cubicBezTo>
                  <a:pt x="1333995" y="4245428"/>
                  <a:pt x="79169" y="5005449"/>
                  <a:pt x="39584" y="5522026"/>
                </a:cubicBezTo>
                <a:cubicBezTo>
                  <a:pt x="0" y="6038603"/>
                  <a:pt x="1132114" y="6911439"/>
                  <a:pt x="1132114" y="6911439"/>
                </a:cubicBezTo>
                <a:lnTo>
                  <a:pt x="1132114" y="6911439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rma livre 22"/>
          <p:cNvSpPr/>
          <p:nvPr/>
        </p:nvSpPr>
        <p:spPr>
          <a:xfrm flipH="1">
            <a:off x="8858160" y="6480"/>
            <a:ext cx="285840" cy="6851520"/>
          </a:xfrm>
          <a:custGeom>
            <a:avLst/>
            <a:gdLst/>
            <a:ahLst/>
            <a:rect l="l" t="t" r="r" b="b"/>
            <a:pathLst>
              <a:path w="868878" h="6852062">
                <a:moveTo>
                  <a:pt x="581891" y="0"/>
                </a:moveTo>
                <a:cubicBezTo>
                  <a:pt x="427512" y="148442"/>
                  <a:pt x="273133" y="296884"/>
                  <a:pt x="285008" y="498764"/>
                </a:cubicBezTo>
                <a:cubicBezTo>
                  <a:pt x="296883" y="700644"/>
                  <a:pt x="647205" y="957943"/>
                  <a:pt x="653143" y="1211283"/>
                </a:cubicBezTo>
                <a:cubicBezTo>
                  <a:pt x="659081" y="1464623"/>
                  <a:pt x="292925" y="1769423"/>
                  <a:pt x="320634" y="2018805"/>
                </a:cubicBezTo>
                <a:cubicBezTo>
                  <a:pt x="348343" y="2268187"/>
                  <a:pt x="835232" y="2406732"/>
                  <a:pt x="819398" y="2707574"/>
                </a:cubicBezTo>
                <a:cubicBezTo>
                  <a:pt x="803564" y="3008416"/>
                  <a:pt x="223652" y="3418115"/>
                  <a:pt x="225631" y="3823855"/>
                </a:cubicBezTo>
                <a:cubicBezTo>
                  <a:pt x="227610" y="4229595"/>
                  <a:pt x="868878" y="4637315"/>
                  <a:pt x="831273" y="5142016"/>
                </a:cubicBezTo>
                <a:cubicBezTo>
                  <a:pt x="793668" y="5646717"/>
                  <a:pt x="0" y="6852062"/>
                  <a:pt x="0" y="6852062"/>
                </a:cubicBezTo>
                <a:lnTo>
                  <a:pt x="0" y="6852062"/>
                </a:ln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rma livre 23"/>
          <p:cNvSpPr/>
          <p:nvPr/>
        </p:nvSpPr>
        <p:spPr>
          <a:xfrm flipH="1">
            <a:off x="8543160" y="0"/>
            <a:ext cx="428760" cy="6912000"/>
          </a:xfrm>
          <a:custGeom>
            <a:avLst/>
            <a:gdLst/>
            <a:ahLst/>
            <a:rect l="l" t="t" r="r" b="b"/>
            <a:pathLst>
              <a:path w="1405247" h="6911439">
                <a:moveTo>
                  <a:pt x="799605" y="0"/>
                </a:moveTo>
                <a:cubicBezTo>
                  <a:pt x="652153" y="341415"/>
                  <a:pt x="504701" y="682831"/>
                  <a:pt x="538348" y="997527"/>
                </a:cubicBezTo>
                <a:cubicBezTo>
                  <a:pt x="571995" y="1312223"/>
                  <a:pt x="1048987" y="1567542"/>
                  <a:pt x="1001486" y="1888176"/>
                </a:cubicBezTo>
                <a:cubicBezTo>
                  <a:pt x="953985" y="2208810"/>
                  <a:pt x="191984" y="2600696"/>
                  <a:pt x="253340" y="2921330"/>
                </a:cubicBezTo>
                <a:cubicBezTo>
                  <a:pt x="314696" y="3241964"/>
                  <a:pt x="1405247" y="3378530"/>
                  <a:pt x="1369621" y="3811979"/>
                </a:cubicBezTo>
                <a:cubicBezTo>
                  <a:pt x="1333995" y="4245428"/>
                  <a:pt x="79169" y="5005449"/>
                  <a:pt x="39584" y="5522026"/>
                </a:cubicBezTo>
                <a:cubicBezTo>
                  <a:pt x="0" y="6038603"/>
                  <a:pt x="1132114" y="6911439"/>
                  <a:pt x="1132114" y="6911439"/>
                </a:cubicBezTo>
                <a:lnTo>
                  <a:pt x="1132114" y="6911439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24"/>
          <p:cNvSpPr/>
          <p:nvPr/>
        </p:nvSpPr>
        <p:spPr>
          <a:xfrm flipH="1">
            <a:off x="8429760" y="0"/>
            <a:ext cx="428400" cy="6912000"/>
          </a:xfrm>
          <a:custGeom>
            <a:avLst/>
            <a:gdLst/>
            <a:ahLst/>
            <a:rect l="l" t="t" r="r" b="b"/>
            <a:pathLst>
              <a:path w="1405247" h="6911439">
                <a:moveTo>
                  <a:pt x="799605" y="0"/>
                </a:moveTo>
                <a:cubicBezTo>
                  <a:pt x="652153" y="341415"/>
                  <a:pt x="504701" y="682831"/>
                  <a:pt x="538348" y="997527"/>
                </a:cubicBezTo>
                <a:cubicBezTo>
                  <a:pt x="571995" y="1312223"/>
                  <a:pt x="1048987" y="1567542"/>
                  <a:pt x="1001486" y="1888176"/>
                </a:cubicBezTo>
                <a:cubicBezTo>
                  <a:pt x="953985" y="2208810"/>
                  <a:pt x="191984" y="2600696"/>
                  <a:pt x="253340" y="2921330"/>
                </a:cubicBezTo>
                <a:cubicBezTo>
                  <a:pt x="314696" y="3241964"/>
                  <a:pt x="1405247" y="3378530"/>
                  <a:pt x="1369621" y="3811979"/>
                </a:cubicBezTo>
                <a:cubicBezTo>
                  <a:pt x="1333995" y="4245428"/>
                  <a:pt x="79169" y="5005449"/>
                  <a:pt x="39584" y="5522026"/>
                </a:cubicBezTo>
                <a:cubicBezTo>
                  <a:pt x="0" y="6038603"/>
                  <a:pt x="1132114" y="6911439"/>
                  <a:pt x="1132114" y="6911439"/>
                </a:cubicBezTo>
                <a:lnTo>
                  <a:pt x="1132114" y="6911439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CaixaDeTexto 1"/>
          <p:cNvSpPr/>
          <p:nvPr/>
        </p:nvSpPr>
        <p:spPr>
          <a:xfrm>
            <a:off x="642960" y="428760"/>
            <a:ext cx="8286840" cy="61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Objetivos do Protocolo de Gestão Integ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2. Favorecer  a identificação das situações de vulnerabilidade ou risco social (causas de descumprimento de condicionalidades - violência, trabalho infantil, etc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Instrumentaliza os órgãos gestores da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política de assistência social,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CRAS/CREAS e/ou equipes da PSB e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PSE para o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planejamento de suas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ações, de forma a enfrentar  de forma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mais efetiva,  bem como prevenir a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ocorrência de situações de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vulnerabilidade ou risc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Garamond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030"/>
          <p:cNvSpPr/>
          <p:nvPr/>
        </p:nvSpPr>
        <p:spPr>
          <a:xfrm rot="175800">
            <a:off x="3805200" y="2727360"/>
            <a:ext cx="533520" cy="772920"/>
          </a:xfrm>
          <a:custGeom>
            <a:avLst/>
            <a:gdLst>
              <a:gd name="textAreaLeft" fmla="*/ 0 w 533520"/>
              <a:gd name="textAreaRight" fmla="*/ 533880 w 53352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aixaDeTexto 1"/>
          <p:cNvSpPr/>
          <p:nvPr/>
        </p:nvSpPr>
        <p:spPr>
          <a:xfrm>
            <a:off x="642960" y="357120"/>
            <a:ext cx="807228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 </a:t>
            </a: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Objetivos do Protocolo de Gestão Integ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3. Contribuir na superação de situações de vulnerabilidade e risco identificadas, por meio de oferta de acompanhamento familiar e encaminhamentos para a rede socioassistencial e das demais políticas públicas e quando necessário, para órgãos do Sistema de Garantia de Direitos 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Incentiva a oferta e a consolidação de serviços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socioassistenciais nos territórios, bem como facilita o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acesso a outras políticas  setoriais e ao SG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Ferramenta de indução da universalização do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SUAS nos territórios e de democratização do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acesso à outros direitos de cidad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030"/>
          <p:cNvSpPr/>
          <p:nvPr/>
        </p:nvSpPr>
        <p:spPr>
          <a:xfrm rot="175800">
            <a:off x="2090880" y="2870280"/>
            <a:ext cx="533160" cy="772920"/>
          </a:xfrm>
          <a:custGeom>
            <a:avLst/>
            <a:gdLst>
              <a:gd name="textAreaLeft" fmla="*/ 0 w 533160"/>
              <a:gd name="textAreaRight" fmla="*/ 533520 w 53316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030"/>
          <p:cNvSpPr/>
          <p:nvPr/>
        </p:nvSpPr>
        <p:spPr>
          <a:xfrm rot="175800">
            <a:off x="3090960" y="4584600"/>
            <a:ext cx="533160" cy="773280"/>
          </a:xfrm>
          <a:custGeom>
            <a:avLst/>
            <a:gdLst>
              <a:gd name="textAreaLeft" fmla="*/ 0 w 533160"/>
              <a:gd name="textAreaRight" fmla="*/ 533520 w 53316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aixaDeTexto 1"/>
          <p:cNvSpPr/>
          <p:nvPr/>
        </p:nvSpPr>
        <p:spPr>
          <a:xfrm>
            <a:off x="571680" y="214200"/>
            <a:ext cx="835812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Público –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Famílias beneficiárias de transferência de renda e famílias com beneficiários do B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Serão priorizados no acompanhamento famil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I – as famílias que vivenciam situações de risco soci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II - as famílias do PBF que estão em descumprimento de condicionalidades, na repercussão: “suspensão do benefício por dois meses”, a fim de garantir a segurança de renda das famílias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III – demais famílias do PBF em situação de descumprimento de condiciona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IV - famílias com beneficiários do BPC que se encontrem em situação de maior vulnerabi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aixaDeTexto 1"/>
          <p:cNvSpPr/>
          <p:nvPr/>
        </p:nvSpPr>
        <p:spPr>
          <a:xfrm>
            <a:off x="642960" y="252360"/>
            <a:ext cx="835812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O Protocolo de Gestão  favore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A produção e repasse sistemático de informações para Estados, DF e Municípios, como condição para a Gestão Integ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tratamento das informações pelos estados e municípios e repasse para CRAS e 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O estabelecimento de atribuições e fluxos entre a Proteção Social Básica e Proteção Social Espe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encaminhamentos para políticas setoriais e S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elaboração de uma estratégia de acompanhamento familiar para situações de maior risco social em municípios sem a presença de CRAS e ou 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</a:rPr>
              <a:t>O processo de monitoramento da Gestão Integ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030"/>
          <p:cNvSpPr/>
          <p:nvPr/>
        </p:nvSpPr>
        <p:spPr>
          <a:xfrm rot="585000">
            <a:off x="2249640" y="3681000"/>
            <a:ext cx="357120" cy="452520"/>
          </a:xfrm>
          <a:custGeom>
            <a:avLst/>
            <a:gdLst>
              <a:gd name="textAreaLeft" fmla="*/ 0 w 357120"/>
              <a:gd name="textAreaRight" fmla="*/ 357120 w 35712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030"/>
          <p:cNvSpPr/>
          <p:nvPr/>
        </p:nvSpPr>
        <p:spPr>
          <a:xfrm rot="585000">
            <a:off x="1450800" y="3706560"/>
            <a:ext cx="346320" cy="1130040"/>
          </a:xfrm>
          <a:custGeom>
            <a:avLst/>
            <a:gdLst>
              <a:gd name="textAreaLeft" fmla="*/ 0 w 346320"/>
              <a:gd name="textAreaRight" fmla="*/ 346680 w 34632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30"/>
          <p:cNvSpPr/>
          <p:nvPr/>
        </p:nvSpPr>
        <p:spPr>
          <a:xfrm rot="585000">
            <a:off x="1385640" y="1736640"/>
            <a:ext cx="299880" cy="371520"/>
          </a:xfrm>
          <a:custGeom>
            <a:avLst/>
            <a:gdLst>
              <a:gd name="textAreaLeft" fmla="*/ 0 w 299880"/>
              <a:gd name="textAreaRight" fmla="*/ 300240 w 299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aixaDeTexto 1"/>
          <p:cNvSpPr/>
          <p:nvPr/>
        </p:nvSpPr>
        <p:spPr>
          <a:xfrm>
            <a:off x="357120" y="6192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Produção e repasse sistemático de informações para Estados, DF e Municípios, como condição para a Gestão Integ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ixaDeTexto 2"/>
          <p:cNvSpPr/>
          <p:nvPr/>
        </p:nvSpPr>
        <p:spPr>
          <a:xfrm>
            <a:off x="3357720" y="1928880"/>
            <a:ext cx="128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7375e"/>
                </a:solidFill>
                <a:latin typeface="Calibri"/>
              </a:rPr>
              <a:t>M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ixaDeTexto 3"/>
          <p:cNvSpPr/>
          <p:nvPr/>
        </p:nvSpPr>
        <p:spPr>
          <a:xfrm>
            <a:off x="4500720" y="1428840"/>
            <a:ext cx="40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7375e"/>
                </a:solidFill>
                <a:latin typeface="Calibri"/>
              </a:rPr>
              <a:t>Repasse das informaçõ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Cadastro Ú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Sistema de Condicio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Cadastro B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4"/>
          <p:cNvSpPr/>
          <p:nvPr/>
        </p:nvSpPr>
        <p:spPr>
          <a:xfrm>
            <a:off x="1500120" y="328608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Es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5"/>
          <p:cNvSpPr/>
          <p:nvPr/>
        </p:nvSpPr>
        <p:spPr>
          <a:xfrm>
            <a:off x="5786280" y="3214800"/>
            <a:ext cx="207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Municíp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ixaDeTexto 6"/>
          <p:cNvSpPr/>
          <p:nvPr/>
        </p:nvSpPr>
        <p:spPr>
          <a:xfrm>
            <a:off x="642960" y="3895560"/>
            <a:ext cx="3714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Análise de informações para apoio à municípios na territorialização das vulnerabilidades e no processo de acompanhamento familiar, bem como para a definição dos serviços region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7"/>
          <p:cNvSpPr/>
          <p:nvPr/>
        </p:nvSpPr>
        <p:spPr>
          <a:xfrm>
            <a:off x="5857920" y="3605040"/>
            <a:ext cx="2928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Territorializa a informação e elabora estratégias de acompanhamento  familiar no SU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ixaDeTexto 8"/>
          <p:cNvSpPr/>
          <p:nvPr/>
        </p:nvSpPr>
        <p:spPr>
          <a:xfrm>
            <a:off x="5715000" y="5749920"/>
            <a:ext cx="164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CRAS ou Equipe PS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ixaDeTexto 8"/>
          <p:cNvSpPr/>
          <p:nvPr/>
        </p:nvSpPr>
        <p:spPr>
          <a:xfrm>
            <a:off x="7358040" y="5715000"/>
            <a:ext cx="164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CREAS ou Equipe 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ave esquerda 10"/>
          <p:cNvSpPr/>
          <p:nvPr/>
        </p:nvSpPr>
        <p:spPr>
          <a:xfrm rot="5400000">
            <a:off x="4179240" y="464040"/>
            <a:ext cx="357120" cy="485784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4857840"/>
              <a:gd name="textAreaBottom" fmla="*/ 4848840 h 485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ave esquerda 11"/>
          <p:cNvSpPr/>
          <p:nvPr/>
        </p:nvSpPr>
        <p:spPr>
          <a:xfrm rot="5400000">
            <a:off x="7143480" y="4643280"/>
            <a:ext cx="357480" cy="164304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1643040"/>
              <a:gd name="textAreaBottom" fmla="*/ 163404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Conector de seta reta 12"/>
          <p:cNvCxnSpPr/>
          <p:nvPr/>
        </p:nvCxnSpPr>
        <p:spPr>
          <a:xfrm>
            <a:off x="3000240" y="3499920"/>
            <a:ext cx="2501280" cy="252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CaixaDeTexto 2"/>
          <p:cNvSpPr/>
          <p:nvPr/>
        </p:nvSpPr>
        <p:spPr>
          <a:xfrm>
            <a:off x="1071720" y="4357800"/>
            <a:ext cx="2857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Famílias Beneficiárias do Bolsa Família e Famílias com Beneficiários do BP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4"/>
          <p:cNvSpPr/>
          <p:nvPr/>
        </p:nvSpPr>
        <p:spPr>
          <a:xfrm>
            <a:off x="857160" y="2036880"/>
            <a:ext cx="221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CRAS/Equipe Técnica da PS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6"/>
          <p:cNvSpPr/>
          <p:nvPr/>
        </p:nvSpPr>
        <p:spPr>
          <a:xfrm>
            <a:off x="6572160" y="1928880"/>
            <a:ext cx="2143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CREAS/ Equipe Técnica da P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8"/>
          <p:cNvSpPr/>
          <p:nvPr/>
        </p:nvSpPr>
        <p:spPr>
          <a:xfrm>
            <a:off x="5786280" y="4429080"/>
            <a:ext cx="2857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Famílias Beneficiárias do Bolsa Família e Famílias com Beneficiários do BP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9"/>
          <p:cNvSpPr/>
          <p:nvPr/>
        </p:nvSpPr>
        <p:spPr>
          <a:xfrm>
            <a:off x="4286160" y="3071880"/>
            <a:ext cx="9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BP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10"/>
          <p:cNvSpPr/>
          <p:nvPr/>
        </p:nvSpPr>
        <p:spPr>
          <a:xfrm>
            <a:off x="3857760" y="2743200"/>
            <a:ext cx="1785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e46c0a"/>
                </a:solidFill>
                <a:latin typeface="Calibri"/>
              </a:rPr>
              <a:t>Bolsa Famíl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Conector de seta reta 13"/>
          <p:cNvCxnSpPr/>
          <p:nvPr/>
        </p:nvCxnSpPr>
        <p:spPr>
          <a:xfrm flipV="1">
            <a:off x="5928120" y="2428200"/>
            <a:ext cx="500760" cy="572040"/>
          </a:xfrm>
          <a:prstGeom prst="straightConnector1">
            <a:avLst/>
          </a:prstGeom>
          <a:ln w="9360">
            <a:solidFill>
              <a:srgbClr val="c0504d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Fluxograma: Entrada manual 20"/>
          <p:cNvSpPr/>
          <p:nvPr/>
        </p:nvSpPr>
        <p:spPr>
          <a:xfrm>
            <a:off x="1071720" y="1714680"/>
            <a:ext cx="1785960" cy="1071360"/>
          </a:xfrm>
          <a:prstGeom prst="flowChartManualInput">
            <a:avLst/>
          </a:prstGeom>
          <a:noFill/>
          <a:ln w="2844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uxograma: Entrada manual 23"/>
          <p:cNvSpPr/>
          <p:nvPr/>
        </p:nvSpPr>
        <p:spPr>
          <a:xfrm>
            <a:off x="6572160" y="1643040"/>
            <a:ext cx="2000520" cy="1071720"/>
          </a:xfrm>
          <a:prstGeom prst="flowChartManualInput">
            <a:avLst/>
          </a:prstGeom>
          <a:noFill/>
          <a:ln w="28440">
            <a:solidFill>
              <a:srgbClr val="c05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45"/>
          <p:cNvSpPr/>
          <p:nvPr/>
        </p:nvSpPr>
        <p:spPr>
          <a:xfrm>
            <a:off x="428760" y="214200"/>
            <a:ext cx="878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Definição de atribuições e fluxo entre a Proteção Social Básica e Proteção Social Esp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ixaDeTexto 46"/>
          <p:cNvSpPr/>
          <p:nvPr/>
        </p:nvSpPr>
        <p:spPr>
          <a:xfrm>
            <a:off x="3571920" y="6458040"/>
            <a:ext cx="2500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ff"/>
                </a:solidFill>
                <a:latin typeface="Calibri"/>
              </a:rPr>
              <a:t>MUNICÍPIOS E D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ipse 27"/>
          <p:cNvSpPr/>
          <p:nvPr/>
        </p:nvSpPr>
        <p:spPr>
          <a:xfrm>
            <a:off x="571680" y="4071960"/>
            <a:ext cx="3714480" cy="2143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28"/>
          <p:cNvSpPr/>
          <p:nvPr/>
        </p:nvSpPr>
        <p:spPr>
          <a:xfrm>
            <a:off x="1143000" y="5357880"/>
            <a:ext cx="2571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76092"/>
                </a:solidFill>
                <a:latin typeface="Calibri"/>
              </a:rPr>
              <a:t>Vulnerabilidades e potencialidades soci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ipse 29"/>
          <p:cNvSpPr/>
          <p:nvPr/>
        </p:nvSpPr>
        <p:spPr>
          <a:xfrm>
            <a:off x="5357880" y="4071960"/>
            <a:ext cx="3571920" cy="2071800"/>
          </a:xfrm>
          <a:prstGeom prst="ellipse">
            <a:avLst/>
          </a:prstGeom>
          <a:noFill/>
          <a:ln w="25560">
            <a:solidFill>
              <a:srgbClr val="c152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5"/>
          <p:cNvSpPr/>
          <p:nvPr/>
        </p:nvSpPr>
        <p:spPr>
          <a:xfrm>
            <a:off x="5857920" y="5500800"/>
            <a:ext cx="257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c1524f"/>
                </a:solidFill>
                <a:latin typeface="Calibri"/>
              </a:rPr>
              <a:t>Riscos soci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ixaDeTexto 9"/>
          <p:cNvSpPr/>
          <p:nvPr/>
        </p:nvSpPr>
        <p:spPr>
          <a:xfrm>
            <a:off x="4000680" y="3357720"/>
            <a:ext cx="128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77933c"/>
                </a:solidFill>
                <a:latin typeface="Calibri"/>
              </a:rPr>
              <a:t>Benefícios Eventu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Conector de seta reta 26"/>
          <p:cNvCxnSpPr/>
          <p:nvPr/>
        </p:nvCxnSpPr>
        <p:spPr>
          <a:xfrm flipV="1">
            <a:off x="2642040" y="2928600"/>
            <a:ext cx="2520" cy="1000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62" name="Conector de seta reta 32"/>
          <p:cNvCxnSpPr/>
          <p:nvPr/>
        </p:nvCxnSpPr>
        <p:spPr>
          <a:xfrm flipV="1">
            <a:off x="6786720" y="2857320"/>
            <a:ext cx="2160" cy="1072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63" name="Conector de seta reta 37"/>
          <p:cNvCxnSpPr/>
          <p:nvPr/>
        </p:nvCxnSpPr>
        <p:spPr>
          <a:xfrm flipH="1" flipV="1">
            <a:off x="3071520" y="1999440"/>
            <a:ext cx="3215520" cy="25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64" name="Conector de seta reta 41"/>
          <p:cNvCxnSpPr/>
          <p:nvPr/>
        </p:nvCxnSpPr>
        <p:spPr>
          <a:xfrm>
            <a:off x="3071880" y="2214720"/>
            <a:ext cx="3215520" cy="2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65" name="Losango 46"/>
          <p:cNvSpPr/>
          <p:nvPr/>
        </p:nvSpPr>
        <p:spPr>
          <a:xfrm>
            <a:off x="3143160" y="2357280"/>
            <a:ext cx="2928960" cy="1928880"/>
          </a:xfrm>
          <a:prstGeom prst="diamond">
            <a:avLst/>
          </a:prstGeom>
          <a:noFill/>
          <a:ln w="25560">
            <a:solidFill>
              <a:srgbClr val="948a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Conector de seta reta 48"/>
          <p:cNvCxnSpPr/>
          <p:nvPr/>
        </p:nvCxnSpPr>
        <p:spPr>
          <a:xfrm flipH="1" flipV="1">
            <a:off x="2928240" y="2499480"/>
            <a:ext cx="572040" cy="429480"/>
          </a:xfrm>
          <a:prstGeom prst="straightConnector1">
            <a:avLst/>
          </a:prstGeom>
          <a:ln w="9360">
            <a:solidFill>
              <a:srgbClr val="c0504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ixaDeTexto 3"/>
          <p:cNvSpPr/>
          <p:nvPr/>
        </p:nvSpPr>
        <p:spPr>
          <a:xfrm>
            <a:off x="642960" y="142920"/>
            <a:ext cx="821520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Elaboração de uma estratégia de acompanhamento familiar para situações de maior risco social em municípios sem a presença de CRAS e ou 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Onde há CRAS e CREAS: “o acompanhamento das famílias será realizado por meio dos serviços ofertados pelo (CRAS) e pelo CREAS (local ou regional), nos territórios que possuem estas unidade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Onde não há essas unidades: “o acompanhamento das famílias residentes em territórios sem cobertura de CRAS e CREAS, até sua implementação, será realizado por meio da definição de equipes técnicas de referência da PSB e da PSE, que elaborarão estratégias condizentes com as previstas nesta Resolução para a implementação da Gestão Integrada, sob a coordenação do órgão gestor da política de assistência social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aixaDeTexto 1"/>
          <p:cNvSpPr/>
          <p:nvPr/>
        </p:nvSpPr>
        <p:spPr>
          <a:xfrm>
            <a:off x="428760" y="35712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Definição de um processo de monitoramento da Gestão Integ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2"/>
          <p:cNvSpPr/>
          <p:nvPr/>
        </p:nvSpPr>
        <p:spPr>
          <a:xfrm>
            <a:off x="3929040" y="1071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ixaDeTexto 3"/>
          <p:cNvSpPr/>
          <p:nvPr/>
        </p:nvSpPr>
        <p:spPr>
          <a:xfrm>
            <a:off x="928800" y="3714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3735"/>
                </a:solidFill>
                <a:latin typeface="Calibri"/>
              </a:rPr>
              <a:t>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ixaDeTexto 4"/>
          <p:cNvSpPr/>
          <p:nvPr/>
        </p:nvSpPr>
        <p:spPr>
          <a:xfrm>
            <a:off x="6286680" y="371484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3735"/>
                </a:solidFill>
                <a:latin typeface="Calibri"/>
              </a:rPr>
              <a:t>Municí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ixaDeTexto 5"/>
          <p:cNvSpPr/>
          <p:nvPr/>
        </p:nvSpPr>
        <p:spPr>
          <a:xfrm>
            <a:off x="3286080" y="493560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3735"/>
                </a:solidFill>
                <a:latin typeface="Calibri"/>
              </a:rPr>
              <a:t>CRAS/CREAS ou equipes PSB/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6"/>
          <p:cNvSpPr/>
          <p:nvPr/>
        </p:nvSpPr>
        <p:spPr>
          <a:xfrm>
            <a:off x="3071880" y="150012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dução de indicadores e aperfeiçoamento do fluxo de informação e da gestão inte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Conector de seta reta 7"/>
          <p:cNvCxnSpPr/>
          <p:nvPr/>
        </p:nvCxnSpPr>
        <p:spPr>
          <a:xfrm flipV="1">
            <a:off x="4642920" y="4000320"/>
            <a:ext cx="1644120" cy="71496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75" name="Conector de seta reta 8"/>
          <p:cNvCxnSpPr/>
          <p:nvPr/>
        </p:nvCxnSpPr>
        <p:spPr>
          <a:xfrm flipH="1" flipV="1">
            <a:off x="6286320" y="2714400"/>
            <a:ext cx="786240" cy="78624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76" name="Conector de seta reta 9"/>
          <p:cNvCxnSpPr/>
          <p:nvPr/>
        </p:nvCxnSpPr>
        <p:spPr>
          <a:xfrm flipH="1">
            <a:off x="4498200" y="3000240"/>
            <a:ext cx="2520" cy="15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Conector de seta reta 10"/>
          <p:cNvCxnSpPr/>
          <p:nvPr/>
        </p:nvCxnSpPr>
        <p:spPr>
          <a:xfrm flipH="1">
            <a:off x="1642680" y="2357280"/>
            <a:ext cx="128664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Conector de seta reta 11"/>
          <p:cNvCxnSpPr/>
          <p:nvPr/>
        </p:nvCxnSpPr>
        <p:spPr>
          <a:xfrm>
            <a:off x="6500880" y="2571840"/>
            <a:ext cx="7149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Conector de seta reta 12"/>
          <p:cNvCxnSpPr/>
          <p:nvPr/>
        </p:nvCxnSpPr>
        <p:spPr>
          <a:xfrm flipH="1" flipV="1">
            <a:off x="2571120" y="3855240"/>
            <a:ext cx="3786840" cy="2520"/>
          </a:xfrm>
          <a:prstGeom prst="straightConnector1">
            <a:avLst/>
          </a:prstGeom>
          <a:ln w="9360">
            <a:solidFill>
              <a:srgbClr val="953735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0" name="Conector de seta reta 13"/>
          <p:cNvCxnSpPr/>
          <p:nvPr/>
        </p:nvCxnSpPr>
        <p:spPr>
          <a:xfrm flipV="1">
            <a:off x="1927800" y="2571120"/>
            <a:ext cx="1143720" cy="114372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81" name="Conector de seta reta 14"/>
          <p:cNvCxnSpPr/>
          <p:nvPr/>
        </p:nvCxnSpPr>
        <p:spPr>
          <a:xfrm flipH="1" flipV="1">
            <a:off x="2571480" y="4000320"/>
            <a:ext cx="1715040" cy="714960"/>
          </a:xfrm>
          <a:prstGeom prst="straightConnector1">
            <a:avLst/>
          </a:prstGeom>
          <a:ln w="9360">
            <a:solidFill>
              <a:srgbClr val="95373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aixaDeTexto 1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7375e"/>
                </a:solidFill>
                <a:latin typeface="Bradley Hand ITC"/>
              </a:rPr>
              <a:t>Organização do Protoc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aixaDeTexto 4"/>
          <p:cNvSpPr/>
          <p:nvPr/>
        </p:nvSpPr>
        <p:spPr>
          <a:xfrm>
            <a:off x="785880" y="928800"/>
            <a:ext cx="83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Responsabilidades dos Entes Federados e dos Conselhos de Assistência Social na Implementação da Gestão Integrada de Serviços, Benefícios e Transferências de R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ixaDeTexto 6"/>
          <p:cNvSpPr/>
          <p:nvPr/>
        </p:nvSpPr>
        <p:spPr>
          <a:xfrm>
            <a:off x="714240" y="264312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Processo de Operacionaliz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7"/>
          <p:cNvSpPr/>
          <p:nvPr/>
        </p:nvSpPr>
        <p:spPr>
          <a:xfrm>
            <a:off x="785880" y="3857760"/>
            <a:ext cx="2571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Procedimentos Referentes ao Acompanhamento das Famíl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ixaDeTexto 8"/>
          <p:cNvSpPr/>
          <p:nvPr/>
        </p:nvSpPr>
        <p:spPr>
          <a:xfrm>
            <a:off x="642960" y="557208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Monitoramento da Gestão Integra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ixaDeTexto 10"/>
          <p:cNvSpPr/>
          <p:nvPr/>
        </p:nvSpPr>
        <p:spPr>
          <a:xfrm>
            <a:off x="6143760" y="2462040"/>
            <a:ext cx="264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Programa Bolsa Família e Programa de Erradicação do Trabalho Infa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ixaDeTexto 11"/>
          <p:cNvSpPr/>
          <p:nvPr/>
        </p:nvSpPr>
        <p:spPr>
          <a:xfrm>
            <a:off x="6000840" y="5000760"/>
            <a:ext cx="278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Benefício de Prestação Continuada da Assistência Social e Benefícios Event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ipse 8"/>
          <p:cNvSpPr/>
          <p:nvPr/>
        </p:nvSpPr>
        <p:spPr>
          <a:xfrm>
            <a:off x="5929200" y="2143080"/>
            <a:ext cx="3000600" cy="1857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lipse 9"/>
          <p:cNvSpPr/>
          <p:nvPr/>
        </p:nvSpPr>
        <p:spPr>
          <a:xfrm>
            <a:off x="5857920" y="4714920"/>
            <a:ext cx="3000240" cy="1857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Conector de seta reta 10"/>
          <p:cNvCxnSpPr/>
          <p:nvPr/>
        </p:nvCxnSpPr>
        <p:spPr>
          <a:xfrm flipV="1">
            <a:off x="3214800" y="2785320"/>
            <a:ext cx="264384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Conector de seta reta 11"/>
          <p:cNvCxnSpPr/>
          <p:nvPr/>
        </p:nvCxnSpPr>
        <p:spPr>
          <a:xfrm>
            <a:off x="3214440" y="2857680"/>
            <a:ext cx="2858040" cy="207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Conector de seta reta 12"/>
          <p:cNvCxnSpPr/>
          <p:nvPr/>
        </p:nvCxnSpPr>
        <p:spPr>
          <a:xfrm flipV="1">
            <a:off x="3214800" y="3714120"/>
            <a:ext cx="27151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4" name="Conector de seta reta 13"/>
          <p:cNvCxnSpPr/>
          <p:nvPr/>
        </p:nvCxnSpPr>
        <p:spPr>
          <a:xfrm>
            <a:off x="3214440" y="4500720"/>
            <a:ext cx="25722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5" name="Conector de seta reta 14"/>
          <p:cNvCxnSpPr/>
          <p:nvPr/>
        </p:nvCxnSpPr>
        <p:spPr>
          <a:xfrm flipV="1">
            <a:off x="3286080" y="4071240"/>
            <a:ext cx="3215520" cy="178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6" name="Conector de seta reta 15"/>
          <p:cNvCxnSpPr/>
          <p:nvPr/>
        </p:nvCxnSpPr>
        <p:spPr>
          <a:xfrm>
            <a:off x="3285720" y="5857920"/>
            <a:ext cx="2429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ráfico 1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807228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CaixaDeTexto 2"/>
          <p:cNvSpPr/>
          <p:nvPr/>
        </p:nvSpPr>
        <p:spPr>
          <a:xfrm>
            <a:off x="6000840" y="3214800"/>
            <a:ext cx="128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Garamond"/>
              </a:rPr>
              <a:t>Programa Bolsa Famíli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ixaDeTexto 4"/>
          <p:cNvSpPr/>
          <p:nvPr/>
        </p:nvSpPr>
        <p:spPr>
          <a:xfrm>
            <a:off x="1928880" y="3143160"/>
            <a:ext cx="135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Garamond"/>
              </a:rPr>
              <a:t>Benefício de Prestação Continuada -BP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ixaDeTexto 3"/>
          <p:cNvSpPr/>
          <p:nvPr/>
        </p:nvSpPr>
        <p:spPr>
          <a:xfrm>
            <a:off x="3643200" y="3786120"/>
            <a:ext cx="18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Garamond"/>
              </a:rPr>
              <a:t>Atenção Integral à Família - PA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ixaDeTexto 1"/>
          <p:cNvSpPr/>
          <p:nvPr/>
        </p:nvSpPr>
        <p:spPr>
          <a:xfrm>
            <a:off x="4714920" y="1143000"/>
            <a:ext cx="164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Garamond"/>
              </a:rPr>
              <a:t>Programa de Erradicação do Trabalho Infantil - PE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ixaDeTexto 5"/>
          <p:cNvSpPr/>
          <p:nvPr/>
        </p:nvSpPr>
        <p:spPr>
          <a:xfrm>
            <a:off x="3143160" y="1428840"/>
            <a:ext cx="128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17375e"/>
                </a:solidFill>
                <a:latin typeface="Garamond"/>
              </a:rPr>
              <a:t>Projovem Adolesc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aixaDeTexto 6"/>
          <p:cNvSpPr/>
          <p:nvPr/>
        </p:nvSpPr>
        <p:spPr>
          <a:xfrm>
            <a:off x="6143760" y="2143080"/>
            <a:ext cx="207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Garamond"/>
              </a:rPr>
              <a:t>Atendimento Especializado às Famílias em Situação de Violência - PAEFI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aixaDeTexto 103"/>
          <p:cNvSpPr/>
          <p:nvPr/>
        </p:nvSpPr>
        <p:spPr>
          <a:xfrm>
            <a:off x="1500120" y="2286000"/>
            <a:ext cx="1714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17375e"/>
                </a:solidFill>
                <a:latin typeface="Garamond"/>
              </a:rPr>
              <a:t>Benefício Event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3071880" y="2000160"/>
            <a:ext cx="642600" cy="853200"/>
            <a:chOff x="3071880" y="2000160"/>
            <a:chExt cx="642600" cy="853200"/>
          </a:xfrm>
        </p:grpSpPr>
        <p:grpSp>
          <p:nvGrpSpPr>
            <p:cNvPr id="206" name="Group 3"/>
            <p:cNvGrpSpPr/>
            <p:nvPr/>
          </p:nvGrpSpPr>
          <p:grpSpPr>
            <a:xfrm>
              <a:off x="3459960" y="2000160"/>
              <a:ext cx="254520" cy="839520"/>
              <a:chOff x="3459960" y="2000160"/>
              <a:chExt cx="254520" cy="839520"/>
            </a:xfrm>
          </p:grpSpPr>
          <p:sp>
            <p:nvSpPr>
              <p:cNvPr id="207" name="Rectangle 4"/>
              <p:cNvSpPr/>
              <p:nvPr/>
            </p:nvSpPr>
            <p:spPr>
              <a:xfrm>
                <a:off x="3465000" y="2213640"/>
                <a:ext cx="249480" cy="538200"/>
              </a:xfrm>
              <a:prstGeom prst="rect">
                <a:avLst/>
              </a:prstGeom>
              <a:solidFill>
                <a:srgbClr val="c2d69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5"/>
              <p:cNvSpPr/>
              <p:nvPr/>
            </p:nvSpPr>
            <p:spPr>
              <a:xfrm>
                <a:off x="3465000" y="2421720"/>
                <a:ext cx="24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6"/>
              <p:cNvSpPr/>
              <p:nvPr/>
            </p:nvSpPr>
            <p:spPr>
              <a:xfrm flipV="1">
                <a:off x="3587400" y="2421000"/>
                <a:ext cx="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7"/>
              <p:cNvSpPr/>
              <p:nvPr/>
            </p:nvSpPr>
            <p:spPr>
              <a:xfrm rot="20313000">
                <a:off x="3616920" y="2746800"/>
                <a:ext cx="83160" cy="80640"/>
              </a:xfrm>
              <a:prstGeom prst="ellipse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8"/>
              <p:cNvSpPr/>
              <p:nvPr/>
            </p:nvSpPr>
            <p:spPr>
              <a:xfrm rot="20313000">
                <a:off x="3471480" y="2746800"/>
                <a:ext cx="83160" cy="80640"/>
              </a:xfrm>
              <a:prstGeom prst="ellipse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9"/>
              <p:cNvSpPr/>
              <p:nvPr/>
            </p:nvSpPr>
            <p:spPr>
              <a:xfrm>
                <a:off x="3488040" y="2000160"/>
                <a:ext cx="208080" cy="203400"/>
              </a:xfrm>
              <a:prstGeom prst="ellipse">
                <a:avLst/>
              </a:prstGeom>
              <a:solidFill>
                <a:srgbClr val="b054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10"/>
            <p:cNvGrpSpPr/>
            <p:nvPr/>
          </p:nvGrpSpPr>
          <p:grpSpPr>
            <a:xfrm>
              <a:off x="3071880" y="2040120"/>
              <a:ext cx="333000" cy="813240"/>
              <a:chOff x="3071880" y="2040120"/>
              <a:chExt cx="333000" cy="813240"/>
            </a:xfrm>
          </p:grpSpPr>
          <p:sp>
            <p:nvSpPr>
              <p:cNvPr id="214" name="AutoShape 11"/>
              <p:cNvSpPr/>
              <p:nvPr/>
            </p:nvSpPr>
            <p:spPr>
              <a:xfrm>
                <a:off x="3071880" y="2251800"/>
                <a:ext cx="333000" cy="3686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12"/>
              <p:cNvSpPr/>
              <p:nvPr/>
            </p:nvSpPr>
            <p:spPr>
              <a:xfrm>
                <a:off x="3136680" y="2040120"/>
                <a:ext cx="208080" cy="203400"/>
              </a:xfrm>
              <a:prstGeom prst="ellipse">
                <a:avLst/>
              </a:prstGeom>
              <a:solidFill>
                <a:srgbClr val="593b1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3"/>
              <p:cNvSpPr/>
              <p:nvPr/>
            </p:nvSpPr>
            <p:spPr>
              <a:xfrm>
                <a:off x="3281040" y="2618280"/>
                <a:ext cx="0" cy="162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4"/>
              <p:cNvSpPr/>
              <p:nvPr/>
            </p:nvSpPr>
            <p:spPr>
              <a:xfrm>
                <a:off x="3192120" y="2618280"/>
                <a:ext cx="0" cy="162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15"/>
              <p:cNvSpPr/>
              <p:nvPr/>
            </p:nvSpPr>
            <p:spPr>
              <a:xfrm rot="20313000">
                <a:off x="3251880" y="2759400"/>
                <a:ext cx="83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6"/>
              <p:cNvSpPr/>
              <p:nvPr/>
            </p:nvSpPr>
            <p:spPr>
              <a:xfrm rot="20313000">
                <a:off x="3133800" y="2760480"/>
                <a:ext cx="83160" cy="80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7"/>
            <p:cNvGrpSpPr/>
            <p:nvPr/>
          </p:nvGrpSpPr>
          <p:grpSpPr>
            <a:xfrm>
              <a:off x="3092400" y="2283480"/>
              <a:ext cx="125280" cy="249120"/>
              <a:chOff x="3092400" y="2283480"/>
              <a:chExt cx="125280" cy="249120"/>
            </a:xfrm>
          </p:grpSpPr>
          <p:sp>
            <p:nvSpPr>
              <p:cNvPr id="221" name="AutoShape 18"/>
              <p:cNvSpPr/>
              <p:nvPr/>
            </p:nvSpPr>
            <p:spPr>
              <a:xfrm>
                <a:off x="3092400" y="2347920"/>
                <a:ext cx="125280" cy="112320"/>
              </a:xfrm>
              <a:prstGeom prst="triangle">
                <a:avLst>
                  <a:gd name="adj" fmla="val 50000"/>
                </a:avLst>
              </a:prstGeom>
              <a:solidFill>
                <a:srgbClr val="e5b8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9"/>
              <p:cNvSpPr/>
              <p:nvPr/>
            </p:nvSpPr>
            <p:spPr>
              <a:xfrm>
                <a:off x="3116520" y="2283480"/>
                <a:ext cx="78480" cy="6192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20"/>
              <p:cNvSpPr/>
              <p:nvPr/>
            </p:nvSpPr>
            <p:spPr>
              <a:xfrm>
                <a:off x="3171240" y="2459880"/>
                <a:ext cx="0" cy="4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1"/>
              <p:cNvSpPr/>
              <p:nvPr/>
            </p:nvSpPr>
            <p:spPr>
              <a:xfrm>
                <a:off x="3137760" y="2459880"/>
                <a:ext cx="0" cy="4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2"/>
              <p:cNvSpPr/>
              <p:nvPr/>
            </p:nvSpPr>
            <p:spPr>
              <a:xfrm rot="20313000">
                <a:off x="3160080" y="2502720"/>
                <a:ext cx="31320" cy="2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3"/>
              <p:cNvSpPr/>
              <p:nvPr/>
            </p:nvSpPr>
            <p:spPr>
              <a:xfrm rot="20313000">
                <a:off x="3115800" y="2503080"/>
                <a:ext cx="31320" cy="2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4"/>
            <p:cNvGrpSpPr/>
            <p:nvPr/>
          </p:nvGrpSpPr>
          <p:grpSpPr>
            <a:xfrm>
              <a:off x="3306600" y="2335320"/>
              <a:ext cx="168840" cy="498600"/>
              <a:chOff x="3306600" y="2335320"/>
              <a:chExt cx="168840" cy="498600"/>
            </a:xfrm>
          </p:grpSpPr>
          <p:sp>
            <p:nvSpPr>
              <p:cNvPr id="228" name="Oval 25"/>
              <p:cNvSpPr/>
              <p:nvPr/>
            </p:nvSpPr>
            <p:spPr>
              <a:xfrm rot="20313000">
                <a:off x="3410280" y="2777400"/>
                <a:ext cx="5544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6"/>
              <p:cNvSpPr/>
              <p:nvPr/>
            </p:nvSpPr>
            <p:spPr>
              <a:xfrm rot="20313000">
                <a:off x="3313080" y="2777400"/>
                <a:ext cx="5544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7"/>
              <p:cNvSpPr/>
              <p:nvPr/>
            </p:nvSpPr>
            <p:spPr>
              <a:xfrm>
                <a:off x="3324240" y="2335320"/>
                <a:ext cx="138600" cy="120600"/>
              </a:xfrm>
              <a:prstGeom prst="ellipse">
                <a:avLst/>
              </a:prstGeom>
              <a:solidFill>
                <a:srgbClr val="593b1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28"/>
              <p:cNvSpPr/>
              <p:nvPr/>
            </p:nvSpPr>
            <p:spPr>
              <a:xfrm>
                <a:off x="3309120" y="2461680"/>
                <a:ext cx="166320" cy="318240"/>
              </a:xfrm>
              <a:prstGeom prst="rect">
                <a:avLst/>
              </a:prstGeom>
              <a:solidFill>
                <a:srgbClr val="d8d8d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2" name="AutoShape 29"/>
              <p:cNvCxnSpPr/>
              <p:nvPr/>
            </p:nvCxnSpPr>
            <p:spPr>
              <a:xfrm>
                <a:off x="3324240" y="2630160"/>
                <a:ext cx="136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3" name="AutoShape 30"/>
              <p:cNvCxnSpPr/>
              <p:nvPr/>
            </p:nvCxnSpPr>
            <p:spPr>
              <a:xfrm>
                <a:off x="3384360" y="2630160"/>
                <a:ext cx="1080" cy="147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234" name="CaixaDeTexto 1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7375e"/>
                </a:solidFill>
                <a:latin typeface="Bradley Hand ITC"/>
              </a:rPr>
              <a:t>Antes do Protocol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aixaDeTexto 4"/>
          <p:cNvSpPr/>
          <p:nvPr/>
        </p:nvSpPr>
        <p:spPr>
          <a:xfrm>
            <a:off x="642960" y="179280"/>
            <a:ext cx="821520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Breve 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Na 74ª reunião ordinária da CIT (11/03/08) foi abordada a necessidade de aprovação do Protocolo de Gestão, dada sua importância para efetivar a integração dos serviços, benefícios e transferência de renda – fundamental para a materialização dos direitos socioassistenciais nos territó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O documento preliminar foi elaborado conjuntamente pela Secretaria Nacional de Assistência Social (SNAS) e Secretaria Nacional de Renda de Cidadania (SENAR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Entregue oficialmente dia 17 de março de 2009 para consultas do Fonseas e do Congemas. Durante os meses de março, abril e maio o documento recebeu contribuições/sugestões. A Secretaria Executiva da CIT finalizou o recebimento das contribuições dia 22 de maio de 20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As sugestões encaminhadas ao MDS foram discutidas em duas reuniões da CIT (87ª e 88ª), sendo que na reunião do mês de setembro (88ª), foi pactuado e publicado em forma de resolução: </a:t>
            </a:r>
            <a:r>
              <a:rPr b="0" lang="pt-BR" sz="2000" spc="-1" strike="noStrike">
                <a:solidFill>
                  <a:srgbClr val="953735"/>
                </a:solidFill>
                <a:latin typeface="Calibri"/>
              </a:rPr>
              <a:t>A Resolução CIT Nº 07, de setembro de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Gráfico 1" descr=""/>
          <p:cNvPicPr/>
          <p:nvPr/>
        </p:nvPicPr>
        <p:blipFill>
          <a:blip r:embed="rId1"/>
          <a:stretch/>
        </p:blipFill>
        <p:spPr>
          <a:xfrm>
            <a:off x="785880" y="857160"/>
            <a:ext cx="7643880" cy="5104080"/>
          </a:xfrm>
          <a:prstGeom prst="rect">
            <a:avLst/>
          </a:prstGeom>
          <a:ln w="0">
            <a:noFill/>
          </a:ln>
        </p:spPr>
      </p:pic>
      <p:sp>
        <p:nvSpPr>
          <p:cNvPr id="236" name="CaixaDeTexto 2"/>
          <p:cNvSpPr/>
          <p:nvPr/>
        </p:nvSpPr>
        <p:spPr>
          <a:xfrm>
            <a:off x="6000840" y="3214800"/>
            <a:ext cx="128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Garamond"/>
              </a:rPr>
              <a:t>Programa Bolsa Famíl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ixaDeTexto 4"/>
          <p:cNvSpPr/>
          <p:nvPr/>
        </p:nvSpPr>
        <p:spPr>
          <a:xfrm>
            <a:off x="2000160" y="3000240"/>
            <a:ext cx="135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7375e"/>
                </a:solidFill>
                <a:latin typeface="Garamond"/>
              </a:rPr>
              <a:t>Benefício de Prestação Continuada -B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ixaDeTexto 3"/>
          <p:cNvSpPr/>
          <p:nvPr/>
        </p:nvSpPr>
        <p:spPr>
          <a:xfrm>
            <a:off x="3643200" y="3786120"/>
            <a:ext cx="18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7375e"/>
                </a:solidFill>
                <a:latin typeface="Garamond"/>
              </a:rPr>
              <a:t>Atenção Integral à Família - PA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1"/>
          <p:cNvSpPr/>
          <p:nvPr/>
        </p:nvSpPr>
        <p:spPr>
          <a:xfrm>
            <a:off x="4643280" y="1357200"/>
            <a:ext cx="164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Garamond"/>
              </a:rPr>
              <a:t>Programa de Erradicação do Trabalho Infantil - P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ixaDeTexto 5"/>
          <p:cNvSpPr/>
          <p:nvPr/>
        </p:nvSpPr>
        <p:spPr>
          <a:xfrm>
            <a:off x="3143160" y="142884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7375e"/>
                </a:solidFill>
                <a:latin typeface="Garamond"/>
              </a:rPr>
              <a:t>Projovem Adolesc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ixaDeTexto 6"/>
          <p:cNvSpPr/>
          <p:nvPr/>
        </p:nvSpPr>
        <p:spPr>
          <a:xfrm>
            <a:off x="5857920" y="1974960"/>
            <a:ext cx="20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Garamond"/>
              </a:rPr>
              <a:t>Atendimento Especializado às Famílias em Situação de Violência - PAEF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aixaDeTexto 103"/>
          <p:cNvSpPr/>
          <p:nvPr/>
        </p:nvSpPr>
        <p:spPr>
          <a:xfrm>
            <a:off x="1500120" y="2286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7375e"/>
                </a:solidFill>
                <a:latin typeface="Garamond"/>
              </a:rPr>
              <a:t>Benefício Even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aixaDeTexto 88"/>
          <p:cNvSpPr/>
          <p:nvPr/>
        </p:nvSpPr>
        <p:spPr>
          <a:xfrm>
            <a:off x="500040" y="557208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3735"/>
                </a:solidFill>
                <a:latin typeface="Calibri"/>
              </a:rPr>
              <a:t>Protocolo de Gestão Integrada:</a:t>
            </a: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 a centralidade não é a transferência de renda, benefício assistencial ou serviço socioassistencial. É a consolidação de uma rede de proteção socioassistencial para as famílias nos territó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"/>
          <p:cNvGrpSpPr/>
          <p:nvPr/>
        </p:nvGrpSpPr>
        <p:grpSpPr>
          <a:xfrm>
            <a:off x="4429080" y="2071800"/>
            <a:ext cx="642600" cy="853200"/>
            <a:chOff x="4429080" y="2071800"/>
            <a:chExt cx="642600" cy="853200"/>
          </a:xfrm>
        </p:grpSpPr>
        <p:grpSp>
          <p:nvGrpSpPr>
            <p:cNvPr id="245" name="Group 3"/>
            <p:cNvGrpSpPr/>
            <p:nvPr/>
          </p:nvGrpSpPr>
          <p:grpSpPr>
            <a:xfrm>
              <a:off x="4817160" y="2071800"/>
              <a:ext cx="254520" cy="839520"/>
              <a:chOff x="4817160" y="2071800"/>
              <a:chExt cx="254520" cy="839520"/>
            </a:xfrm>
          </p:grpSpPr>
          <p:sp>
            <p:nvSpPr>
              <p:cNvPr id="246" name="Rectangle 4"/>
              <p:cNvSpPr/>
              <p:nvPr/>
            </p:nvSpPr>
            <p:spPr>
              <a:xfrm>
                <a:off x="4822200" y="2285280"/>
                <a:ext cx="249480" cy="538200"/>
              </a:xfrm>
              <a:prstGeom prst="rect">
                <a:avLst/>
              </a:prstGeom>
              <a:solidFill>
                <a:srgbClr val="c2d69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5"/>
              <p:cNvSpPr/>
              <p:nvPr/>
            </p:nvSpPr>
            <p:spPr>
              <a:xfrm>
                <a:off x="4822200" y="2493360"/>
                <a:ext cx="24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6"/>
              <p:cNvSpPr/>
              <p:nvPr/>
            </p:nvSpPr>
            <p:spPr>
              <a:xfrm flipV="1">
                <a:off x="4944600" y="2492640"/>
                <a:ext cx="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7"/>
              <p:cNvSpPr/>
              <p:nvPr/>
            </p:nvSpPr>
            <p:spPr>
              <a:xfrm rot="20313000">
                <a:off x="4974120" y="2818440"/>
                <a:ext cx="83160" cy="80640"/>
              </a:xfrm>
              <a:prstGeom prst="ellipse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8"/>
              <p:cNvSpPr/>
              <p:nvPr/>
            </p:nvSpPr>
            <p:spPr>
              <a:xfrm rot="20313000">
                <a:off x="4828680" y="2818440"/>
                <a:ext cx="83160" cy="80640"/>
              </a:xfrm>
              <a:prstGeom prst="ellipse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9"/>
              <p:cNvSpPr/>
              <p:nvPr/>
            </p:nvSpPr>
            <p:spPr>
              <a:xfrm>
                <a:off x="4845240" y="2071800"/>
                <a:ext cx="208080" cy="203400"/>
              </a:xfrm>
              <a:prstGeom prst="ellipse">
                <a:avLst/>
              </a:prstGeom>
              <a:solidFill>
                <a:srgbClr val="b054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"/>
            <p:cNvGrpSpPr/>
            <p:nvPr/>
          </p:nvGrpSpPr>
          <p:grpSpPr>
            <a:xfrm>
              <a:off x="4429080" y="2111760"/>
              <a:ext cx="333000" cy="813240"/>
              <a:chOff x="4429080" y="2111760"/>
              <a:chExt cx="333000" cy="813240"/>
            </a:xfrm>
          </p:grpSpPr>
          <p:sp>
            <p:nvSpPr>
              <p:cNvPr id="253" name="AutoShape 11"/>
              <p:cNvSpPr/>
              <p:nvPr/>
            </p:nvSpPr>
            <p:spPr>
              <a:xfrm>
                <a:off x="4429080" y="2323440"/>
                <a:ext cx="333000" cy="3686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2"/>
              <p:cNvSpPr/>
              <p:nvPr/>
            </p:nvSpPr>
            <p:spPr>
              <a:xfrm>
                <a:off x="4493880" y="2111760"/>
                <a:ext cx="208080" cy="203400"/>
              </a:xfrm>
              <a:prstGeom prst="ellipse">
                <a:avLst/>
              </a:prstGeom>
              <a:solidFill>
                <a:srgbClr val="593b1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3"/>
              <p:cNvSpPr/>
              <p:nvPr/>
            </p:nvSpPr>
            <p:spPr>
              <a:xfrm>
                <a:off x="4638240" y="2689920"/>
                <a:ext cx="0" cy="162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4"/>
              <p:cNvSpPr/>
              <p:nvPr/>
            </p:nvSpPr>
            <p:spPr>
              <a:xfrm>
                <a:off x="4549320" y="2689920"/>
                <a:ext cx="0" cy="162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5"/>
              <p:cNvSpPr/>
              <p:nvPr/>
            </p:nvSpPr>
            <p:spPr>
              <a:xfrm rot="20313000">
                <a:off x="4609080" y="2831040"/>
                <a:ext cx="83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6"/>
              <p:cNvSpPr/>
              <p:nvPr/>
            </p:nvSpPr>
            <p:spPr>
              <a:xfrm rot="20313000">
                <a:off x="4491000" y="2832120"/>
                <a:ext cx="83160" cy="80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7"/>
            <p:cNvGrpSpPr/>
            <p:nvPr/>
          </p:nvGrpSpPr>
          <p:grpSpPr>
            <a:xfrm>
              <a:off x="4449600" y="2356200"/>
              <a:ext cx="125280" cy="249120"/>
              <a:chOff x="4449600" y="2356200"/>
              <a:chExt cx="125280" cy="249120"/>
            </a:xfrm>
          </p:grpSpPr>
          <p:sp>
            <p:nvSpPr>
              <p:cNvPr id="260" name="AutoShape 18"/>
              <p:cNvSpPr/>
              <p:nvPr/>
            </p:nvSpPr>
            <p:spPr>
              <a:xfrm>
                <a:off x="4449600" y="2420640"/>
                <a:ext cx="125280" cy="112320"/>
              </a:xfrm>
              <a:prstGeom prst="triangle">
                <a:avLst>
                  <a:gd name="adj" fmla="val 50000"/>
                </a:avLst>
              </a:prstGeom>
              <a:solidFill>
                <a:srgbClr val="e5b8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19"/>
              <p:cNvSpPr/>
              <p:nvPr/>
            </p:nvSpPr>
            <p:spPr>
              <a:xfrm>
                <a:off x="4473720" y="2356200"/>
                <a:ext cx="78480" cy="6192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20"/>
              <p:cNvSpPr/>
              <p:nvPr/>
            </p:nvSpPr>
            <p:spPr>
              <a:xfrm>
                <a:off x="4528440" y="2532600"/>
                <a:ext cx="0" cy="4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1"/>
              <p:cNvSpPr/>
              <p:nvPr/>
            </p:nvSpPr>
            <p:spPr>
              <a:xfrm>
                <a:off x="4494960" y="2532600"/>
                <a:ext cx="0" cy="4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2"/>
              <p:cNvSpPr/>
              <p:nvPr/>
            </p:nvSpPr>
            <p:spPr>
              <a:xfrm rot="20313000">
                <a:off x="4517280" y="2575440"/>
                <a:ext cx="31320" cy="2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3"/>
              <p:cNvSpPr/>
              <p:nvPr/>
            </p:nvSpPr>
            <p:spPr>
              <a:xfrm rot="20313000">
                <a:off x="4473000" y="2575800"/>
                <a:ext cx="31320" cy="2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24"/>
            <p:cNvGrpSpPr/>
            <p:nvPr/>
          </p:nvGrpSpPr>
          <p:grpSpPr>
            <a:xfrm>
              <a:off x="4663800" y="2402640"/>
              <a:ext cx="168840" cy="497160"/>
              <a:chOff x="4663800" y="2402640"/>
              <a:chExt cx="168840" cy="497160"/>
            </a:xfrm>
          </p:grpSpPr>
          <p:sp>
            <p:nvSpPr>
              <p:cNvPr id="267" name="Oval 25"/>
              <p:cNvSpPr/>
              <p:nvPr/>
            </p:nvSpPr>
            <p:spPr>
              <a:xfrm rot="20313000">
                <a:off x="4767480" y="2843280"/>
                <a:ext cx="5544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6"/>
              <p:cNvSpPr/>
              <p:nvPr/>
            </p:nvSpPr>
            <p:spPr>
              <a:xfrm rot="20313000">
                <a:off x="4670280" y="2843280"/>
                <a:ext cx="5544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7"/>
              <p:cNvSpPr/>
              <p:nvPr/>
            </p:nvSpPr>
            <p:spPr>
              <a:xfrm>
                <a:off x="4681440" y="2402640"/>
                <a:ext cx="138600" cy="120240"/>
              </a:xfrm>
              <a:prstGeom prst="ellipse">
                <a:avLst/>
              </a:prstGeom>
              <a:solidFill>
                <a:srgbClr val="593b1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28"/>
              <p:cNvSpPr/>
              <p:nvPr/>
            </p:nvSpPr>
            <p:spPr>
              <a:xfrm>
                <a:off x="4666320" y="2528640"/>
                <a:ext cx="166320" cy="317520"/>
              </a:xfrm>
              <a:prstGeom prst="rect">
                <a:avLst/>
              </a:prstGeom>
              <a:solidFill>
                <a:srgbClr val="d8d8d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1" name="AutoShape 29"/>
              <p:cNvCxnSpPr/>
              <p:nvPr/>
            </p:nvCxnSpPr>
            <p:spPr>
              <a:xfrm>
                <a:off x="4681440" y="2696760"/>
                <a:ext cx="136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2" name="AutoShape 30"/>
              <p:cNvCxnSpPr/>
              <p:nvPr/>
            </p:nvCxnSpPr>
            <p:spPr>
              <a:xfrm>
                <a:off x="4741560" y="2697120"/>
                <a:ext cx="1080" cy="146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273" name="CaixaDeTexto 1"/>
          <p:cNvSpPr/>
          <p:nvPr/>
        </p:nvSpPr>
        <p:spPr>
          <a:xfrm>
            <a:off x="285840" y="14292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7375e"/>
                </a:solidFill>
                <a:latin typeface="Bradley Hand ITC"/>
              </a:rPr>
              <a:t>Depois do Protocol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CaixaDeTexto 1"/>
          <p:cNvSpPr/>
          <p:nvPr/>
        </p:nvSpPr>
        <p:spPr>
          <a:xfrm>
            <a:off x="642960" y="285840"/>
            <a:ext cx="82868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7375e"/>
                </a:solidFill>
                <a:latin typeface="Bradley Hand ITC"/>
              </a:rPr>
              <a:t>O que temos pela f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Regular a composição das “equipes técnicas” da PSB e PSE que o Protocolo dispõ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Disponibilizar orientações técnicas sobre a operacionalização do Protoco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Capacitar as equipes de referência do CRAS e CREAS, as equipes técnicas da PSB e PSE e demais profissionais envolvidos na implementação do Protoc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6"/>
          <p:cNvSpPr/>
          <p:nvPr/>
        </p:nvSpPr>
        <p:spPr>
          <a:xfrm>
            <a:off x="428760" y="48578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Bradley Hand ITC"/>
              </a:rPr>
              <a:t>Ministério do Desenvolvimento Social e Combate à F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Bradley Hand ITC"/>
              </a:rPr>
              <a:t>Secretaria Nacional de Assistênc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85840" y="5643720"/>
            <a:ext cx="86040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ff"/>
                </a:solidFill>
                <a:uFillTx/>
                <a:latin typeface="Bradley Hand ITC"/>
                <a:hlinkClick r:id="rId1"/>
              </a:rPr>
              <a:t>www.mds.gov.br/s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Bradley Hand ITC"/>
              </a:rPr>
              <a:t>0800- 707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ixaDeTexto 3"/>
          <p:cNvSpPr/>
          <p:nvPr/>
        </p:nvSpPr>
        <p:spPr>
          <a:xfrm>
            <a:off x="1643040" y="357120"/>
            <a:ext cx="60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76092"/>
                </a:solidFill>
                <a:latin typeface="Bradley Hand ITC"/>
              </a:rPr>
              <a:t>Sistema Único de Assistên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suas"/>
          <p:cNvPicPr/>
          <p:nvPr/>
        </p:nvPicPr>
        <p:blipFill>
          <a:blip r:embed="rId2"/>
          <a:stretch/>
        </p:blipFill>
        <p:spPr>
          <a:xfrm>
            <a:off x="2139840" y="1066680"/>
            <a:ext cx="47610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aixaDeTexto 4"/>
          <p:cNvSpPr/>
          <p:nvPr/>
        </p:nvSpPr>
        <p:spPr>
          <a:xfrm>
            <a:off x="428760" y="285840"/>
            <a:ext cx="84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Defin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pt-BR" sz="3600" spc="-1" strike="noStrike">
                <a:solidFill>
                  <a:srgbClr val="1f497d"/>
                </a:solidFill>
                <a:latin typeface="Calibri"/>
              </a:rPr>
              <a:t>Protocolo      de        Gestão          Integr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ixaDeTexto 5"/>
          <p:cNvSpPr/>
          <p:nvPr/>
        </p:nvSpPr>
        <p:spPr>
          <a:xfrm>
            <a:off x="642960" y="3129120"/>
            <a:ext cx="2428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f497d"/>
                </a:solidFill>
                <a:latin typeface="Calibri"/>
              </a:rPr>
              <a:t>Padronização de leis e procedimentos que são dispostos para a execução de uma determinada tarefa. </a:t>
            </a:r>
            <a:r>
              <a:rPr b="0" lang="pt-BR" sz="1800" spc="-1" strike="noStrike">
                <a:solidFill>
                  <a:srgbClr val="1f497d"/>
                </a:solidFill>
                <a:latin typeface="Calibri"/>
              </a:rPr>
              <a:t>Instrução normativa. 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Orientação padronizada.</a:t>
            </a:r>
            <a:r>
              <a:rPr b="0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(Antônimo: informalidade, sem registro, sem controle, sem crité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6"/>
          <p:cNvSpPr/>
          <p:nvPr/>
        </p:nvSpPr>
        <p:spPr>
          <a:xfrm>
            <a:off x="4071960" y="2957400"/>
            <a:ext cx="214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497d"/>
                </a:solidFill>
                <a:latin typeface="Calibri"/>
              </a:rPr>
              <a:t>Conjunto de princípios, normas e funções que têm por fim 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nortear estrutura e funcionamento</a:t>
            </a:r>
            <a:r>
              <a:rPr b="0" lang="pt-BR" sz="1800" spc="-1" strike="noStrike">
                <a:solidFill>
                  <a:srgbClr val="1f497d"/>
                </a:solidFill>
                <a:latin typeface="Calibri"/>
              </a:rPr>
              <a:t> de uma organização. Ato de gerir. Administração, dire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ixaDeTexto 7"/>
          <p:cNvSpPr/>
          <p:nvPr/>
        </p:nvSpPr>
        <p:spPr>
          <a:xfrm>
            <a:off x="7000920" y="3000240"/>
            <a:ext cx="1785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497d"/>
                </a:solidFill>
                <a:latin typeface="Calibri"/>
              </a:rPr>
              <a:t>Elemento que se integrou, se tornou inteiro, 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combinou-se, completou-se</a:t>
            </a: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030"/>
          <p:cNvSpPr/>
          <p:nvPr/>
        </p:nvSpPr>
        <p:spPr>
          <a:xfrm rot="585000">
            <a:off x="1482480" y="2166480"/>
            <a:ext cx="331560" cy="666720"/>
          </a:xfrm>
          <a:custGeom>
            <a:avLst/>
            <a:gdLst>
              <a:gd name="textAreaLeft" fmla="*/ 0 w 331560"/>
              <a:gd name="textAreaRight" fmla="*/ 331920 w 3315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030"/>
          <p:cNvSpPr/>
          <p:nvPr/>
        </p:nvSpPr>
        <p:spPr>
          <a:xfrm rot="585000">
            <a:off x="4982760" y="2095200"/>
            <a:ext cx="331920" cy="666720"/>
          </a:xfrm>
          <a:custGeom>
            <a:avLst/>
            <a:gdLst>
              <a:gd name="textAreaLeft" fmla="*/ 0 w 331920"/>
              <a:gd name="textAreaRight" fmla="*/ 332280 w 33192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030"/>
          <p:cNvSpPr/>
          <p:nvPr/>
        </p:nvSpPr>
        <p:spPr>
          <a:xfrm rot="585000">
            <a:off x="7625880" y="2095200"/>
            <a:ext cx="331920" cy="666720"/>
          </a:xfrm>
          <a:custGeom>
            <a:avLst/>
            <a:gdLst>
              <a:gd name="textAreaLeft" fmla="*/ 0 w 331920"/>
              <a:gd name="textAreaRight" fmla="*/ 332280 w 33192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aixaDeTexto 1"/>
          <p:cNvSpPr/>
          <p:nvPr/>
        </p:nvSpPr>
        <p:spPr>
          <a:xfrm>
            <a:off x="500040" y="285840"/>
            <a:ext cx="8501040" cy="72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Defin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Protocolo de Gestão Integrada de Serviços, Benefícios e Transferências de Renda no âmbito do SU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alibri"/>
              </a:rPr>
              <a:t>Orientação padronizada que norteia a estrutura e o funcionamento,  de forma combinada, completa, </a:t>
            </a: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da oferta e implementação e dos serviços, benefícios e transferências de renda no âmbito do SU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030"/>
          <p:cNvSpPr/>
          <p:nvPr/>
        </p:nvSpPr>
        <p:spPr>
          <a:xfrm rot="585000">
            <a:off x="3948120" y="2320560"/>
            <a:ext cx="487440" cy="836640"/>
          </a:xfrm>
          <a:custGeom>
            <a:avLst/>
            <a:gdLst>
              <a:gd name="textAreaLeft" fmla="*/ 0 w 487440"/>
              <a:gd name="textAreaRight" fmla="*/ 487800 w 4874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38160">
            <a:solidFill>
              <a:srgbClr val="953735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aixaDeTexto 3"/>
          <p:cNvSpPr/>
          <p:nvPr/>
        </p:nvSpPr>
        <p:spPr>
          <a:xfrm>
            <a:off x="642960" y="428760"/>
            <a:ext cx="8215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f497d"/>
                </a:solidFill>
                <a:latin typeface="Calibri"/>
              </a:rPr>
              <a:t>Tem por foco </a:t>
            </a:r>
            <a:r>
              <a:rPr b="0" lang="pt-BR" sz="3600" spc="-1" strike="noStrike">
                <a:solidFill>
                  <a:srgbClr val="953735"/>
                </a:solidFill>
                <a:latin typeface="Calibri"/>
              </a:rPr>
              <a:t>orientar, de forma padronizada, a estrutura e o funcionamento da integração/articulação </a:t>
            </a:r>
            <a:r>
              <a:rPr b="0" lang="pt-BR" sz="3600" spc="-1" strike="noStrike">
                <a:solidFill>
                  <a:srgbClr val="1f497d"/>
                </a:solidFill>
                <a:latin typeface="Calibri"/>
              </a:rPr>
              <a:t>entre os benefícios socioassistenciais, transferência de renda e serviços socioassistenciais do SUAS, nas três esferas federativas, de modo a consolidar a rede de proteção social de assistência social nos territóri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CaixaDeTexto 1"/>
          <p:cNvSpPr/>
          <p:nvPr/>
        </p:nvSpPr>
        <p:spPr>
          <a:xfrm>
            <a:off x="500040" y="14292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A integração/ articulação entre os benefícios socioassistenciais, transferência de renda e serviços socioassistenciais do SUAS vincula </a:t>
            </a:r>
            <a:r>
              <a:rPr b="0" lang="pt-BR" sz="2400" spc="-1" strike="noStrike">
                <a:solidFill>
                  <a:srgbClr val="953735"/>
                </a:solidFill>
                <a:latin typeface="Calibri"/>
              </a:rPr>
              <a:t>segurança de renda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às </a:t>
            </a:r>
            <a:r>
              <a:rPr b="0" lang="pt-BR" sz="2400" spc="-1" strike="noStrike">
                <a:solidFill>
                  <a:srgbClr val="953735"/>
                </a:solidFill>
                <a:latin typeface="Calibri"/>
              </a:rPr>
              <a:t>seguranças de convívio familiar, comunitário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de </a:t>
            </a:r>
            <a:r>
              <a:rPr b="0" lang="pt-BR" sz="2400" spc="-1" strike="noStrike">
                <a:solidFill>
                  <a:srgbClr val="953735"/>
                </a:solidFill>
                <a:latin typeface="Calibri"/>
              </a:rPr>
              <a:t>desenvolvimento da autonomia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previstas na Política Nacional de Assistência Social,  de modo a materializar os direitos socioassisten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953735"/>
                </a:solidFill>
                <a:latin typeface="Calibri"/>
              </a:rPr>
              <a:t>As situações de vulnerabilidade e risco  social podem ser agravadas em contextos de pobreza e extrema pobr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030"/>
          <p:cNvSpPr/>
          <p:nvPr/>
        </p:nvSpPr>
        <p:spPr>
          <a:xfrm rot="585000">
            <a:off x="4338360" y="4654080"/>
            <a:ext cx="180720" cy="627120"/>
          </a:xfrm>
          <a:custGeom>
            <a:avLst/>
            <a:gdLst>
              <a:gd name="textAreaLeft" fmla="*/ 0 w 180720"/>
              <a:gd name="textAreaRight" fmla="*/ 181080 w 1807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3"/>
          <p:cNvSpPr/>
          <p:nvPr/>
        </p:nvSpPr>
        <p:spPr>
          <a:xfrm>
            <a:off x="571680" y="5500800"/>
            <a:ext cx="81435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fetivar a constituição de redes de proteção social e materialização da política de assistência social nos territó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30"/>
          <p:cNvSpPr/>
          <p:nvPr/>
        </p:nvSpPr>
        <p:spPr>
          <a:xfrm rot="585000">
            <a:off x="4122720" y="2614320"/>
            <a:ext cx="423720" cy="639720"/>
          </a:xfrm>
          <a:custGeom>
            <a:avLst/>
            <a:gdLst>
              <a:gd name="textAreaLeft" fmla="*/ 0 w 423720"/>
              <a:gd name="textAreaRight" fmla="*/ 424080 w 423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aixaDeTexto 2"/>
          <p:cNvSpPr/>
          <p:nvPr/>
        </p:nvSpPr>
        <p:spPr>
          <a:xfrm>
            <a:off x="785880" y="192888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Acordar procedimentos para a gestão integrada dos serviços, benefícios e transferências de renda para o acompanhamento das famílias do PBF, PETI e BPC no âmbito do SU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030"/>
          <p:cNvSpPr/>
          <p:nvPr/>
        </p:nvSpPr>
        <p:spPr>
          <a:xfrm rot="585000">
            <a:off x="4495680" y="3486240"/>
            <a:ext cx="744480" cy="828720"/>
          </a:xfrm>
          <a:custGeom>
            <a:avLst/>
            <a:gdLst>
              <a:gd name="textAreaLeft" fmla="*/ 0 w 744480"/>
              <a:gd name="textAreaRight" fmla="*/ 744840 w 744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4"/>
          <p:cNvSpPr/>
          <p:nvPr/>
        </p:nvSpPr>
        <p:spPr>
          <a:xfrm>
            <a:off x="3357720" y="4500720"/>
            <a:ext cx="541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3735"/>
                </a:solidFill>
                <a:latin typeface="Calibri"/>
              </a:rPr>
              <a:t>A gestão integrada é uma estratégia para qualificar e potencializar o impacto dos benefícios assistenciais, transferência de renda e dos serviços do SU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3"/>
          <p:cNvSpPr/>
          <p:nvPr/>
        </p:nvSpPr>
        <p:spPr>
          <a:xfrm>
            <a:off x="428760" y="42876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Protocolo de Gestão Integrada de Serviços, Benefícios e Transferências de Renda no âmbito do Sistema Único de Assistência Social – SUAS </a:t>
            </a:r>
            <a:r>
              <a:rPr b="1" lang="pt-BR" sz="2400" spc="-1" strike="noStrike">
                <a:solidFill>
                  <a:srgbClr val="953735"/>
                </a:solidFill>
                <a:latin typeface="Calibri"/>
              </a:rPr>
              <a:t>resolve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ixaDeTexto 2"/>
          <p:cNvSpPr/>
          <p:nvPr/>
        </p:nvSpPr>
        <p:spPr>
          <a:xfrm>
            <a:off x="500040" y="285840"/>
            <a:ext cx="30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Protocolo de Gestão Integrad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3"/>
          <p:cNvSpPr/>
          <p:nvPr/>
        </p:nvSpPr>
        <p:spPr>
          <a:xfrm>
            <a:off x="1785960" y="17859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53735"/>
                </a:solidFill>
                <a:latin typeface="Calibri"/>
              </a:rPr>
              <a:t>normatiza a gest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ixaDeTexto 4"/>
          <p:cNvSpPr/>
          <p:nvPr/>
        </p:nvSpPr>
        <p:spPr>
          <a:xfrm>
            <a:off x="2143080" y="2357280"/>
            <a:ext cx="66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Dispõem sobre as responsabilidades dos entes federativos sobre a operacionalização da gestão integr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Dispõem sobre os fluxos de repasse e gestão de informaçõ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Dispõem sobre os procedimentos referentes ao atendimento às famíl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030"/>
          <p:cNvSpPr/>
          <p:nvPr/>
        </p:nvSpPr>
        <p:spPr>
          <a:xfrm rot="175800">
            <a:off x="1235160" y="1233360"/>
            <a:ext cx="796680" cy="819360"/>
          </a:xfrm>
          <a:custGeom>
            <a:avLst/>
            <a:gdLst>
              <a:gd name="textAreaLeft" fmla="*/ 0 w 796680"/>
              <a:gd name="textAreaRight" fmla="*/ 797040 w 79668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aixaDeTexto 1"/>
          <p:cNvSpPr/>
          <p:nvPr/>
        </p:nvSpPr>
        <p:spPr>
          <a:xfrm>
            <a:off x="571680" y="214200"/>
            <a:ext cx="835812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Bradley Hand ITC"/>
              </a:rPr>
              <a:t>Objetivos do Protocolo de Gestão Integ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7375e"/>
                </a:solidFill>
                <a:latin typeface="Calibri"/>
              </a:rPr>
              <a:t>1.  </a:t>
            </a: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Pactuar, entre os entes federados, procedimentos que garantam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  <a:ea typeface="Arial"/>
              </a:rPr>
              <a:t>  </a:t>
            </a:r>
            <a:r>
              <a:rPr b="0" lang="pt-BR" sz="2200" spc="-1" strike="noStrike">
                <a:solidFill>
                  <a:srgbClr val="17375e"/>
                </a:solidFill>
                <a:latin typeface="Calibri"/>
                <a:ea typeface="Arial"/>
              </a:rPr>
              <a:t>a oferta prioritária de serviços socioassistenciais para as famílias beneficiárias  de benefícios assistenciais e transferência de rend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  <a:ea typeface="Arial"/>
              </a:rPr>
              <a:t>  </a:t>
            </a:r>
            <a:r>
              <a:rPr b="0" lang="pt-BR" sz="2200" spc="-1" strike="noStrike">
                <a:solidFill>
                  <a:srgbClr val="17375e"/>
                </a:solidFill>
                <a:latin typeface="Calibri"/>
                <a:ea typeface="Arial"/>
              </a:rPr>
              <a:t>o encaminhamento para acesso a benefícios assistenciais e transferência de renda a indivíduos e famílias atendidos nos serviços socioassistenci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Estabelecer e consolidar fluxos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entre serviços, benefícios e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transferência de renda e fortalecer a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referência e contrarreferência no 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953735"/>
                </a:solidFill>
                <a:latin typeface="Calibri"/>
                <a:ea typeface="Arial"/>
              </a:rPr>
              <a:t>âmbito do SU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030"/>
          <p:cNvSpPr/>
          <p:nvPr/>
        </p:nvSpPr>
        <p:spPr>
          <a:xfrm rot="175800">
            <a:off x="4734000" y="4013280"/>
            <a:ext cx="533160" cy="772920"/>
          </a:xfrm>
          <a:custGeom>
            <a:avLst/>
            <a:gdLst>
              <a:gd name="textAreaLeft" fmla="*/ 0 w 533160"/>
              <a:gd name="textAreaRight" fmla="*/ 533520 w 53316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241" h="151">
                <a:moveTo>
                  <a:pt x="15" y="15"/>
                </a:moveTo>
                <a:cubicBezTo>
                  <a:pt x="128" y="7"/>
                  <a:pt x="241" y="0"/>
                  <a:pt x="241" y="15"/>
                </a:cubicBezTo>
                <a:cubicBezTo>
                  <a:pt x="241" y="30"/>
                  <a:pt x="30" y="82"/>
                  <a:pt x="15" y="105"/>
                </a:cubicBezTo>
                <a:cubicBezTo>
                  <a:pt x="0" y="128"/>
                  <a:pt x="128" y="143"/>
                  <a:pt x="151" y="151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8:54:03Z</dcterms:created>
  <dc:creator>priscilla.maia</dc:creator>
  <dc:description/>
  <dc:language>en-US</dc:language>
  <cp:lastModifiedBy>bianca.marques</cp:lastModifiedBy>
  <dcterms:modified xsi:type="dcterms:W3CDTF">2009-12-11T15:07:23Z</dcterms:modified>
  <cp:revision>34</cp:revision>
  <dc:subject/>
  <dc:title>Slide 1</dc:title>
</cp:coreProperties>
</file>